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1EDD-987A-4E26-9D01-AB115D0F53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06F7-C360-43D1-977A-E4501D3FB8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67B-5428-4552-A041-B7B6FE81A6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8297-59D0-47F4-8BB6-F7A2945EB91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D57-2A14-4234-A819-0C9E70F21A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D48-6684-462D-8D9D-4A12F6D8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E9F-E03C-487F-88C9-9FC333A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1EE-AA93-40FA-A529-178DA0E9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9A9-F8B4-4BE4-A494-7D4E16F4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89D-BCF3-4DC5-B61C-5223835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401-3967-4DF4-8D69-53C54BD7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9FE2-5EF1-412E-A9E2-E0E9E6B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F9CB-1035-4C26-B1E3-61A6DFB0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BA04-A186-4DBA-A1AC-B619CB4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2A3D-D4DF-46E6-9B42-79B02B93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747-CD5E-4668-A32E-7D9CBC0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BD2-2BB1-4143-9EC1-2CED81F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BB33-3C03-47AF-AC42-2CACEC3C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0AB4-ED42-4A25-BEDB-8636580C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DEE6-7C88-47E9-AA92-DD238564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7BC1-0217-4F7F-A623-4367D282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F20C-9512-4080-935A-030E9537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3E6-B963-4667-BD59-E521E480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574-994C-4A8E-AD44-AD181322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CB9-F70F-4786-9595-7D5D7CAA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603-ABB4-4562-96EA-777D2544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6D2-EAFC-4463-BC9F-A193BA8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655-017D-4735-8F28-01F3C8D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AC9-BC14-460D-8DE8-8F8A67C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E2DA-2F5C-441F-ACD1-2BC1E83A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3F92-1C91-42ED-B931-B47A5B644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zapisujeme dvěma způsoby a tudíž používá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algebra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goniometr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1700280"/>
            <a:ext cx="795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 znázorňujeme jak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vektor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Gaussova rovin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rtogonální soustava souřadných os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komplexních čís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( R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688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vedení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r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zopakuje známé číselné obory. Vysvětlí nutnost zavedení nového číselného oboru na konkrétním příkladu. Seznámí se základními druhy komplexních čísel, způsoby zápisu a znázorněním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né obory; Potřeba komplexních čísel; Imaginární jednotka; Zápis, znázornění a druhy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17440" y="4681440"/>
            <a:ext cx="4695840" cy="2017800"/>
            <a:chOff x="1117440" y="4681440"/>
            <a:chExt cx="4695840" cy="2017800"/>
          </a:xfrm>
        </p:grpSpPr>
        <p:sp>
          <p:nvSpPr>
            <p:cNvPr id="142" name=""/>
            <p:cNvSpPr/>
            <p:nvPr/>
          </p:nvSpPr>
          <p:spPr>
            <a:xfrm>
              <a:off x="1349280" y="4681440"/>
              <a:ext cx="4464000" cy="2017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7440" y="6021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19280" y="4765680"/>
            <a:ext cx="3168720" cy="1800360"/>
            <a:chOff x="1619280" y="4765680"/>
            <a:chExt cx="3168720" cy="1800360"/>
          </a:xfrm>
        </p:grpSpPr>
        <p:sp>
          <p:nvSpPr>
            <p:cNvPr id="145" name=""/>
            <p:cNvSpPr/>
            <p:nvPr/>
          </p:nvSpPr>
          <p:spPr>
            <a:xfrm>
              <a:off x="1619280" y="4765680"/>
              <a:ext cx="3168720" cy="180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9600" y="5558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4908600"/>
            <a:ext cx="2305080" cy="1295280"/>
            <a:chOff x="1763640" y="4908600"/>
            <a:chExt cx="2305080" cy="1295280"/>
          </a:xfrm>
        </p:grpSpPr>
        <p:sp>
          <p:nvSpPr>
            <p:cNvPr id="148" name=""/>
            <p:cNvSpPr/>
            <p:nvPr/>
          </p:nvSpPr>
          <p:spPr>
            <a:xfrm>
              <a:off x="1763640" y="4908600"/>
              <a:ext cx="2305080" cy="1295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4960" y="5340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 2; 3;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cel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 – 2; – 1; 0; 1; 2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zlomk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p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Z; q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: p/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i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konstanty, odmocnin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ál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 = (– ∞; +∞ 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24000" y="5052960"/>
            <a:ext cx="1079640" cy="792000"/>
            <a:chOff x="2124000" y="5052960"/>
            <a:chExt cx="1079640" cy="792000"/>
          </a:xfrm>
        </p:grpSpPr>
        <p:sp>
          <p:nvSpPr>
            <p:cNvPr id="153" name=""/>
            <p:cNvSpPr/>
            <p:nvPr/>
          </p:nvSpPr>
          <p:spPr>
            <a:xfrm>
              <a:off x="2124000" y="5052960"/>
              <a:ext cx="1079640" cy="792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8720" y="5197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00000" y="189000"/>
            <a:ext cx="8059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ývoj a přehled číselných oborů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61080" y="5197320"/>
            <a:ext cx="720720" cy="863640"/>
            <a:chOff x="4861080" y="5197320"/>
            <a:chExt cx="720720" cy="863640"/>
          </a:xfrm>
        </p:grpSpPr>
        <p:sp>
          <p:nvSpPr>
            <p:cNvPr id="157" name=""/>
            <p:cNvSpPr/>
            <p:nvPr/>
          </p:nvSpPr>
          <p:spPr>
            <a:xfrm>
              <a:off x="4861080" y="5197320"/>
              <a:ext cx="720720" cy="8636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8880" y="53416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15628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587700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I = 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87280" y="1197000"/>
            <a:ext cx="7772400" cy="944640"/>
            <a:chOff x="1187280" y="1197000"/>
            <a:chExt cx="7772400" cy="944640"/>
          </a:xfrm>
        </p:grpSpPr>
        <p:sp>
          <p:nvSpPr>
            <p:cNvPr id="164" name=""/>
            <p:cNvSpPr/>
            <p:nvPr/>
          </p:nvSpPr>
          <p:spPr>
            <a:xfrm>
              <a:off x="1187280" y="1341360"/>
              <a:ext cx="77724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Řešte rovnici: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067280" y="1197000"/>
                  <a:ext cx="36716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1187280" y="2637000"/>
            <a:ext cx="795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á se o úplnou kvadratickou rovnic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učivo 1. ročníku), kterou můžeme řeši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em na součin pomocí Vietových vzorc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orcem pro kořeny s diskriminantem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Příklad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87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ietovy vzor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1268280"/>
            <a:ext cx="7700760" cy="5195520"/>
            <a:chOff x="1187280" y="1268280"/>
            <a:chExt cx="7700760" cy="5195520"/>
          </a:xfrm>
        </p:grpSpPr>
        <p:sp>
          <p:nvSpPr>
            <p:cNvPr id="170" name=""/>
            <p:cNvSpPr/>
            <p:nvPr/>
          </p:nvSpPr>
          <p:spPr>
            <a:xfrm>
              <a:off x="1187280" y="1268280"/>
              <a:ext cx="77007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buClr>
                  <a:srgbClr val="0099cc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V </a:t>
              </a:r>
              <a:r>
                <a:rPr b="0" i="1" lang="en-US" sz="32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normované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kvadratické rovnic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latí vztah mezi kořen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 a koeficient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in kořenů rovnice dává hodnotu absolutního člen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et kořenů rovnice dává opačnou hodnotu lineárního koeficient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836360" y="1953720"/>
                  <a:ext cx="303552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x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221080" y="4508280"/>
                  <a:ext cx="2063880" cy="65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24360" y="5803560"/>
                  <a:ext cx="2570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3419640" y="206064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06064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96760" y="260280"/>
            <a:ext cx="806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kořeny s diskriminante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125360"/>
            <a:ext cx="82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V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ecné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kvadratické rovnic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počteme hodnotu výrazu, který řídí počet kořenů rovnice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18360" y="1052640"/>
                <a:ext cx="2825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16720" y="2349360"/>
                <a:ext cx="221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3213000"/>
            <a:ext cx="788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kladný,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44928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ůzné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é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365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2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nulový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589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3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záporný,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nemá 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189000"/>
            <a:ext cx="7988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rátíme se k řešení zadané kvadratické rovnic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71280"/>
                <a:ext cx="3384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042920" y="692280"/>
            <a:ext cx="81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D = (– 10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– 4.1.29 = 100 – 116 =  – 16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vnice nemá v oboru reálných čísel řešen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ffff00"/>
                </a:solidFill>
                <a:uFillTx/>
                <a:latin typeface="Times New Roman"/>
              </a:rPr>
              <a:t>Hledáme jiný početní postup a nový číselný obor</a:t>
            </a:r>
            <a:r>
              <a:rPr b="1" i="1" lang="cs-CZ" sz="3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dddddd"/>
                </a:solidFill>
                <a:latin typeface="Times New Roman"/>
              </a:rPr>
              <a:t>ve kterém bychom řešení nalezli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63700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jdeme z nejjednodušší rovnice tohoto typu (rovnice nemá v R řešení):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3068640"/>
                <a:ext cx="144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116000" y="371808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pokládáme, že jejím kořenem je jisté číslo, které nazvem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maginární jednotkou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96360" y="4292640"/>
                <a:ext cx="720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116000" y="4726080"/>
            <a:ext cx="8028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latníme předpoklad a dosadím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36000" y="4797360"/>
                <a:ext cx="1368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67640" y="5300640"/>
                <a:ext cx="114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577692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ravíme rovnici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9 = 0 do tvaru, který odpovídá tvaru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1 = 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227280" y="3573360"/>
            <a:ext cx="1584360" cy="71928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718080"/>
            <a:ext cx="1224000" cy="115092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5346720"/>
            <a:ext cx="1296720" cy="530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56000" y="260280"/>
                <a:ext cx="25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42920" y="835200"/>
                <a:ext cx="4135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14560" y="1411200"/>
                <a:ext cx="2284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35280" y="1987560"/>
                <a:ext cx="1575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01920" y="2635200"/>
                <a:ext cx="194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36840" y="3282840"/>
                <a:ext cx="2838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81560" y="3932280"/>
                <a:ext cx="12049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940360" y="1484280"/>
                <a:ext cx="2654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76840" y="4579920"/>
                <a:ext cx="1728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52840" y="5227560"/>
                <a:ext cx="1481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56000" y="5950080"/>
                <a:ext cx="4427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z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187280" y="1987560"/>
            <a:ext cx="4418280" cy="244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32440" y="2349360"/>
                <a:ext cx="3211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094280" y="205884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643280" y="314172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635200"/>
            <a:ext cx="863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13372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820000" y="2924280"/>
            <a:ext cx="0" cy="21744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2133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řešení ryze kvadratických rovnic v 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23601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m kvadratických rovnic, jejichž diskriminant je záporný, budou obdobné výrazy, které se nazývají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mplexní čísl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0:54Z</dcterms:modified>
  <cp:revision>294</cp:revision>
  <dc:subject/>
  <dc:title>KČ</dc:title>
</cp:coreProperties>
</file>