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77D0-26D4-43C1-87A2-DF2F17F0AAB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B320-B97A-4E52-9F5E-A1CF8B45168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1A07-80DE-4F17-8ACE-FDA8CA93F89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47C6-A2F3-4348-871A-9AFB83A00AA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9CF2-DB05-4A38-A8CD-A5A7101EFC9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775D-130D-486F-AF31-8917F615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CB07-3DAB-44F5-B82F-2F4A7046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F597-B27D-44C7-B62E-25E00B25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EA2F-0249-44D3-B85B-F28E78BA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95B2-1E69-4C70-BD5E-AA79A792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77C0-8177-42D4-8D0D-ABD431B6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F93C-B1E3-453F-8C4E-F593EFF3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15EB-60D5-464B-A5F4-04A972EF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98D6-DEB0-45CC-87A1-ECF7CA93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8548-3F83-4E70-82F9-B616F2C3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8253-9C7D-413B-BAB4-ADE4C4A8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18FD-1A2A-4803-A4F8-4537D2F0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56DF-3CE9-47AE-B6CC-5656F5EB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A798-1787-4E38-84AD-3AC84FE2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FDBA-48A9-46AA-8F10-92BDC430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0F53-6446-4B4D-96CE-D8C54258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288A-29B8-4F98-BEF0-13D910FC9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2BDA-CDFB-49EE-B175-A250A1FA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25C3-8CBE-4D9A-8704-3D04A0BF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5D87-A5E3-46EA-95D9-334088CC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4683-E9C7-411D-9345-1BE7CC1E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8273-6AD5-45C7-AE8F-16749DE5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B014-5250-4A0D-A8F8-B60292C8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32A2-1DE5-4915-AB6B-3240DA47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B6E6-F4F5-47C2-A0E3-4C89413DD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6ECC-EF66-4F15-90BC-68BD8D02A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6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042920" y="981000"/>
                <a:ext cx="49672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1042920" y="18900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Zapište daná KČ v A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042920" y="2421000"/>
                <a:ext cx="450072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042920" y="3762360"/>
                <a:ext cx="40338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042920" y="5229360"/>
                <a:ext cx="4934160" cy="12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21" name=""/>
          <p:cNvGrpSpPr/>
          <p:nvPr/>
        </p:nvGrpSpPr>
        <p:grpSpPr>
          <a:xfrm>
            <a:off x="6110280" y="907920"/>
            <a:ext cx="3033720" cy="5519880"/>
            <a:chOff x="6110280" y="907920"/>
            <a:chExt cx="3033720" cy="5519880"/>
          </a:xfrm>
        </p:grpSpPr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6110280" y="907920"/>
                  <a:ext cx="3033720" cy="112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5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6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6156360" y="2781360"/>
                  <a:ext cx="128592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6227640" y="3795840"/>
                  <a:ext cx="1285920" cy="102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6227640" y="5300640"/>
                  <a:ext cx="2340000" cy="11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042920" y="549360"/>
                <a:ext cx="51008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,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9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95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042920" y="1700280"/>
                <a:ext cx="42004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042920" y="3429000"/>
                <a:ext cx="64263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12</m:t>
                        </m:r>
                        <m:r>
                          <m:t xml:space="preserve">°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12</m:t>
                        </m:r>
                        <m:r>
                          <m:t xml:space="preserve">°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116000" y="5157720"/>
                <a:ext cx="473400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30" name=""/>
          <p:cNvGrpSpPr/>
          <p:nvPr/>
        </p:nvGrpSpPr>
        <p:grpSpPr>
          <a:xfrm>
            <a:off x="6732720" y="549360"/>
            <a:ext cx="2411280" cy="5735520"/>
            <a:chOff x="6732720" y="549360"/>
            <a:chExt cx="2411280" cy="5735520"/>
          </a:xfrm>
        </p:grpSpPr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6732720" y="549360"/>
                  <a:ext cx="210960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1,5</m:t>
                      </m:r>
                      <m:r>
                        <m:t xml:space="preserve">−</m:t>
                      </m:r>
                      <m:r>
                        <m:t xml:space="preserve">3,2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2" name=""/>
                <p:cNvSpPr txBox="1"/>
                <p:nvPr/>
              </p:nvSpPr>
              <p:spPr>
                <a:xfrm>
                  <a:off x="6754680" y="1779480"/>
                  <a:ext cx="1384560" cy="59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6804000" y="4149720"/>
                  <a:ext cx="234000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,7</m:t>
                      </m:r>
                      <m:r>
                        <m:t xml:space="preserve">+</m:t>
                      </m:r>
                      <m:r>
                        <m:t xml:space="preserve">4,1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6804000" y="5157720"/>
                  <a:ext cx="2340000" cy="11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187280" y="260280"/>
                <a:ext cx="443412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042920" y="1484280"/>
                <a:ext cx="525780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116000" y="3141720"/>
                <a:ext cx="475128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116000" y="4869000"/>
                <a:ext cx="61009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°</m:t>
                        </m:r>
                        <m:r>
                          <m:t xml:space="preserve">0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°</m:t>
                        </m:r>
                        <m:r>
                          <m:t xml:space="preserve">0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39" name=""/>
          <p:cNvGrpSpPr/>
          <p:nvPr/>
        </p:nvGrpSpPr>
        <p:grpSpPr>
          <a:xfrm>
            <a:off x="6659640" y="476280"/>
            <a:ext cx="2484360" cy="5715000"/>
            <a:chOff x="6659640" y="476280"/>
            <a:chExt cx="2484360" cy="5715000"/>
          </a:xfrm>
        </p:grpSpPr>
        <mc:AlternateContent>
          <mc:Choice xmlns:a14="http://schemas.microsoft.com/office/drawing/2010/main" Requires="a14">
            <p:sp>
              <p:nvSpPr>
                <p:cNvPr id="240" name=""/>
                <p:cNvSpPr txBox="1"/>
                <p:nvPr/>
              </p:nvSpPr>
              <p:spPr>
                <a:xfrm>
                  <a:off x="6659640" y="476280"/>
                  <a:ext cx="1350720" cy="5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i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6732720" y="1773360"/>
                  <a:ext cx="184608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6659640" y="3141720"/>
                  <a:ext cx="2274840" cy="11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7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6770520" y="5661000"/>
                  <a:ext cx="237348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,5</m:t>
                      </m:r>
                      <m:r>
                        <m:t xml:space="preserve">+</m:t>
                      </m:r>
                      <m:r>
                        <m:t xml:space="preserve">5,8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45277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vod zápisu komplexního čísla z goniometrického tvaru na tvar algebraický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pis komplexního čísla; Argument komplexního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1592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58920" y="2349360"/>
            <a:ext cx="788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Převod GT na 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42920" y="189000"/>
            <a:ext cx="79167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tup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16000" y="1197000"/>
            <a:ext cx="8028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rgument KČ převeďte z obloukové míry na stupňovou pro lepší srozumitelnost.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hodnoty goniometrických funkcí kosinus a sinus pomo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3520" indent="-53316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tabulek – pro hodnoty argumentu 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3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4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6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9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a jejich násobků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3520" indent="-53316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lkulátoru – pro zbylé hodnoty argument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znásobte tyto hodnoty vzdáleností KČ od počátk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835280" y="2494080"/>
                <a:ext cx="33829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2771640" y="1125360"/>
            <a:ext cx="360360" cy="935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935280"/>
              <a:gd name="textAreaBottom" fmla="*/ 918000 h 935280"/>
            </a:gdLst>
            <a:ahLst/>
            <a:rect l="textAreaLeft" t="textAreaTop" r="textAreaRight" b="textAreaBottom"/>
            <a:pathLst>
              <a:path w="21600" h="56026">
                <a:moveTo>
                  <a:pt x="3600" y="0"/>
                </a:moveTo>
                <a:arcTo wR="3600" hR="3600" stAng="16200000" swAng="-5400000"/>
                <a:lnTo>
                  <a:pt x="0" y="52426"/>
                </a:lnTo>
                <a:arcTo wR="3600" hR="3600" stAng="10800000" swAng="-5400000"/>
                <a:lnTo>
                  <a:pt x="18000" y="560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00360" y="2494080"/>
            <a:ext cx="6476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87640" y="2060640"/>
            <a:ext cx="0" cy="43164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95640" y="2349360"/>
            <a:ext cx="115236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11280" y="3141720"/>
            <a:ext cx="0" cy="1224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80000" y="2349360"/>
            <a:ext cx="107928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779640" y="3141720"/>
            <a:ext cx="431640" cy="1224000"/>
          </a:xfrm>
          <a:prstGeom prst="line">
            <a:avLst/>
          </a:prstGeom>
          <a:ln w="284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42920" y="189000"/>
            <a:ext cx="8101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10000"/>
              </a:lnSpc>
              <a:spcBef>
                <a:spcPts val="4000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152360" y="1066680"/>
                <a:ext cx="363060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2484360" y="3500280"/>
            <a:ext cx="66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... tabulková hodnota – MFCHT, str. 3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906560" y="4367160"/>
                <a:ext cx="222408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243320" y="4367160"/>
                <a:ext cx="141912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859360" y="4727520"/>
                <a:ext cx="17766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2195640" y="4365720"/>
            <a:ext cx="647640" cy="115236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1152360"/>
              <a:gd name="textAreaBottom" fmla="*/ 1121040 h 1152360"/>
            </a:gdLst>
            <a:ahLst/>
            <a:rect l="textAreaLeft" t="textAreaTop" r="textAreaRight" b="textAreaBottom"/>
            <a:pathLst>
              <a:path w="21600" h="38424">
                <a:moveTo>
                  <a:pt x="3600" y="0"/>
                </a:moveTo>
                <a:arcTo wR="3600" hR="3600" stAng="16200000" swAng="-5400000"/>
                <a:lnTo>
                  <a:pt x="0" y="34824"/>
                </a:lnTo>
                <a:arcTo wR="3600" hR="3600" stAng="10800000" swAng="-5400000"/>
                <a:lnTo>
                  <a:pt x="18000" y="384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19640" y="4365720"/>
            <a:ext cx="431640" cy="11523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1152360"/>
              <a:gd name="textAreaBottom" fmla="*/ 1131480 h 1152360"/>
            </a:gdLst>
            <a:ahLst/>
            <a:rect l="textAreaLeft" t="textAreaTop" r="textAreaRight" b="textAreaBottom"/>
            <a:pathLst>
              <a:path w="21600" h="57636">
                <a:moveTo>
                  <a:pt x="3600" y="0"/>
                </a:moveTo>
                <a:arcTo wR="3600" hR="3600" stAng="16200000" swAng="-5400000"/>
                <a:lnTo>
                  <a:pt x="0" y="54036"/>
                </a:lnTo>
                <a:arcTo wR="3600" hR="3600" stAng="10800000" swAng="-5400000"/>
                <a:lnTo>
                  <a:pt x="18000" y="57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971640" y="189000"/>
                <a:ext cx="429084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763640" y="1557360"/>
                <a:ext cx="39974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763640" y="2924280"/>
                <a:ext cx="202896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003640" y="2852640"/>
                <a:ext cx="7718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2987640" y="260280"/>
            <a:ext cx="432000" cy="100800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1008000"/>
              <a:gd name="textAreaBottom" fmla="*/ 987120 h 1008000"/>
            </a:gdLst>
            <a:ahLst/>
            <a:rect l="textAreaLeft" t="textAreaTop" r="textAreaRight" b="textAreaBottom"/>
            <a:pathLst>
              <a:path w="21600" h="50376">
                <a:moveTo>
                  <a:pt x="3600" y="0"/>
                </a:moveTo>
                <a:arcTo wR="3600" hR="3600" stAng="16200000" swAng="-5400000"/>
                <a:lnTo>
                  <a:pt x="0" y="46776"/>
                </a:lnTo>
                <a:arcTo wR="3600" hR="3600" stAng="10800000" swAng="-5400000"/>
                <a:lnTo>
                  <a:pt x="18000" y="503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1557360"/>
            <a:ext cx="648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1268280"/>
            <a:ext cx="0" cy="2890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27280" y="1413000"/>
            <a:ext cx="115272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2924280"/>
            <a:ext cx="287280" cy="4316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441">
                <a:moveTo>
                  <a:pt x="3600" y="0"/>
                </a:moveTo>
                <a:arcTo wR="3600" hR="3600" stAng="16200000" swAng="-5400000"/>
                <a:lnTo>
                  <a:pt x="0" y="28841"/>
                </a:lnTo>
                <a:arcTo wR="3600" hR="3600" stAng="10800000" swAng="-5400000"/>
                <a:lnTo>
                  <a:pt x="18000" y="32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71640" y="2205000"/>
            <a:ext cx="0" cy="719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1413000"/>
            <a:ext cx="115236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19640" y="2924280"/>
            <a:ext cx="287280" cy="4316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441">
                <a:moveTo>
                  <a:pt x="3600" y="0"/>
                </a:moveTo>
                <a:arcTo wR="3600" hR="3600" stAng="16200000" swAng="-5400000"/>
                <a:lnTo>
                  <a:pt x="0" y="28841"/>
                </a:lnTo>
                <a:arcTo wR="3600" hR="3600" stAng="10800000" swAng="-5400000"/>
                <a:lnTo>
                  <a:pt x="18000" y="32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635280" y="2205000"/>
            <a:ext cx="720720" cy="719280"/>
          </a:xfrm>
          <a:prstGeom prst="line">
            <a:avLst/>
          </a:prstGeom>
          <a:ln w="284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40160" y="2349360"/>
            <a:ext cx="54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0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... tabulková hodnota – MFCHT, str. 3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780000" y="2924280"/>
                <a:ext cx="1287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763640" y="5229360"/>
                <a:ext cx="506268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66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3</m:t>
                            </m:r>
                          </m:e>
                        </m:d>
                      </m:e>
                    </m:d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042920" y="4005360"/>
                <a:ext cx="54831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2987640" y="4076640"/>
            <a:ext cx="1297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59280" y="5300640"/>
            <a:ext cx="129672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360" y="4581360"/>
            <a:ext cx="0" cy="719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4076640"/>
            <a:ext cx="129672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03640" y="5300640"/>
            <a:ext cx="1297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80000" y="4581360"/>
            <a:ext cx="0" cy="719280"/>
          </a:xfrm>
          <a:prstGeom prst="line">
            <a:avLst/>
          </a:prstGeom>
          <a:ln w="284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20160" y="4653000"/>
            <a:ext cx="55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20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... není tabulková hodnota – kalkuláto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763640" y="6093000"/>
                <a:ext cx="274176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67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18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500720" y="6019920"/>
                <a:ext cx="206352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2,2</m:t>
                            </m:r>
                            <m:r>
                              <m:t xml:space="preserve">−</m:t>
                            </m:r>
                            <m:r>
                              <m:t xml:space="preserve">1,8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116000" y="3429000"/>
                <a:ext cx="460692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835280" y="4437000"/>
                <a:ext cx="42354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042920" y="189000"/>
                <a:ext cx="451656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835280" y="1246320"/>
                <a:ext cx="42354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1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15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803240" y="1712880"/>
                <a:ext cx="385920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796000" y="2046240"/>
                <a:ext cx="15127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908000" y="5300640"/>
                <a:ext cx="321660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148360" y="5353200"/>
                <a:ext cx="185580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7451640" y="2158920"/>
                <a:ext cx="16923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202520" y="5661000"/>
                <a:ext cx="19414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116000" y="3141720"/>
                <a:ext cx="488628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835280" y="4221000"/>
                <a:ext cx="454500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835280" y="5300640"/>
                <a:ext cx="382896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651640" y="5445000"/>
                <a:ext cx="171288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i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7451640" y="5445000"/>
                <a:ext cx="13683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116000" y="260280"/>
                <a:ext cx="40798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5219640" y="549360"/>
                <a:ext cx="35798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908000" y="1197000"/>
                <a:ext cx="28306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788000" y="1197000"/>
                <a:ext cx="153648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877080" y="1557360"/>
                <a:ext cx="17762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42920" y="5445000"/>
            <a:ext cx="81010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7120" indent="-531720">
              <a:lnSpc>
                <a:spcPct val="13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Z příkladů je zřejmé, že je mnohem snadnější převést zápis KČ z AT na GT než-li naopak.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187280" y="2652840"/>
                <a:ext cx="540072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π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979640" y="3645000"/>
                <a:ext cx="48290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3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3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116000" y="260280"/>
                <a:ext cx="57103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,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°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°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835280" y="1341360"/>
                <a:ext cx="39672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,9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6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71</m:t>
                        </m:r>
                      </m:e>
                    </m:d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867280" y="1341360"/>
                <a:ext cx="254484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29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14</m:t>
                    </m:r>
                    <m:r>
                      <m:t xml:space="preserve">i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979640" y="4149720"/>
                <a:ext cx="406728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6084720" y="4149720"/>
                <a:ext cx="206712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6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835280" y="1916280"/>
                <a:ext cx="17730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1,8</m:t>
                            </m:r>
                            <m:r>
                              <m:t xml:space="preserve">+</m:t>
                            </m:r>
                            <m:r>
                              <m:t xml:space="preserve">0,5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835280" y="765000"/>
                <a:ext cx="47415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,9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,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,</m:t>
                        </m:r>
                        <m:r>
                          <m:t xml:space="preserve">7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5:21Z</dcterms:modified>
  <cp:revision>295</cp:revision>
  <dc:subject/>
  <dc:title>KČ</dc:title>
</cp:coreProperties>
</file>