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CE57-1FF4-43C1-B6DE-4BA8FD3C8D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FA5F-024A-49CD-B82D-D35DBF1D508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FD56-EB86-439D-9EE0-C8433EF212C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D1D7-46C2-4C91-9469-1849F9C2FF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A9CB-19BC-442B-A8DA-038F3237C1D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686-4812-4488-8CAC-0265160A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21F-27C5-41B7-BCCC-AD6EC073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FC3-3026-435D-845E-01A83562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3BC-7013-40D5-BFB0-C147F95C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06BB-F9F9-41D5-9D83-2E9131FD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FA9F-60CF-436B-923D-380DBACF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A065-328E-45A1-9735-AD3FACBE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AB63-CB73-4958-ACF0-DBF9E69F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09A4-6FB6-4050-81B7-86745794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9B05-C0A5-4684-A080-2A09282A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822F-8DA4-4DDB-98B5-92482049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D13-63BF-4AE2-9311-320BDEC3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AF57-34FD-429F-B9DF-70D02B07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6380-CE85-42F8-8424-1B6F35BB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5BC9-131F-44E1-A95E-7839DC91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A361-6FB7-4A52-8404-60DB2FAF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C1B6-2CA4-4101-B9A9-975F08BD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1B9-6E29-4841-8B0C-5947AF5A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B57-12C0-428E-A822-32D559C3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561-9673-49C9-A68E-EEFB8906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A0F-AAD9-41A5-AD0C-77FC5001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2D9-59BB-493F-A77E-3967C71F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D84-A99A-4687-83B4-284B169E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08C-3825-42C8-A013-FEAE343E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2B26-E9DD-47EE-A0E1-780801391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468D-0E91-44E5-9D70-BB03E004F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229520" y="1844640"/>
            <a:ext cx="1584360" cy="720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971640" y="333360"/>
                <a:ext cx="50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8308800" y="227664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291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8308800" y="1916280"/>
                <a:ext cx="365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0800" y="549360"/>
                <a:ext cx="5065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0800" y="2781360"/>
                <a:ext cx="5493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16440" y="1916280"/>
                <a:ext cx="549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961920" y="3502080"/>
                <a:ext cx="47674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8237160" y="2276640"/>
            <a:ext cx="144720" cy="142560"/>
            <a:chOff x="8237160" y="2276640"/>
            <a:chExt cx="144720" cy="142560"/>
          </a:xfrm>
        </p:grpSpPr>
        <p:sp>
          <p:nvSpPr>
            <p:cNvPr id="334" name=""/>
            <p:cNvSpPr/>
            <p:nvPr/>
          </p:nvSpPr>
          <p:spPr>
            <a:xfrm>
              <a:off x="8237520" y="227664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237160" y="227664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724800" y="62784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16680" y="4122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42120" y="5273640"/>
            <a:ext cx="3598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227360" y="357156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2612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435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2916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8381880" y="5373720"/>
                <a:ext cx="2415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286760" y="6165720"/>
                <a:ext cx="404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789520" y="5373720"/>
                <a:ext cx="405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6" name=""/>
          <p:cNvGrpSpPr/>
          <p:nvPr/>
        </p:nvGrpSpPr>
        <p:grpSpPr>
          <a:xfrm>
            <a:off x="7157880" y="6381720"/>
            <a:ext cx="144720" cy="142920"/>
            <a:chOff x="7157880" y="6381720"/>
            <a:chExt cx="144720" cy="142920"/>
          </a:xfrm>
        </p:grpSpPr>
        <p:sp>
          <p:nvSpPr>
            <p:cNvPr id="347" name=""/>
            <p:cNvSpPr/>
            <p:nvPr/>
          </p:nvSpPr>
          <p:spPr>
            <a:xfrm>
              <a:off x="7157880" y="6381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157880" y="6381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437160" y="1055520"/>
            <a:ext cx="1585800" cy="15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512" y="15525"/>
                </a:moveTo>
                <a:arcTo wR="10800" hR="10800" stAng="1556655" swAng="20002691"/>
                <a:lnTo>
                  <a:pt x="10800" y="10800"/>
                </a:lnTo>
                <a:close/>
              </a:path>
              <a:path fill="none" w="21600" h="21600">
                <a:moveTo>
                  <a:pt x="20512" y="15525"/>
                </a:moveTo>
                <a:arcTo wR="10800" hR="10800" stAng="1556655" swAng="2000269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81880" y="1700280"/>
                <a:ext cx="560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6367320" y="4440240"/>
            <a:ext cx="1776240" cy="164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24" y="21596"/>
                </a:moveTo>
                <a:arcTo wR="10800" hR="10800" stAng="5487855" swAng="16071491"/>
                <a:lnTo>
                  <a:pt x="10800" y="10800"/>
                </a:lnTo>
                <a:close/>
              </a:path>
              <a:path fill="none" w="21600" h="21600">
                <a:moveTo>
                  <a:pt x="10524" y="21596"/>
                </a:moveTo>
                <a:arcTo wR="10800" hR="10800" stAng="5487855" swAng="1607149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581880" y="5084640"/>
                <a:ext cx="5619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373880" y="3860640"/>
                <a:ext cx="241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 flipH="1" flipV="1">
            <a:off x="6508800" y="549360"/>
            <a:ext cx="72072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229520" y="3862080"/>
            <a:ext cx="1008000" cy="1366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971640" y="333360"/>
                <a:ext cx="52005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6581880" y="1890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4508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8321760" y="1905120"/>
                <a:ext cx="237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7386480" y="463680"/>
                <a:ext cx="2383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7300800" y="276876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88080" y="190512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71640" y="3789360"/>
                <a:ext cx="45338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6581520" y="765000"/>
            <a:ext cx="144720" cy="142920"/>
            <a:chOff x="6581520" y="765000"/>
            <a:chExt cx="144720" cy="142920"/>
          </a:xfrm>
        </p:grpSpPr>
        <p:sp>
          <p:nvSpPr>
            <p:cNvPr id="370" name=""/>
            <p:cNvSpPr/>
            <p:nvPr/>
          </p:nvSpPr>
          <p:spPr>
            <a:xfrm>
              <a:off x="6581880" y="765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581520" y="765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7732800" y="36450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16680" y="405144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45080" y="522936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7227360" y="349992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826120" y="513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43560" y="513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2916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359920" y="52754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326360" y="38750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7340760" y="6138720"/>
                <a:ext cx="422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827680" y="527544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7876800" y="4221000"/>
            <a:ext cx="144720" cy="142920"/>
            <a:chOff x="7876800" y="4221000"/>
            <a:chExt cx="144720" cy="142920"/>
          </a:xfrm>
        </p:grpSpPr>
        <p:sp>
          <p:nvSpPr>
            <p:cNvPr id="384" name=""/>
            <p:cNvSpPr/>
            <p:nvPr/>
          </p:nvSpPr>
          <p:spPr>
            <a:xfrm>
              <a:off x="7877160" y="4221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876800" y="4221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409080" y="1125360"/>
            <a:ext cx="1540800" cy="142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38" y="1058"/>
                </a:moveTo>
                <a:arcTo wR="10800" hR="10800" stAng="-6934561" swAng="6893907"/>
                <a:lnTo>
                  <a:pt x="10800" y="10800"/>
                </a:lnTo>
                <a:close/>
              </a:path>
              <a:path fill="none" w="21600" h="21600">
                <a:moveTo>
                  <a:pt x="6138" y="1058"/>
                </a:moveTo>
                <a:arcTo wR="10800" hR="10800" stAng="-6934561" swAng="6893907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246800" y="1407960"/>
                <a:ext cx="54000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6365880" y="4365360"/>
            <a:ext cx="1704600" cy="164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10" y="2418"/>
                </a:moveTo>
                <a:arcTo wR="10800" hR="10800" stAng="-3054528" swAng="3013874"/>
                <a:lnTo>
                  <a:pt x="10800" y="10800"/>
                </a:lnTo>
                <a:close/>
              </a:path>
              <a:path fill="none" w="21600" h="21600">
                <a:moveTo>
                  <a:pt x="17610" y="2418"/>
                </a:moveTo>
                <a:arcTo wR="10800" hR="10800" stAng="-3054528" swAng="301387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7510320" y="4797360"/>
                <a:ext cx="4302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29520" y="1844640"/>
            <a:ext cx="1230120" cy="11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804000" y="5229360"/>
            <a:ext cx="42552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971640" y="404640"/>
                <a:ext cx="5040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8244000" y="227664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4508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8101080" y="1916280"/>
                <a:ext cx="662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7308720" y="404640"/>
                <a:ext cx="6620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308720" y="2781360"/>
                <a:ext cx="900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76760" y="1865160"/>
                <a:ext cx="9003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16000" y="3789360"/>
                <a:ext cx="48736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8027640" y="2565360"/>
            <a:ext cx="144720" cy="142920"/>
            <a:chOff x="8027640" y="2565360"/>
            <a:chExt cx="144720" cy="142920"/>
          </a:xfrm>
        </p:grpSpPr>
        <p:sp>
          <p:nvSpPr>
            <p:cNvPr id="406" name=""/>
            <p:cNvSpPr/>
            <p:nvPr/>
          </p:nvSpPr>
          <p:spPr>
            <a:xfrm>
              <a:off x="8028000" y="2565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8027640" y="2565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443640" y="609300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16680" y="405144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45080" y="522936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7227360" y="349992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826120" y="513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43560" y="513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2916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8359920" y="52754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7326360" y="38750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7340760" y="6138720"/>
                <a:ext cx="422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827680" y="527544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9" name=""/>
          <p:cNvGrpSpPr/>
          <p:nvPr/>
        </p:nvGrpSpPr>
        <p:grpSpPr>
          <a:xfrm>
            <a:off x="6803640" y="6237360"/>
            <a:ext cx="144720" cy="142920"/>
            <a:chOff x="6803640" y="6237360"/>
            <a:chExt cx="144720" cy="142920"/>
          </a:xfrm>
        </p:grpSpPr>
        <p:sp>
          <p:nvSpPr>
            <p:cNvPr id="420" name=""/>
            <p:cNvSpPr/>
            <p:nvPr/>
          </p:nvSpPr>
          <p:spPr>
            <a:xfrm>
              <a:off x="6804000" y="6237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803640" y="6237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410160" y="1125360"/>
            <a:ext cx="1541160" cy="142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84" y="18390"/>
                </a:moveTo>
                <a:arcTo wR="10800" hR="10800" stAng="2678890" swAng="18880456"/>
                <a:lnTo>
                  <a:pt x="10800" y="10800"/>
                </a:lnTo>
                <a:close/>
              </a:path>
              <a:path fill="none" w="21600" h="21600">
                <a:moveTo>
                  <a:pt x="18484" y="18390"/>
                </a:moveTo>
                <a:arcTo wR="10800" hR="10800" stAng="2678890" swAng="18880456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588000" y="1700280"/>
                <a:ext cx="5605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6365880" y="4367160"/>
            <a:ext cx="1704600" cy="164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17" y="21023"/>
                </a:moveTo>
                <a:arcTo wR="10800" hR="10800" stAng="6528932" swAng="15030414"/>
                <a:lnTo>
                  <a:pt x="10800" y="10800"/>
                </a:lnTo>
                <a:close/>
              </a:path>
              <a:path fill="none" w="21600" h="21600">
                <a:moveTo>
                  <a:pt x="7317" y="21023"/>
                </a:moveTo>
                <a:arcTo wR="10800" hR="10800" stAng="6528932" swAng="1503041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6659640" y="4797360"/>
                <a:ext cx="7538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0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773360"/>
          <a:ext cx="7416720" cy="39510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ázornění komplexních čísel pomocí charakteristik goniometrického tvar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fické znázornění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5295960" cy="12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1989000"/>
            <a:ext cx="78850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Znázornění KČ pomocí charakteristik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názorněte graficky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58920" y="836640"/>
                <a:ext cx="4267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258920" y="198900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8000" y="2276640"/>
                <a:ext cx="1076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03640" y="2421000"/>
                <a:ext cx="110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588080" y="25858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2781360"/>
            <a:ext cx="3673800" cy="352908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400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45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3360" y="3649680"/>
            <a:ext cx="2021040" cy="182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88" y="2400"/>
                </a:moveTo>
                <a:arcTo wR="10800" hR="10800" stAng="-3063571" swAng="2749941"/>
                <a:lnTo>
                  <a:pt x="10800" y="10800"/>
                </a:lnTo>
                <a:close/>
              </a:path>
              <a:path fill="none" w="21600" h="21600">
                <a:moveTo>
                  <a:pt x="17588" y="2400"/>
                </a:moveTo>
                <a:arcTo wR="10800" hR="10800" stAng="-3063571" swAng="2749941"/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2852640"/>
            <a:ext cx="1728720" cy="165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67280" y="3213000"/>
            <a:ext cx="144720" cy="142920"/>
            <a:chOff x="7667280" y="3213000"/>
            <a:chExt cx="144720" cy="142920"/>
          </a:xfrm>
        </p:grpSpPr>
        <p:sp>
          <p:nvSpPr>
            <p:cNvPr id="153" name=""/>
            <p:cNvSpPr/>
            <p:nvPr/>
          </p:nvSpPr>
          <p:spPr>
            <a:xfrm>
              <a:off x="766764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6728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172360" y="458136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8160" y="256536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6720" y="6021360"/>
            <a:ext cx="5443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7440" y="458136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9800" y="407844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1700280"/>
            <a:ext cx="0" cy="720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1916280"/>
            <a:ext cx="215640" cy="576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067280" y="1844640"/>
            <a:ext cx="1009440" cy="647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11640" y="2708280"/>
                <a:ext cx="1008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4356000" y="2060640"/>
            <a:ext cx="4637160" cy="4681080"/>
            <a:chOff x="4356000" y="2060640"/>
            <a:chExt cx="4637160" cy="4681080"/>
          </a:xfrm>
        </p:grpSpPr>
        <p:sp>
          <p:nvSpPr>
            <p:cNvPr id="165" name=""/>
            <p:cNvSpPr/>
            <p:nvPr/>
          </p:nvSpPr>
          <p:spPr>
            <a:xfrm>
              <a:off x="4356000" y="451008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443640" y="220464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76720" y="44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472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4472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>
            <a:off x="4642920" y="4510080"/>
            <a:ext cx="180036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258920" y="260280"/>
                <a:ext cx="50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92360" y="1773360"/>
                <a:ext cx="1366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763640" y="2637000"/>
                <a:ext cx="13003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717800" y="501336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2421000"/>
            <a:ext cx="367380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1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31680" y="3070080"/>
            <a:ext cx="2053440" cy="22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9669"/>
                </a:moveTo>
                <a:arcTo wR="10800" hR="10800" stAng="-10439254" swAng="10216813"/>
                <a:lnTo>
                  <a:pt x="10800" y="10800"/>
                </a:lnTo>
                <a:close/>
              </a:path>
              <a:path fill="none" w="21600" h="21600">
                <a:moveTo>
                  <a:pt x="59" y="9669"/>
                </a:moveTo>
                <a:arcTo wR="10800" hR="10800" stAng="-10439254" swAng="1021681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355640" y="4148280"/>
            <a:ext cx="2087640" cy="1296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58920" y="5013360"/>
            <a:ext cx="144720" cy="142920"/>
            <a:chOff x="4858920" y="5013360"/>
            <a:chExt cx="144720" cy="142920"/>
          </a:xfrm>
        </p:grpSpPr>
        <p:sp>
          <p:nvSpPr>
            <p:cNvPr id="181" name=""/>
            <p:cNvSpPr/>
            <p:nvPr/>
          </p:nvSpPr>
          <p:spPr>
            <a:xfrm>
              <a:off x="4859280" y="501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858920" y="501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56000" y="1700280"/>
            <a:ext cx="4637160" cy="4681080"/>
            <a:chOff x="4356000" y="1700280"/>
            <a:chExt cx="4637160" cy="4681080"/>
          </a:xfrm>
        </p:grpSpPr>
        <p:sp>
          <p:nvSpPr>
            <p:cNvPr id="184" name=""/>
            <p:cNvSpPr/>
            <p:nvPr/>
          </p:nvSpPr>
          <p:spPr>
            <a:xfrm>
              <a:off x="4356000" y="414972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443640" y="184428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767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44720" y="407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44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4642920" y="4149720"/>
            <a:ext cx="180036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59280" y="1916280"/>
                <a:ext cx="866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059280" y="2924280"/>
                <a:ext cx="1199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8028000" y="4221000"/>
                <a:ext cx="503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516720" y="2205000"/>
                <a:ext cx="503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516720" y="5661000"/>
                <a:ext cx="741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284720" y="4221000"/>
                <a:ext cx="741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859280" y="3645000"/>
                <a:ext cx="93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H="1" flipV="1">
            <a:off x="5431680" y="2997360"/>
            <a:ext cx="2052720" cy="21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6" y="5104"/>
                </a:moveTo>
                <a:arcTo wR="10800" hR="10800" stAng="-1909853" swAng="1596224"/>
                <a:lnTo>
                  <a:pt x="10800" y="10800"/>
                </a:lnTo>
                <a:close/>
              </a:path>
              <a:path fill="none" w="21600" h="21600">
                <a:moveTo>
                  <a:pt x="19976" y="5104"/>
                </a:moveTo>
                <a:arcTo wR="10800" hR="10800" stAng="-1909853" swAng="159622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547640" y="1628640"/>
                <a:ext cx="1133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19280" y="2781360"/>
                <a:ext cx="2000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222880" y="22780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709720"/>
            <a:ext cx="367344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3718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25,4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19280" y="3213000"/>
            <a:ext cx="2382120" cy="25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51" y="2212"/>
                </a:moveTo>
                <a:arcTo wR="10800" hR="10800" stAng="-7639634" swAng="7417193"/>
                <a:lnTo>
                  <a:pt x="10800" y="10800"/>
                </a:lnTo>
                <a:close/>
              </a:path>
              <a:path fill="none" w="21600" h="21600">
                <a:moveTo>
                  <a:pt x="4251" y="2212"/>
                </a:moveTo>
                <a:arcTo wR="10800" hR="10800" stAng="-7639634" swAng="741719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005080" y="2493720"/>
            <a:ext cx="1366920" cy="1942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292360" y="2925720"/>
            <a:ext cx="144720" cy="142920"/>
            <a:chOff x="5292360" y="2925720"/>
            <a:chExt cx="144720" cy="142920"/>
          </a:xfrm>
        </p:grpSpPr>
        <p:sp>
          <p:nvSpPr>
            <p:cNvPr id="207" name=""/>
            <p:cNvSpPr/>
            <p:nvPr/>
          </p:nvSpPr>
          <p:spPr>
            <a:xfrm>
              <a:off x="5292720" y="2925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292360" y="2925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284720" y="1989000"/>
            <a:ext cx="4637160" cy="4681080"/>
            <a:chOff x="4284720" y="1989000"/>
            <a:chExt cx="4637160" cy="4681080"/>
          </a:xfrm>
        </p:grpSpPr>
        <p:sp>
          <p:nvSpPr>
            <p:cNvPr id="210" name=""/>
            <p:cNvSpPr/>
            <p:nvPr/>
          </p:nvSpPr>
          <p:spPr>
            <a:xfrm>
              <a:off x="4284720" y="443844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372360" y="213300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605440" y="436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7344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73440" y="19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698920" y="1916280"/>
                <a:ext cx="1008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564000" y="2781360"/>
                <a:ext cx="1466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8029440" y="4510080"/>
                <a:ext cx="3175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516720" y="2349360"/>
                <a:ext cx="317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445080" y="5805360"/>
                <a:ext cx="5558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284720" y="4510080"/>
                <a:ext cx="557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87280" y="318960"/>
                <a:ext cx="61214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22400" y="260280"/>
                <a:ext cx="486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403280" y="1916280"/>
                <a:ext cx="96696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403280" y="2708280"/>
                <a:ext cx="1567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835280" y="907920"/>
                <a:ext cx="4167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940360" y="260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260280"/>
            <a:ext cx="1079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260280"/>
            <a:ext cx="1008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6160" y="53737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421000"/>
            <a:ext cx="367380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08720" y="4149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0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31680" y="3071880"/>
            <a:ext cx="2053440" cy="22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0323"/>
                </a:moveTo>
                <a:arcTo wR="10800" hR="10800" stAng="-10648022" swAng="10425580"/>
                <a:lnTo>
                  <a:pt x="10800" y="10800"/>
                </a:lnTo>
                <a:close/>
              </a:path>
              <a:path fill="none" w="21600" h="21600">
                <a:moveTo>
                  <a:pt x="11" y="10323"/>
                </a:moveTo>
                <a:arcTo wR="10800" hR="10800" stAng="-10648022" swAng="10425580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4148280"/>
            <a:ext cx="1297080" cy="22334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308720" y="5661000"/>
            <a:ext cx="144720" cy="142920"/>
            <a:chOff x="7308720" y="5661000"/>
            <a:chExt cx="144720" cy="142920"/>
          </a:xfrm>
        </p:grpSpPr>
        <p:sp>
          <p:nvSpPr>
            <p:cNvPr id="235" name=""/>
            <p:cNvSpPr/>
            <p:nvPr/>
          </p:nvSpPr>
          <p:spPr>
            <a:xfrm>
              <a:off x="7308720" y="566100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308720" y="566100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56000" y="1700280"/>
            <a:ext cx="4637160" cy="4681080"/>
            <a:chOff x="4356000" y="1700280"/>
            <a:chExt cx="4637160" cy="4681080"/>
          </a:xfrm>
        </p:grpSpPr>
        <p:sp>
          <p:nvSpPr>
            <p:cNvPr id="238" name=""/>
            <p:cNvSpPr/>
            <p:nvPr/>
          </p:nvSpPr>
          <p:spPr>
            <a:xfrm>
              <a:off x="4356000" y="414972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443640" y="184428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767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720" y="407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44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 flipV="1">
            <a:off x="5432400" y="2999520"/>
            <a:ext cx="20523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19" y="1166"/>
                </a:moveTo>
                <a:arcTo wR="10800" hR="10800" stAng="-7011973" swAng="6698343"/>
                <a:lnTo>
                  <a:pt x="10800" y="10800"/>
                </a:lnTo>
                <a:close/>
              </a:path>
              <a:path fill="none" w="21600" h="21600">
                <a:moveTo>
                  <a:pt x="5919" y="1166"/>
                </a:moveTo>
                <a:arcTo wR="10800" hR="10800" stAng="-7011973" swAng="669834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72360" y="422100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18160" y="220500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16720" y="5661000"/>
            <a:ext cx="5443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57440" y="422100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 flipH="1">
            <a:off x="5651640" y="5300640"/>
            <a:ext cx="1296720" cy="11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042920" y="333360"/>
                <a:ext cx="41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6588000" y="14436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2292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83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9343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3236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4980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4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8028000" y="191772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093080" y="47628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020000" y="278136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506920" y="191772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42920" y="3500280"/>
                <a:ext cx="4533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6875280" y="620640"/>
            <a:ext cx="144720" cy="142920"/>
            <a:chOff x="6875280" y="620640"/>
            <a:chExt cx="144720" cy="142920"/>
          </a:xfrm>
        </p:grpSpPr>
        <p:sp>
          <p:nvSpPr>
            <p:cNvPr id="264" name=""/>
            <p:cNvSpPr/>
            <p:nvPr/>
          </p:nvSpPr>
          <p:spPr>
            <a:xfrm>
              <a:off x="6875640" y="620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75280" y="620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651640" y="573408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35520" y="4122720"/>
            <a:ext cx="244980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60960" y="5273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946920" y="3571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54496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27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800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8053560" y="5334120"/>
                <a:ext cx="236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020000" y="3933720"/>
                <a:ext cx="2365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032600" y="619776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519880" y="533412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6011640" y="6021360"/>
            <a:ext cx="144720" cy="142920"/>
            <a:chOff x="6011640" y="6021360"/>
            <a:chExt cx="144720" cy="142920"/>
          </a:xfrm>
        </p:grpSpPr>
        <p:sp>
          <p:nvSpPr>
            <p:cNvPr id="278" name=""/>
            <p:cNvSpPr/>
            <p:nvPr/>
          </p:nvSpPr>
          <p:spPr>
            <a:xfrm>
              <a:off x="6012000" y="602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011640" y="602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964120" y="1052640"/>
            <a:ext cx="1704600" cy="156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51" y="178"/>
                </a:moveTo>
                <a:arcTo wR="10800" hR="10800" stAng="-4775587" swAng="4734933"/>
                <a:lnTo>
                  <a:pt x="10800" y="10800"/>
                </a:lnTo>
                <a:close/>
              </a:path>
              <a:path fill="none" w="21600" h="21600">
                <a:moveTo>
                  <a:pt x="12751" y="178"/>
                </a:moveTo>
                <a:arcTo wR="10800" hR="10800" stAng="-4775587" swAng="473493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020000" y="1407960"/>
                <a:ext cx="43164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6084720" y="4437000"/>
            <a:ext cx="1704960" cy="164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1" y="18313"/>
                </a:moveTo>
                <a:arcTo wR="10800" hR="10800" stAng="8155378" swAng="13403968"/>
                <a:lnTo>
                  <a:pt x="10800" y="10800"/>
                </a:lnTo>
                <a:close/>
              </a:path>
              <a:path fill="none" w="21600" h="21600">
                <a:moveTo>
                  <a:pt x="3041" y="18313"/>
                </a:moveTo>
                <a:arcTo wR="10800" hR="10800" stAng="8155378" swAng="13403968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380280" y="4797360"/>
                <a:ext cx="560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 flipH="1" flipV="1">
            <a:off x="5435640" y="1125360"/>
            <a:ext cx="1512720" cy="719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42920" y="404640"/>
                <a:ext cx="38005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651640" y="69228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2292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69343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53236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4980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084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8067600" y="1917720"/>
                <a:ext cx="184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020000" y="476280"/>
                <a:ext cx="255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47000" y="278136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533920" y="191772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573360"/>
                <a:ext cx="33336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" name=""/>
          <p:cNvGrpSpPr/>
          <p:nvPr/>
        </p:nvGrpSpPr>
        <p:grpSpPr>
          <a:xfrm>
            <a:off x="5795640" y="1268280"/>
            <a:ext cx="144720" cy="142920"/>
            <a:chOff x="5795640" y="1268280"/>
            <a:chExt cx="144720" cy="142920"/>
          </a:xfrm>
        </p:grpSpPr>
        <p:sp>
          <p:nvSpPr>
            <p:cNvPr id="299" name=""/>
            <p:cNvSpPr/>
            <p:nvPr/>
          </p:nvSpPr>
          <p:spPr>
            <a:xfrm>
              <a:off x="5796000" y="126828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795640" y="126828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364000" y="472428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35520" y="4122720"/>
            <a:ext cx="244980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60960" y="5273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6946920" y="3571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54496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627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4800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8101080" y="5373720"/>
                <a:ext cx="2412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005600" y="6165720"/>
                <a:ext cx="405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508720" y="5373720"/>
                <a:ext cx="404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1" name=""/>
          <p:cNvGrpSpPr/>
          <p:nvPr/>
        </p:nvGrpSpPr>
        <p:grpSpPr>
          <a:xfrm>
            <a:off x="5651280" y="5229360"/>
            <a:ext cx="144720" cy="142920"/>
            <a:chOff x="5651280" y="5229360"/>
            <a:chExt cx="144720" cy="142920"/>
          </a:xfrm>
        </p:grpSpPr>
        <p:sp>
          <p:nvSpPr>
            <p:cNvPr id="312" name=""/>
            <p:cNvSpPr/>
            <p:nvPr/>
          </p:nvSpPr>
          <p:spPr>
            <a:xfrm>
              <a:off x="5651640" y="5229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651280" y="5229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034320" y="1054080"/>
            <a:ext cx="1706040" cy="15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" y="5690"/>
                </a:moveTo>
                <a:arcTo wR="10800" hR="10800" stAng="-9105538" swAng="9064884"/>
                <a:lnTo>
                  <a:pt x="10800" y="10800"/>
                </a:lnTo>
                <a:close/>
              </a:path>
              <a:path fill="none" w="21600" h="21600">
                <a:moveTo>
                  <a:pt x="1286" y="5690"/>
                </a:moveTo>
                <a:arcTo wR="10800" hR="10800" stAng="-9105538" swAng="906488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659640" y="1268280"/>
                <a:ext cx="539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084360" y="4437000"/>
            <a:ext cx="1776600" cy="16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" y="10446"/>
                </a:moveTo>
                <a:arcTo wR="10800" hR="10800" stAng="-10687143" swAng="10646489"/>
                <a:lnTo>
                  <a:pt x="10800" y="10800"/>
                </a:lnTo>
                <a:close/>
              </a:path>
              <a:path fill="none" w="21600" h="21600">
                <a:moveTo>
                  <a:pt x="6" y="10446"/>
                </a:moveTo>
                <a:arcTo wR="10800" hR="10800" stAng="-10687143" swAng="10646489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89640" y="4797360"/>
                <a:ext cx="539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093080" y="3860640"/>
                <a:ext cx="241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29Z</dcterms:modified>
  <cp:revision>295</cp:revision>
  <dc:subject/>
  <dc:title>KČ</dc:title>
</cp:coreProperties>
</file>