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9658-FC82-41FA-BF20-C170DC92B2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716B-3D9B-4E54-B2C2-03D39AE449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A31-0C5A-46DC-9D38-FFA57A45D0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D2E9-D666-4BF4-97B6-6EFCA25C0F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E914-D475-48F4-B01E-7F53683FF1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A8D-60C5-418F-998D-A66AA2AE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601-1A86-4407-AA52-3EB988E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20A-249A-48DD-A006-CC801393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7DD-918C-4037-82E0-313019F4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A11-E8BE-404C-BC5F-B43A31E2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FD8B-2190-4A1E-B614-31142AE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8F4D-C295-4B0F-989A-15EDEDA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A317-3E53-4ABA-A618-DE67382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AE0D-0137-4518-8122-EF112EB4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C75-8E1B-428C-9828-761BB8C4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3712-1B98-4285-B416-5524B9E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CFD-C537-4A90-97D1-7D9F9F4E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BDF7-97BD-46C3-926E-5B747430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441C-6147-489F-8E10-5D6559D2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75A1-348F-487B-9C26-2DC4943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043C-155B-470C-8462-B72A0A60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0F9-26BF-498F-8995-CC16F8B5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F8B-D891-4E6A-BF13-C56BBB72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4AA-6139-4266-BE62-D6C567FB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C98-E1A3-4853-8B6E-0E81B3A1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103-71C1-4007-BD5E-6F449A1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AD1-778C-41F8-B195-0D0A470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A04-0B35-428D-81BA-173F715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F81-5AA1-4646-BCD1-9C6D116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8450-9699-4D3C-B630-0B7F054E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CAD4-2B40-461D-899B-7387CCEA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opač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995640" y="1557360"/>
                <a:ext cx="2149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21200" y="2227320"/>
                <a:ext cx="1917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52880" y="2873520"/>
                <a:ext cx="1887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95640" y="3573360"/>
                <a:ext cx="21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67280" y="4221000"/>
                <a:ext cx="1355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924360" y="4797360"/>
                <a:ext cx="1322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924360" y="5445000"/>
                <a:ext cx="194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81600" y="6146640"/>
                <a:ext cx="1914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844640"/>
          <a:ext cx="7416720" cy="45036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la komplexně sdružená a opač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ě sdružená a opačná komplexní čísla; Reálná a imaginární čás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, v jakém vzájemném vztahu jsou obrazy daných dvojic KČ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zobrazte je nejprve v Gaussově rovině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4 +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3 –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89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8900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765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3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765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počátku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341360"/>
            <a:ext cx="31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134136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6720" y="4076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6960" y="4964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24000" y="3068640"/>
            <a:ext cx="1368360" cy="165564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84000" y="4797360"/>
            <a:ext cx="1366920" cy="158292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5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6028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89000"/>
            <a:ext cx="3816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83664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765000"/>
            <a:ext cx="46814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41300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97360"/>
            <a:ext cx="0" cy="18414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24000" y="299736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53080" y="32846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+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4740120"/>
            <a:ext cx="558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4760" y="2030040"/>
            <a:ext cx="4680" cy="4683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22200" y="186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89440" y="466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7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795760"/>
            <a:ext cx="2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50920" y="6453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50920" y="60357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50920" y="55897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51721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50920" y="430848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50920" y="387684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50920" y="344340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50920" y="256392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50920" y="2997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108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23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5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21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5800" y="409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5800" y="365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25800" y="322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25800" y="242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5800" y="63244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5800" y="58928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5800" y="54594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5800" y="502776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308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380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872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860640"/>
            <a:ext cx="0" cy="8668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87684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797360"/>
            <a:ext cx="0" cy="1656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6453360"/>
            <a:ext cx="1455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724280"/>
            <a:ext cx="0" cy="8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558972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39640" y="6396120"/>
            <a:ext cx="120960" cy="109440"/>
            <a:chOff x="2339640" y="6396120"/>
            <a:chExt cx="120960" cy="109440"/>
          </a:xfrm>
        </p:grpSpPr>
        <p:sp>
          <p:nvSpPr>
            <p:cNvPr id="213" name=""/>
            <p:cNvSpPr/>
            <p:nvPr/>
          </p:nvSpPr>
          <p:spPr>
            <a:xfrm>
              <a:off x="234000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33964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859280" y="2579760"/>
            <a:ext cx="0" cy="21366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579760"/>
            <a:ext cx="0" cy="2197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563920"/>
            <a:ext cx="952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42920" y="2508120"/>
            <a:ext cx="119520" cy="109800"/>
            <a:chOff x="2842920" y="2508120"/>
            <a:chExt cx="119520" cy="109800"/>
          </a:xfrm>
        </p:grpSpPr>
        <p:sp>
          <p:nvSpPr>
            <p:cNvPr id="220" name=""/>
            <p:cNvSpPr/>
            <p:nvPr/>
          </p:nvSpPr>
          <p:spPr>
            <a:xfrm>
              <a:off x="284328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84292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787640" y="2508120"/>
            <a:ext cx="120960" cy="111240"/>
            <a:chOff x="4787640" y="2508120"/>
            <a:chExt cx="120960" cy="111240"/>
          </a:xfrm>
        </p:grpSpPr>
        <p:sp>
          <p:nvSpPr>
            <p:cNvPr id="223" name=""/>
            <p:cNvSpPr/>
            <p:nvPr/>
          </p:nvSpPr>
          <p:spPr>
            <a:xfrm>
              <a:off x="478800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78764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92360" y="2924280"/>
            <a:ext cx="120960" cy="110880"/>
            <a:chOff x="5292360" y="2924280"/>
            <a:chExt cx="120960" cy="110880"/>
          </a:xfrm>
        </p:grpSpPr>
        <p:sp>
          <p:nvSpPr>
            <p:cNvPr id="226" name=""/>
            <p:cNvSpPr/>
            <p:nvPr/>
          </p:nvSpPr>
          <p:spPr>
            <a:xfrm>
              <a:off x="529272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29236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95640" y="3803760"/>
            <a:ext cx="120960" cy="110880"/>
            <a:chOff x="5795640" y="3803760"/>
            <a:chExt cx="120960" cy="110880"/>
          </a:xfrm>
        </p:grpSpPr>
        <p:sp>
          <p:nvSpPr>
            <p:cNvPr id="229" name=""/>
            <p:cNvSpPr/>
            <p:nvPr/>
          </p:nvSpPr>
          <p:spPr>
            <a:xfrm>
              <a:off x="579600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79564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95640" y="5516640"/>
            <a:ext cx="120960" cy="110880"/>
            <a:chOff x="5795640" y="5516640"/>
            <a:chExt cx="120960" cy="110880"/>
          </a:xfrm>
        </p:grpSpPr>
        <p:sp>
          <p:nvSpPr>
            <p:cNvPr id="232" name=""/>
            <p:cNvSpPr/>
            <p:nvPr/>
          </p:nvSpPr>
          <p:spPr>
            <a:xfrm>
              <a:off x="579600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79564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65272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–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25653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+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8160" y="1989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9440" y="198900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720" y="61657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–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6920" y="3860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472428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6040" y="3213000"/>
            <a:ext cx="352296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Times New Roman"/>
              </a:rPr>
              <a:t>KČ opač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symetrická podle počátku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411280" y="2997360"/>
            <a:ext cx="2952720" cy="345600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8200" y="4005360"/>
            <a:ext cx="3025800" cy="14850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KČ komplexně sdruže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(symetrická podle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16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780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1272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67280" y="3860280"/>
            <a:ext cx="0" cy="1729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omplexně sdruže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268280"/>
            <a:ext cx="7705800" cy="3168720"/>
            <a:chOff x="1187280" y="1268280"/>
            <a:chExt cx="7705800" cy="3168720"/>
          </a:xfrm>
        </p:grpSpPr>
        <p:sp>
          <p:nvSpPr>
            <p:cNvPr id="251" name=""/>
            <p:cNvSpPr/>
            <p:nvPr/>
          </p:nvSpPr>
          <p:spPr>
            <a:xfrm>
              <a:off x="1187280" y="1268280"/>
              <a:ext cx="770580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echť je dáno KČ: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    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 = 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1 </a:t>
              </a: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+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2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ak KČ k němu komplexně sdružené označujeme      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 lze je zapsat:                           .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4284720" y="306864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4932360" y="3718080"/>
                  <a:ext cx="235908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1332000" y="5950080"/>
            <a:ext cx="7416720" cy="581400"/>
            <a:chOff x="1332000" y="5950080"/>
            <a:chExt cx="7416720" cy="581400"/>
          </a:xfrm>
        </p:grpSpPr>
        <p:sp>
          <p:nvSpPr>
            <p:cNvPr id="255" name=""/>
            <p:cNvSpPr/>
            <p:nvPr/>
          </p:nvSpPr>
          <p:spPr>
            <a:xfrm>
              <a:off x="1332000" y="5950080"/>
              <a:ext cx="74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689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oznámk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.. čtěte „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s pruhem“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635280" y="602136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5724360" y="148608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1486080"/>
            <a:ext cx="79236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58136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hodná čísl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458136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437000"/>
            <a:ext cx="28728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30560" y="4437000"/>
            <a:ext cx="28908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4360" y="364500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645000"/>
            <a:ext cx="8654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komplexně sdruže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148360" y="1557360"/>
                <a:ext cx="1687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16680" y="2195640"/>
                <a:ext cx="1885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2873520"/>
                <a:ext cx="1854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076720" y="3521160"/>
                <a:ext cx="16542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148360" y="4241880"/>
                <a:ext cx="109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078520" y="47498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76720" y="5465880"/>
                <a:ext cx="1419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076720" y="6113520"/>
                <a:ext cx="1881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987640" y="6165720"/>
                <a:ext cx="15224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4221000"/>
                <a:ext cx="1054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556000" y="4797360"/>
                <a:ext cx="1555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kořeny kvadratických rovnic, jejichž diskriminant je záporný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54936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800280"/>
                <a:tab algn="l" pos="251460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koř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kvadratických rovnic, jejichž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porný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7280" y="4292640"/>
            <a:ext cx="7956720" cy="1584000"/>
            <a:chOff x="1187280" y="4292640"/>
            <a:chExt cx="7956720" cy="1584000"/>
          </a:xfrm>
        </p:grpSpPr>
        <p:sp>
          <p:nvSpPr>
            <p:cNvPr id="290" name=""/>
            <p:cNvSpPr/>
            <p:nvPr/>
          </p:nvSpPr>
          <p:spPr>
            <a:xfrm>
              <a:off x="7020000" y="5300640"/>
              <a:ext cx="216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87280" y="4292640"/>
              <a:ext cx="795672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150000"/>
                </a:lnSpc>
                <a:buClr>
                  <a:srgbClr val="0099cc"/>
                </a:buClr>
                <a:buSzPct val="80000"/>
                <a:buFont typeface="Wingdings" charset="2"/>
                <a:buChar char=""/>
                <a:tabLst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apříklad, je-l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–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538200" indent="-538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otom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+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 = 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druhý kořen kvadratické rovnice, je-l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25600" y="1508040"/>
                <a:ext cx="1755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403280" y="2133720"/>
                <a:ext cx="1720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03280" y="2781360"/>
                <a:ext cx="1689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003560" y="1508040"/>
                <a:ext cx="1819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97160" y="3500280"/>
                <a:ext cx="1590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403280" y="4149720"/>
                <a:ext cx="1425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415880" y="4781520"/>
                <a:ext cx="1060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403280" y="5445000"/>
                <a:ext cx="2021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403280" y="6093000"/>
                <a:ext cx="1093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27320" y="2133720"/>
                <a:ext cx="1754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95640" y="2781360"/>
                <a:ext cx="1984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995640" y="3500280"/>
                <a:ext cx="1621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67280" y="4149720"/>
                <a:ext cx="1222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67280" y="5445000"/>
                <a:ext cx="2049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069800" y="472428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9800" y="602136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pač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87280" y="155736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chť je dáno KČ: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    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 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ak KČ k němu opačné označujeme  –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lze je zapsat: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1773360"/>
            <a:ext cx="79236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16720" y="1773360"/>
            <a:ext cx="79200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43880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458136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508720" y="4149360"/>
            <a:ext cx="35856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6804000" y="4149360"/>
            <a:ext cx="21600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3213000"/>
            <a:ext cx="79236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53080" y="1844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3213000"/>
            <a:ext cx="792000" cy="792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792360"/>
              <a:gd name="textAreaBottom" fmla="*/ 753840 h 7923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40Z</dcterms:modified>
  <cp:revision>295</cp:revision>
  <dc:subject/>
  <dc:title>KČ</dc:title>
</cp:coreProperties>
</file>