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F4AA-CBB9-4A59-8618-53026C4A7A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9A82-0C52-4FE8-BC58-54F47CC352C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9F1E-29BB-4900-885A-F903B490424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4B2A-ED23-4C78-AD7D-1F8F74A14F9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A49F-AA15-451C-B20E-DAD9DBAA19D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54B-1D02-4F81-9812-2870524F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EC1-8ADE-4EAD-AE59-477FA36C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14C8-A01E-427C-96DB-36FCF58E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582-21EC-4438-9DB1-D7E62BF7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7568-CBCC-44D6-AB8B-5627084A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AE49-26B3-4134-B4B8-706A57E7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68CA-8CB9-4B37-94D9-FCEC4A80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504D-B0D4-44DB-AD90-8C1551D6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AC14-9BC2-4BFE-99C9-5EBBB50A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E1D1-CE72-4B94-931F-AF932325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893A-D9ED-4E51-B926-BFEA2FFC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656-D5C1-4C00-AF3A-851AFE24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496D-81BA-4CB7-8B34-6D541E0B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30EC-2833-4ECC-AB5D-170F763B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8DA4-F7BD-4FBE-96F3-C008DD66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BC96-2581-4A19-AD13-B2A94A27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C2DD-CF75-4F8B-972D-D926A97A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570-FF1D-4470-8DA2-EF5DBB57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1E18-F47C-4847-B31B-47362DA4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D5C-4700-4315-A9FB-B2D30A1B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167-220C-47B6-8C7D-D808BEC9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1BE-9CEB-43C9-8F26-3DF27D6B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DD8-DAAC-4E8B-AC19-450344A8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38C-0D1C-4690-BC05-FD83C6E1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507E-29C4-49EE-A7C5-2C2E6D894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5253-AB13-4E93-BD11-5719E5866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476360" y="620640"/>
                <a:ext cx="17748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301760" y="1946160"/>
                <a:ext cx="187632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332000" y="3789360"/>
                <a:ext cx="24573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332000" y="5157720"/>
                <a:ext cx="20127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489560" y="3571920"/>
                <a:ext cx="46544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00720" y="5157720"/>
                <a:ext cx="375912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500720" y="620640"/>
                <a:ext cx="38862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489560" y="1916280"/>
                <a:ext cx="386856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332000" y="692280"/>
                <a:ext cx="214956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332000" y="2205000"/>
                <a:ext cx="2217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,1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332000" y="3860640"/>
                <a:ext cx="19112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332000" y="5415120"/>
                <a:ext cx="201276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427640" y="1916280"/>
                <a:ext cx="43844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,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427640" y="620640"/>
                <a:ext cx="39700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,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427640" y="3824280"/>
                <a:ext cx="38862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,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427640" y="5084640"/>
                <a:ext cx="407340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8150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vod zápisu komplexního čísla z algebraického tvaru na tvar goniometrický – komplexní čísla reálná a ryze imaginár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komplexního čísla – reálného, ryze imaginárního; Souřadná os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Převod AT na G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378936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reálná a ryze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42920" y="1872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eálné klad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klad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0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4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476360" y="5516640"/>
                <a:ext cx="71928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147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2" name="Group 63"/>
          <p:cNvGrpSpPr/>
          <p:nvPr/>
        </p:nvGrpSpPr>
        <p:grpSpPr>
          <a:xfrm>
            <a:off x="7453080" y="3500280"/>
            <a:ext cx="144720" cy="142920"/>
            <a:chOff x="7453080" y="3500280"/>
            <a:chExt cx="144720" cy="142920"/>
          </a:xfrm>
        </p:grpSpPr>
        <p:sp>
          <p:nvSpPr>
            <p:cNvPr id="153" name="Line 64"/>
            <p:cNvSpPr/>
            <p:nvPr/>
          </p:nvSpPr>
          <p:spPr>
            <a:xfrm>
              <a:off x="745344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Line 65"/>
            <p:cNvSpPr/>
            <p:nvPr/>
          </p:nvSpPr>
          <p:spPr>
            <a:xfrm flipH="1">
              <a:off x="745308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310160" y="36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357192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45080" y="3573360"/>
            <a:ext cx="1944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6907680" y="2891520"/>
            <a:ext cx="152280" cy="10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5240" y="27795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2720" y="5445000"/>
            <a:ext cx="360360" cy="792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792360"/>
              <a:gd name="textAreaBottom" fmla="*/ 775080 h 792360"/>
            </a:gdLst>
            <a:ahLst/>
            <a:rect l="textAreaLeft" t="textAreaTop" r="textAreaRight" b="textAreaBottom"/>
            <a:pathLst>
              <a:path w="21600" h="47468">
                <a:moveTo>
                  <a:pt x="3600" y="0"/>
                </a:moveTo>
                <a:arcTo wR="3600" hR="3600" stAng="16200000" swAng="-5400000"/>
                <a:lnTo>
                  <a:pt x="0" y="43868"/>
                </a:lnTo>
                <a:arcTo wR="3600" hR="3600" stAng="10800000" swAng="-5400000"/>
                <a:lnTo>
                  <a:pt x="18000" y="474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5445000"/>
            <a:ext cx="59770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61945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52680" y="61945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92720" y="4221000"/>
            <a:ext cx="54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očáteční rameno</a:t>
            </a:r>
            <a:r>
              <a:rPr b="0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=</a:t>
            </a:r>
            <a:r>
              <a:rPr b="0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ncové ramen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1628640"/>
            <a:ext cx="28814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859280" y="2421000"/>
            <a:ext cx="1441440" cy="1944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187280" y="5516640"/>
                <a:ext cx="78156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042920" y="1890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eálné zápor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zápor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18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2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171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6" name="Group 63"/>
          <p:cNvGrpSpPr/>
          <p:nvPr/>
        </p:nvGrpSpPr>
        <p:grpSpPr>
          <a:xfrm>
            <a:off x="5435280" y="3500280"/>
            <a:ext cx="144720" cy="142920"/>
            <a:chOff x="5435280" y="3500280"/>
            <a:chExt cx="144720" cy="142920"/>
          </a:xfrm>
        </p:grpSpPr>
        <p:sp>
          <p:nvSpPr>
            <p:cNvPr id="177" name="Line 64"/>
            <p:cNvSpPr/>
            <p:nvPr/>
          </p:nvSpPr>
          <p:spPr>
            <a:xfrm>
              <a:off x="543564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Line 65"/>
            <p:cNvSpPr/>
            <p:nvPr/>
          </p:nvSpPr>
          <p:spPr>
            <a:xfrm flipH="1">
              <a:off x="543528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149440" y="3789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357336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500360" y="3573360"/>
            <a:ext cx="1944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 rot="16200000">
            <a:off x="5899680" y="3324240"/>
            <a:ext cx="152280" cy="934920"/>
          </a:xfrm>
          <a:custGeom>
            <a:avLst/>
            <a:gdLst>
              <a:gd name="textAreaLeft" fmla="*/ 97200 w 152280"/>
              <a:gd name="textAreaRight" fmla="*/ 152640 w 1522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25800" y="37893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5445000"/>
            <a:ext cx="504720" cy="79236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92360"/>
              <a:gd name="textAreaBottom" fmla="*/ 767880 h 792360"/>
            </a:gdLst>
            <a:ahLst/>
            <a:rect l="textAreaLeft" t="textAreaTop" r="textAreaRight" b="textAreaBottom"/>
            <a:pathLst>
              <a:path w="21600" h="33901">
                <a:moveTo>
                  <a:pt x="3600" y="0"/>
                </a:moveTo>
                <a:arcTo wR="3600" hR="3600" stAng="16200000" swAng="-5400000"/>
                <a:lnTo>
                  <a:pt x="0" y="30301"/>
                </a:lnTo>
                <a:arcTo wR="3600" hR="3600" stAng="10800000" swAng="-5400000"/>
                <a:lnTo>
                  <a:pt x="18000" y="339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5445000"/>
            <a:ext cx="66596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77520" y="616572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38520" y="61657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1628640"/>
            <a:ext cx="32418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292360" y="2420640"/>
            <a:ext cx="934920" cy="647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6000" y="2924280"/>
            <a:ext cx="1294920" cy="1272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1011"/>
                </a:moveTo>
                <a:arcTo wR="10800" hR="10800" stAng="10732961" swAng="10867039"/>
                <a:lnTo>
                  <a:pt x="10800" y="10800"/>
                </a:lnTo>
                <a:close/>
              </a:path>
              <a:path fill="none" w="21600" h="21600">
                <a:moveTo>
                  <a:pt x="2" y="11011"/>
                </a:moveTo>
                <a:arcTo wR="10800" hR="10800" stAng="10732961" swAng="10867039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05880" y="2990880"/>
            <a:ext cx="8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80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332000" y="5084640"/>
                <a:ext cx="765468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042920" y="1890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yze imaginární klad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klad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9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   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3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196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63"/>
          <p:cNvGrpSpPr/>
          <p:nvPr/>
        </p:nvGrpSpPr>
        <p:grpSpPr>
          <a:xfrm>
            <a:off x="6372000" y="2349360"/>
            <a:ext cx="144720" cy="142920"/>
            <a:chOff x="6372000" y="2349360"/>
            <a:chExt cx="144720" cy="142920"/>
          </a:xfrm>
        </p:grpSpPr>
        <p:sp>
          <p:nvSpPr>
            <p:cNvPr id="202" name="Line 64"/>
            <p:cNvSpPr/>
            <p:nvPr/>
          </p:nvSpPr>
          <p:spPr>
            <a:xfrm>
              <a:off x="6372360" y="234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65"/>
            <p:cNvSpPr/>
            <p:nvPr/>
          </p:nvSpPr>
          <p:spPr>
            <a:xfrm flipH="1">
              <a:off x="6372000" y="234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517800" y="213372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43640" y="357336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6443640" y="1844640"/>
            <a:ext cx="1440" cy="1728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156360" y="2420280"/>
            <a:ext cx="144360" cy="115236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81080" y="270828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8000" y="5084640"/>
            <a:ext cx="360360" cy="1224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224000"/>
              <a:gd name="textAreaBottom" fmla="*/ 1206720 h 1224000"/>
            </a:gdLst>
            <a:ahLst/>
            <a:rect l="textAreaLeft" t="textAreaTop" r="textAreaRight" b="textAreaBottom"/>
            <a:pathLst>
              <a:path w="21600" h="73315">
                <a:moveTo>
                  <a:pt x="3600" y="0"/>
                </a:moveTo>
                <a:arcTo wR="3600" hR="3600" stAng="16200000" swAng="-5400000"/>
                <a:lnTo>
                  <a:pt x="0" y="69715"/>
                </a:lnTo>
                <a:arcTo wR="3600" hR="3600" stAng="10800000" swAng="-5400000"/>
                <a:lnTo>
                  <a:pt x="18000" y="73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56000" y="5084640"/>
            <a:ext cx="6408720" cy="1224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6652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3852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1628640"/>
            <a:ext cx="32418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292720" y="2420640"/>
            <a:ext cx="1295280" cy="647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23280" y="2852640"/>
            <a:ext cx="1440720" cy="141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98280" y="299736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0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067280" y="1557360"/>
                <a:ext cx="361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258920" y="5157720"/>
                <a:ext cx="7718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1042920" y="1890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yze imaginární zápor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zápor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27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    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2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222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7" name="Group 63"/>
          <p:cNvGrpSpPr/>
          <p:nvPr/>
        </p:nvGrpSpPr>
        <p:grpSpPr>
          <a:xfrm>
            <a:off x="6372000" y="4508640"/>
            <a:ext cx="144720" cy="142560"/>
            <a:chOff x="6372000" y="4508640"/>
            <a:chExt cx="144720" cy="142560"/>
          </a:xfrm>
        </p:grpSpPr>
        <p:sp>
          <p:nvSpPr>
            <p:cNvPr id="228" name="Line 64"/>
            <p:cNvSpPr/>
            <p:nvPr/>
          </p:nvSpPr>
          <p:spPr>
            <a:xfrm>
              <a:off x="6372360" y="4508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65"/>
            <p:cNvSpPr/>
            <p:nvPr/>
          </p:nvSpPr>
          <p:spPr>
            <a:xfrm flipH="1">
              <a:off x="6372000" y="4508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725440" y="4292640"/>
            <a:ext cx="6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43640" y="357336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443640" y="3573360"/>
            <a:ext cx="1440" cy="1440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6515280" y="3573360"/>
            <a:ext cx="142560" cy="1008000"/>
          </a:xfrm>
          <a:custGeom>
            <a:avLst/>
            <a:gdLst>
              <a:gd name="textAreaLeft" fmla="*/ 91080 w 142560"/>
              <a:gd name="textAreaRight" fmla="*/ 142920 w 1425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60720" y="37893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63640" y="5084640"/>
            <a:ext cx="576360" cy="122400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224000"/>
              <a:gd name="textAreaBottom" fmla="*/ 1195920 h 1224000"/>
            </a:gdLst>
            <a:ahLst/>
            <a:rect l="textAreaLeft" t="textAreaTop" r="textAreaRight" b="textAreaBottom"/>
            <a:pathLst>
              <a:path w="21600" h="45856">
                <a:moveTo>
                  <a:pt x="3600" y="0"/>
                </a:moveTo>
                <a:arcTo wR="3600" hR="3600" stAng="16200000" swAng="-5400000"/>
                <a:lnTo>
                  <a:pt x="0" y="42256"/>
                </a:lnTo>
                <a:arcTo wR="3600" hR="3600" stAng="10800000" swAng="-5400000"/>
                <a:lnTo>
                  <a:pt x="18000" y="458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56000" y="5084640"/>
            <a:ext cx="6408720" cy="1224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9524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852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50920" y="1628640"/>
            <a:ext cx="34578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720" y="2421000"/>
            <a:ext cx="57456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781360"/>
            <a:ext cx="1588680" cy="156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43"/>
                </a:moveTo>
                <a:arcTo wR="10800" hR="10800" stAng="10786231" swAng="10813769"/>
                <a:lnTo>
                  <a:pt x="10800" y="10800"/>
                </a:lnTo>
                <a:close/>
              </a:path>
              <a:path fill="none" w="21600" h="21600">
                <a:moveTo>
                  <a:pt x="0" y="10843"/>
                </a:moveTo>
                <a:arcTo wR="10800" hR="10800" stAng="10786231" swAng="10813769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77560" y="3068640"/>
            <a:ext cx="8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70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284720" y="1557360"/>
                <a:ext cx="501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 flipH="1" flipV="1">
            <a:off x="5653080" y="2793600"/>
            <a:ext cx="1560960" cy="156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87" swAng="5602805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87" swAng="5602805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258920" y="1197000"/>
                <a:ext cx="13669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187280" y="2349360"/>
                <a:ext cx="1717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3645000"/>
                <a:ext cx="14018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258920" y="5086440"/>
                <a:ext cx="1682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643280" y="1197000"/>
                <a:ext cx="3024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643280" y="2276640"/>
                <a:ext cx="31100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643280" y="3357720"/>
                <a:ext cx="31100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643280" y="4797360"/>
                <a:ext cx="34862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332000" y="981000"/>
                <a:ext cx="18079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332000" y="2492280"/>
                <a:ext cx="17064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403280" y="3933720"/>
                <a:ext cx="16383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403280" y="5373720"/>
                <a:ext cx="15699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427640" y="620640"/>
                <a:ext cx="42498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427640" y="2421000"/>
                <a:ext cx="37242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532400" y="3860640"/>
                <a:ext cx="3781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498920" y="5084640"/>
                <a:ext cx="390384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4:45Z</dcterms:modified>
  <cp:revision>298</cp:revision>
  <dc:subject/>
  <dc:title>KČ</dc:title>
</cp:coreProperties>
</file>