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EAB5-E391-4431-8676-0E9562411B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F36F-DA76-44EC-80A9-1F5F948DF87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5604-F127-4AB7-81A8-FCEEF47213C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90C6-6488-4685-8A5E-C4E7262368B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AECD-BEF9-4DC2-AF8E-0624588A8AD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06A-6655-4D0F-9A6B-07172151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FA4-662A-4FAF-93A2-6C05FF20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7D5-4C0D-4022-A63F-7D2B082E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F4D-8EDD-4AF3-BAAF-E31093FB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8AD9-9F78-4D1E-9555-76477FD4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17FF-703D-49C0-8DAE-CC109D67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0E2C-9135-48B8-AEBA-9700FABB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ED76-7AE0-4BA7-9983-13863560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4E06-3E6E-445D-B2A6-8396071B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003F-B631-43E0-8DF9-1BDBFD92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0122-E2E3-4198-8403-63B104F6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6C4-29EF-434B-8391-70F4B09C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166A-2F49-4FA9-9B35-670C6178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BDC4-21FE-4889-B398-4E877044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6F53-FFF9-4878-BEC6-912C5B6D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0D54-EFEE-44B2-AC8A-24CBA69D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C712-9215-4229-B280-968454DF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E2B-3525-4572-B123-3E9E2593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A00-C30E-4613-9180-75A0F834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EB20-0FC2-44B4-9F66-8D24EC39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8A8-89A2-4575-B313-0A1A83ED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0B5-B56E-45B3-B0A9-AF8BAC61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432-4918-4301-906F-27B1D60B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6EC-3753-44CA-8CAA-975542AC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B125-048A-42C0-AA7D-5CCBDB10F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61C7-6F44-402A-B8F3-559247D0D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116000" y="189000"/>
            <a:ext cx="8028000" cy="6048360"/>
            <a:chOff x="1116000" y="189000"/>
            <a:chExt cx="8028000" cy="6048360"/>
          </a:xfrm>
        </p:grpSpPr>
        <p:sp>
          <p:nvSpPr>
            <p:cNvPr id="235" name=""/>
            <p:cNvSpPr/>
            <p:nvPr/>
          </p:nvSpPr>
          <p:spPr>
            <a:xfrm>
              <a:off x="1116000" y="189000"/>
              <a:ext cx="802800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ccecff"/>
                  </a:solidFill>
                  <a:latin typeface="Times New Roman"/>
                </a:rPr>
                <a:t>Příklad</a:t>
              </a:r>
              <a:r>
                <a:rPr b="0" lang="en-US" sz="3000" spc="-1" strike="noStrike">
                  <a:solidFill>
                    <a:srgbClr val="ccecff"/>
                  </a:solidFill>
                  <a:latin typeface="Times New Roman"/>
                </a:rPr>
                <a:t>: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Je-li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1 – 2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b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– 3 +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c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– 5 – 4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– 3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, e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7,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vypočtěte: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16000" y="1773360"/>
              <a:ext cx="266400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+ b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 + c + d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 – b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b – a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c – a + d – e =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 + e – d – c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340000" y="1773360"/>
            <a:ext cx="68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1773360"/>
            <a:ext cx="378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2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2349360"/>
            <a:ext cx="6156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08720" y="2349360"/>
            <a:ext cx="18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4 – 9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68360" y="2997360"/>
            <a:ext cx="687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– 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2997360"/>
            <a:ext cx="406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3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96360" y="2997360"/>
            <a:ext cx="154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4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68360" y="3500280"/>
            <a:ext cx="687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4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– 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3645000"/>
            <a:ext cx="41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1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24720" y="3645000"/>
            <a:ext cx="16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4 +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4292640"/>
            <a:ext cx="55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7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32000" y="4941720"/>
            <a:ext cx="60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1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36000" y="4941720"/>
            <a:ext cx="190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13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35280" y="5589720"/>
            <a:ext cx="55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7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32000" y="6021360"/>
            <a:ext cx="60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4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7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+ 5 +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20000" y="6165720"/>
            <a:ext cx="21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3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V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čin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981000"/>
            <a:ext cx="75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 . 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. (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1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76360" y="558972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96360" y="2349360"/>
            <a:ext cx="360360" cy="2876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80360" y="1773360"/>
            <a:ext cx="358560" cy="5760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686">
                <a:moveTo>
                  <a:pt x="3600" y="0"/>
                </a:moveTo>
                <a:arcTo wR="3600" hR="3600" stAng="16200000" swAng="-5400000"/>
                <a:lnTo>
                  <a:pt x="0" y="31086"/>
                </a:lnTo>
                <a:arcTo wR="3600" hR="3600" stAng="10800000" swAng="-5400000"/>
                <a:lnTo>
                  <a:pt x="18000" y="346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4724280"/>
            <a:ext cx="2232000" cy="577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4724280"/>
            <a:ext cx="2737080" cy="577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59280" y="52293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92360" y="522936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00000" y="189000"/>
            <a:ext cx="82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Je-li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,  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7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ypočtěte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1989000"/>
            <a:ext cx="266400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.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b =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 . c . d =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.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b – e . c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79640" y="1989000"/>
            <a:ext cx="71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516000" y="1989000"/>
            <a:ext cx="8636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60720" y="15606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68360" y="2781360"/>
            <a:ext cx="68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59280" y="522936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– 7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1989000"/>
            <a:ext cx="45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6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1989000"/>
            <a:ext cx="18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1 + 7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50920" y="3645000"/>
            <a:ext cx="70930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1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+ 1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780000" y="2997360"/>
            <a:ext cx="2232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3440" y="3429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00720" y="3429000"/>
            <a:ext cx="0" cy="4334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3645000"/>
            <a:ext cx="36352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12 – 3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2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236000" y="3789360"/>
            <a:ext cx="1009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53080" y="33577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08720" y="4294080"/>
            <a:ext cx="36352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8 + 39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27280" y="6021360"/>
            <a:ext cx="65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6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35 +28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6021360"/>
            <a:ext cx="197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3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3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132000" y="5300640"/>
            <a:ext cx="237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508720" y="5300640"/>
            <a:ext cx="201600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059280" y="6093000"/>
            <a:ext cx="2520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580000" y="6093000"/>
            <a:ext cx="1656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5732640"/>
            <a:ext cx="0" cy="360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43640" y="5732640"/>
            <a:ext cx="0" cy="360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788000" y="6093000"/>
            <a:ext cx="792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05080" y="56610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564000" y="3860640"/>
            <a:ext cx="1944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284000" y="3860640"/>
            <a:ext cx="108108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42920" y="260280"/>
            <a:ext cx="75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Mocniny imaginárního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42920" y="126828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žíváme algebraické vzorce známé již ze Z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03280" y="2131920"/>
                <a:ext cx="40276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±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76360" y="2781360"/>
                <a:ext cx="545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±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±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±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1258920" y="3716280"/>
            <a:ext cx="78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76360" y="4653000"/>
                <a:ext cx="130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771640" y="4653000"/>
                <a:ext cx="2079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788000" y="4653000"/>
                <a:ext cx="15271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995640" y="465300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68360" y="4221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573200" y="5965920"/>
                <a:ext cx="1104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771640" y="5950080"/>
                <a:ext cx="2795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586480" y="5942160"/>
                <a:ext cx="1396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140360" y="5950080"/>
            <a:ext cx="79200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12720" y="551664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32360" y="5950080"/>
            <a:ext cx="64764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79960" y="551664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580000" y="5589360"/>
            <a:ext cx="432000" cy="144360"/>
          </a:xfrm>
          <a:prstGeom prst="line">
            <a:avLst/>
          </a:prstGeom>
          <a:ln w="936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992920" y="5300640"/>
                <a:ext cx="315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116000" y="981000"/>
                <a:ext cx="2592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116000" y="2565360"/>
                <a:ext cx="2467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116000" y="4076640"/>
                <a:ext cx="2440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116000" y="5516640"/>
                <a:ext cx="27147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2627280" y="1700280"/>
            <a:ext cx="1963800" cy="5013360"/>
            <a:chOff x="2627280" y="1700280"/>
            <a:chExt cx="1963800" cy="5013360"/>
          </a:xfrm>
        </p:grpSpPr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2627280" y="1700280"/>
                  <a:ext cx="122076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2771640" y="3284640"/>
                  <a:ext cx="12556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2771640" y="4724280"/>
                  <a:ext cx="18194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59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2771640" y="6237360"/>
                  <a:ext cx="16606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9" name=""/>
          <p:cNvSpPr/>
          <p:nvPr/>
        </p:nvSpPr>
        <p:spPr>
          <a:xfrm>
            <a:off x="1116000" y="189000"/>
            <a:ext cx="80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počtěte (zapište v AT)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197320" y="981000"/>
                <a:ext cx="34862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124600" y="2565360"/>
                <a:ext cx="3917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197320" y="4076640"/>
                <a:ext cx="345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268960" y="5445000"/>
                <a:ext cx="2962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4" name=""/>
          <p:cNvGrpSpPr/>
          <p:nvPr/>
        </p:nvGrpSpPr>
        <p:grpSpPr>
          <a:xfrm>
            <a:off x="7093080" y="1700280"/>
            <a:ext cx="1858320" cy="5005440"/>
            <a:chOff x="7093080" y="1700280"/>
            <a:chExt cx="1858320" cy="500544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7093080" y="1700280"/>
                  <a:ext cx="15966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51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7135560" y="3284640"/>
                  <a:ext cx="12520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7165800" y="4797360"/>
                  <a:ext cx="17856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7165800" y="6093000"/>
                  <a:ext cx="17236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87280" y="981000"/>
                <a:ext cx="1513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187280" y="2421000"/>
                <a:ext cx="1541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187280" y="3933720"/>
                <a:ext cx="1544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187280" y="5373720"/>
                <a:ext cx="1729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116000" y="189000"/>
            <a:ext cx="80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) reálnou, b) imaginární část KČ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593720" y="1700280"/>
            <a:ext cx="2246400" cy="4937040"/>
            <a:chOff x="1593720" y="1700280"/>
            <a:chExt cx="2246400" cy="4937040"/>
          </a:xfrm>
        </p:grpSpPr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1593720" y="1700280"/>
                  <a:ext cx="16909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0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1619280" y="3213000"/>
                  <a:ext cx="19717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1619280" y="4653000"/>
                  <a:ext cx="194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1619280" y="6093000"/>
                  <a:ext cx="22208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5121360" y="981000"/>
                <a:ext cx="17604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076720" y="2421000"/>
                <a:ext cx="15732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076720" y="4005360"/>
                <a:ext cx="2162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5148360" y="5373720"/>
                <a:ext cx="2778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3" name=""/>
          <p:cNvGrpSpPr/>
          <p:nvPr/>
        </p:nvGrpSpPr>
        <p:grpSpPr>
          <a:xfrm>
            <a:off x="5580000" y="1700280"/>
            <a:ext cx="2379600" cy="4937040"/>
            <a:chOff x="5580000" y="1700280"/>
            <a:chExt cx="2379600" cy="4937040"/>
          </a:xfrm>
        </p:grpSpPr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5580000" y="1700280"/>
                  <a:ext cx="23796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5630760" y="3213000"/>
                  <a:ext cx="2065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651640" y="4653000"/>
                  <a:ext cx="165888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724360" y="6093000"/>
                  <a:ext cx="19386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332000" y="2602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Mocniny imaginární jednotk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3573360"/>
            <a:ext cx="7272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Mocniny imaginární jednotky nabývají pouze </a:t>
            </a: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čtyř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různé hodnoty, které se opakují stále ve stejném pořadí: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+ 1, + </a:t>
            </a:r>
            <a:r>
              <a:rPr b="0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i,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–1</a:t>
            </a:r>
            <a:r>
              <a:rPr b="0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,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–</a:t>
            </a:r>
            <a:r>
              <a:rPr b="0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 i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1874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ro úpravu lze užít dva postupy. Zvažte, který je pro vás jednodušší a ten si zapišt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908000" y="1052640"/>
                <a:ext cx="115272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140360" y="981000"/>
                <a:ext cx="3927240" cy="24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56000" y="1052640"/>
            <a:ext cx="576000" cy="24476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2447640"/>
              <a:gd name="textAreaBottom" fmla="*/ 2419560 h 2447640"/>
            </a:gdLst>
            <a:ahLst/>
            <a:rect l="textAreaLeft" t="textAreaTop" r="textAreaRight" b="textAreaBottom"/>
            <a:pathLst>
              <a:path w="21600" h="91743">
                <a:moveTo>
                  <a:pt x="3600" y="0"/>
                </a:moveTo>
                <a:arcTo wR="3600" hR="3600" stAng="16200000" swAng="-5400000"/>
                <a:lnTo>
                  <a:pt x="0" y="88143"/>
                </a:lnTo>
                <a:arcTo wR="3600" hR="3600" stAng="10800000" swAng="-5400000"/>
                <a:lnTo>
                  <a:pt x="18000" y="917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87280" y="260280"/>
            <a:ext cx="727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88280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1. způsob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8280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8280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635280" y="1125360"/>
                <a:ext cx="11988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602400" y="1844640"/>
                <a:ext cx="25416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492360" y="333360"/>
                <a:ext cx="21560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332000" y="2997360"/>
                <a:ext cx="5535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39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332000" y="3933720"/>
                <a:ext cx="5570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2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359000" y="4869000"/>
                <a:ext cx="76406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332000" y="5877000"/>
                <a:ext cx="73231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443640" y="404640"/>
                <a:ext cx="24303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458040" y="1052640"/>
                <a:ext cx="240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udý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 flipV="1">
            <a:off x="2771640" y="980640"/>
            <a:ext cx="2448000" cy="208764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95640" y="1052640"/>
            <a:ext cx="0" cy="180000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851280" y="1699920"/>
            <a:ext cx="0" cy="1368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16360" y="1700280"/>
            <a:ext cx="432000" cy="1512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364000" y="981000"/>
            <a:ext cx="1513080" cy="2160720"/>
          </a:xfrm>
          <a:prstGeom prst="line">
            <a:avLst/>
          </a:prstGeom>
          <a:ln w="3816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588000" y="981000"/>
            <a:ext cx="2051280" cy="2087640"/>
          </a:xfrm>
          <a:prstGeom prst="line">
            <a:avLst/>
          </a:prstGeom>
          <a:ln w="3816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987640" y="2491920"/>
            <a:ext cx="5327640" cy="2521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284720" y="2492280"/>
            <a:ext cx="2806560" cy="2521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08360" y="1197000"/>
            <a:ext cx="287280" cy="287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066920" y="1052640"/>
            <a:ext cx="865080" cy="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11280" y="3141720"/>
            <a:ext cx="287640" cy="287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4360" y="1700280"/>
            <a:ext cx="71892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95640" y="3068640"/>
            <a:ext cx="93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92360" y="2997360"/>
            <a:ext cx="93672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35280" y="3141720"/>
            <a:ext cx="360360" cy="503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158">
                <a:moveTo>
                  <a:pt x="3600" y="0"/>
                </a:moveTo>
                <a:arcTo wR="3600" hR="3600" stAng="16200000" swAng="-5400000"/>
                <a:lnTo>
                  <a:pt x="0" y="26558"/>
                </a:lnTo>
                <a:arcTo wR="3600" hR="3600" stAng="10800000" swAng="-5400000"/>
                <a:lnTo>
                  <a:pt x="18000" y="3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03640" y="3213000"/>
            <a:ext cx="505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3141720"/>
            <a:ext cx="1008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72360" y="3068640"/>
            <a:ext cx="936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48360" y="981000"/>
            <a:ext cx="1584360" cy="0"/>
          </a:xfrm>
          <a:prstGeom prst="line">
            <a:avLst/>
          </a:prstGeom>
          <a:ln w="3816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7235640" y="2492280"/>
            <a:ext cx="865080" cy="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95640" y="5013360"/>
            <a:ext cx="1008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92360" y="5013360"/>
            <a:ext cx="1150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5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1187280" y="189000"/>
            <a:ext cx="7812360" cy="1653480"/>
            <a:chOff x="1187280" y="189000"/>
            <a:chExt cx="7812360" cy="1653480"/>
          </a:xfrm>
        </p:grpSpPr>
        <p:sp>
          <p:nvSpPr>
            <p:cNvPr id="386" name=""/>
            <p:cNvSpPr/>
            <p:nvPr/>
          </p:nvSpPr>
          <p:spPr>
            <a:xfrm>
              <a:off x="1187280" y="189000"/>
              <a:ext cx="7274160" cy="16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1884240"/>
                  <a:tab algn="l" pos="49370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ccecff"/>
                  </a:solidFill>
                  <a:uFillTx/>
                  <a:latin typeface="Times New Roman"/>
                </a:rPr>
                <a:t>2. způsob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a)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c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1884240"/>
                  <a:tab algn="l" pos="49370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b) 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d)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3708360" y="1125360"/>
                  <a:ext cx="116676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=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3708360" y="404640"/>
                  <a:ext cx="123048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=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6732720" y="404640"/>
                  <a:ext cx="123012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732720" y="1125360"/>
                  <a:ext cx="226692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258920" y="2349360"/>
                <a:ext cx="2725560" cy="18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78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8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258920" y="4581360"/>
                <a:ext cx="2695680" cy="18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2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=+</m:t>
                                </m:r>
                                <m:r>
                                  <m:t xml:space="preserve">1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5837400" y="2319480"/>
                <a:ext cx="2693880" cy="18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3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796000" y="4581360"/>
                <a:ext cx="2476440" cy="18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=+</m:t>
                                </m:r>
                                <m:r>
                                  <m:t xml:space="preserve">i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2124000" y="350028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64000" y="299736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32720" y="350028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24000" y="580536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32720" y="573408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01080" y="299736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64000" y="5229360"/>
            <a:ext cx="287280" cy="433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3080"/>
              <a:gd name="textAreaBottom" fmla="*/ 419040 h 433080"/>
            </a:gdLst>
            <a:ahLst/>
            <a:rect l="textAreaLeft" t="textAreaTop" r="textAreaRight" b="textAreaBottom"/>
            <a:pathLst>
              <a:path w="21600" h="32549">
                <a:moveTo>
                  <a:pt x="3600" y="0"/>
                </a:moveTo>
                <a:arcTo wR="3600" hR="3600" stAng="16200000" swAng="-5400000"/>
                <a:lnTo>
                  <a:pt x="0" y="28949"/>
                </a:lnTo>
                <a:arcTo wR="3600" hR="3600" stAng="10800000" swAng="-5400000"/>
                <a:lnTo>
                  <a:pt x="18000" y="325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85080" y="5229360"/>
            <a:ext cx="287280" cy="433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3080"/>
              <a:gd name="textAreaBottom" fmla="*/ 419040 h 433080"/>
            </a:gdLst>
            <a:ahLst/>
            <a:rect l="textAreaLeft" t="textAreaTop" r="textAreaRight" b="textAreaBottom"/>
            <a:pathLst>
              <a:path w="21600" h="32549">
                <a:moveTo>
                  <a:pt x="3600" y="0"/>
                </a:moveTo>
                <a:arcTo wR="3600" hR="3600" stAng="16200000" swAng="-5400000"/>
                <a:lnTo>
                  <a:pt x="0" y="28949"/>
                </a:lnTo>
                <a:arcTo wR="3600" hR="3600" stAng="10800000" swAng="-5400000"/>
                <a:lnTo>
                  <a:pt x="18000" y="325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258920" y="907920"/>
            <a:ext cx="590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2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17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85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2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40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96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54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86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60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05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35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7  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9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32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82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77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65  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00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84360" y="907920"/>
            <a:ext cx="590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mocniny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416720" cy="51134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ní operace s komplexními čísl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ní úkony s komplexními čísly: Rovnost komplexních čísel; Součet a rozdíl komplexních čísel; Součin a podíl komplexních čísel; Mocniny imaginární jednotk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258920" y="907920"/>
            <a:ext cx="788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= – 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– 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– i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58920" y="907920"/>
            <a:ext cx="590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3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3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3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.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.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...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počtět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32000" y="2637000"/>
            <a:ext cx="7812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76360" y="4626000"/>
            <a:ext cx="7667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7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..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7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8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96360" y="907920"/>
            <a:ext cx="154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= –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3640" y="2637000"/>
            <a:ext cx="4140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76360" y="5950080"/>
            <a:ext cx="76676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25 . (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64000" y="5950080"/>
            <a:ext cx="3780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25 .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32720" y="5950080"/>
            <a:ext cx="2411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V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díl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979640" y="907920"/>
                <a:ext cx="38466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1116000" y="2276640"/>
            <a:ext cx="8028000" cy="43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POZOR!!!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Aby se jednalo o podíl KČ, musí být KČ (imag. jednotka) ve jmenovateli zlomk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20000"/>
              </a:lnSpc>
              <a:spcBef>
                <a:spcPts val="1874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Vyřešit podíl KČ znamená „odstranit imaginární jednotku ze jmenovatele zlomku“    – obdobná úprava jako u usměrňování zlomků (učivo 1. ročníku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20000"/>
              </a:lnSpc>
              <a:spcBef>
                <a:spcPts val="1874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71640" y="33336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dělte KČ (zapište KČ v AT)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116000" y="2349360"/>
                <a:ext cx="13827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484360" y="2349360"/>
                <a:ext cx="5256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133640" y="3860640"/>
                <a:ext cx="12506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340000" y="3860640"/>
                <a:ext cx="5256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182600" y="5446800"/>
                <a:ext cx="12510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340000" y="5445000"/>
                <a:ext cx="501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2700360" y="2349360"/>
            <a:ext cx="360360" cy="1008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08360"/>
              <a:gd name="textAreaBottom" fmla="*/ 991080 h 1008360"/>
            </a:gdLst>
            <a:ahLst/>
            <a:rect l="textAreaLeft" t="textAreaTop" r="textAreaRight" b="textAreaBottom"/>
            <a:pathLst>
              <a:path w="21600" h="60402">
                <a:moveTo>
                  <a:pt x="3600" y="0"/>
                </a:moveTo>
                <a:arcTo wR="3600" hR="3600" stAng="16200000" swAng="-5400000"/>
                <a:lnTo>
                  <a:pt x="0" y="56802"/>
                </a:lnTo>
                <a:arcTo wR="3600" hR="3600" stAng="10800000" swAng="-5400000"/>
                <a:lnTo>
                  <a:pt x="18000" y="60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56000" y="3860640"/>
            <a:ext cx="360360" cy="1008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08360"/>
              <a:gd name="textAreaBottom" fmla="*/ 991080 h 1008360"/>
            </a:gdLst>
            <a:ahLst/>
            <a:rect l="textAreaLeft" t="textAreaTop" r="textAreaRight" b="textAreaBottom"/>
            <a:pathLst>
              <a:path w="21600" h="60402">
                <a:moveTo>
                  <a:pt x="3600" y="0"/>
                </a:moveTo>
                <a:arcTo wR="3600" hR="3600" stAng="16200000" swAng="-5400000"/>
                <a:lnTo>
                  <a:pt x="0" y="56802"/>
                </a:lnTo>
                <a:arcTo wR="3600" hR="3600" stAng="10800000" swAng="-5400000"/>
                <a:lnTo>
                  <a:pt x="18000" y="60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57440" y="5445000"/>
            <a:ext cx="360360" cy="1008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08360"/>
              <a:gd name="textAreaBottom" fmla="*/ 991080 h 1008360"/>
            </a:gdLst>
            <a:ahLst/>
            <a:rect l="textAreaLeft" t="textAreaTop" r="textAreaRight" b="textAreaBottom"/>
            <a:pathLst>
              <a:path w="21600" h="60402">
                <a:moveTo>
                  <a:pt x="3600" y="0"/>
                </a:moveTo>
                <a:arcTo wR="3600" hR="3600" stAng="16200000" swAng="-5400000"/>
                <a:lnTo>
                  <a:pt x="0" y="56802"/>
                </a:lnTo>
                <a:arcTo wR="3600" hR="3600" stAng="10800000" swAng="-5400000"/>
                <a:lnTo>
                  <a:pt x="18000" y="60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71640" y="134136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ryze 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01800" y="1916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132000" y="2349360"/>
                <a:ext cx="18734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950000" y="2276640"/>
                <a:ext cx="15127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443640" y="2349360"/>
                <a:ext cx="11844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596360" y="2637000"/>
                <a:ext cx="13492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987640" y="3860640"/>
                <a:ext cx="17431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643280" y="3789360"/>
                <a:ext cx="15112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156360" y="3860640"/>
                <a:ext cx="12812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7380360" y="3860640"/>
                <a:ext cx="15112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1763640" y="2924280"/>
            <a:ext cx="432000" cy="43344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433440"/>
              <a:gd name="textAreaBottom" fmla="*/ 412560 h 433440"/>
            </a:gdLst>
            <a:ahLst/>
            <a:rect l="textAreaLeft" t="textAreaTop" r="textAreaRight" b="textAreaBottom"/>
            <a:pathLst>
              <a:path w="21600" h="21672">
                <a:moveTo>
                  <a:pt x="3600" y="0"/>
                </a:moveTo>
                <a:arcTo wR="3600" hR="3600" stAng="16200000" swAng="-5400000"/>
                <a:lnTo>
                  <a:pt x="0" y="18072"/>
                </a:lnTo>
                <a:arcTo wR="3600" hR="3600" stAng="10800000" swAng="-5400000"/>
                <a:lnTo>
                  <a:pt x="18000" y="216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63640" y="4437000"/>
            <a:ext cx="432000" cy="43344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433440"/>
              <a:gd name="textAreaBottom" fmla="*/ 412560 h 433440"/>
            </a:gdLst>
            <a:ahLst/>
            <a:rect l="textAreaLeft" t="textAreaTop" r="textAreaRight" b="textAreaBottom"/>
            <a:pathLst>
              <a:path w="21600" h="21672">
                <a:moveTo>
                  <a:pt x="3600" y="0"/>
                </a:moveTo>
                <a:arcTo wR="3600" hR="3600" stAng="16200000" swAng="-5400000"/>
                <a:lnTo>
                  <a:pt x="0" y="18072"/>
                </a:lnTo>
                <a:arcTo wR="3600" hR="3600" stAng="10800000" swAng="-5400000"/>
                <a:lnTo>
                  <a:pt x="18000" y="216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619280" y="6021360"/>
            <a:ext cx="7207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2916360" y="5445000"/>
                <a:ext cx="1662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572000" y="5373720"/>
                <a:ext cx="14428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012000" y="5445000"/>
                <a:ext cx="1536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481880" y="5445000"/>
                <a:ext cx="1662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971640" y="134136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ryze 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57440" y="342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5744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554920" y="134136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042920" y="1484280"/>
                <a:ext cx="140040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484360" y="1484280"/>
                <a:ext cx="12430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7389720" y="1557360"/>
                <a:ext cx="17542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260280"/>
            <a:ext cx="777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783080" y="2565360"/>
            <a:ext cx="3583440" cy="880920"/>
            <a:chOff x="1783080" y="2565360"/>
            <a:chExt cx="3583440" cy="880920"/>
          </a:xfrm>
        </p:grpSpPr>
        <p:sp>
          <p:nvSpPr>
            <p:cNvPr id="455" name=""/>
            <p:cNvSpPr/>
            <p:nvPr/>
          </p:nvSpPr>
          <p:spPr>
            <a:xfrm>
              <a:off x="2556000" y="2852640"/>
              <a:ext cx="223200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83080" y="2925720"/>
              <a:ext cx="35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+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.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 =  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 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556000" y="256536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788000" y="256536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771640" y="1484280"/>
            <a:ext cx="922320" cy="1008000"/>
          </a:xfrm>
          <a:custGeom>
            <a:avLst/>
            <a:gdLst>
              <a:gd name="textAreaLeft" fmla="*/ 45000 w 922320"/>
              <a:gd name="textAreaRight" fmla="*/ 877320 w 922320"/>
              <a:gd name="textAreaTop" fmla="*/ 45000 h 1008000"/>
              <a:gd name="textAreaBottom" fmla="*/ 963000 h 1008000"/>
            </a:gdLst>
            <a:ahLst/>
            <a:rect l="textAreaLeft" t="textAreaTop" r="textAreaRight" b="textAreaBottom"/>
            <a:pathLst>
              <a:path w="21600" h="23606">
                <a:moveTo>
                  <a:pt x="3600" y="0"/>
                </a:moveTo>
                <a:arcTo wR="3600" hR="3600" stAng="16200000" swAng="-5400000"/>
                <a:lnTo>
                  <a:pt x="0" y="20006"/>
                </a:lnTo>
                <a:arcTo wR="3600" hR="3600" stAng="10800000" swAng="-5400000"/>
                <a:lnTo>
                  <a:pt x="18000" y="23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57840" y="1916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54920" y="1916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60720" y="10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00000" y="260280"/>
            <a:ext cx="777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475640" y="2060640"/>
            <a:ext cx="9349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3851280" y="1413000"/>
                <a:ext cx="197496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796000" y="1557360"/>
                <a:ext cx="16556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54920" y="414972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1058760" y="4292640"/>
                <a:ext cx="13683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500200" y="4292640"/>
                <a:ext cx="1211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877080" y="5445000"/>
                <a:ext cx="156348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1" name=""/>
          <p:cNvGrpSpPr/>
          <p:nvPr/>
        </p:nvGrpSpPr>
        <p:grpSpPr>
          <a:xfrm>
            <a:off x="1785240" y="5373720"/>
            <a:ext cx="4214520" cy="880920"/>
            <a:chOff x="1785240" y="5373720"/>
            <a:chExt cx="4214520" cy="880920"/>
          </a:xfrm>
        </p:grpSpPr>
        <p:sp>
          <p:nvSpPr>
            <p:cNvPr id="472" name=""/>
            <p:cNvSpPr/>
            <p:nvPr/>
          </p:nvSpPr>
          <p:spPr>
            <a:xfrm>
              <a:off x="2556000" y="5661000"/>
              <a:ext cx="309564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85240" y="5734080"/>
              <a:ext cx="421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.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+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 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 =         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 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556000" y="537372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5651640" y="537372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2771640" y="4292640"/>
            <a:ext cx="922320" cy="1008000"/>
          </a:xfrm>
          <a:custGeom>
            <a:avLst/>
            <a:gdLst>
              <a:gd name="textAreaLeft" fmla="*/ 45000 w 922320"/>
              <a:gd name="textAreaRight" fmla="*/ 877320 w 922320"/>
              <a:gd name="textAreaTop" fmla="*/ 45000 h 1008000"/>
              <a:gd name="textAreaBottom" fmla="*/ 963000 h 1008000"/>
            </a:gdLst>
            <a:ahLst/>
            <a:rect l="textAreaLeft" t="textAreaTop" r="textAreaRight" b="textAreaBottom"/>
            <a:pathLst>
              <a:path w="21600" h="23606">
                <a:moveTo>
                  <a:pt x="3600" y="0"/>
                </a:moveTo>
                <a:arcTo wR="3600" hR="3600" stAng="16200000" swAng="-5400000"/>
                <a:lnTo>
                  <a:pt x="0" y="20006"/>
                </a:lnTo>
                <a:arcTo wR="3600" hR="3600" stAng="10800000" swAng="-5400000"/>
                <a:lnTo>
                  <a:pt x="18000" y="23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57840" y="4724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54920" y="4724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60720" y="38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475640" y="4869000"/>
            <a:ext cx="934920" cy="43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3780000" y="4221000"/>
                <a:ext cx="29937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804000" y="4365720"/>
                <a:ext cx="17510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 flipH="1">
            <a:off x="4788000" y="1484280"/>
            <a:ext cx="93816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89080" y="105264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076720" y="4292640"/>
            <a:ext cx="93816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49800" y="3860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1116000" y="404640"/>
                <a:ext cx="12034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116000" y="1917720"/>
                <a:ext cx="14493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187280" y="3645000"/>
                <a:ext cx="12970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1168560" y="5302080"/>
                <a:ext cx="163512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1" name=""/>
          <p:cNvGrpSpPr/>
          <p:nvPr/>
        </p:nvGrpSpPr>
        <p:grpSpPr>
          <a:xfrm>
            <a:off x="2732040" y="404640"/>
            <a:ext cx="1762200" cy="5654880"/>
            <a:chOff x="2732040" y="404640"/>
            <a:chExt cx="1762200" cy="5654880"/>
          </a:xfrm>
        </p:grpSpPr>
        <mc:AlternateContent>
          <mc:Choice xmlns:a14="http://schemas.microsoft.com/office/drawing/2010/main" Requires="a14">
            <p:sp>
              <p:nvSpPr>
                <p:cNvPr id="492" name=""/>
                <p:cNvSpPr txBox="1"/>
                <p:nvPr/>
              </p:nvSpPr>
              <p:spPr>
                <a:xfrm>
                  <a:off x="2778120" y="404640"/>
                  <a:ext cx="16686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2771640" y="2205000"/>
                  <a:ext cx="126684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2732040" y="3645000"/>
                  <a:ext cx="17622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2962440" y="5589720"/>
                  <a:ext cx="117288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095800" y="476280"/>
                <a:ext cx="1451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5265720" y="1989000"/>
                <a:ext cx="13572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153040" y="3716280"/>
                <a:ext cx="15746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5348160" y="5373720"/>
                <a:ext cx="14814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00" name=""/>
          <p:cNvGrpSpPr/>
          <p:nvPr/>
        </p:nvGrpSpPr>
        <p:grpSpPr>
          <a:xfrm>
            <a:off x="6804000" y="476280"/>
            <a:ext cx="2082960" cy="5938920"/>
            <a:chOff x="6804000" y="476280"/>
            <a:chExt cx="2082960" cy="5938920"/>
          </a:xfrm>
        </p:grpSpPr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6877080" y="1989000"/>
                  <a:ext cx="16686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6804000" y="476280"/>
                  <a:ext cx="204012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6877080" y="3716280"/>
                  <a:ext cx="200988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7020000" y="5373720"/>
                  <a:ext cx="163512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1403280" y="1052640"/>
                <a:ext cx="14209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1332000" y="2565360"/>
                <a:ext cx="1452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1403280" y="4005360"/>
                <a:ext cx="12970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1116000" y="189000"/>
            <a:ext cx="80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) reálnou, b) imaginární část KČ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788000" y="1054080"/>
            <a:ext cx="2441520" cy="5079960"/>
            <a:chOff x="4788000" y="1054080"/>
            <a:chExt cx="2441520" cy="5079960"/>
          </a:xfrm>
        </p:grpSpPr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4807080" y="1054080"/>
                  <a:ext cx="184788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1" name=""/>
                <p:cNvSpPr txBox="1"/>
                <p:nvPr/>
              </p:nvSpPr>
              <p:spPr>
                <a:xfrm>
                  <a:off x="4788000" y="2565360"/>
                  <a:ext cx="2441520" cy="105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4788000" y="4005360"/>
                  <a:ext cx="209700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4859280" y="5589720"/>
                  <a:ext cx="15955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1403280" y="5373720"/>
                <a:ext cx="24400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258920" y="549360"/>
                <a:ext cx="352116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1187280" y="2133720"/>
                <a:ext cx="3794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87280" y="3573360"/>
                <a:ext cx="32734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258920" y="5300640"/>
                <a:ext cx="26542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648400" y="549360"/>
            <a:ext cx="2693880" cy="5840280"/>
            <a:chOff x="5648400" y="549360"/>
            <a:chExt cx="2693880" cy="5840280"/>
          </a:xfrm>
        </p:grpSpPr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5651640" y="549360"/>
                  <a:ext cx="219060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5651640" y="2133720"/>
                  <a:ext cx="269064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5648400" y="4005360"/>
                  <a:ext cx="20970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5740560" y="5334120"/>
                  <a:ext cx="190656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16000" y="40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četní operace (úkony) s KČ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1484280"/>
            <a:ext cx="7956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vnos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učin KČ a čísla reálného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uče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zdíl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učin KČ  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četně mocnin imaginární jednotky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díl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76500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Početní operace definujeme pro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1989000"/>
            <a:ext cx="7956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vě komplexní čísla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 = 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b = b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  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, b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C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reálné číslo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k  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ovnost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981000"/>
            <a:ext cx="748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41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1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rovnají se příslušné části KČ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2709720"/>
            <a:ext cx="78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, y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tak, aby platil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29080" y="5734080"/>
                <a:ext cx="936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771640" y="6237360"/>
                <a:ext cx="738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1908000" y="4653000"/>
            <a:ext cx="1729080" cy="1008000"/>
            <a:chOff x="1908000" y="4653000"/>
            <a:chExt cx="1729080" cy="100800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1908000" y="4653000"/>
                  <a:ext cx="167652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1908000" y="5661000"/>
              <a:ext cx="172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00720" y="5156280"/>
                <a:ext cx="15062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219640" y="6164280"/>
                <a:ext cx="766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2411280" y="3716280"/>
            <a:ext cx="2810160" cy="579600"/>
            <a:chOff x="2411280" y="3716280"/>
            <a:chExt cx="2810160" cy="579600"/>
          </a:xfrm>
        </p:grpSpPr>
        <p:sp>
          <p:nvSpPr>
            <p:cNvPr id="156" name=""/>
            <p:cNvSpPr/>
            <p:nvPr/>
          </p:nvSpPr>
          <p:spPr>
            <a:xfrm>
              <a:off x="2411280" y="4292640"/>
              <a:ext cx="2808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46000" y="3716280"/>
              <a:ext cx="112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219640" y="3789360"/>
              <a:ext cx="1800" cy="496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411280" y="3789360"/>
              <a:ext cx="1800" cy="496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995640" y="3789360"/>
            <a:ext cx="1727280" cy="938520"/>
            <a:chOff x="3995640" y="3789360"/>
            <a:chExt cx="1727280" cy="938520"/>
          </a:xfrm>
        </p:grpSpPr>
        <p:sp>
          <p:nvSpPr>
            <p:cNvPr id="161" name=""/>
            <p:cNvSpPr/>
            <p:nvPr/>
          </p:nvSpPr>
          <p:spPr>
            <a:xfrm>
              <a:off x="3995640" y="4724280"/>
              <a:ext cx="17272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17640" y="4148280"/>
              <a:ext cx="112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66ff33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66ff33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66ff33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66ff33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66ff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995640" y="3789360"/>
              <a:ext cx="0" cy="93672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722920" y="3789360"/>
              <a:ext cx="0" cy="93672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003640" y="5661000"/>
                <a:ext cx="10224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948360" y="5950080"/>
                <a:ext cx="1978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67" name=""/>
          <p:cNvGrpSpPr/>
          <p:nvPr/>
        </p:nvGrpSpPr>
        <p:grpSpPr>
          <a:xfrm>
            <a:off x="1260000" y="3068640"/>
            <a:ext cx="4692960" cy="825120"/>
            <a:chOff x="1260000" y="3068640"/>
            <a:chExt cx="4692960" cy="825120"/>
          </a:xfrm>
        </p:grpSpPr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751040" y="3355920"/>
                  <a:ext cx="42019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</m:e>
                      </m:d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1260000" y="3068640"/>
              <a:ext cx="497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a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35280" y="4797360"/>
            <a:ext cx="558360" cy="581400"/>
            <a:chOff x="3635280" y="4797360"/>
            <a:chExt cx="558360" cy="581400"/>
          </a:xfrm>
        </p:grpSpPr>
        <p:sp>
          <p:nvSpPr>
            <p:cNvPr id="171" name=""/>
            <p:cNvSpPr/>
            <p:nvPr/>
          </p:nvSpPr>
          <p:spPr>
            <a:xfrm flipV="1">
              <a:off x="3851280" y="4869000"/>
              <a:ext cx="0" cy="504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635280" y="4869000"/>
              <a:ext cx="216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35280" y="5373720"/>
              <a:ext cx="216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81440" y="4797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093080" y="692280"/>
                <a:ext cx="7318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1332720" y="333360"/>
            <a:ext cx="5096520" cy="5936760"/>
            <a:chOff x="1332720" y="333360"/>
            <a:chExt cx="5096520" cy="5936760"/>
          </a:xfrm>
        </p:grpSpPr>
        <p:grpSp>
          <p:nvGrpSpPr>
            <p:cNvPr id="177" name=""/>
            <p:cNvGrpSpPr/>
            <p:nvPr/>
          </p:nvGrpSpPr>
          <p:grpSpPr>
            <a:xfrm>
              <a:off x="1332720" y="333360"/>
              <a:ext cx="4664880" cy="830160"/>
              <a:chOff x="1332720" y="333360"/>
              <a:chExt cx="4664880" cy="830160"/>
            </a:xfrm>
          </p:grpSpPr>
          <mc:AlternateContent>
            <mc:Choice xmlns:a14="http://schemas.microsoft.com/office/drawing/2010/main" Requires="a14">
              <p:sp>
                <p:nvSpPr>
                  <p:cNvPr id="178" name=""/>
                  <p:cNvSpPr txBox="1"/>
                  <p:nvPr/>
                </p:nvSpPr>
                <p:spPr>
                  <a:xfrm>
                    <a:off x="1979640" y="549360"/>
                    <a:ext cx="4017960" cy="614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9" name=""/>
              <p:cNvSpPr/>
              <p:nvPr/>
            </p:nvSpPr>
            <p:spPr>
              <a:xfrm>
                <a:off x="1332720" y="333360"/>
                <a:ext cx="520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b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333080" y="1557360"/>
              <a:ext cx="5058360" cy="830160"/>
              <a:chOff x="1333080" y="1557360"/>
              <a:chExt cx="5058360" cy="830160"/>
            </a:xfrm>
          </p:grpSpPr>
          <mc:AlternateContent>
            <mc:Choice xmlns:a14="http://schemas.microsoft.com/office/drawing/2010/main" Requires="a14">
              <p:sp>
                <p:nvSpPr>
                  <p:cNvPr id="181" name=""/>
                  <p:cNvSpPr txBox="1"/>
                  <p:nvPr/>
                </p:nvSpPr>
                <p:spPr>
                  <a:xfrm>
                    <a:off x="1908000" y="1773360"/>
                    <a:ext cx="4483440" cy="614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2" name=""/>
              <p:cNvSpPr/>
              <p:nvPr/>
            </p:nvSpPr>
            <p:spPr>
              <a:xfrm>
                <a:off x="1333080" y="1557360"/>
                <a:ext cx="497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c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332720" y="2852640"/>
              <a:ext cx="5096520" cy="830520"/>
              <a:chOff x="1332720" y="2852640"/>
              <a:chExt cx="5096520" cy="830520"/>
            </a:xfrm>
          </p:grpSpPr>
          <mc:AlternateContent>
            <mc:Choice xmlns:a14="http://schemas.microsoft.com/office/drawing/2010/main" Requires="a14">
              <p:sp>
                <p:nvSpPr>
                  <p:cNvPr id="184" name=""/>
                  <p:cNvSpPr txBox="1"/>
                  <p:nvPr/>
                </p:nvSpPr>
                <p:spPr>
                  <a:xfrm>
                    <a:off x="1979640" y="3068640"/>
                    <a:ext cx="4449600" cy="61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5" name=""/>
              <p:cNvSpPr/>
              <p:nvPr/>
            </p:nvSpPr>
            <p:spPr>
              <a:xfrm>
                <a:off x="1332720" y="2852640"/>
                <a:ext cx="520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d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1332720" y="4149720"/>
              <a:ext cx="4956480" cy="865080"/>
              <a:chOff x="1332720" y="4149720"/>
              <a:chExt cx="4956480" cy="865080"/>
            </a:xfrm>
          </p:grpSpPr>
          <mc:AlternateContent>
            <mc:Choice xmlns:a14="http://schemas.microsoft.com/office/drawing/2010/main" Requires="a14">
              <p:sp>
                <p:nvSpPr>
                  <p:cNvPr id="187" name=""/>
                  <p:cNvSpPr txBox="1"/>
                  <p:nvPr/>
                </p:nvSpPr>
                <p:spPr>
                  <a:xfrm>
                    <a:off x="1906200" y="4437000"/>
                    <a:ext cx="4383000" cy="577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8" name=""/>
              <p:cNvSpPr/>
              <p:nvPr/>
            </p:nvSpPr>
            <p:spPr>
              <a:xfrm>
                <a:off x="1332720" y="4149720"/>
                <a:ext cx="497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e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404000" y="5445000"/>
              <a:ext cx="4026960" cy="825120"/>
              <a:chOff x="1404000" y="5445000"/>
              <a:chExt cx="4026960" cy="825120"/>
            </a:xfrm>
          </p:grpSpPr>
          <mc:AlternateContent>
            <mc:Choice xmlns:a14="http://schemas.microsoft.com/office/drawing/2010/main" Requires="a14">
              <p:sp>
                <p:nvSpPr>
                  <p:cNvPr id="190" name=""/>
                  <p:cNvSpPr txBox="1"/>
                  <p:nvPr/>
                </p:nvSpPr>
                <p:spPr>
                  <a:xfrm>
                    <a:off x="1977840" y="5662440"/>
                    <a:ext cx="3453120" cy="577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1" name=""/>
              <p:cNvSpPr/>
              <p:nvPr/>
            </p:nvSpPr>
            <p:spPr>
              <a:xfrm>
                <a:off x="1404000" y="5445000"/>
                <a:ext cx="452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f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093080" y="1916280"/>
                <a:ext cx="7318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093080" y="3213000"/>
                <a:ext cx="931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093080" y="4581360"/>
                <a:ext cx="1031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093080" y="5805360"/>
                <a:ext cx="10983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00000" y="189000"/>
            <a:ext cx="82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čin čísla reálného a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981000"/>
            <a:ext cx="72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 . 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 .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58920" y="2660760"/>
            <a:ext cx="7885080" cy="930240"/>
            <a:chOff x="1258920" y="2660760"/>
            <a:chExt cx="7885080" cy="930240"/>
          </a:xfrm>
        </p:grpSpPr>
        <p:sp>
          <p:nvSpPr>
            <p:cNvPr id="199" name=""/>
            <p:cNvSpPr/>
            <p:nvPr/>
          </p:nvSpPr>
          <p:spPr>
            <a:xfrm>
              <a:off x="1258920" y="2709720"/>
              <a:ext cx="78850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ccecff"/>
                  </a:solidFill>
                  <a:latin typeface="Times New Roman"/>
                </a:rPr>
                <a:t>Příklad</a:t>
              </a:r>
              <a:r>
                <a:rPr b="0" lang="en-US" sz="3000" spc="-1" strike="noStrike">
                  <a:solidFill>
                    <a:srgbClr val="ccecff"/>
                  </a:solidFill>
                  <a:latin typeface="Times New Roman"/>
                </a:rPr>
                <a:t>: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Určete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k . 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je-li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1 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2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                    .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7020000" y="2660760"/>
                  <a:ext cx="194472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258920" y="3716280"/>
                <a:ext cx="868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476360" y="4365720"/>
                <a:ext cx="65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03280" y="4941720"/>
                <a:ext cx="7477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476360" y="6021360"/>
                <a:ext cx="657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5508720" y="3571920"/>
            <a:ext cx="3635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... KČ opačné k dané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177336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268360" y="3716280"/>
                <a:ext cx="18860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140360" y="3716280"/>
                <a:ext cx="1376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68360" y="4365720"/>
                <a:ext cx="568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68360" y="4941720"/>
                <a:ext cx="17956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067280" y="4941720"/>
                <a:ext cx="1197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292720" y="4941720"/>
                <a:ext cx="1076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268360" y="6021360"/>
                <a:ext cx="17053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995640" y="6021360"/>
                <a:ext cx="1166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258920" y="3716280"/>
                <a:ext cx="868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5580000" y="1125360"/>
            <a:ext cx="576360" cy="57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1125360"/>
            <a:ext cx="936720" cy="57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6922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27640" y="6922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16000" y="54936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I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čet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1486080"/>
            <a:ext cx="716436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4653000"/>
            <a:ext cx="759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3502080"/>
            <a:ext cx="1440000" cy="574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3500280"/>
            <a:ext cx="1944720" cy="57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0686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58920" y="306864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V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ozdíl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907920"/>
            <a:ext cx="7667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Č opačné k daném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37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rozdíl KČ lze vnímat jako součet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 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) =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580536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5080" y="4943520"/>
            <a:ext cx="129564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4941720"/>
            <a:ext cx="1801800" cy="505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60720" y="53737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3280" y="53737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1:58Z</dcterms:modified>
  <cp:revision>295</cp:revision>
  <dc:subject/>
  <dc:title>KČ</dc:title>
</cp:coreProperties>
</file>