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71FD-F635-4D8C-8B5C-E83C617C69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139D-E9BD-4EFE-B3BE-8343FCEB22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1BBB-977A-4414-A76A-4FF90033E05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7436-C931-426E-8A53-7870E3010A7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7E8D-4F91-4E32-B292-A34A055FF27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533E-A7B6-412D-B8F1-1A1A49AC16B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0BF-4816-45C2-B055-67F83A50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BDD-D96E-4517-8BFA-D4B7D6DC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FAC-750B-42D1-A83E-254F03A9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444-8DE7-48AF-A267-F37CB089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147A-DDE2-4D82-8E16-D2D480BA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83E6-8DAC-4C76-8DDC-D974269D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F642-CDD4-4B12-B95F-E81B2A99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C0E0-78B3-4FB7-A8E6-00F700B2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2E6C-65A7-47CF-9C8B-2A28DD8C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D505-7546-4CE0-8C81-4330F6E5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7E41-E5E5-4B2B-9AF0-FFD14868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4C5-8853-42F3-9106-B7E1C38F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0F60-A908-4E30-866D-C127F26A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4B10-2CBB-4213-8575-E5556F51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EF2F-514A-4D5F-92B8-7983EBE9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402D-9DCE-45DB-A712-DD89BCF5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3CEB-B693-461E-971C-1E2FC2C1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517-830C-4016-8AFF-5D985879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4BD-1007-4AEF-9B93-9B16D74A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D81-E52E-47E9-9A13-42B70994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4FC-0D5B-47EF-8ED8-88A05C52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396-8B82-4CC8-8AB6-98315A0E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435-D207-424C-BF1B-AAD25D90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752-6CBA-42E4-B0FA-13CC1AA1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8EA5-06F6-4E15-9871-8828ECCA9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F6DB-B553-4E4D-A95B-F187900BF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58920" y="1989000"/>
            <a:ext cx="4176720" cy="388944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3933720"/>
            <a:ext cx="5173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336840" y="1289160"/>
            <a:ext cx="0" cy="525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108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70520" y="38401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6480" y="2297160"/>
            <a:ext cx="0" cy="180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03280" y="2297160"/>
            <a:ext cx="12128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936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1916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608120" y="3952800"/>
            <a:ext cx="1728720" cy="10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98160" y="44370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36840" y="1628640"/>
            <a:ext cx="1522440" cy="23241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3240" y="309708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260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Charakteristiky zápisu v AT, G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6000" y="1700280"/>
            <a:ext cx="8028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3360" indent="-423360"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979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T KČ 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využívá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46000" indent="-253440">
              <a:lnSpc>
                <a:spcPct val="100000"/>
              </a:lnSpc>
              <a:spcBef>
                <a:spcPts val="1400"/>
              </a:spcBef>
              <a:buClr>
                <a:srgbClr val="ffff00"/>
              </a:buClr>
              <a:buFont typeface="Times New Roman"/>
              <a:buChar char="•"/>
              <a:tabLst>
                <a:tab algn="l" pos="1979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mé průměty obrazu daného KČ do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řadných o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14040" y="1916280"/>
            <a:ext cx="200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700280"/>
            <a:ext cx="8028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T KČ 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|</a:t>
            </a:r>
            <a:r>
              <a:rPr b="1" lang="cs-CZ" sz="28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.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(cos</a:t>
            </a:r>
            <a:r>
              <a:rPr b="0" lang="cs-CZ" sz="28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+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</a:t>
            </a:r>
            <a:r>
              <a:rPr b="0" lang="cs-CZ" sz="28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.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in</a:t>
            </a:r>
            <a:r>
              <a:rPr b="0" lang="cs-CZ" sz="28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)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yužívá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00000" indent="-269640">
              <a:lnSpc>
                <a:spcPct val="100000"/>
              </a:lnSpc>
              <a:spcBef>
                <a:spcPts val="1400"/>
              </a:spcBef>
              <a:buClr>
                <a:srgbClr val="66ff33"/>
              </a:buClr>
              <a:buFont typeface="Times New Roman"/>
              <a:buChar char="•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zdálenost daného KČ od počátku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00000" indent="-269640">
              <a:lnSpc>
                <a:spcPct val="100000"/>
              </a:lnSpc>
              <a:buClr>
                <a:srgbClr val="66ff33"/>
              </a:buClr>
              <a:buFont typeface="Symbol" charset="2"/>
              <a:buChar char="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úhlu, který svírá vektor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pojující počátek a obraz daného KČ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 kladnou částí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03600" y="191628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r>
              <a:rPr b="1" lang="cs-CZ" sz="32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(cos</a:t>
            </a:r>
            <a:r>
              <a:rPr b="0" lang="el-GR" sz="3200" spc="-1" strike="noStrike">
                <a:solidFill>
                  <a:srgbClr val="ff9900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i="1" lang="cs-CZ" sz="32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sin</a:t>
            </a:r>
            <a:r>
              <a:rPr b="0" lang="el-GR" sz="3200" spc="-1" strike="noStrike">
                <a:solidFill>
                  <a:srgbClr val="ff9900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356000" y="2205000"/>
            <a:ext cx="144720" cy="142920"/>
            <a:chOff x="4356000" y="2205000"/>
            <a:chExt cx="144720" cy="142920"/>
          </a:xfrm>
        </p:grpSpPr>
        <p:sp>
          <p:nvSpPr>
            <p:cNvPr id="275" name=""/>
            <p:cNvSpPr/>
            <p:nvPr/>
          </p:nvSpPr>
          <p:spPr>
            <a:xfrm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565520" y="1916280"/>
            <a:ext cx="455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1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cos</a:t>
            </a:r>
            <a:r>
              <a:rPr b="0" lang="el-GR" sz="28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</a:t>
            </a:r>
            <a:r>
              <a:rPr b="0" lang="el-GR" sz="28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356000" y="2205000"/>
            <a:ext cx="144720" cy="142920"/>
            <a:chOff x="4356000" y="2205000"/>
            <a:chExt cx="144720" cy="142920"/>
          </a:xfrm>
        </p:grpSpPr>
        <p:sp>
          <p:nvSpPr>
            <p:cNvPr id="279" name=""/>
            <p:cNvSpPr/>
            <p:nvPr/>
          </p:nvSpPr>
          <p:spPr>
            <a:xfrm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348000" y="3933720"/>
            <a:ext cx="237636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5618880" y="1935720"/>
            <a:ext cx="216000" cy="108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7707240" y="1288800"/>
            <a:ext cx="216000" cy="237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66880" y="251460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94120" y="25131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0720" y="249228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780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348000" y="227628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48974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iometr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zápisu komplexního čísla v goniometrickém tvar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kteristiky zápisu komplexních čísel; Komplexní jednotka; Obraz komplexního čísla; Vzdálenost komplexního čísla od počátku; 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34544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oniometrický tvar komplexního čísla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28760" y="2206800"/>
            <a:ext cx="4176720" cy="38890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1480" y="4151160"/>
            <a:ext cx="5173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06680" y="1506600"/>
            <a:ext cx="0" cy="525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108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40575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86320" y="2514600"/>
            <a:ext cx="0" cy="1800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273120" y="2514600"/>
            <a:ext cx="12128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200" y="41511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70200" y="213372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406680" y="1846080"/>
            <a:ext cx="1522440" cy="23238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3840" y="3575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3080" y="331452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83880" y="2062080"/>
            <a:ext cx="200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2602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Hledáme tvar zápisu, který bude používat nové charakteristiky: 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, </a:t>
            </a:r>
            <a:r>
              <a:rPr b="0" lang="el-GR" sz="32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17840" y="4151160"/>
            <a:ext cx="237636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0560" y="270972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47640" y="4151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17840" y="249372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25840" y="2422440"/>
            <a:ext cx="144720" cy="142920"/>
            <a:chOff x="4425840" y="2422440"/>
            <a:chExt cx="144720" cy="142920"/>
          </a:xfrm>
        </p:grpSpPr>
        <p:sp>
          <p:nvSpPr>
            <p:cNvPr id="161" name=""/>
            <p:cNvSpPr/>
            <p:nvPr/>
          </p:nvSpPr>
          <p:spPr>
            <a:xfrm>
              <a:off x="4425840" y="242244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25840" y="242244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716360" y="260280"/>
            <a:ext cx="39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ze nalézt obraz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iným způsobem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dvození GT komplexního čísla </a:t>
            </a:r>
            <a:r>
              <a:rPr b="0" i="1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197000"/>
            <a:ext cx="799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lezneme obraz M komplexní jednotky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za předpokladu, že velikosti úhlů, které svírají vektor OM a vektor OA s kladnou částí osy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sou shodné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71640" y="4005360"/>
            <a:ext cx="8172360" cy="2560680"/>
            <a:chOff x="971640" y="4005360"/>
            <a:chExt cx="8172360" cy="2560680"/>
          </a:xfrm>
        </p:grpSpPr>
        <p:sp>
          <p:nvSpPr>
            <p:cNvPr id="167" name=""/>
            <p:cNvSpPr/>
            <p:nvPr/>
          </p:nvSpPr>
          <p:spPr>
            <a:xfrm>
              <a:off x="971640" y="4005360"/>
              <a:ext cx="8172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spcBef>
                  <a:spcPts val="1874"/>
                </a:spcBef>
                <a:buClr>
                  <a:srgbClr val="dddddd"/>
                </a:buClr>
                <a:buSzPct val="80000"/>
                <a:buFont typeface="Times New Roman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Obraz A daného KČ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nalezneme ve stejnolehlosti se středem v počátku a koeficientem podobnosti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227640" y="5229360"/>
                  <a:ext cx="1582920" cy="13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A</m:t>
                              </m:r>
                            </m:e>
                          </m:d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M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64160" y="1700280"/>
            <a:ext cx="201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M =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491640" y="2131920"/>
            <a:ext cx="1081080" cy="165744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01840" y="1846440"/>
            <a:ext cx="4176720" cy="38890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14560" y="3789360"/>
            <a:ext cx="5329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492360" y="907920"/>
            <a:ext cx="0" cy="511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668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29080" y="37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2154240"/>
            <a:ext cx="0" cy="1800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346200" y="2154240"/>
            <a:ext cx="1212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73200" y="38386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1844640"/>
            <a:ext cx="65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6920" y="32148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15640" y="3038760"/>
            <a:ext cx="1369080" cy="15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9" y="1328"/>
                </a:moveTo>
                <a:arcTo wR="10800" hR="10800" stAng="-3676935" swAng="3559467"/>
                <a:lnTo>
                  <a:pt x="10800" y="10800"/>
                </a:lnTo>
                <a:close/>
              </a:path>
              <a:path fill="none" w="21600" h="21600">
                <a:moveTo>
                  <a:pt x="15989" y="1328"/>
                </a:moveTo>
                <a:arcTo wR="10800" hR="10800" stAng="-3676935" swAng="3559467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09440" y="234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0720" y="3790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490920" y="213336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498560" y="2062080"/>
            <a:ext cx="144720" cy="142920"/>
            <a:chOff x="4498560" y="2062080"/>
            <a:chExt cx="144720" cy="142920"/>
          </a:xfrm>
        </p:grpSpPr>
        <p:sp>
          <p:nvSpPr>
            <p:cNvPr id="186" name=""/>
            <p:cNvSpPr/>
            <p:nvPr/>
          </p:nvSpPr>
          <p:spPr>
            <a:xfrm>
              <a:off x="4498920" y="2062080"/>
              <a:ext cx="14436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498560" y="2062080"/>
              <a:ext cx="14436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042920" y="189000"/>
            <a:ext cx="81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 M je obrazem komplexní jednotky </a:t>
            </a:r>
            <a:r>
              <a:rPr b="0" i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3860640"/>
            <a:ext cx="2887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5440" y="155736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3800" y="544500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7080" y="386064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405080" y="3789360"/>
            <a:ext cx="208728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97120" y="321300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88000" y="2565360"/>
            <a:ext cx="2556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čivo 2. ročníku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goniometrické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ce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ecného úhl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souřadnice bodu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jednotkové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ružnici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76600" y="6093000"/>
                <a:ext cx="20829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564240" y="6093000"/>
                <a:ext cx="2579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589440" y="17002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cos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; sin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3347280" y="1125360"/>
            <a:ext cx="1655640" cy="2592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347280" y="2060640"/>
            <a:ext cx="1079640" cy="16574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321000" y="977760"/>
            <a:ext cx="1800360" cy="27352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30480" y="1771560"/>
            <a:ext cx="4176720" cy="388944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42840" y="3714840"/>
            <a:ext cx="532944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321000" y="833400"/>
            <a:ext cx="0" cy="511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94080" y="61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57720" y="3641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2060640"/>
            <a:ext cx="0" cy="1800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03280" y="2060640"/>
            <a:ext cx="1212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01840" y="376380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02080" y="1698480"/>
            <a:ext cx="65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35200" y="3139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4280" y="2964240"/>
            <a:ext cx="1369080" cy="15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9" y="1328"/>
                </a:moveTo>
                <a:arcTo wR="10800" hR="10800" stAng="-3676935" swAng="3559467"/>
                <a:lnTo>
                  <a:pt x="10800" y="10800"/>
                </a:lnTo>
                <a:close/>
              </a:path>
              <a:path fill="none" w="21600" h="21600">
                <a:moveTo>
                  <a:pt x="15989" y="1328"/>
                </a:moveTo>
                <a:arcTo wR="10800" hR="10800" stAng="-3676935" swAng="3559467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780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900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356000" y="1989000"/>
            <a:ext cx="144720" cy="142920"/>
            <a:chOff x="4356000" y="1989000"/>
            <a:chExt cx="144720" cy="142920"/>
          </a:xfrm>
        </p:grpSpPr>
        <p:sp>
          <p:nvSpPr>
            <p:cNvPr id="216" name=""/>
            <p:cNvSpPr/>
            <p:nvPr/>
          </p:nvSpPr>
          <p:spPr>
            <a:xfrm>
              <a:off x="4356000" y="1989000"/>
              <a:ext cx="14472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56000" y="1989000"/>
              <a:ext cx="14472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H="1">
            <a:off x="1233000" y="3714840"/>
            <a:ext cx="208764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5760" y="313848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12600" y="1773360"/>
            <a:ext cx="368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; 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cos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; sin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 A je obrazem hledaného KČ </a:t>
            </a:r>
            <a:r>
              <a:rPr b="0" i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42920" y="5950080"/>
                <a:ext cx="8101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424560" y="2854440"/>
                <a:ext cx="12985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M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867280" y="4581360"/>
                <a:ext cx="15004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794200" y="5157720"/>
                <a:ext cx="15861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648560" y="2854440"/>
                <a:ext cx="7221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317080" y="3141720"/>
                <a:ext cx="663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378560" y="4581360"/>
                <a:ext cx="1586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378560" y="5157720"/>
                <a:ext cx="15289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4932000" y="1052640"/>
            <a:ext cx="144720" cy="142920"/>
            <a:chOff x="4932000" y="1052640"/>
            <a:chExt cx="144720" cy="142920"/>
          </a:xfrm>
        </p:grpSpPr>
        <p:sp>
          <p:nvSpPr>
            <p:cNvPr id="231" name=""/>
            <p:cNvSpPr/>
            <p:nvPr/>
          </p:nvSpPr>
          <p:spPr>
            <a:xfrm>
              <a:off x="4932360" y="105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932000" y="105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003640" y="1125360"/>
            <a:ext cx="0" cy="273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03640" y="1125360"/>
            <a:ext cx="18000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97720" y="3789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0360" y="836640"/>
            <a:ext cx="65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90760" y="765000"/>
            <a:ext cx="2038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992000">
            <a:off x="4026960" y="835200"/>
            <a:ext cx="120960" cy="3078000"/>
          </a:xfrm>
          <a:custGeom>
            <a:avLst/>
            <a:gdLst>
              <a:gd name="textAreaLeft" fmla="*/ 77400 w 120960"/>
              <a:gd name="textAreaRight" fmla="*/ 121320 w 120960"/>
              <a:gd name="textAreaTop" fmla="*/ 80280 h 3078000"/>
              <a:gd name="textAreaBottom" fmla="*/ 2997720 h 307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68360" y="105264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0400" y="24210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trojúhelníky podobné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6720" y="2421000"/>
            <a:ext cx="1079640" cy="216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500720" y="2781000"/>
            <a:ext cx="1655640" cy="431640"/>
          </a:xfrm>
          <a:prstGeom prst="line">
            <a:avLst/>
          </a:prstGeom>
          <a:ln w="284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992000">
            <a:off x="3568680" y="1817280"/>
            <a:ext cx="306360" cy="1963800"/>
          </a:xfrm>
          <a:custGeom>
            <a:avLst/>
            <a:gdLst>
              <a:gd name="textAreaLeft" fmla="*/ 195840 w 306360"/>
              <a:gd name="textAreaRight" fmla="*/ 306360 w 306360"/>
              <a:gd name="textAreaTop" fmla="*/ 51120 h 1963800"/>
              <a:gd name="textAreaBottom" fmla="*/ 1912680 h 196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091"/>
                </a:lnTo>
                <a:cubicBezTo>
                  <a:pt x="10800" y="8991"/>
                  <a:pt x="5400" y="9891"/>
                  <a:pt x="0" y="9891"/>
                </a:cubicBezTo>
                <a:cubicBezTo>
                  <a:pt x="5400" y="9891"/>
                  <a:pt x="10800" y="10791"/>
                  <a:pt x="10800" y="1169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348000" y="2060280"/>
            <a:ext cx="1079640" cy="1654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378936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2520" y="148608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0880" y="537372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44000" y="378936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1640" y="189000"/>
            <a:ext cx="79880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Goniometrický tvar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(GT)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1341360"/>
            <a:ext cx="81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nazývá zápis:                                             , kde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211640" y="1285920"/>
                <a:ext cx="45370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971640" y="2708280"/>
            <a:ext cx="817236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943200" indent="-338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vzdálenost KČ od počátku, 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1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ždy číslo kladné)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43200" indent="-33804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argument KČ – úhel, který svírá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ektor 0A s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ladnou částí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545120" indent="-42948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150000"/>
              <a:buFont typeface="Times New Roman"/>
              <a:buChar char="!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1" lang="cs-CZ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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je základní argumen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7160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ZOR!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2276640"/>
            <a:ext cx="7740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1720" indent="-531720">
              <a:lnSpc>
                <a:spcPct val="13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Komplexnímu číslu 0 nepřiřazujeme goniometrický tvar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57Z</dcterms:modified>
  <cp:revision>296</cp:revision>
  <dc:subject/>
  <dc:title>KČ</dc:title>
</cp:coreProperties>
</file>