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BDC-DDA0-4197-831B-601363C6C0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476-1586-4E73-8E32-D927EC21BF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CFC-594E-41FE-84A4-169583D0B2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9B8-7E36-4B4C-9C58-9E15B3267E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45F-76A1-4953-9832-F4A2417F39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945-CDAC-4AAE-A4D4-8532023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357-86A4-4C22-914B-9BEB92B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E54-50A9-4375-A4EB-338DED81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C0A-FC98-4575-B8AE-11ACA5E2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3774-DCC3-4EC4-B8D3-BAEE4333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286-FD74-4F95-87CB-8BB44E9E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2C1D-4C30-48C9-B542-C19D0A2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CABD-9C6C-4C9A-9679-3AA9988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C8EE-A6DF-4BAF-8658-159E33A1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CE5-DAB2-4B4E-B14A-7086BCEC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0DDF-EDFC-4338-B6F8-780191C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F26-9A9D-4CB3-BDFB-C225AFB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E1D-5582-4E64-8404-4C5EF0B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0AFC-9BE2-4EC5-A19E-8117405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0AC-262C-4058-A436-B5B08CE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389-6B69-48EE-B34A-CA91A7CD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B68F-EDB3-484F-8F3C-C658D309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449-56BC-4B64-A17D-1B15DA8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077-9412-4648-B758-476B7DF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02B-A5BD-4809-A2A8-84D7BC7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B9B-448C-4EB3-924C-CCBF110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CFA-D295-4234-997A-6CB5C08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2AF-DB27-4B53-9474-ABF655A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8C9-3680-4EAE-A6EA-DE8B750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50AA-7D79-4DAC-8512-CCDC3317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0CC-683C-48DA-8CBB-BBD11292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42920" y="170028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042920" y="333360"/>
                <a:ext cx="2316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042920" y="3357720"/>
                <a:ext cx="185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42920" y="4869000"/>
                <a:ext cx="2408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2987640" y="1052640"/>
            <a:ext cx="1500120" cy="5592240"/>
            <a:chOff x="2987640" y="1052640"/>
            <a:chExt cx="1500120" cy="5592240"/>
          </a:xfrm>
        </p:grpSpPr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987640" y="1052640"/>
                  <a:ext cx="97020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987640" y="2276280"/>
                  <a:ext cx="147024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2987640" y="4005000"/>
                  <a:ext cx="15001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987640" y="5589360"/>
                  <a:ext cx="1062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2360" y="18900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1628640"/>
                <a:ext cx="18226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003640" y="3284640"/>
                <a:ext cx="18226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859280" y="4724280"/>
                <a:ext cx="3213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451640" y="692280"/>
            <a:ext cx="1692360" cy="6014880"/>
            <a:chOff x="7451640" y="692280"/>
            <a:chExt cx="1692360" cy="601488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451640" y="692280"/>
                  <a:ext cx="15019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451640" y="2276640"/>
                  <a:ext cx="14083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7451640" y="3429000"/>
                  <a:ext cx="131148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458120" y="5516640"/>
                  <a:ext cx="1685880" cy="11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, je-li dané KČ komplexní jednotka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042920" y="1989000"/>
                <a:ext cx="193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3213000"/>
                <a:ext cx="1811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971640" y="4363920"/>
                <a:ext cx="1784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42920" y="1197000"/>
                <a:ext cx="2311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1052640"/>
                <a:ext cx="2544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8388360" y="103356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64000" y="191628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388360" y="2060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3068640"/>
                <a:ext cx="2165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3213000"/>
                <a:ext cx="154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388360" y="3284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771640" y="4363920"/>
                <a:ext cx="1051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68720" y="4221000"/>
                <a:ext cx="16956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8388360" y="436572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589720"/>
                <a:ext cx="19018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16360" y="5589720"/>
                <a:ext cx="15764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859280" y="551664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8388360" y="5732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156360" y="1052640"/>
                <a:ext cx="760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020000" y="112536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364000" y="1916280"/>
                <a:ext cx="1405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32720" y="1916280"/>
                <a:ext cx="10238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40720" y="2205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732720" y="3068640"/>
                <a:ext cx="1052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740720" y="3429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651640" y="4221000"/>
                <a:ext cx="1346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77080" y="4221000"/>
                <a:ext cx="87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740720" y="450864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732720" y="5516640"/>
                <a:ext cx="906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7667640" y="5805360"/>
                <a:ext cx="49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bylo komplexní jednotk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87280" y="404640"/>
                <a:ext cx="2381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476360" y="1773360"/>
                <a:ext cx="36972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3284640"/>
                <a:ext cx="2066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00720" y="333360"/>
                <a:ext cx="128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780000" y="4581360"/>
                <a:ext cx="1595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588000" y="1916280"/>
                <a:ext cx="144144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59640" y="3141720"/>
                <a:ext cx="156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04000" y="4437000"/>
                <a:ext cx="1724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155736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42920" y="3933720"/>
                <a:ext cx="5448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427640" y="4941720"/>
                <a:ext cx="203508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427640" y="6093000"/>
                <a:ext cx="2222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093080" y="1916280"/>
                <a:ext cx="150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164360" y="2708280"/>
                <a:ext cx="140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7164360" y="3789360"/>
                <a:ext cx="125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80360" y="4797360"/>
                <a:ext cx="1158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7451640" y="5765760"/>
                <a:ext cx="1316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148428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56000" y="3860640"/>
                <a:ext cx="20354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356000" y="5084640"/>
                <a:ext cx="219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7093080" y="4221000"/>
                <a:ext cx="156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08720" y="4941720"/>
                <a:ext cx="1535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5796000" y="59500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16000" y="333360"/>
                <a:ext cx="2506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476360" y="1700280"/>
                <a:ext cx="4041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3213000"/>
                <a:ext cx="2224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359240" y="333360"/>
                <a:ext cx="1566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132000" y="4653000"/>
                <a:ext cx="240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588000" y="292428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732720" y="4005360"/>
                <a:ext cx="1628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77080" y="5229360"/>
                <a:ext cx="197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29440" y="1989000"/>
                <a:ext cx="1563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561080" cy="5172120"/>
        </p:xfrm>
        <a:graphic>
          <a:graphicData uri="http://schemas.openxmlformats.org/drawingml/2006/table">
            <a:tbl>
              <a:tblPr/>
              <a:tblGrid>
                <a:gridCol w="3246480"/>
                <a:gridCol w="431460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lutní hodnota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solutní hodnot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 Vlastnosti absolutní hodno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; Komplexní jednotka; Vzdálenost komplexního čísla od počátk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1052640"/>
            <a:ext cx="73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zdálenost KČ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od počátku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e vyjádřena vždy kladným reálným číslem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3645000"/>
                <a:ext cx="251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56360" y="4941720"/>
                <a:ext cx="2820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Absolutní hodnota KČ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04000" y="189000"/>
                <a:ext cx="533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71600" y="2849400"/>
            <a:ext cx="294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ythagorova věta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3284640"/>
            <a:ext cx="1728720" cy="27367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03280" y="2349360"/>
            <a:ext cx="3650760" cy="4192560"/>
            <a:chOff x="1403280" y="2349360"/>
            <a:chExt cx="3650760" cy="4192560"/>
          </a:xfrm>
        </p:grpSpPr>
        <p:sp>
          <p:nvSpPr>
            <p:cNvPr id="149" name=""/>
            <p:cNvSpPr/>
            <p:nvPr/>
          </p:nvSpPr>
          <p:spPr>
            <a:xfrm>
              <a:off x="1403280" y="6021360"/>
              <a:ext cx="3598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833480" y="2565000"/>
              <a:ext cx="1440" cy="3887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2349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6021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6000" y="59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4" name="Group 63"/>
          <p:cNvGrpSpPr/>
          <p:nvPr/>
        </p:nvGrpSpPr>
        <p:grpSpPr>
          <a:xfrm>
            <a:off x="3492360" y="3213000"/>
            <a:ext cx="144720" cy="142920"/>
            <a:chOff x="3492360" y="3213000"/>
            <a:chExt cx="144720" cy="142920"/>
          </a:xfrm>
        </p:grpSpPr>
        <p:sp>
          <p:nvSpPr>
            <p:cNvPr id="155" name="Line 64"/>
            <p:cNvSpPr/>
            <p:nvPr/>
          </p:nvSpPr>
          <p:spPr>
            <a:xfrm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65"/>
            <p:cNvSpPr/>
            <p:nvPr/>
          </p:nvSpPr>
          <p:spPr>
            <a:xfrm flipH="1"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92200" y="2637000"/>
            <a:ext cx="13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3284640"/>
            <a:ext cx="19080" cy="2833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92000" y="3284640"/>
            <a:ext cx="1871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8080" y="6093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8640" y="2924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0520" y="39798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627280" y="5299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35280" y="3284640"/>
            <a:ext cx="144720" cy="27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4520" y="6093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7560" y="4365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35280" y="3284640"/>
            <a:ext cx="1708200" cy="273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lastnosti absolutní hodnoty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052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, která mají stejnou vzdálenost od počátku</a:t>
            </a:r>
            <a:r>
              <a:rPr b="0" lang="cs-CZ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nekonečně mnoh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0;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4 leží na souřadných osá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03280" y="5877000"/>
                <a:ext cx="3517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03280" y="5084640"/>
                <a:ext cx="1079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140360" y="1714680"/>
            <a:ext cx="4781520" cy="5142960"/>
            <a:chOff x="4140360" y="1714680"/>
            <a:chExt cx="4781520" cy="5142960"/>
          </a:xfrm>
        </p:grpSpPr>
        <p:sp>
          <p:nvSpPr>
            <p:cNvPr id="173" name=""/>
            <p:cNvSpPr/>
            <p:nvPr/>
          </p:nvSpPr>
          <p:spPr>
            <a:xfrm>
              <a:off x="4140360" y="479736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576480" y="1885680"/>
              <a:ext cx="11160" cy="4971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544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9440" y="1714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520" y="479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16360" y="2997360"/>
            <a:ext cx="3733920" cy="352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88000" y="3298320"/>
            <a:ext cx="1008360" cy="14986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27280" y="3009960"/>
            <a:ext cx="360360" cy="1859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859280" y="4076640"/>
            <a:ext cx="1728720" cy="72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000" y="4797360"/>
            <a:ext cx="165564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4797360"/>
            <a:ext cx="165600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5440" y="51703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2720" y="3730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080" y="3298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080" y="4235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360" y="52419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Group 63"/>
          <p:cNvGrpSpPr/>
          <p:nvPr/>
        </p:nvGrpSpPr>
        <p:grpSpPr>
          <a:xfrm>
            <a:off x="4787640" y="4005360"/>
            <a:ext cx="144720" cy="142920"/>
            <a:chOff x="4787640" y="4005360"/>
            <a:chExt cx="144720" cy="142920"/>
          </a:xfrm>
        </p:grpSpPr>
        <p:sp>
          <p:nvSpPr>
            <p:cNvPr id="190" name="Line 64"/>
            <p:cNvSpPr/>
            <p:nvPr/>
          </p:nvSpPr>
          <p:spPr>
            <a:xfrm>
              <a:off x="478800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478764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2" name="Group 63"/>
          <p:cNvGrpSpPr/>
          <p:nvPr/>
        </p:nvGrpSpPr>
        <p:grpSpPr>
          <a:xfrm>
            <a:off x="6156000" y="2938320"/>
            <a:ext cx="144720" cy="142920"/>
            <a:chOff x="6156000" y="2938320"/>
            <a:chExt cx="144720" cy="142920"/>
          </a:xfrm>
        </p:grpSpPr>
        <p:sp>
          <p:nvSpPr>
            <p:cNvPr id="193" name="Line 64"/>
            <p:cNvSpPr/>
            <p:nvPr/>
          </p:nvSpPr>
          <p:spPr>
            <a:xfrm>
              <a:off x="615636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H="1">
              <a:off x="615600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3"/>
          <p:cNvGrpSpPr/>
          <p:nvPr/>
        </p:nvGrpSpPr>
        <p:grpSpPr>
          <a:xfrm>
            <a:off x="4858920" y="5516640"/>
            <a:ext cx="144720" cy="142920"/>
            <a:chOff x="4858920" y="5516640"/>
            <a:chExt cx="144720" cy="142920"/>
          </a:xfrm>
        </p:grpSpPr>
        <p:sp>
          <p:nvSpPr>
            <p:cNvPr id="196" name="Line 64"/>
            <p:cNvSpPr/>
            <p:nvPr/>
          </p:nvSpPr>
          <p:spPr>
            <a:xfrm>
              <a:off x="485928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65"/>
            <p:cNvSpPr/>
            <p:nvPr/>
          </p:nvSpPr>
          <p:spPr>
            <a:xfrm flipH="1">
              <a:off x="485892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8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199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8172360" y="5516640"/>
            <a:ext cx="144720" cy="142920"/>
            <a:chOff x="8172360" y="551664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588000" y="3284640"/>
            <a:ext cx="1008360" cy="1512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160" y="37306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27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3000" y="555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63"/>
          <p:cNvGrpSpPr/>
          <p:nvPr/>
        </p:nvGrpSpPr>
        <p:grpSpPr>
          <a:xfrm>
            <a:off x="8386560" y="4765680"/>
            <a:ext cx="144720" cy="142920"/>
            <a:chOff x="8386560" y="4765680"/>
            <a:chExt cx="144720" cy="142920"/>
          </a:xfrm>
        </p:grpSpPr>
        <p:sp>
          <p:nvSpPr>
            <p:cNvPr id="209" name="Line 64"/>
            <p:cNvSpPr/>
            <p:nvPr/>
          </p:nvSpPr>
          <p:spPr>
            <a:xfrm>
              <a:off x="838692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65"/>
            <p:cNvSpPr/>
            <p:nvPr/>
          </p:nvSpPr>
          <p:spPr>
            <a:xfrm flipH="1">
              <a:off x="838656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516360" y="2924280"/>
            <a:ext cx="144720" cy="142920"/>
            <a:chOff x="6516360" y="292428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651672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651636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4" name="Group 63"/>
          <p:cNvGrpSpPr/>
          <p:nvPr/>
        </p:nvGrpSpPr>
        <p:grpSpPr>
          <a:xfrm>
            <a:off x="4643280" y="4724280"/>
            <a:ext cx="144720" cy="142920"/>
            <a:chOff x="4643280" y="4724280"/>
            <a:chExt cx="144720" cy="142920"/>
          </a:xfrm>
        </p:grpSpPr>
        <p:sp>
          <p:nvSpPr>
            <p:cNvPr id="215" name="Line 64"/>
            <p:cNvSpPr/>
            <p:nvPr/>
          </p:nvSpPr>
          <p:spPr>
            <a:xfrm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H="1"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6516360" y="6453360"/>
            <a:ext cx="144720" cy="142560"/>
            <a:chOff x="6516360" y="6453360"/>
            <a:chExt cx="144720" cy="142560"/>
          </a:xfrm>
        </p:grpSpPr>
        <p:sp>
          <p:nvSpPr>
            <p:cNvPr id="218" name="Line 64"/>
            <p:cNvSpPr/>
            <p:nvPr/>
          </p:nvSpPr>
          <p:spPr>
            <a:xfrm>
              <a:off x="651672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 flipH="1">
              <a:off x="651636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6000" y="4437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prot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80000" y="3357720"/>
            <a:ext cx="1944720" cy="2879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9080" y="62784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Group 63"/>
          <p:cNvGrpSpPr/>
          <p:nvPr/>
        </p:nvGrpSpPr>
        <p:grpSpPr>
          <a:xfrm>
            <a:off x="6516360" y="4724280"/>
            <a:ext cx="144720" cy="142920"/>
            <a:chOff x="6516360" y="4724280"/>
            <a:chExt cx="144720" cy="142920"/>
          </a:xfrm>
        </p:grpSpPr>
        <p:sp>
          <p:nvSpPr>
            <p:cNvPr id="224" name="Line 64"/>
            <p:cNvSpPr/>
            <p:nvPr/>
          </p:nvSpPr>
          <p:spPr>
            <a:xfrm>
              <a:off x="651672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65"/>
            <p:cNvSpPr/>
            <p:nvPr/>
          </p:nvSpPr>
          <p:spPr>
            <a:xfrm flipH="1">
              <a:off x="651636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9636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63"/>
          <p:cNvGrpSpPr/>
          <p:nvPr/>
        </p:nvGrpSpPr>
        <p:grpSpPr>
          <a:xfrm>
            <a:off x="7524360" y="6165720"/>
            <a:ext cx="144720" cy="142920"/>
            <a:chOff x="7524360" y="6165720"/>
            <a:chExt cx="144720" cy="142920"/>
          </a:xfrm>
        </p:grpSpPr>
        <p:sp>
          <p:nvSpPr>
            <p:cNvPr id="228" name="Line 64"/>
            <p:cNvSpPr/>
            <p:nvPr/>
          </p:nvSpPr>
          <p:spPr>
            <a:xfrm>
              <a:off x="7524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7524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3814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6453360"/>
            <a:ext cx="2890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20360" y="2708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Group 63"/>
          <p:cNvGrpSpPr/>
          <p:nvPr/>
        </p:nvGrpSpPr>
        <p:grpSpPr>
          <a:xfrm>
            <a:off x="5508360" y="3213000"/>
            <a:ext cx="144720" cy="142920"/>
            <a:chOff x="5508360" y="3213000"/>
            <a:chExt cx="144720" cy="142920"/>
          </a:xfrm>
        </p:grpSpPr>
        <p:sp>
          <p:nvSpPr>
            <p:cNvPr id="235" name="Line 64"/>
            <p:cNvSpPr/>
            <p:nvPr/>
          </p:nvSpPr>
          <p:spPr>
            <a:xfrm>
              <a:off x="550872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 flipH="1">
              <a:off x="550836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508720" y="2852640"/>
            <a:ext cx="287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479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9" name="Group 63"/>
          <p:cNvGrpSpPr/>
          <p:nvPr/>
        </p:nvGrpSpPr>
        <p:grpSpPr>
          <a:xfrm>
            <a:off x="5508360" y="6165720"/>
            <a:ext cx="144720" cy="142920"/>
            <a:chOff x="5508360" y="6165720"/>
            <a:chExt cx="144720" cy="142920"/>
          </a:xfrm>
        </p:grpSpPr>
        <p:sp>
          <p:nvSpPr>
            <p:cNvPr id="240" name="Line 64"/>
            <p:cNvSpPr/>
            <p:nvPr/>
          </p:nvSpPr>
          <p:spPr>
            <a:xfrm>
              <a:off x="5508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 flipH="1">
              <a:off x="5508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243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125360"/>
            <a:ext cx="7956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, jehož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dálenos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d počátku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je jedn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dnotka (cm, mm, ....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;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 z nich leží na souřadných osách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3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Komplexní jednotk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19640" y="1844640"/>
                <a:ext cx="1147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2987640" y="3429000"/>
            <a:ext cx="3918240" cy="3284280"/>
            <a:chOff x="2987640" y="3429000"/>
            <a:chExt cx="3918240" cy="3284280"/>
          </a:xfrm>
        </p:grpSpPr>
        <p:sp>
          <p:nvSpPr>
            <p:cNvPr id="249" name=""/>
            <p:cNvSpPr/>
            <p:nvPr/>
          </p:nvSpPr>
          <p:spPr>
            <a:xfrm>
              <a:off x="2987640" y="5300640"/>
              <a:ext cx="381636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3571560"/>
              <a:ext cx="0" cy="3141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944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8000" y="342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6360" y="522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62200" y="4149720"/>
            <a:ext cx="2449800" cy="2232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63"/>
          <p:cNvGrpSpPr/>
          <p:nvPr/>
        </p:nvGrpSpPr>
        <p:grpSpPr>
          <a:xfrm>
            <a:off x="5938560" y="5229360"/>
            <a:ext cx="144720" cy="142920"/>
            <a:chOff x="5938560" y="5229360"/>
            <a:chExt cx="144720" cy="142920"/>
          </a:xfrm>
        </p:grpSpPr>
        <p:sp>
          <p:nvSpPr>
            <p:cNvPr id="256" name="Line 64"/>
            <p:cNvSpPr/>
            <p:nvPr/>
          </p:nvSpPr>
          <p:spPr>
            <a:xfrm>
              <a:off x="5938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 flipH="1">
              <a:off x="5938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25800" y="580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63"/>
          <p:cNvGrpSpPr/>
          <p:nvPr/>
        </p:nvGrpSpPr>
        <p:grpSpPr>
          <a:xfrm>
            <a:off x="4714560" y="4078440"/>
            <a:ext cx="144720" cy="142560"/>
            <a:chOff x="4714560" y="4078440"/>
            <a:chExt cx="144720" cy="142560"/>
          </a:xfrm>
        </p:grpSpPr>
        <p:sp>
          <p:nvSpPr>
            <p:cNvPr id="260" name="Line 64"/>
            <p:cNvSpPr/>
            <p:nvPr/>
          </p:nvSpPr>
          <p:spPr>
            <a:xfrm>
              <a:off x="471492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H="1">
              <a:off x="471456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4714560" y="6310440"/>
            <a:ext cx="144720" cy="142920"/>
            <a:chOff x="4714560" y="6310440"/>
            <a:chExt cx="144720" cy="142920"/>
          </a:xfrm>
        </p:grpSpPr>
        <p:sp>
          <p:nvSpPr>
            <p:cNvPr id="263" name="Line 64"/>
            <p:cNvSpPr/>
            <p:nvPr/>
          </p:nvSpPr>
          <p:spPr>
            <a:xfrm>
              <a:off x="471492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H="1">
              <a:off x="471456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3"/>
          <p:cNvGrpSpPr/>
          <p:nvPr/>
        </p:nvGrpSpPr>
        <p:grpSpPr>
          <a:xfrm>
            <a:off x="3490560" y="5229360"/>
            <a:ext cx="144720" cy="142920"/>
            <a:chOff x="3490560" y="5229360"/>
            <a:chExt cx="144720" cy="142920"/>
          </a:xfrm>
        </p:grpSpPr>
        <p:sp>
          <p:nvSpPr>
            <p:cNvPr id="266" name="Line 64"/>
            <p:cNvSpPr/>
            <p:nvPr/>
          </p:nvSpPr>
          <p:spPr>
            <a:xfrm>
              <a:off x="3490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 flipH="1">
              <a:off x="3490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88360" y="5229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4160" y="37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200" y="6134040"/>
            <a:ext cx="4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45799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788000" y="4292640"/>
            <a:ext cx="576000" cy="100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určete vzdálenost KČ od počátku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1197000"/>
            <a:ext cx="266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268280"/>
            <a:ext cx="23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00720" y="1413000"/>
                <a:ext cx="1908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059280" y="206064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00720" y="2133720"/>
                <a:ext cx="22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59280" y="285264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00720" y="2924280"/>
                <a:ext cx="2741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05928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00720" y="4221000"/>
                <a:ext cx="2336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059280" y="486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00720" y="5013360"/>
                <a:ext cx="1881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59280" y="566100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0" y="5805360"/>
                <a:ext cx="231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667640" y="1413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8634240" y="1484280"/>
                <a:ext cx="509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00720" y="1413000"/>
                <a:ext cx="134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732720" y="2205000"/>
                <a:ext cx="115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2205000"/>
                <a:ext cx="88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236000" y="292428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8720" y="3429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29600" y="34290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804000" y="4221000"/>
                <a:ext cx="1182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028000" y="4221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43640" y="5013360"/>
                <a:ext cx="93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451640" y="5084640"/>
                <a:ext cx="51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77080" y="5877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740720" y="5950080"/>
                <a:ext cx="509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42920" y="4941720"/>
            <a:ext cx="748980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40360" y="1486080"/>
            <a:ext cx="4781520" cy="4424040"/>
            <a:chOff x="4140360" y="1486080"/>
            <a:chExt cx="4781520" cy="4424040"/>
          </a:xfrm>
        </p:grpSpPr>
        <p:sp>
          <p:nvSpPr>
            <p:cNvPr id="304" name=""/>
            <p:cNvSpPr/>
            <p:nvPr/>
          </p:nvSpPr>
          <p:spPr>
            <a:xfrm>
              <a:off x="4140360" y="384984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88360" y="163044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5440" y="3849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944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8520" y="384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09" name="Group 63"/>
            <p:cNvGrpSpPr/>
            <p:nvPr/>
          </p:nvGrpSpPr>
          <p:grpSpPr>
            <a:xfrm>
              <a:off x="8561160" y="5649840"/>
              <a:ext cx="144720" cy="142920"/>
              <a:chOff x="8561160" y="5649840"/>
              <a:chExt cx="144720" cy="14292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856152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Line 65"/>
              <p:cNvSpPr/>
              <p:nvPr/>
            </p:nvSpPr>
            <p:spPr>
              <a:xfrm flipH="1">
                <a:off x="856116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116000" y="260280"/>
            <a:ext cx="80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                            je-li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635280" y="260280"/>
                <a:ext cx="2702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716360" y="2120760"/>
            <a:ext cx="3733920" cy="34689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8027640" y="2781360"/>
            <a:ext cx="144720" cy="142920"/>
            <a:chOff x="8027640" y="2781360"/>
            <a:chExt cx="144720" cy="142920"/>
          </a:xfrm>
        </p:grpSpPr>
        <p:sp>
          <p:nvSpPr>
            <p:cNvPr id="316" name="Line 64"/>
            <p:cNvSpPr/>
            <p:nvPr/>
          </p:nvSpPr>
          <p:spPr>
            <a:xfrm>
              <a:off x="802800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 flipH="1">
              <a:off x="802764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63280" y="3286080"/>
            <a:ext cx="13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6160" y="4870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58764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4000" y="220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8027640" y="4797360"/>
            <a:ext cx="144720" cy="142920"/>
            <a:chOff x="8027640" y="4797360"/>
            <a:chExt cx="144720" cy="142920"/>
          </a:xfrm>
        </p:grpSpPr>
        <p:sp>
          <p:nvSpPr>
            <p:cNvPr id="324" name="Line 64"/>
            <p:cNvSpPr/>
            <p:nvPr/>
          </p:nvSpPr>
          <p:spPr>
            <a:xfrm>
              <a:off x="802800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 flipH="1">
              <a:off x="802764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95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8000" y="2379600"/>
            <a:ext cx="289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720" y="48704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1080" y="50148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63"/>
          <p:cNvGrpSpPr/>
          <p:nvPr/>
        </p:nvGrpSpPr>
        <p:grpSpPr>
          <a:xfrm>
            <a:off x="5003640" y="4797360"/>
            <a:ext cx="144720" cy="142920"/>
            <a:chOff x="5003640" y="4797360"/>
            <a:chExt cx="144720" cy="142920"/>
          </a:xfrm>
        </p:grpSpPr>
        <p:sp>
          <p:nvSpPr>
            <p:cNvPr id="332" name="Line 64"/>
            <p:cNvSpPr/>
            <p:nvPr/>
          </p:nvSpPr>
          <p:spPr>
            <a:xfrm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5"/>
            <p:cNvSpPr/>
            <p:nvPr/>
          </p:nvSpPr>
          <p:spPr>
            <a:xfrm flipH="1"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4" name="Group 63"/>
          <p:cNvGrpSpPr/>
          <p:nvPr/>
        </p:nvGrpSpPr>
        <p:grpSpPr>
          <a:xfrm>
            <a:off x="5003640" y="2781360"/>
            <a:ext cx="144720" cy="142920"/>
            <a:chOff x="5003640" y="2781360"/>
            <a:chExt cx="144720" cy="142920"/>
          </a:xfrm>
        </p:grpSpPr>
        <p:sp>
          <p:nvSpPr>
            <p:cNvPr id="335" name="Line 64"/>
            <p:cNvSpPr/>
            <p:nvPr/>
          </p:nvSpPr>
          <p:spPr>
            <a:xfrm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 flipH="1"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6588000" y="2854440"/>
            <a:ext cx="1513080" cy="1008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187280" y="1125360"/>
                <a:ext cx="2291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92360" y="1125360"/>
                <a:ext cx="1276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88000" y="1197000"/>
                <a:ext cx="785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32000" y="5805360"/>
                <a:ext cx="4060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810108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29800" y="386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98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16360" y="4870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16360" y="2854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4160" y="3862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8520" y="4726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7636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108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8764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7672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9680" y="2131920"/>
            <a:ext cx="1748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2600" y="2852640"/>
            <a:ext cx="218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4880" y="3500280"/>
            <a:ext cx="177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6960" y="36972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67200" y="4076640"/>
            <a:ext cx="2157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96960" y="427356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8680" y="26877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9400" indent="-1229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KČ, která leží na souřadných osách a jejichž vzdálenost od počátku je 5j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732720" y="5281560"/>
                <a:ext cx="1663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620720" y="1773360"/>
            <a:ext cx="4781520" cy="4424040"/>
            <a:chOff x="1620720" y="1773360"/>
            <a:chExt cx="4781520" cy="4424040"/>
          </a:xfrm>
        </p:grpSpPr>
        <p:sp>
          <p:nvSpPr>
            <p:cNvPr id="365" name=""/>
            <p:cNvSpPr/>
            <p:nvPr/>
          </p:nvSpPr>
          <p:spPr>
            <a:xfrm>
              <a:off x="1620720" y="413712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068720" y="191772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5800" y="413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6980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413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70" name="Group 63"/>
            <p:cNvGrpSpPr/>
            <p:nvPr/>
          </p:nvGrpSpPr>
          <p:grpSpPr>
            <a:xfrm>
              <a:off x="6041520" y="5937120"/>
              <a:ext cx="144720" cy="142920"/>
              <a:chOff x="6041520" y="5937120"/>
              <a:chExt cx="144720" cy="142920"/>
            </a:xfrm>
          </p:grpSpPr>
          <p:sp>
            <p:nvSpPr>
              <p:cNvPr id="371" name="Line 64"/>
              <p:cNvSpPr/>
              <p:nvPr/>
            </p:nvSpPr>
            <p:spPr>
              <a:xfrm>
                <a:off x="604188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2" name="Line 65"/>
              <p:cNvSpPr/>
              <p:nvPr/>
            </p:nvSpPr>
            <p:spPr>
              <a:xfrm flipH="1">
                <a:off x="604152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2197080" y="2408400"/>
            <a:ext cx="3733920" cy="346860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4" name="Group 63"/>
          <p:cNvGrpSpPr/>
          <p:nvPr/>
        </p:nvGrpSpPr>
        <p:grpSpPr>
          <a:xfrm>
            <a:off x="3995640" y="2349360"/>
            <a:ext cx="144720" cy="142920"/>
            <a:chOff x="3995640" y="2349360"/>
            <a:chExt cx="144720" cy="142920"/>
          </a:xfrm>
        </p:grpSpPr>
        <p:sp>
          <p:nvSpPr>
            <p:cNvPr id="375" name="Line 64"/>
            <p:cNvSpPr/>
            <p:nvPr/>
          </p:nvSpPr>
          <p:spPr>
            <a:xfrm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65"/>
            <p:cNvSpPr/>
            <p:nvPr/>
          </p:nvSpPr>
          <p:spPr>
            <a:xfrm flipH="1"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915640" y="299736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5440" y="4149720"/>
            <a:ext cx="3848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3"/>
          <p:cNvGrpSpPr/>
          <p:nvPr/>
        </p:nvGrpSpPr>
        <p:grpSpPr>
          <a:xfrm>
            <a:off x="5867280" y="4076640"/>
            <a:ext cx="144720" cy="142920"/>
            <a:chOff x="5867280" y="4076640"/>
            <a:chExt cx="144720" cy="142920"/>
          </a:xfrm>
        </p:grpSpPr>
        <p:sp>
          <p:nvSpPr>
            <p:cNvPr id="380" name="Line 64"/>
            <p:cNvSpPr/>
            <p:nvPr/>
          </p:nvSpPr>
          <p:spPr>
            <a:xfrm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H="1"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12720" y="2133720"/>
            <a:ext cx="4975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627280" y="3068280"/>
            <a:ext cx="1441440" cy="10810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720" y="4149720"/>
            <a:ext cx="58896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2123640" y="4076640"/>
            <a:ext cx="144720" cy="142920"/>
            <a:chOff x="2123640" y="4076640"/>
            <a:chExt cx="144720" cy="142920"/>
          </a:xfrm>
        </p:grpSpPr>
        <p:sp>
          <p:nvSpPr>
            <p:cNvPr id="386" name="Line 64"/>
            <p:cNvSpPr/>
            <p:nvPr/>
          </p:nvSpPr>
          <p:spPr>
            <a:xfrm>
              <a:off x="212400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65"/>
            <p:cNvSpPr/>
            <p:nvPr/>
          </p:nvSpPr>
          <p:spPr>
            <a:xfrm flipH="1">
              <a:off x="212364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141080" y="5516640"/>
            <a:ext cx="7016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3995640" y="5805360"/>
            <a:ext cx="144720" cy="142920"/>
            <a:chOff x="3995640" y="5805360"/>
            <a:chExt cx="144720" cy="142920"/>
          </a:xfrm>
        </p:grpSpPr>
        <p:sp>
          <p:nvSpPr>
            <p:cNvPr id="390" name="Line 64"/>
            <p:cNvSpPr/>
            <p:nvPr/>
          </p:nvSpPr>
          <p:spPr>
            <a:xfrm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65"/>
            <p:cNvSpPr/>
            <p:nvPr/>
          </p:nvSpPr>
          <p:spPr>
            <a:xfrm flipH="1"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907920"/>
                <a:ext cx="600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332000" y="2637000"/>
                <a:ext cx="2090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692360" y="1628640"/>
                <a:ext cx="50641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3860640"/>
                <a:ext cx="567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03280" y="5734080"/>
                <a:ext cx="1938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692360" y="4653000"/>
                <a:ext cx="40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877080" y="1700280"/>
                <a:ext cx="1212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56000" y="981000"/>
            <a:ext cx="1584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1628640"/>
            <a:ext cx="1511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0360" y="981000"/>
            <a:ext cx="143964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7280" y="1628640"/>
            <a:ext cx="1728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62864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981000"/>
            <a:ext cx="792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28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56000" y="1628640"/>
            <a:ext cx="792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1440" y="2060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18920" y="162864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144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21080" y="2637000"/>
                <a:ext cx="1030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00720" y="2637000"/>
                <a:ext cx="106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82880" y="30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6.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724360" y="4724280"/>
                <a:ext cx="2578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2195640" y="3932280"/>
            <a:ext cx="1512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4653000"/>
            <a:ext cx="1224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3932280"/>
            <a:ext cx="18730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653000"/>
            <a:ext cx="936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465300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626560" y="4653000"/>
            <a:ext cx="7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144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067280" y="4653000"/>
            <a:ext cx="576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836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524720" y="5229360"/>
                <a:ext cx="1425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348000" y="5734080"/>
                <a:ext cx="1060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5734080"/>
                <a:ext cx="1181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709800" y="61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.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14Z</dcterms:modified>
  <cp:revision>296</cp:revision>
  <dc:subject/>
  <dc:title>KČ</dc:title>
</cp:coreProperties>
</file>