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EB20-CC95-453F-AE6D-4232E606FB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0B9-5F2A-447D-B845-2D6118D9376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A9CA-C1B6-4D67-821E-4A654837A3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1D5-9B5A-411A-92C6-0B5593FE35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F80-4BA0-405C-B0C7-C5395A19B6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81D-B91A-4FDE-A22F-8275EC87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DFC-8267-46D3-ABCC-44660619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4A4-7618-4350-BD17-8205CEBC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E79-2068-46D5-B5D3-D525DAE9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C549-96DE-432A-AFE9-D944EB69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6E8-BF87-4572-988F-65321162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E20C-C067-453B-ABDA-61D7988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747C-507D-4F7A-9893-CCE80EC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A89B-9758-4ED8-AF4E-119A1FF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7027-D6C2-4C49-9E9F-481AAC4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A05-3189-44E0-99DC-A760977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140-E9D7-41CD-B793-33307709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E949-CC65-4632-AC3F-2951BF8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059-E5B5-42C1-A0A3-7B32DFC0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C59-7901-4E15-966A-B0F7961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B8D-942C-49EE-AA1D-CB13B239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3BB7-868D-4C32-9461-FBCA24D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46C-C2E4-4B7F-A44D-1DC3EF85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7AA-676F-4CB2-9452-1F4A349F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F48-5E6E-4439-BCED-1ABD071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3E8-C2F4-470B-A882-3E31B93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3FF-0A27-4DFD-9E60-FEC8D42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097-C4DE-4573-8F50-7F9D354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4C5-FB53-4A4D-95E5-77B995D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B86-A93F-4CDF-9871-E5CF1ABD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C32-43C7-4DE4-8436-8449370F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476280"/>
                <a:ext cx="5900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87640" y="2349360"/>
                <a:ext cx="4840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3502080"/>
                <a:ext cx="5948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59280" y="494172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1557360"/>
                <a:ext cx="593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60280"/>
                <a:ext cx="5400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3640" y="2781360"/>
                <a:ext cx="4808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3640" y="4005360"/>
                <a:ext cx="56847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3640" y="5300640"/>
                <a:ext cx="386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03640" y="1514520"/>
                <a:ext cx="5329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71640" y="549360"/>
                <a:ext cx="64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1700280"/>
                <a:ext cx="5807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68360" y="4005360"/>
                <a:ext cx="6080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5157720"/>
                <a:ext cx="53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05080" y="2900520"/>
                <a:ext cx="677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92240" y="189000"/>
                <a:ext cx="4600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00600" y="1052640"/>
                <a:ext cx="4233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33720" y="1844640"/>
                <a:ext cx="446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40200" y="2637000"/>
                <a:ext cx="3040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3500280"/>
                <a:ext cx="467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86240" y="4365720"/>
                <a:ext cx="4567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5157720"/>
                <a:ext cx="530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92360" y="5877000"/>
                <a:ext cx="39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65320" y="260280"/>
                <a:ext cx="473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51280" y="1557360"/>
                <a:ext cx="43005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2924280"/>
                <a:ext cx="482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51280" y="4292640"/>
                <a:ext cx="4129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5300640"/>
                <a:ext cx="3270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65320" y="189000"/>
                <a:ext cx="51670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19640" y="1484280"/>
                <a:ext cx="51004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19640" y="2852640"/>
                <a:ext cx="52545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19640" y="4149720"/>
                <a:ext cx="462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19640" y="5373720"/>
                <a:ext cx="393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92240" y="189000"/>
                <a:ext cx="56674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916360" y="1484280"/>
                <a:ext cx="5472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16360" y="2781360"/>
                <a:ext cx="5949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87640" y="4076640"/>
                <a:ext cx="5946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5300640"/>
                <a:ext cx="48542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4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60280"/>
                <a:ext cx="4934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635280" y="1484280"/>
                <a:ext cx="4399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564000" y="4076640"/>
                <a:ext cx="54212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64000" y="5300640"/>
                <a:ext cx="37972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564000" y="2565360"/>
                <a:ext cx="4691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71440" y="260280"/>
                <a:ext cx="4667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484280"/>
                <a:ext cx="4138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26040" y="4091040"/>
                <a:ext cx="45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91120" y="5334120"/>
                <a:ext cx="34336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54400" y="2565360"/>
                <a:ext cx="3908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27080" y="26028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1549440"/>
                <a:ext cx="460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36800" y="4076640"/>
                <a:ext cx="49896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736800" y="5300640"/>
                <a:ext cx="3434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664080" y="2565360"/>
                <a:ext cx="4298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324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; 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260280"/>
                <a:ext cx="496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1773360"/>
                <a:ext cx="5234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2997360"/>
                <a:ext cx="5200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5084640"/>
                <a:ext cx="6334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4200480" y="1052640"/>
            <a:ext cx="4943520" cy="5557680"/>
            <a:chOff x="4200480" y="1052640"/>
            <a:chExt cx="4943520" cy="555768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211640" y="1052640"/>
                  <a:ext cx="37558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211640" y="2492280"/>
                  <a:ext cx="454644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211640" y="4076640"/>
                  <a:ext cx="405288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00480" y="5950080"/>
                  <a:ext cx="4943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38240" y="2602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773360"/>
                <a:ext cx="54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42920" y="3284640"/>
                <a:ext cx="556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042920" y="4724280"/>
                <a:ext cx="52675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3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3" name=""/>
          <p:cNvGrpSpPr/>
          <p:nvPr/>
        </p:nvGrpSpPr>
        <p:grpSpPr>
          <a:xfrm>
            <a:off x="4970520" y="907920"/>
            <a:ext cx="3921120" cy="5705640"/>
            <a:chOff x="4970520" y="907920"/>
            <a:chExt cx="3921120" cy="57056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03640" y="907920"/>
                  <a:ext cx="38880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970520" y="2492280"/>
                  <a:ext cx="37576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148360" y="4005360"/>
                  <a:ext cx="3427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148360" y="5589720"/>
                  <a:ext cx="346068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260280"/>
                <a:ext cx="420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134136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1640" y="285264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4727520" y="404640"/>
            <a:ext cx="4416480" cy="6307200"/>
            <a:chOff x="4727520" y="404640"/>
            <a:chExt cx="4416480" cy="630720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783400" y="404640"/>
                  <a:ext cx="33606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2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867280" y="1484280"/>
                  <a:ext cx="240516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584680" y="2924280"/>
                  <a:ext cx="35593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4727520" y="5589720"/>
                  <a:ext cx="441648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042920" y="4292640"/>
                <a:ext cx="54342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260280"/>
            <a:ext cx="791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ivreova vět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všechna přirozená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87600" y="1701720"/>
                <a:ext cx="729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42920" y="27082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09960" y="3429000"/>
                <a:ext cx="4334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2080" y="4740120"/>
                <a:ext cx="3584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3284640"/>
                <a:ext cx="3700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4005360"/>
                <a:ext cx="360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8000" y="4869000"/>
                <a:ext cx="41511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41680" y="5948280"/>
                <a:ext cx="2886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16720" y="5877000"/>
                <a:ext cx="24591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27640" y="17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1989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198900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8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24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24360" y="3429000"/>
                <a:ext cx="300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3429000"/>
                <a:ext cx="2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9" name=""/>
          <p:cNvCxnSpPr>
            <a:endCxn id="154" idx="0"/>
          </p:cNvCxnSpPr>
          <p:nvPr/>
        </p:nvCxnSpPr>
        <p:spPr>
          <a:xfrm>
            <a:off x="4788000" y="1773360"/>
            <a:ext cx="335016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160" name=""/>
          <p:cNvCxnSpPr>
            <a:endCxn id="153" idx="0"/>
          </p:cNvCxnSpPr>
          <p:nvPr/>
        </p:nvCxnSpPr>
        <p:spPr>
          <a:xfrm>
            <a:off x="4788000" y="1773360"/>
            <a:ext cx="129744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59636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427640" y="594828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360" y="6400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0" lang="cs-CZ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16000" y="836640"/>
                <a:ext cx="4800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557360"/>
                <a:ext cx="466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64000" y="22780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3078000"/>
                <a:ext cx="4535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3933720"/>
                <a:ext cx="473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4653000"/>
                <a:ext cx="4500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5373720"/>
                <a:ext cx="5100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6168960"/>
                <a:ext cx="424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189000"/>
                <a:ext cx="5400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19640" y="981000"/>
                <a:ext cx="5233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19640" y="1628640"/>
                <a:ext cx="55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64000" y="3003480"/>
                <a:ext cx="439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116000" y="3730680"/>
                <a:ext cx="4968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4508640"/>
                <a:ext cx="4867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10040" y="5229360"/>
                <a:ext cx="6033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32000" y="5950080"/>
                <a:ext cx="4734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2355840"/>
                <a:ext cx="468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18900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1444680"/>
                <a:ext cx="532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03640" y="2708280"/>
                <a:ext cx="5700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3640" y="5084640"/>
                <a:ext cx="43336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03640" y="3933720"/>
                <a:ext cx="4633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3068640"/>
                <a:ext cx="554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22680" y="3860640"/>
                <a:ext cx="57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4653000"/>
                <a:ext cx="623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43280" y="6099120"/>
                <a:ext cx="5002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60280"/>
                <a:ext cx="4800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907920"/>
                <a:ext cx="45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92360" y="1628640"/>
                <a:ext cx="525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92360" y="2303640"/>
                <a:ext cx="439272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373720"/>
                <a:ext cx="5900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404640"/>
                <a:ext cx="4834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64000" y="2133720"/>
                <a:ext cx="43210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286080"/>
                <a:ext cx="5222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465300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564000" y="1341360"/>
                <a:ext cx="49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01680" y="476280"/>
                <a:ext cx="523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529080" y="2205000"/>
                <a:ext cx="4709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25840" y="3357720"/>
                <a:ext cx="561816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78400" y="472428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40240" y="1413000"/>
                <a:ext cx="533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39Z</dcterms:modified>
  <cp:revision>299</cp:revision>
  <dc:subject/>
  <dc:title>KČ</dc:title>
</cp:coreProperties>
</file>