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62EA-F138-4692-9B24-7D77868EC97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E0D7-6925-4FE8-BAFA-D96BD14BB22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8490-FC70-47D0-8012-0F4F0D7DD44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9359-AA80-40C5-A70D-7D69B9BD4B9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FA3E-3CBE-42C2-BD5A-17697FEFB12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951B-F5DB-4ECB-85DB-FE25DF11E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32D5-123D-4987-90A5-4A1601D8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8159-15CE-425A-B5D6-B3F7DB09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69B6-F42A-4CA6-A97C-9F1A15A98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C066-5F87-418D-A827-A22C354A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C16A-02AC-4129-A73D-F7B8D621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A88D-DB53-49D3-A926-5FAB117E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EE3E-8946-43E0-B98D-D68E741B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94AB-53B2-46B4-918B-0C02100E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9726-10B5-4F10-9517-7E9A49B8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B722-E232-4959-B181-CB8FB490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7B5C-F2AD-4C1E-B58C-57FDC7F1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54B5-31BD-4CF0-8E31-2FEDC4D7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E971-FC30-4346-829C-09EC86C8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4267-ADCE-4850-8001-6D234696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0A41-A2FE-4A1F-953A-0F609688B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21AB-F204-45B5-A9E5-0D42D7D0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C5C8-F52A-49FA-8DCE-16416A24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4624-A645-4B96-ABF8-F3BE825B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11BA-EAB4-4C7A-8639-B3087A0D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27A0-0F2A-4C51-8BC2-65BAE62D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A393-DD8B-40CE-8677-10D16958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DD65-0232-4771-B52F-E1FEC5EE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5516-F8EA-49B1-8809-DCBED4BF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2834-9BA7-4626-B947-683B47937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F35D-F151-4162-9912-8BD12AC5C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0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364000" y="1484280"/>
                <a:ext cx="207828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7451640" y="1484280"/>
                <a:ext cx="138924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971640" y="98100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219640" y="3284640"/>
                <a:ext cx="230976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7523280" y="3284640"/>
                <a:ext cx="16207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580000" y="5372280"/>
                <a:ext cx="20019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7596360" y="5372280"/>
                <a:ext cx="6681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1024200" y="260280"/>
            <a:ext cx="79905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i="1" lang="cs-CZ" sz="2700" spc="-1" strike="noStrike" baseline="-25000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= 1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cos(30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sin(30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ffff00"/>
                </a:solidFill>
                <a:latin typeface="Times New Roman"/>
              </a:rPr>
              <a:t> = 0, 1, 2</a:t>
            </a:r>
            <a:endParaRPr b="0" lang="en-US" sz="27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73440" y="112536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0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19280" y="1700280"/>
            <a:ext cx="3889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cos3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in3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73440" y="28526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42920" y="3500280"/>
            <a:ext cx="433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cos15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in15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73440" y="46530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47640" y="5300640"/>
            <a:ext cx="433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cos27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in27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95080" y="1125360"/>
            <a:ext cx="21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3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53920" y="1125360"/>
            <a:ext cx="9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3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95080" y="2852640"/>
            <a:ext cx="21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3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53920" y="285120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15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95080" y="4653000"/>
            <a:ext cx="21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3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53920" y="465120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27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971640" y="98100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99000" y="260280"/>
            <a:ext cx="8024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i="1" lang="cs-CZ" sz="2600" spc="-1" strike="noStrike" baseline="-25000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600" spc="-1" strike="noStrike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cs-CZ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cos(</a:t>
            </a:r>
            <a:r>
              <a:rPr b="0" lang="cs-CZ" sz="2600" spc="-1" strike="noStrike">
                <a:solidFill>
                  <a:srgbClr val="66ff33"/>
                </a:solidFill>
                <a:latin typeface="Times New Roman"/>
              </a:rPr>
              <a:t>30</a:t>
            </a:r>
            <a:r>
              <a:rPr b="0" lang="cs-CZ" sz="26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6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99ff"/>
                </a:solidFill>
                <a:latin typeface="Times New Roman"/>
              </a:rPr>
              <a:t>120</a:t>
            </a:r>
            <a:r>
              <a:rPr b="0" lang="cs-CZ" sz="2600" spc="-1" strike="noStrike">
                <a:solidFill>
                  <a:srgbClr val="ff99ff"/>
                </a:solidFill>
                <a:latin typeface="Symbol"/>
                <a:ea typeface="Symbol"/>
              </a:rPr>
              <a:t>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) + </a:t>
            </a:r>
            <a:r>
              <a:rPr b="0" i="1" lang="cs-CZ" sz="26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sin(</a:t>
            </a:r>
            <a:r>
              <a:rPr b="0" lang="cs-CZ" sz="2600" spc="-1" strike="noStrike">
                <a:solidFill>
                  <a:srgbClr val="66ff33"/>
                </a:solidFill>
                <a:latin typeface="Times New Roman"/>
              </a:rPr>
              <a:t>30</a:t>
            </a:r>
            <a:r>
              <a:rPr b="0" lang="cs-CZ" sz="26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6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99ff"/>
                </a:solidFill>
                <a:latin typeface="Times New Roman"/>
              </a:rPr>
              <a:t>120</a:t>
            </a:r>
            <a:r>
              <a:rPr b="0" lang="cs-CZ" sz="2600" spc="-1" strike="noStrike">
                <a:solidFill>
                  <a:srgbClr val="ff99ff"/>
                </a:solidFill>
                <a:latin typeface="Symbol"/>
                <a:ea typeface="Symbol"/>
              </a:rPr>
              <a:t>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6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 = 0, 1, 2, 3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3276720" y="4508640"/>
                <a:ext cx="8650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5580000" y="4508640"/>
                <a:ext cx="8650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3851280" y="2852640"/>
                <a:ext cx="8636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508720" y="3429000"/>
                <a:ext cx="7160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3457440" y="4003560"/>
                <a:ext cx="6336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1116000" y="4003560"/>
            <a:ext cx="6840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4716360" y="1123920"/>
            <a:ext cx="0" cy="539928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702920" y="39052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89800" y="9079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1280" y="3976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43640" y="1989000"/>
            <a:ext cx="576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484360" y="1771560"/>
            <a:ext cx="4535640" cy="446400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716360" y="2421000"/>
            <a:ext cx="2448000" cy="15825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2484360" y="4003560"/>
            <a:ext cx="22320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308320" y="4076640"/>
                <a:ext cx="423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 flipH="1" flipV="1" rot="10800000">
            <a:off x="3053520" y="2383920"/>
            <a:ext cx="3324960" cy="325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841" y="4892"/>
                </a:moveTo>
                <a:arcTo wR="10800" hR="10800" stAng="-1989850" swAng="1892649"/>
                <a:lnTo>
                  <a:pt x="10800" y="10800"/>
                </a:lnTo>
                <a:close/>
              </a:path>
              <a:path fill="none" w="21600" h="21600">
                <a:moveTo>
                  <a:pt x="19841" y="4892"/>
                </a:moveTo>
                <a:arcTo wR="10800" hR="10800" stAng="-1989850" swAng="1892649"/>
              </a:path>
            </a:pathLst>
          </a:custGeom>
          <a:noFill/>
          <a:ln w="28440">
            <a:solidFill>
              <a:srgbClr val="66ff33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4859280" y="6021360"/>
                <a:ext cx="4240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6915240" y="4076640"/>
                <a:ext cx="1857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827600" y="1627200"/>
                <a:ext cx="1857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 flipH="1" flipV="1" rot="10800000">
            <a:off x="3059280" y="2377440"/>
            <a:ext cx="3320280" cy="324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01" y="4828"/>
                </a:moveTo>
                <a:arcTo wR="10800" hR="10800" stAng="-8785924" swAng="6754492"/>
                <a:lnTo>
                  <a:pt x="10800" y="10800"/>
                </a:lnTo>
                <a:close/>
              </a:path>
              <a:path fill="none" w="21600" h="21600">
                <a:moveTo>
                  <a:pt x="1801" y="4828"/>
                </a:moveTo>
                <a:arcTo wR="10800" hR="10800" stAng="-8785924" swAng="6754492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2123640" y="2349000"/>
            <a:ext cx="2592360" cy="16542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95880" y="1989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16360" y="4003560"/>
            <a:ext cx="0" cy="23781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51880" y="602136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 flipV="1" rot="10800000">
            <a:off x="3060000" y="2396160"/>
            <a:ext cx="3310920" cy="326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75" y="21599"/>
                </a:moveTo>
                <a:arcTo wR="10800" hR="10800" stAng="5439703" swAng="7336439"/>
                <a:lnTo>
                  <a:pt x="10800" y="10800"/>
                </a:lnTo>
                <a:close/>
              </a:path>
              <a:path fill="none" w="21600" h="21600">
                <a:moveTo>
                  <a:pt x="10675" y="21599"/>
                </a:moveTo>
                <a:arcTo wR="10800" hR="10800" stAng="5439703" swAng="7336439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43280" y="2781360"/>
            <a:ext cx="1873080" cy="345600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843280" y="2781360"/>
            <a:ext cx="3817800" cy="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4716360" y="2781360"/>
            <a:ext cx="1943280" cy="345600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588000" y="2708280"/>
            <a:ext cx="144720" cy="142920"/>
            <a:chOff x="6588000" y="2708280"/>
            <a:chExt cx="144720" cy="142920"/>
          </a:xfrm>
        </p:grpSpPr>
        <p:sp>
          <p:nvSpPr>
            <p:cNvPr id="358" name=""/>
            <p:cNvSpPr/>
            <p:nvPr/>
          </p:nvSpPr>
          <p:spPr>
            <a:xfrm>
              <a:off x="6588000" y="270828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6588000" y="270828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2771640" y="2708280"/>
            <a:ext cx="144720" cy="142920"/>
            <a:chOff x="2771640" y="2708280"/>
            <a:chExt cx="144720" cy="142920"/>
          </a:xfrm>
        </p:grpSpPr>
        <p:sp>
          <p:nvSpPr>
            <p:cNvPr id="361" name=""/>
            <p:cNvSpPr/>
            <p:nvPr/>
          </p:nvSpPr>
          <p:spPr>
            <a:xfrm>
              <a:off x="2771640" y="270828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771640" y="270828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4643280" y="6165720"/>
            <a:ext cx="144720" cy="142920"/>
            <a:chOff x="4643280" y="6165720"/>
            <a:chExt cx="144720" cy="142920"/>
          </a:xfrm>
        </p:grpSpPr>
        <p:sp>
          <p:nvSpPr>
            <p:cNvPr id="364" name=""/>
            <p:cNvSpPr/>
            <p:nvPr/>
          </p:nvSpPr>
          <p:spPr>
            <a:xfrm>
              <a:off x="4643280" y="6165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4643280" y="6165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 rot="14683800">
            <a:off x="3020400" y="2162520"/>
            <a:ext cx="3625920" cy="384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95" y="21353"/>
                </a:moveTo>
                <a:arcTo wR="10800" hR="10800" stAng="4663874" swAng="7748153"/>
                <a:lnTo>
                  <a:pt x="10800" y="10800"/>
                </a:lnTo>
                <a:close/>
              </a:path>
              <a:path fill="none" w="21600" h="21600">
                <a:moveTo>
                  <a:pt x="13095" y="21353"/>
                </a:moveTo>
                <a:arcTo wR="10800" hR="10800" stAng="4663874" swAng="7748153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1042920" y="333360"/>
                <a:ext cx="34657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1619280" y="1125360"/>
                <a:ext cx="23907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4427640" y="1197000"/>
                <a:ext cx="33019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]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I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k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1042920" y="3860640"/>
                <a:ext cx="75582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969840" y="5013360"/>
                <a:ext cx="817416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1116000" y="6093000"/>
                <a:ext cx="776592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  <m:r>
                              <m:t xml:space="preserve">°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356000" y="2565360"/>
                <a:ext cx="45896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sin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4427640" y="1916280"/>
                <a:ext cx="4443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24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1042920" y="907920"/>
                <a:ext cx="29797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ba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1619280" y="1484280"/>
                <a:ext cx="31258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4788000" y="1197000"/>
                <a:ext cx="1971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6732720" y="1413000"/>
                <a:ext cx="11109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971640" y="765000"/>
            <a:ext cx="7846920" cy="1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042920" y="2205000"/>
                <a:ext cx="30052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ba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13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619280" y="2708280"/>
                <a:ext cx="3349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32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32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4932360" y="2708280"/>
                <a:ext cx="25858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7613640" y="2711520"/>
                <a:ext cx="15303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1,3</m:t>
                            </m:r>
                            <m:r>
                              <m:t xml:space="preserve">+</m:t>
                            </m:r>
                            <m:r>
                              <m:t xml:space="preserve">1,5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1332000" y="3933720"/>
                <a:ext cx="34462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04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04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4716360" y="3933720"/>
                <a:ext cx="29322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7613640" y="3933720"/>
                <a:ext cx="1530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1,8</m:t>
                            </m:r>
                            <m:r>
                              <m:t xml:space="preserve">−</m:t>
                            </m:r>
                            <m:r>
                              <m:t xml:space="preserve">0,8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1042920" y="3429000"/>
                <a:ext cx="31543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ba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204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1038240" y="176040"/>
                <a:ext cx="796608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  <m:r>
                              <m:t xml:space="preserve">°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d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7861320" y="1484280"/>
                <a:ext cx="12826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042920" y="4653000"/>
                <a:ext cx="3102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ba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27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1763640" y="5157720"/>
                <a:ext cx="34243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76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76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219640" y="5157720"/>
                <a:ext cx="26622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7934400" y="5159520"/>
                <a:ext cx="12096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0,2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042920" y="5805360"/>
                <a:ext cx="31273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ba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348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763640" y="6237360"/>
                <a:ext cx="34257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48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48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5219640" y="6237360"/>
                <a:ext cx="273528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7935840" y="6165720"/>
                <a:ext cx="12081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0,4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6157800" y="2970360"/>
                <a:ext cx="6922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971640" y="83664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1116000" y="189000"/>
                <a:ext cx="80280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  <m:r>
                              <m:t xml:space="preserve">°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5078520" y="4554360"/>
                <a:ext cx="6919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133800" y="3330720"/>
                <a:ext cx="6919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3781440" y="4626000"/>
                <a:ext cx="6922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3997440" y="2538360"/>
                <a:ext cx="6904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149800" y="3112920"/>
                <a:ext cx="7160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3360600" y="3903840"/>
                <a:ext cx="6843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/>
          <p:nvPr/>
        </p:nvSpPr>
        <p:spPr>
          <a:xfrm>
            <a:off x="1044720" y="3903840"/>
            <a:ext cx="6840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4645080" y="1023840"/>
            <a:ext cx="0" cy="539928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31280" y="38052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718160" y="8082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79640" y="3876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880600" y="145728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413080" y="1671480"/>
            <a:ext cx="4535280" cy="446436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645080" y="1241280"/>
            <a:ext cx="1584360" cy="26625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2413080" y="3903840"/>
            <a:ext cx="2232000" cy="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209680" y="3976560"/>
                <a:ext cx="478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7" name=""/>
          <p:cNvSpPr/>
          <p:nvPr/>
        </p:nvSpPr>
        <p:spPr>
          <a:xfrm flipH="1" flipV="1" rot="10800000">
            <a:off x="2982240" y="2284200"/>
            <a:ext cx="3324960" cy="325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339" y="1529"/>
                </a:moveTo>
                <a:arcTo wR="10800" hR="10800" stAng="-3548637" swAng="3451436"/>
                <a:lnTo>
                  <a:pt x="10800" y="10800"/>
                </a:lnTo>
                <a:close/>
              </a:path>
              <a:path fill="none" w="21600" h="21600">
                <a:moveTo>
                  <a:pt x="16339" y="1529"/>
                </a:moveTo>
                <a:arcTo wR="10800" hR="10800" stAng="-3548637" swAng="3451436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4068720" y="5994360"/>
                <a:ext cx="476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6805440" y="3976560"/>
                <a:ext cx="2635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4716360" y="1527120"/>
                <a:ext cx="26532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 flipH="1" flipV="1" rot="10800000">
            <a:off x="2989440" y="2282040"/>
            <a:ext cx="3318480" cy="324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853" y="3486"/>
                </a:moveTo>
                <a:arcTo wR="10800" hR="10800" stAng="-8242524" swAng="4563101"/>
                <a:lnTo>
                  <a:pt x="10800" y="10800"/>
                </a:lnTo>
                <a:close/>
              </a:path>
              <a:path fill="none" w="21600" h="21600">
                <a:moveTo>
                  <a:pt x="2853" y="3486"/>
                </a:moveTo>
                <a:arcTo wR="10800" hR="10800" stAng="-8242524" swAng="4563101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 flipV="1">
            <a:off x="2269800" y="1746000"/>
            <a:ext cx="2374920" cy="21574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13320" y="160164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1836360" y="3903840"/>
            <a:ext cx="2808360" cy="12985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92600" y="4194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 flipV="1" rot="10800000">
            <a:off x="2989080" y="2297520"/>
            <a:ext cx="3317400" cy="325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9" y="15294"/>
                </a:moveTo>
                <a:arcTo wR="10800" hR="10800" stAng="9324636" swAng="4035172"/>
                <a:lnTo>
                  <a:pt x="10800" y="10800"/>
                </a:lnTo>
                <a:close/>
              </a:path>
              <a:path fill="none" w="21600" h="21600">
                <a:moveTo>
                  <a:pt x="979" y="15294"/>
                </a:moveTo>
                <a:arcTo wR="10800" hR="10800" stAng="9324636" swAng="4035172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45080" y="3903840"/>
            <a:ext cx="214200" cy="27651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872600" y="592308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 flipV="1" rot="10800000">
            <a:off x="2987280" y="2306160"/>
            <a:ext cx="3323520" cy="325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443" y="21581"/>
                </a:moveTo>
                <a:arcTo wR="10800" hR="10800" stAng="5195292" swAng="4190073"/>
                <a:lnTo>
                  <a:pt x="10800" y="10800"/>
                </a:lnTo>
                <a:close/>
              </a:path>
              <a:path fill="none" w="21600" h="21600">
                <a:moveTo>
                  <a:pt x="11443" y="21581"/>
                </a:moveTo>
                <a:arcTo wR="10800" hR="10800" stAng="5195292" swAng="4190073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4789080" y="4410000"/>
            <a:ext cx="2089080" cy="172872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2629080" y="2421000"/>
            <a:ext cx="358560" cy="227628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989440" y="1962000"/>
            <a:ext cx="2808000" cy="43200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29080" y="4842000"/>
            <a:ext cx="2160360" cy="129672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2917440" y="2322360"/>
            <a:ext cx="144720" cy="142920"/>
            <a:chOff x="2917440" y="2322360"/>
            <a:chExt cx="144720" cy="142920"/>
          </a:xfrm>
        </p:grpSpPr>
        <p:sp>
          <p:nvSpPr>
            <p:cNvPr id="435" name=""/>
            <p:cNvSpPr/>
            <p:nvPr/>
          </p:nvSpPr>
          <p:spPr>
            <a:xfrm>
              <a:off x="2917800" y="2322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917440" y="2322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2557080" y="4770360"/>
            <a:ext cx="144720" cy="142920"/>
            <a:chOff x="2557080" y="4770360"/>
            <a:chExt cx="144720" cy="142920"/>
          </a:xfrm>
        </p:grpSpPr>
        <p:sp>
          <p:nvSpPr>
            <p:cNvPr id="438" name=""/>
            <p:cNvSpPr/>
            <p:nvPr/>
          </p:nvSpPr>
          <p:spPr>
            <a:xfrm>
              <a:off x="2557440" y="4770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2557080" y="4770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4717800" y="6066000"/>
            <a:ext cx="144720" cy="142560"/>
            <a:chOff x="4717800" y="6066000"/>
            <a:chExt cx="144720" cy="142560"/>
          </a:xfrm>
        </p:grpSpPr>
        <p:sp>
          <p:nvSpPr>
            <p:cNvPr id="441" name=""/>
            <p:cNvSpPr/>
            <p:nvPr/>
          </p:nvSpPr>
          <p:spPr>
            <a:xfrm>
              <a:off x="4718160" y="606600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4717800" y="606600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 flipH="1" flipV="1" rot="10800000">
            <a:off x="2547720" y="1944360"/>
            <a:ext cx="4047480" cy="4065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521" y="1640"/>
                </a:moveTo>
                <a:arcTo wR="10800" hR="10800" stAng="-3480785" swAng="4079497"/>
                <a:lnTo>
                  <a:pt x="10800" y="10800"/>
                </a:lnTo>
                <a:close/>
              </a:path>
              <a:path fill="none" w="21600" h="21600">
                <a:moveTo>
                  <a:pt x="16521" y="1640"/>
                </a:moveTo>
                <a:arcTo wR="10800" hR="10800" stAng="-3480785" swAng="4079497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645080" y="3905280"/>
            <a:ext cx="3024000" cy="7207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 flipV="1" rot="10800000">
            <a:off x="3007080" y="2250720"/>
            <a:ext cx="3323520" cy="331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270" y="13448"/>
                </a:moveTo>
                <a:arcTo wR="10800" hR="10800" stAng="851548" swAng="4344455"/>
                <a:lnTo>
                  <a:pt x="10800" y="10800"/>
                </a:lnTo>
                <a:close/>
              </a:path>
              <a:path fill="none" w="21600" h="21600">
                <a:moveTo>
                  <a:pt x="21270" y="13448"/>
                </a:moveTo>
                <a:arcTo wR="10800" hR="10800" stAng="851548" swAng="4344455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961680" y="426564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97440" y="1962000"/>
            <a:ext cx="1081080" cy="244800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5725800" y="1889280"/>
            <a:ext cx="144720" cy="142560"/>
            <a:chOff x="5725800" y="1889280"/>
            <a:chExt cx="144720" cy="142560"/>
          </a:xfrm>
        </p:grpSpPr>
        <p:sp>
          <p:nvSpPr>
            <p:cNvPr id="449" name=""/>
            <p:cNvSpPr/>
            <p:nvPr/>
          </p:nvSpPr>
          <p:spPr>
            <a:xfrm>
              <a:off x="5726160" y="188928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5725800" y="188928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805440" y="4338720"/>
            <a:ext cx="144720" cy="142920"/>
            <a:chOff x="6805440" y="4338720"/>
            <a:chExt cx="144720" cy="142920"/>
          </a:xfrm>
        </p:grpSpPr>
        <p:sp>
          <p:nvSpPr>
            <p:cNvPr id="452" name=""/>
            <p:cNvSpPr/>
            <p:nvPr/>
          </p:nvSpPr>
          <p:spPr>
            <a:xfrm>
              <a:off x="6805440" y="4338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6805440" y="4338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000"/>
                            </p:stCondLst>
                            <p:childTnLst>
                              <p:par>
                                <p:cTn id="9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1000"/>
                            </p:stCondLst>
                            <p:childTnLst>
                              <p:par>
                                <p:cTn id="9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500"/>
                            </p:stCondLst>
                            <p:childTnLst>
                              <p:par>
                                <p:cTn id="10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500"/>
                            </p:stCondLst>
                            <p:childTnLst>
                              <p:par>
                                <p:cTn id="10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116000" y="549360"/>
                <a:ext cx="25592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1604880" y="1844640"/>
                <a:ext cx="7539120" cy="399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1116000" y="476280"/>
                <a:ext cx="22766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619280" y="1700280"/>
                <a:ext cx="6808680" cy="370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4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5:</m:t>
                            </m:r>
                          </m:e>
                        </m:bar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1116000" y="476280"/>
                <a:ext cx="22766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1668600" y="1700280"/>
                <a:ext cx="7475400" cy="39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1187280" y="476280"/>
                <a:ext cx="255600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619280" y="1773360"/>
                <a:ext cx="7251840" cy="30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4</m:t>
                            </m:r>
                            <m:r>
                              <m:t xml:space="preserve">,</m:t>
                            </m:r>
                            <m:r>
                              <m:t xml:space="preserve">5</m:t>
                            </m:r>
                            <m:r>
                              <m:t xml:space="preserve">:</m:t>
                            </m:r>
                          </m:e>
                        </m:bar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3</m:t>
                                  </m:r>
                                </m:e>
                              </m:rad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3</m:t>
                                  </m:r>
                                </m:e>
                              </m:rad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3</m:t>
                                  </m:r>
                                </m:e>
                              </m:rad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3</m:t>
                                  </m:r>
                                </m:e>
                              </m:rad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1116000" y="476280"/>
                <a:ext cx="22766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1692360" y="1773360"/>
                <a:ext cx="6773760" cy="35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45403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omická rovnice – příklad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i neřešené příklady s výsledky, včetně názorného postupu a grafického znázornění kořenů v Gaussově rovině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omická rovnice; Kořeny binomické rovnice; Grafické znázornění kořenů binomické rovni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1592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1028880" y="476280"/>
                <a:ext cx="24526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1692360" y="1700280"/>
                <a:ext cx="6807240" cy="41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4</m:t>
                            </m:r>
                            <m:r>
                              <m:t xml:space="preserve">,</m:t>
                            </m:r>
                            <m:r>
                              <m:t xml:space="preserve">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7:</m:t>
                            </m:r>
                          </m:e>
                        </m:bar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i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7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1060560" y="476280"/>
                <a:ext cx="24494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1776240" y="1700280"/>
                <a:ext cx="7188480" cy="32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:</m:t>
                            </m:r>
                          </m:e>
                        </m:bar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971640" y="476280"/>
                <a:ext cx="24494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1547640" y="1916280"/>
                <a:ext cx="7596360" cy="34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4</m:t>
                            </m:r>
                            <m:r>
                              <m:t xml:space="preserve">,</m:t>
                            </m:r>
                            <m:r>
                              <m:t xml:space="preserve">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7:</m:t>
                            </m:r>
                          </m:e>
                        </m:bar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=</m:t>
                                  </m:r>
                                </m:e>
                              </m:acc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24</m:t>
                              </m:r>
                              <m:r>
                                <m:t xml:space="preserve">+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83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=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24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83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=</m:t>
                                  </m:r>
                                </m:e>
                              </m:acc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83</m:t>
                              </m:r>
                              <m:r>
                                <m:t xml:space="preserve">+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24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=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8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24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=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83</m:t>
                              </m:r>
                              <m:r>
                                <m:t xml:space="preserve">+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24</m:t>
                              </m:r>
                              <m:r>
                                <m:t xml:space="preserve">i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=</m:t>
                                  </m:r>
                                </m:e>
                              </m:acc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8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24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=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24</m:t>
                              </m:r>
                              <m:r>
                                <m:t xml:space="preserve">+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83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7</m:t>
                                  </m:r>
                                </m:sub>
                              </m:sSub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=</m:t>
                                  </m:r>
                                </m:e>
                              </m:acc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24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83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1042920" y="476280"/>
                <a:ext cx="346392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1827360" y="1341360"/>
                <a:ext cx="731664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deg>
                            <m:r>
                              <m:t xml:space="preserve">5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042920" y="3429000"/>
                <a:ext cx="346392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1733400" y="4365720"/>
                <a:ext cx="741060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deg>
                            <m:r>
                              <m:t xml:space="preserve">5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1619280" y="1411200"/>
                <a:ext cx="752472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971640" y="476280"/>
                <a:ext cx="29750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971640" y="3500280"/>
                <a:ext cx="297504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1619280" y="4437000"/>
                <a:ext cx="7232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042920" y="1413000"/>
                <a:ext cx="23605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900000" y="189000"/>
            <a:ext cx="824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Řešte v C rovnice a jejich kořeny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znázorněte v Gaussově rovině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340000" y="2131920"/>
                <a:ext cx="16416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140360" y="2114640"/>
                <a:ext cx="48052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971640" y="3429000"/>
                <a:ext cx="79930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00000" y="4724280"/>
                <a:ext cx="82026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042920" y="5950080"/>
                <a:ext cx="80424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7812000" y="29242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vzore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51320" y="4653000"/>
            <a:ext cx="1439640" cy="1079640"/>
          </a:xfrm>
          <a:custGeom>
            <a:avLst/>
            <a:gdLst/>
            <a:ahLst/>
            <a:rect l="l" t="t" r="r" b="b"/>
            <a:pathLst>
              <a:path w="968" h="725">
                <a:moveTo>
                  <a:pt x="106" y="106"/>
                </a:moveTo>
                <a:cubicBezTo>
                  <a:pt x="46" y="212"/>
                  <a:pt x="0" y="575"/>
                  <a:pt x="106" y="650"/>
                </a:cubicBezTo>
                <a:cubicBezTo>
                  <a:pt x="212" y="725"/>
                  <a:pt x="605" y="650"/>
                  <a:pt x="741" y="559"/>
                </a:cubicBezTo>
                <a:cubicBezTo>
                  <a:pt x="877" y="468"/>
                  <a:pt x="968" y="197"/>
                  <a:pt x="923" y="106"/>
                </a:cubicBezTo>
                <a:cubicBezTo>
                  <a:pt x="878" y="15"/>
                  <a:pt x="605" y="23"/>
                  <a:pt x="469" y="15"/>
                </a:cubicBezTo>
                <a:cubicBezTo>
                  <a:pt x="333" y="7"/>
                  <a:pt x="166" y="0"/>
                  <a:pt x="106" y="106"/>
                </a:cubicBezTo>
                <a:close/>
              </a:path>
            </a:pathLst>
          </a:custGeom>
          <a:noFill/>
          <a:ln w="2844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46240" y="4629240"/>
            <a:ext cx="1152720" cy="960480"/>
          </a:xfrm>
          <a:custGeom>
            <a:avLst/>
            <a:gdLst/>
            <a:ahLst/>
            <a:rect l="l" t="t" r="r" b="b"/>
            <a:pathLst>
              <a:path w="861" h="605">
                <a:moveTo>
                  <a:pt x="68" y="60"/>
                </a:moveTo>
                <a:cubicBezTo>
                  <a:pt x="15" y="120"/>
                  <a:pt x="0" y="287"/>
                  <a:pt x="113" y="378"/>
                </a:cubicBezTo>
                <a:cubicBezTo>
                  <a:pt x="226" y="469"/>
                  <a:pt x="635" y="605"/>
                  <a:pt x="748" y="605"/>
                </a:cubicBezTo>
                <a:cubicBezTo>
                  <a:pt x="861" y="605"/>
                  <a:pt x="809" y="424"/>
                  <a:pt x="794" y="378"/>
                </a:cubicBezTo>
                <a:cubicBezTo>
                  <a:pt x="779" y="332"/>
                  <a:pt x="703" y="340"/>
                  <a:pt x="658" y="332"/>
                </a:cubicBezTo>
                <a:cubicBezTo>
                  <a:pt x="613" y="324"/>
                  <a:pt x="552" y="347"/>
                  <a:pt x="522" y="332"/>
                </a:cubicBezTo>
                <a:cubicBezTo>
                  <a:pt x="492" y="317"/>
                  <a:pt x="484" y="280"/>
                  <a:pt x="476" y="242"/>
                </a:cubicBezTo>
                <a:cubicBezTo>
                  <a:pt x="468" y="204"/>
                  <a:pt x="483" y="144"/>
                  <a:pt x="476" y="106"/>
                </a:cubicBezTo>
                <a:cubicBezTo>
                  <a:pt x="469" y="68"/>
                  <a:pt x="499" y="23"/>
                  <a:pt x="431" y="15"/>
                </a:cubicBezTo>
                <a:cubicBezTo>
                  <a:pt x="363" y="7"/>
                  <a:pt x="121" y="0"/>
                  <a:pt x="68" y="60"/>
                </a:cubicBezTo>
                <a:close/>
              </a:path>
            </a:pathLst>
          </a:custGeom>
          <a:noFill/>
          <a:ln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59280" y="2060640"/>
            <a:ext cx="136836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2448720" y="2169360"/>
            <a:ext cx="358560" cy="28728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1475640" y="4869720"/>
            <a:ext cx="287280" cy="28584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54" name=""/>
          <p:cNvCxnSpPr>
            <a:stCxn id="152" idx="3"/>
            <a:endCxn id="153" idx="4"/>
          </p:cNvCxnSpPr>
          <p:nvPr/>
        </p:nvCxnSpPr>
        <p:spPr>
          <a:xfrm flipV="1" rot="10800000">
            <a:off x="1463040" y="2187360"/>
            <a:ext cx="1050120" cy="2824560"/>
          </a:xfrm>
          <a:prstGeom prst="curvedConnector5">
            <a:avLst>
              <a:gd name="adj1" fmla="val 161865"/>
              <a:gd name="adj2" fmla="val 49993"/>
              <a:gd name="adj3" fmla="val 161865"/>
            </a:avLst>
          </a:prstGeom>
          <a:ln w="2844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</p:cxn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71640" y="69228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3440" y="8366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0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1413000"/>
            <a:ext cx="35020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= 4</a:t>
            </a:r>
            <a:r>
              <a:rPr b="0" lang="en-US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(cos4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sin4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73440" y="24210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73080" y="3009960"/>
            <a:ext cx="3832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= 4</a:t>
            </a:r>
            <a:r>
              <a:rPr b="0" lang="en-US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(cos13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sin13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73440" y="400536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71640" y="4579920"/>
            <a:ext cx="3832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= 4</a:t>
            </a:r>
            <a:r>
              <a:rPr b="0" lang="en-US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(cos22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sin22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29600" y="128520"/>
            <a:ext cx="798948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i="1" lang="cs-CZ" sz="2700" spc="-1" strike="noStrike" baseline="-25000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= 4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cos(45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90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sin(45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90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ffff00"/>
                </a:solidFill>
                <a:latin typeface="Times New Roman"/>
              </a:rPr>
              <a:t> = 0, 1, 2, 3</a:t>
            </a:r>
            <a:endParaRPr b="0" lang="en-US" sz="27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95440" y="83664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4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9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22440" y="836640"/>
            <a:ext cx="9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4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95440" y="242100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4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9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11000" y="242100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13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95440" y="400536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4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9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11000" y="400536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22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3440" y="5589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3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95440" y="558972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4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9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11000" y="558972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31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500720" y="1197000"/>
                <a:ext cx="222408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732720" y="1413000"/>
                <a:ext cx="17985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716360" y="2781360"/>
                <a:ext cx="244656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113600" y="2997360"/>
                <a:ext cx="20304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716360" y="4363920"/>
                <a:ext cx="244800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7093080" y="4579920"/>
                <a:ext cx="20034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788000" y="5877000"/>
                <a:ext cx="222408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020000" y="6093000"/>
                <a:ext cx="17985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1009800" y="6118200"/>
            <a:ext cx="3832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= 4</a:t>
            </a:r>
            <a:r>
              <a:rPr b="0" lang="en-US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(cos31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sin31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012000" y="4219560"/>
                <a:ext cx="6919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971640" y="77616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29240" y="115920"/>
            <a:ext cx="798984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i="1" lang="cs-CZ" sz="2700" spc="-1" strike="noStrike" baseline="-25000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700" spc="-1" strike="noStrike">
                <a:solidFill>
                  <a:srgbClr val="00ffff"/>
                </a:solidFill>
                <a:latin typeface="Times New Roman"/>
              </a:rPr>
              <a:t>4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cos(</a:t>
            </a:r>
            <a:r>
              <a:rPr b="0" lang="cs-CZ" sz="2700" spc="-1" strike="noStrike">
                <a:solidFill>
                  <a:srgbClr val="66ff33"/>
                </a:solidFill>
                <a:latin typeface="Times New Roman"/>
              </a:rPr>
              <a:t>45</a:t>
            </a:r>
            <a:r>
              <a:rPr b="0" lang="cs-CZ" sz="27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ff99ff"/>
                </a:solidFill>
                <a:latin typeface="Times New Roman"/>
              </a:rPr>
              <a:t>90</a:t>
            </a:r>
            <a:r>
              <a:rPr b="0" lang="cs-CZ" sz="2700" spc="-1" strike="noStrike">
                <a:solidFill>
                  <a:srgbClr val="ff99ff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sin(</a:t>
            </a:r>
            <a:r>
              <a:rPr b="0" lang="cs-CZ" sz="2700" spc="-1" strike="noStrike">
                <a:solidFill>
                  <a:srgbClr val="66ff33"/>
                </a:solidFill>
                <a:latin typeface="Times New Roman"/>
              </a:rPr>
              <a:t>45</a:t>
            </a:r>
            <a:r>
              <a:rPr b="0" lang="cs-CZ" sz="27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ff99ff"/>
                </a:solidFill>
                <a:latin typeface="Times New Roman"/>
              </a:rPr>
              <a:t>90</a:t>
            </a:r>
            <a:r>
              <a:rPr b="0" lang="cs-CZ" sz="2700" spc="-1" strike="noStrike">
                <a:solidFill>
                  <a:srgbClr val="ff99ff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= 0, 1, 2, 3</a:t>
            </a:r>
            <a:endParaRPr b="0" lang="en-US" sz="27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348000" y="3284640"/>
                <a:ext cx="6922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716360" y="4795920"/>
                <a:ext cx="6922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716360" y="2635200"/>
                <a:ext cx="6908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364000" y="3355920"/>
                <a:ext cx="7160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419640" y="4003560"/>
                <a:ext cx="7095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1116000" y="4003560"/>
            <a:ext cx="6840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716360" y="1123920"/>
            <a:ext cx="0" cy="539928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702920" y="39052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89800" y="9079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51280" y="3976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23520" y="16272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1771560"/>
            <a:ext cx="4535640" cy="446400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716360" y="1916280"/>
            <a:ext cx="2087640" cy="2087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484360" y="4003560"/>
            <a:ext cx="22320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268360" y="4076640"/>
                <a:ext cx="503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 flipH="1" flipV="1" rot="10800000">
            <a:off x="3053520" y="2383560"/>
            <a:ext cx="3324960" cy="325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416" y="3143"/>
                </a:moveTo>
                <a:arcTo wR="10800" hR="10800" stAng="-2709238" swAng="2612036"/>
                <a:lnTo>
                  <a:pt x="10800" y="10800"/>
                </a:lnTo>
                <a:close/>
              </a:path>
              <a:path fill="none" w="21600" h="21600">
                <a:moveTo>
                  <a:pt x="18416" y="3143"/>
                </a:moveTo>
                <a:arcTo wR="10800" hR="10800" stAng="-2709238" swAng="2612036"/>
              </a:path>
            </a:pathLst>
          </a:custGeom>
          <a:noFill/>
          <a:ln w="28440">
            <a:solidFill>
              <a:srgbClr val="66ff33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788000" y="6093000"/>
                <a:ext cx="503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6877080" y="4076640"/>
                <a:ext cx="263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788000" y="1627200"/>
                <a:ext cx="2649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 flipH="1" flipV="1" rot="10800000">
            <a:off x="3059640" y="2377440"/>
            <a:ext cx="3319560" cy="324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54" y="2883"/>
                </a:moveTo>
                <a:arcTo wR="10800" hR="10800" stAng="-7971639" swAng="5189766"/>
                <a:lnTo>
                  <a:pt x="10800" y="10800"/>
                </a:lnTo>
                <a:close/>
              </a:path>
              <a:path fill="none" w="21600" h="21600">
                <a:moveTo>
                  <a:pt x="3454" y="2883"/>
                </a:moveTo>
                <a:arcTo wR="10800" hR="10800" stAng="-7971639" swAng="5189766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2555640" y="1771560"/>
            <a:ext cx="2160360" cy="22320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27880" y="15559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916360" y="4003560"/>
            <a:ext cx="1800000" cy="2016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99160" y="55879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 rot="10800000">
            <a:off x="3060360" y="2397600"/>
            <a:ext cx="3317400" cy="325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56" y="18718"/>
                </a:moveTo>
                <a:arcTo wR="10800" hR="10800" stAng="7970826" swAng="5625317"/>
                <a:lnTo>
                  <a:pt x="10800" y="10800"/>
                </a:lnTo>
                <a:close/>
              </a:path>
              <a:path fill="none" w="21600" h="21600">
                <a:moveTo>
                  <a:pt x="3456" y="18718"/>
                </a:moveTo>
                <a:arcTo wR="10800" hR="10800" stAng="7970826" swAng="5625317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16360" y="4003560"/>
            <a:ext cx="2232000" cy="23050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23520" y="55879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 rot="10800000">
            <a:off x="3058560" y="2401560"/>
            <a:ext cx="3323520" cy="325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148" y="18715"/>
                </a:moveTo>
                <a:arcTo wR="10800" hR="10800" stAng="2827826" swAng="5071111"/>
                <a:lnTo>
                  <a:pt x="10800" y="10800"/>
                </a:lnTo>
                <a:close/>
              </a:path>
              <a:path fill="none" w="21600" h="21600">
                <a:moveTo>
                  <a:pt x="18148" y="18715"/>
                </a:moveTo>
                <a:arcTo wR="10800" hR="10800" stAng="2827826" swAng="5071111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00720" y="2419200"/>
            <a:ext cx="0" cy="324180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3640" y="2419200"/>
            <a:ext cx="0" cy="324180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03640" y="2419200"/>
            <a:ext cx="3097080" cy="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03640" y="5661000"/>
            <a:ext cx="3097080" cy="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227640" y="2347920"/>
            <a:ext cx="144720" cy="142920"/>
            <a:chOff x="6227640" y="2347920"/>
            <a:chExt cx="144720" cy="142920"/>
          </a:xfrm>
        </p:grpSpPr>
        <p:sp>
          <p:nvSpPr>
            <p:cNvPr id="217" name=""/>
            <p:cNvSpPr/>
            <p:nvPr/>
          </p:nvSpPr>
          <p:spPr>
            <a:xfrm>
              <a:off x="6227640" y="23479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227640" y="23479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32000" y="2347920"/>
            <a:ext cx="144720" cy="142920"/>
            <a:chOff x="3132000" y="2347920"/>
            <a:chExt cx="144720" cy="142920"/>
          </a:xfrm>
        </p:grpSpPr>
        <p:sp>
          <p:nvSpPr>
            <p:cNvPr id="220" name=""/>
            <p:cNvSpPr/>
            <p:nvPr/>
          </p:nvSpPr>
          <p:spPr>
            <a:xfrm>
              <a:off x="3132000" y="23479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3132000" y="23479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132000" y="5587920"/>
            <a:ext cx="144720" cy="142920"/>
            <a:chOff x="3132000" y="5587920"/>
            <a:chExt cx="144720" cy="142920"/>
          </a:xfrm>
        </p:grpSpPr>
        <p:sp>
          <p:nvSpPr>
            <p:cNvPr id="223" name=""/>
            <p:cNvSpPr/>
            <p:nvPr/>
          </p:nvSpPr>
          <p:spPr>
            <a:xfrm>
              <a:off x="3132000" y="55879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132000" y="55879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227640" y="5587920"/>
            <a:ext cx="144720" cy="142920"/>
            <a:chOff x="6227640" y="5587920"/>
            <a:chExt cx="144720" cy="142920"/>
          </a:xfrm>
        </p:grpSpPr>
        <p:sp>
          <p:nvSpPr>
            <p:cNvPr id="226" name=""/>
            <p:cNvSpPr/>
            <p:nvPr/>
          </p:nvSpPr>
          <p:spPr>
            <a:xfrm>
              <a:off x="6227640" y="55879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227640" y="55879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 flipH="1" flipV="1" rot="10800000">
            <a:off x="2618280" y="2044440"/>
            <a:ext cx="4048200" cy="406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416" y="3143"/>
                </a:moveTo>
                <a:arcTo wR="10800" hR="10800" stAng="-2709238" swAng="5339366"/>
                <a:lnTo>
                  <a:pt x="10800" y="10800"/>
                </a:lnTo>
                <a:close/>
              </a:path>
              <a:path fill="none" w="21600" h="21600">
                <a:moveTo>
                  <a:pt x="18416" y="3143"/>
                </a:moveTo>
                <a:arcTo wR="10800" hR="10800" stAng="-2709238" swAng="5339366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971640" y="189000"/>
                <a:ext cx="23605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338560" y="1341360"/>
                <a:ext cx="16714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116000" y="3571920"/>
                <a:ext cx="78138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200240" y="4797360"/>
                <a:ext cx="757548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2</m:t>
                        </m:r>
                      </m:deg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01600" y="5910120"/>
                <a:ext cx="80424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t xml:space="preserve">°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979640" y="836640"/>
                <a:ext cx="15238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4572000" y="2133720"/>
                <a:ext cx="308772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4211640" y="155736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ryze imaginární KČ záporné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12000" y="3068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vzore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08360" y="4797360"/>
            <a:ext cx="1295280" cy="1079640"/>
          </a:xfrm>
          <a:custGeom>
            <a:avLst/>
            <a:gdLst/>
            <a:ahLst/>
            <a:rect l="l" t="t" r="r" b="b"/>
            <a:pathLst>
              <a:path w="968" h="725">
                <a:moveTo>
                  <a:pt x="106" y="106"/>
                </a:moveTo>
                <a:cubicBezTo>
                  <a:pt x="46" y="212"/>
                  <a:pt x="0" y="575"/>
                  <a:pt x="106" y="650"/>
                </a:cubicBezTo>
                <a:cubicBezTo>
                  <a:pt x="212" y="725"/>
                  <a:pt x="605" y="650"/>
                  <a:pt x="741" y="559"/>
                </a:cubicBezTo>
                <a:cubicBezTo>
                  <a:pt x="877" y="468"/>
                  <a:pt x="968" y="197"/>
                  <a:pt x="923" y="106"/>
                </a:cubicBezTo>
                <a:cubicBezTo>
                  <a:pt x="878" y="15"/>
                  <a:pt x="605" y="23"/>
                  <a:pt x="469" y="15"/>
                </a:cubicBezTo>
                <a:cubicBezTo>
                  <a:pt x="333" y="7"/>
                  <a:pt x="166" y="0"/>
                  <a:pt x="106" y="106"/>
                </a:cubicBezTo>
                <a:close/>
              </a:path>
            </a:pathLst>
          </a:custGeom>
          <a:noFill/>
          <a:ln w="2844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4797360"/>
            <a:ext cx="1296720" cy="960480"/>
          </a:xfrm>
          <a:custGeom>
            <a:avLst/>
            <a:gdLst/>
            <a:ahLst/>
            <a:rect l="l" t="t" r="r" b="b"/>
            <a:pathLst>
              <a:path w="861" h="605">
                <a:moveTo>
                  <a:pt x="68" y="60"/>
                </a:moveTo>
                <a:cubicBezTo>
                  <a:pt x="15" y="120"/>
                  <a:pt x="0" y="287"/>
                  <a:pt x="113" y="378"/>
                </a:cubicBezTo>
                <a:cubicBezTo>
                  <a:pt x="226" y="469"/>
                  <a:pt x="635" y="605"/>
                  <a:pt x="748" y="605"/>
                </a:cubicBezTo>
                <a:cubicBezTo>
                  <a:pt x="861" y="605"/>
                  <a:pt x="809" y="424"/>
                  <a:pt x="794" y="378"/>
                </a:cubicBezTo>
                <a:cubicBezTo>
                  <a:pt x="779" y="332"/>
                  <a:pt x="703" y="340"/>
                  <a:pt x="658" y="332"/>
                </a:cubicBezTo>
                <a:cubicBezTo>
                  <a:pt x="613" y="324"/>
                  <a:pt x="552" y="347"/>
                  <a:pt x="522" y="332"/>
                </a:cubicBezTo>
                <a:cubicBezTo>
                  <a:pt x="492" y="317"/>
                  <a:pt x="484" y="280"/>
                  <a:pt x="476" y="242"/>
                </a:cubicBezTo>
                <a:cubicBezTo>
                  <a:pt x="468" y="204"/>
                  <a:pt x="483" y="144"/>
                  <a:pt x="476" y="106"/>
                </a:cubicBezTo>
                <a:cubicBezTo>
                  <a:pt x="469" y="68"/>
                  <a:pt x="499" y="23"/>
                  <a:pt x="431" y="15"/>
                </a:cubicBezTo>
                <a:cubicBezTo>
                  <a:pt x="363" y="7"/>
                  <a:pt x="121" y="0"/>
                  <a:pt x="68" y="60"/>
                </a:cubicBezTo>
                <a:close/>
              </a:path>
            </a:pathLst>
          </a:custGeom>
          <a:noFill/>
          <a:ln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2484000" y="1555920"/>
            <a:ext cx="358920" cy="21564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1762560" y="5085360"/>
            <a:ext cx="287640" cy="28584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59280" y="1341360"/>
            <a:ext cx="1511280" cy="935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0" idx="4"/>
            <a:endCxn id="241" idx="4"/>
          </p:cNvCxnSpPr>
          <p:nvPr/>
        </p:nvCxnSpPr>
        <p:spPr>
          <a:xfrm flipV="1" rot="10800000">
            <a:off x="1750320" y="1663200"/>
            <a:ext cx="791280" cy="3564720"/>
          </a:xfrm>
          <a:prstGeom prst="curvedConnector5">
            <a:avLst>
              <a:gd name="adj1" fmla="val 127309"/>
              <a:gd name="adj2" fmla="val 49994"/>
              <a:gd name="adj3" fmla="val 127309"/>
            </a:avLst>
          </a:prstGeom>
          <a:ln w="2844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</p:cxnSp>
    </p:spTree>
  </p:cSld>
  <p:transition>
    <p:pull dir="l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643280" y="1989000"/>
                <a:ext cx="266868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7267680" y="2060640"/>
                <a:ext cx="18763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971640" y="119700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4716360" y="4437000"/>
                <a:ext cx="243684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164360" y="4437000"/>
                <a:ext cx="16448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476360" y="189000"/>
                <a:ext cx="2779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938520" y="260280"/>
            <a:ext cx="807624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i="1" lang="cs-CZ" sz="2700" spc="-1" strike="noStrike" baseline="-25000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=   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cos(135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180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sin(135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180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ffff00"/>
                </a:solidFill>
                <a:latin typeface="Times New Roman"/>
              </a:rPr>
              <a:t> = 0, 1</a:t>
            </a:r>
            <a:endParaRPr b="0" lang="en-US" sz="27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01800" y="14130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0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00000" y="2205000"/>
            <a:ext cx="45370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=   </a:t>
            </a:r>
            <a:r>
              <a:rPr b="0" lang="en-US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(cos13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sin13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23440" y="1413000"/>
            <a:ext cx="22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13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8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60120" y="141300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13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547640" y="2133720"/>
                <a:ext cx="2494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973440" y="3933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71640" y="4726080"/>
            <a:ext cx="45370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=   </a:t>
            </a:r>
            <a:r>
              <a:rPr b="0" lang="en-US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(cos31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sin31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395080" y="3933720"/>
            <a:ext cx="22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13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8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69560" y="393372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31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619280" y="4653000"/>
                <a:ext cx="2491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476360" y="189000"/>
                <a:ext cx="3049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971640" y="105264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38520" y="260280"/>
            <a:ext cx="807624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i="1" lang="cs-CZ" sz="2700" spc="-1" strike="noStrike" baseline="-25000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7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cos(</a:t>
            </a:r>
            <a:r>
              <a:rPr b="0" lang="cs-CZ" sz="2700" spc="-1" strike="noStrike">
                <a:solidFill>
                  <a:srgbClr val="66ff33"/>
                </a:solidFill>
                <a:latin typeface="Times New Roman"/>
              </a:rPr>
              <a:t>135</a:t>
            </a:r>
            <a:r>
              <a:rPr b="0" lang="cs-CZ" sz="27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ff99ff"/>
                </a:solidFill>
                <a:latin typeface="Times New Roman"/>
              </a:rPr>
              <a:t>180</a:t>
            </a:r>
            <a:r>
              <a:rPr b="0" lang="cs-CZ" sz="2700" spc="-1" strike="noStrike">
                <a:solidFill>
                  <a:srgbClr val="ff99ff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sin(</a:t>
            </a:r>
            <a:r>
              <a:rPr b="0" lang="cs-CZ" sz="2700" spc="-1" strike="noStrike">
                <a:solidFill>
                  <a:srgbClr val="66ff33"/>
                </a:solidFill>
                <a:latin typeface="Times New Roman"/>
              </a:rPr>
              <a:t>135</a:t>
            </a:r>
            <a:r>
              <a:rPr b="0" lang="cs-CZ" sz="27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ff99ff"/>
                </a:solidFill>
                <a:latin typeface="Times New Roman"/>
              </a:rPr>
              <a:t>180</a:t>
            </a:r>
            <a:r>
              <a:rPr b="0" lang="cs-CZ" sz="2700" spc="-1" strike="noStrike">
                <a:solidFill>
                  <a:srgbClr val="ff99ff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= 0, 1</a:t>
            </a:r>
            <a:endParaRPr b="0" lang="en-US" sz="27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651640" y="4149720"/>
                <a:ext cx="9381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851280" y="4941720"/>
                <a:ext cx="9367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716360" y="2924280"/>
                <a:ext cx="8953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3132000" y="3213000"/>
                <a:ext cx="76068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1116000" y="4003560"/>
            <a:ext cx="6840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716360" y="1123920"/>
            <a:ext cx="0" cy="539928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702920" y="39052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789800" y="9079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51280" y="3976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27880" y="155736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84360" y="1771560"/>
            <a:ext cx="4535640" cy="446400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2771640" y="1989000"/>
            <a:ext cx="1944720" cy="20145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484360" y="4003560"/>
            <a:ext cx="22320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2268360" y="4149720"/>
                <a:ext cx="5572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 flipH="1" flipV="1" rot="10800000">
            <a:off x="3053520" y="2387160"/>
            <a:ext cx="3326040" cy="325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64" y="2874"/>
                </a:moveTo>
                <a:arcTo wR="10800" hR="10800" stAng="-7967118" swAng="7869916"/>
                <a:lnTo>
                  <a:pt x="10800" y="10800"/>
                </a:lnTo>
                <a:close/>
              </a:path>
              <a:path fill="none" w="21600" h="21600">
                <a:moveTo>
                  <a:pt x="3464" y="2874"/>
                </a:moveTo>
                <a:arcTo wR="10800" hR="10800" stAng="-7967118" swAng="7869916"/>
              </a:path>
            </a:pathLst>
          </a:custGeom>
          <a:noFill/>
          <a:ln w="28440">
            <a:solidFill>
              <a:srgbClr val="66ff33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788000" y="5877000"/>
                <a:ext cx="5572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6877080" y="4076640"/>
                <a:ext cx="3175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4788000" y="1484280"/>
                <a:ext cx="3189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 flipH="1" flipV="1" rot="10800000">
            <a:off x="3058920" y="2379240"/>
            <a:ext cx="3320280" cy="324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95" y="21596"/>
                </a:moveTo>
                <a:arcTo wR="10800" hR="10800" stAng="5497190" swAng="8147509"/>
                <a:lnTo>
                  <a:pt x="10800" y="10800"/>
                </a:lnTo>
                <a:close/>
              </a:path>
              <a:path fill="none" w="21600" h="21600">
                <a:moveTo>
                  <a:pt x="10495" y="21596"/>
                </a:moveTo>
                <a:arcTo wR="10800" hR="10800" stAng="5497190" swAng="8147509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16360" y="4003560"/>
            <a:ext cx="1943280" cy="20178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455160" y="530064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 rot="10800000">
            <a:off x="2779560" y="2133000"/>
            <a:ext cx="3879000" cy="368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4" y="0"/>
                </a:moveTo>
                <a:arcTo wR="10800" hR="10800" stAng="-5414668" swAng="8297766"/>
                <a:lnTo>
                  <a:pt x="10800" y="10800"/>
                </a:lnTo>
                <a:close/>
              </a:path>
              <a:path fill="none" w="21600" h="21600">
                <a:moveTo>
                  <a:pt x="10754" y="0"/>
                </a:moveTo>
                <a:arcTo wR="10800" hR="10800" stAng="-5414668" swAng="8297766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 flipV="1" rot="10800000">
            <a:off x="3100320" y="2252520"/>
            <a:ext cx="3321720" cy="336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975" y="18872"/>
                </a:moveTo>
                <a:arcTo wR="10800" hR="10800" stAng="2901907" swAng="2592957"/>
                <a:lnTo>
                  <a:pt x="10800" y="10800"/>
                </a:lnTo>
                <a:close/>
              </a:path>
              <a:path fill="none" w="21600" h="21600">
                <a:moveTo>
                  <a:pt x="17975" y="18872"/>
                </a:moveTo>
                <a:arcTo wR="10800" hR="10800" stAng="2901907" swAng="2592957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 rot="10800000">
            <a:off x="2785680" y="2131560"/>
            <a:ext cx="3877200" cy="36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3" y="2810"/>
                </a:moveTo>
                <a:arcTo wR="10800" hR="10800" stAng="-7937273" swAng="2509183"/>
                <a:lnTo>
                  <a:pt x="10800" y="10800"/>
                </a:lnTo>
                <a:close/>
              </a:path>
              <a:path fill="none" w="21600" h="21600">
                <a:moveTo>
                  <a:pt x="3533" y="2810"/>
                </a:moveTo>
                <a:arcTo wR="10800" hR="10800" stAng="-7937273" swAng="2509183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3640" y="2419200"/>
            <a:ext cx="3097080" cy="324180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132000" y="2349360"/>
            <a:ext cx="144720" cy="142920"/>
            <a:chOff x="3132000" y="2349360"/>
            <a:chExt cx="144720" cy="142920"/>
          </a:xfrm>
        </p:grpSpPr>
        <p:sp>
          <p:nvSpPr>
            <p:cNvPr id="290" name=""/>
            <p:cNvSpPr/>
            <p:nvPr/>
          </p:nvSpPr>
          <p:spPr>
            <a:xfrm>
              <a:off x="3132000" y="234936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3132000" y="234936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6227640" y="5589720"/>
            <a:ext cx="144720" cy="142920"/>
            <a:chOff x="6227640" y="5589720"/>
            <a:chExt cx="144720" cy="142920"/>
          </a:xfrm>
        </p:grpSpPr>
        <p:sp>
          <p:nvSpPr>
            <p:cNvPr id="293" name=""/>
            <p:cNvSpPr/>
            <p:nvPr/>
          </p:nvSpPr>
          <p:spPr>
            <a:xfrm>
              <a:off x="6227640" y="5589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6227640" y="5589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116000" y="333360"/>
                <a:ext cx="20019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124000" y="982800"/>
                <a:ext cx="95580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116000" y="4653000"/>
                <a:ext cx="777708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1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187280" y="5950080"/>
                <a:ext cx="7705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116000" y="3284640"/>
                <a:ext cx="78138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3851280" y="1844640"/>
                <a:ext cx="2546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3492360" y="1052640"/>
            <a:ext cx="56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ryze imaginární KČ kladné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812000" y="278136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vzore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268360" y="1052280"/>
            <a:ext cx="358920" cy="21600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5400000">
            <a:off x="1727280" y="4833720"/>
            <a:ext cx="287280" cy="21456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43280" y="981000"/>
            <a:ext cx="1008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06" name=""/>
          <p:cNvCxnSpPr>
            <a:stCxn id="303" idx="4"/>
            <a:endCxn id="304" idx="4"/>
          </p:cNvCxnSpPr>
          <p:nvPr/>
        </p:nvCxnSpPr>
        <p:spPr>
          <a:xfrm flipV="1" rot="10800000">
            <a:off x="1751760" y="1159560"/>
            <a:ext cx="573840" cy="3781800"/>
          </a:xfrm>
          <a:prstGeom prst="curvedConnector5">
            <a:avLst>
              <a:gd name="adj1" fmla="val 265913"/>
              <a:gd name="adj2" fmla="val 50000"/>
              <a:gd name="adj3" fmla="val 265913"/>
            </a:avLst>
          </a:prstGeom>
          <a:ln w="2844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</p:cxnSp>
    </p:spTree>
  </p:cSld>
  <p:transition>
    <p:pull dir="l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6:29Z</dcterms:modified>
  <cp:revision>297</cp:revision>
  <dc:subject/>
  <dc:title>KČ</dc:title>
</cp:coreProperties>
</file>