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4A86-C83E-4BC5-A6F7-29D618EF4B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7D66-51FE-41A1-AE82-43083E2579E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159A-38AE-4D4A-8386-1D65CC80B2B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180C-8606-488D-9509-C74FDD25980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34F9-04D6-48CF-9CE9-7ABB508C6B8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12D-3DD2-4B99-858D-9AEAD0F6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D0BB-FFE1-4625-9BAF-95DB0B7F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1A0C-96A4-4DA5-A697-6B08038E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2F6D-3BF2-467C-AE32-66A2271F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7E4F-872B-4028-9873-9D16950D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B694-F44E-473B-AB28-716C3985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C821-76D1-47E4-8B0B-D8ACC848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50DB-189F-46F0-801E-7CD3ADDA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2206-440C-40A2-9B5E-9AFB1F1B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1085-571E-49C7-A85D-987732EE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F1BD-9370-4E23-B127-9280A081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C7D0-2606-4B3D-88B7-9CC925FD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6008-55E2-4071-9120-AFA02212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3FB7-CBD0-44EF-AAB4-BD6FE94E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3505-F7E5-4167-BF05-D1483B16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FFDF-3A74-42FC-AA27-E1D4F39C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F45E-700A-494F-B41B-9B71D593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4931-D929-49F6-8080-CAE62118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2FC-1741-4EB5-9109-4116F65C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406C-30F8-4837-BC8D-1DADEE00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6166-EF17-4655-A0ED-EB52EF6F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3AB1-157B-482C-B267-020512BF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838-B93B-42FF-824D-6708442F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F074-F267-44EF-882D-DBDA799D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EB9F-91B5-4AE7-A22D-CDDD645AB07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1342-9EEB-4F6D-B7B6-F1400B78F4D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 1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logaritm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3"/>
              <p:cNvSpPr txBox="1"/>
              <p:nvPr/>
            </p:nvSpPr>
            <p:spPr>
              <a:xfrm>
                <a:off x="1116000" y="981000"/>
                <a:ext cx="11826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3"/>
              <p:cNvSpPr txBox="1"/>
              <p:nvPr/>
            </p:nvSpPr>
            <p:spPr>
              <a:xfrm>
                <a:off x="1187280" y="1773360"/>
                <a:ext cx="11527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1187280" y="2565360"/>
                <a:ext cx="1151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1187280" y="3357720"/>
                <a:ext cx="115272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3"/>
              <p:cNvSpPr txBox="1"/>
              <p:nvPr/>
            </p:nvSpPr>
            <p:spPr>
              <a:xfrm>
                <a:off x="2556000" y="981000"/>
                <a:ext cx="75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2556000" y="1773360"/>
                <a:ext cx="7570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3"/>
              <p:cNvSpPr txBox="1"/>
              <p:nvPr/>
            </p:nvSpPr>
            <p:spPr>
              <a:xfrm>
                <a:off x="2556000" y="2565360"/>
                <a:ext cx="726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2556000" y="3357720"/>
                <a:ext cx="9698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3"/>
              <p:cNvSpPr txBox="1"/>
              <p:nvPr/>
            </p:nvSpPr>
            <p:spPr>
              <a:xfrm>
                <a:off x="1187280" y="4149720"/>
                <a:ext cx="12430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2556000" y="4365720"/>
                <a:ext cx="939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4788000" y="5373720"/>
                <a:ext cx="13032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3"/>
              <p:cNvSpPr txBox="1"/>
              <p:nvPr/>
            </p:nvSpPr>
            <p:spPr>
              <a:xfrm>
                <a:off x="1258920" y="6021360"/>
                <a:ext cx="10605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5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3"/>
              <p:cNvSpPr txBox="1"/>
              <p:nvPr/>
            </p:nvSpPr>
            <p:spPr>
              <a:xfrm>
                <a:off x="4788000" y="981000"/>
                <a:ext cx="14540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3"/>
              <p:cNvSpPr txBox="1"/>
              <p:nvPr/>
            </p:nvSpPr>
            <p:spPr>
              <a:xfrm>
                <a:off x="4788000" y="1773360"/>
                <a:ext cx="16365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2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3"/>
              <p:cNvSpPr txBox="1"/>
              <p:nvPr/>
            </p:nvSpPr>
            <p:spPr>
              <a:xfrm>
                <a:off x="1187280" y="5300640"/>
                <a:ext cx="9097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3"/>
              <p:cNvSpPr txBox="1"/>
              <p:nvPr/>
            </p:nvSpPr>
            <p:spPr>
              <a:xfrm>
                <a:off x="4788000" y="3357720"/>
                <a:ext cx="768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6372360" y="5373720"/>
                <a:ext cx="75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"/>
              <p:cNvSpPr txBox="1"/>
              <p:nvPr/>
            </p:nvSpPr>
            <p:spPr>
              <a:xfrm>
                <a:off x="2556000" y="6021360"/>
                <a:ext cx="75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3"/>
              <p:cNvSpPr txBox="1"/>
              <p:nvPr/>
            </p:nvSpPr>
            <p:spPr>
              <a:xfrm>
                <a:off x="6372360" y="1773360"/>
                <a:ext cx="9698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2771640" y="5300640"/>
                <a:ext cx="514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4716360" y="4724280"/>
                <a:ext cx="15782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 0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4788000" y="2565360"/>
                <a:ext cx="9381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6372360" y="2565360"/>
                <a:ext cx="6951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4788000" y="4076640"/>
                <a:ext cx="5140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3"/>
              <p:cNvSpPr txBox="1"/>
              <p:nvPr/>
            </p:nvSpPr>
            <p:spPr>
              <a:xfrm>
                <a:off x="6535800" y="4076640"/>
                <a:ext cx="5745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3"/>
              <p:cNvSpPr txBox="1"/>
              <p:nvPr/>
            </p:nvSpPr>
            <p:spPr>
              <a:xfrm>
                <a:off x="6516720" y="4724280"/>
                <a:ext cx="745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4772160" y="6076800"/>
                <a:ext cx="566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3"/>
              <p:cNvSpPr txBox="1"/>
              <p:nvPr/>
            </p:nvSpPr>
            <p:spPr>
              <a:xfrm>
                <a:off x="6502320" y="6076800"/>
                <a:ext cx="5256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2" name="Rectangle 3"/>
          <p:cNvSpPr/>
          <p:nvPr/>
        </p:nvSpPr>
        <p:spPr>
          <a:xfrm>
            <a:off x="6516720" y="981000"/>
            <a:ext cx="2627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ení definován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6516720" y="3357720"/>
            <a:ext cx="2627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není definován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Object 3"/>
              <p:cNvSpPr txBox="1"/>
              <p:nvPr/>
            </p:nvSpPr>
            <p:spPr>
              <a:xfrm>
                <a:off x="7667640" y="1125360"/>
                <a:ext cx="969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5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Vypočtět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3"/>
              <p:cNvSpPr txBox="1"/>
              <p:nvPr/>
            </p:nvSpPr>
            <p:spPr>
              <a:xfrm>
                <a:off x="1258920" y="907920"/>
                <a:ext cx="43354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3"/>
              <p:cNvSpPr txBox="1"/>
              <p:nvPr/>
            </p:nvSpPr>
            <p:spPr>
              <a:xfrm>
                <a:off x="1332000" y="4149720"/>
                <a:ext cx="39988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3"/>
              <p:cNvSpPr txBox="1"/>
              <p:nvPr/>
            </p:nvSpPr>
            <p:spPr>
              <a:xfrm>
                <a:off x="5435640" y="1125360"/>
                <a:ext cx="7272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7740720" y="4365720"/>
                <a:ext cx="728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3"/>
              <p:cNvSpPr txBox="1"/>
              <p:nvPr/>
            </p:nvSpPr>
            <p:spPr>
              <a:xfrm>
                <a:off x="1258920" y="6093000"/>
                <a:ext cx="62085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log0,1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log0,01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3"/>
              <p:cNvSpPr txBox="1"/>
              <p:nvPr/>
            </p:nvSpPr>
            <p:spPr>
              <a:xfrm>
                <a:off x="7885080" y="6165720"/>
                <a:ext cx="59076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3"/>
              <p:cNvSpPr txBox="1"/>
              <p:nvPr/>
            </p:nvSpPr>
            <p:spPr>
              <a:xfrm>
                <a:off x="1258920" y="5084640"/>
                <a:ext cx="51512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0,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3"/>
              <p:cNvSpPr txBox="1"/>
              <p:nvPr/>
            </p:nvSpPr>
            <p:spPr>
              <a:xfrm>
                <a:off x="7740720" y="5300640"/>
                <a:ext cx="728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3"/>
              <p:cNvSpPr txBox="1"/>
              <p:nvPr/>
            </p:nvSpPr>
            <p:spPr>
              <a:xfrm>
                <a:off x="1403280" y="1844640"/>
                <a:ext cx="11509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3"/>
              <p:cNvSpPr txBox="1"/>
              <p:nvPr/>
            </p:nvSpPr>
            <p:spPr>
              <a:xfrm>
                <a:off x="1403280" y="2421000"/>
                <a:ext cx="1150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3"/>
              <p:cNvSpPr txBox="1"/>
              <p:nvPr/>
            </p:nvSpPr>
            <p:spPr>
              <a:xfrm>
                <a:off x="2916360" y="1844640"/>
                <a:ext cx="14540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2916360" y="2852640"/>
                <a:ext cx="1272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"/>
              <p:cNvSpPr txBox="1"/>
              <p:nvPr/>
            </p:nvSpPr>
            <p:spPr>
              <a:xfrm>
                <a:off x="6300720" y="1125360"/>
                <a:ext cx="908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"/>
              <p:cNvSpPr txBox="1"/>
              <p:nvPr/>
            </p:nvSpPr>
            <p:spPr>
              <a:xfrm>
                <a:off x="5003640" y="1628640"/>
                <a:ext cx="2127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"/>
              <p:cNvSpPr txBox="1"/>
              <p:nvPr/>
            </p:nvSpPr>
            <p:spPr>
              <a:xfrm>
                <a:off x="1533600" y="3024360"/>
                <a:ext cx="877680" cy="48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3"/>
              <p:cNvSpPr txBox="1"/>
              <p:nvPr/>
            </p:nvSpPr>
            <p:spPr>
              <a:xfrm>
                <a:off x="3060720" y="3429000"/>
                <a:ext cx="1060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6012000" y="1125360"/>
                <a:ext cx="455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3"/>
              <p:cNvSpPr txBox="1"/>
              <p:nvPr/>
            </p:nvSpPr>
            <p:spPr>
              <a:xfrm>
                <a:off x="7005600" y="1125360"/>
                <a:ext cx="485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4" name="Group 31"/>
          <p:cNvGrpSpPr/>
          <p:nvPr/>
        </p:nvGrpSpPr>
        <p:grpSpPr>
          <a:xfrm>
            <a:off x="2627280" y="836280"/>
            <a:ext cx="3673440" cy="287640"/>
            <a:chOff x="2627280" y="836280"/>
            <a:chExt cx="3673440" cy="287640"/>
          </a:xfrm>
        </p:grpSpPr>
        <p:sp>
          <p:nvSpPr>
            <p:cNvPr id="315" name="Line 25"/>
            <p:cNvSpPr/>
            <p:nvPr/>
          </p:nvSpPr>
          <p:spPr>
            <a:xfrm flipV="1">
              <a:off x="2627280" y="836280"/>
              <a:ext cx="0" cy="2156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26"/>
            <p:cNvSpPr/>
            <p:nvPr/>
          </p:nvSpPr>
          <p:spPr>
            <a:xfrm>
              <a:off x="2627280" y="836640"/>
              <a:ext cx="3673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27"/>
            <p:cNvSpPr/>
            <p:nvPr/>
          </p:nvSpPr>
          <p:spPr>
            <a:xfrm>
              <a:off x="6300720" y="83664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8" name="Group 32"/>
          <p:cNvGrpSpPr/>
          <p:nvPr/>
        </p:nvGrpSpPr>
        <p:grpSpPr>
          <a:xfrm>
            <a:off x="4427640" y="907920"/>
            <a:ext cx="2881080" cy="287640"/>
            <a:chOff x="4427640" y="907920"/>
            <a:chExt cx="2881080" cy="287640"/>
          </a:xfrm>
        </p:grpSpPr>
        <p:sp>
          <p:nvSpPr>
            <p:cNvPr id="319" name="Line 28"/>
            <p:cNvSpPr/>
            <p:nvPr/>
          </p:nvSpPr>
          <p:spPr>
            <a:xfrm flipV="1">
              <a:off x="4427640" y="907920"/>
              <a:ext cx="0" cy="21600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4427640" y="907920"/>
              <a:ext cx="28810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7308720" y="907920"/>
              <a:ext cx="0" cy="2876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7364520" y="1125360"/>
                <a:ext cx="395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argument logaritmu,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3"/>
              <p:cNvSpPr txBox="1"/>
              <p:nvPr/>
            </p:nvSpPr>
            <p:spPr>
              <a:xfrm>
                <a:off x="1316160" y="1881360"/>
                <a:ext cx="1730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3"/>
              <p:cNvSpPr txBox="1"/>
              <p:nvPr/>
            </p:nvSpPr>
            <p:spPr>
              <a:xfrm>
                <a:off x="1332000" y="1052640"/>
                <a:ext cx="14857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1332000" y="2708280"/>
                <a:ext cx="14554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3"/>
              <p:cNvSpPr txBox="1"/>
              <p:nvPr/>
            </p:nvSpPr>
            <p:spPr>
              <a:xfrm>
                <a:off x="1332000" y="3500280"/>
                <a:ext cx="16682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,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Object 3"/>
              <p:cNvSpPr txBox="1"/>
              <p:nvPr/>
            </p:nvSpPr>
            <p:spPr>
              <a:xfrm>
                <a:off x="3780000" y="1052640"/>
                <a:ext cx="11826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3"/>
              <p:cNvSpPr txBox="1"/>
              <p:nvPr/>
            </p:nvSpPr>
            <p:spPr>
              <a:xfrm>
                <a:off x="3780000" y="1627200"/>
                <a:ext cx="14270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3780000" y="2708280"/>
                <a:ext cx="1031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3"/>
              <p:cNvSpPr txBox="1"/>
              <p:nvPr/>
            </p:nvSpPr>
            <p:spPr>
              <a:xfrm>
                <a:off x="3780000" y="3500280"/>
                <a:ext cx="971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3"/>
              <p:cNvSpPr txBox="1"/>
              <p:nvPr/>
            </p:nvSpPr>
            <p:spPr>
              <a:xfrm>
                <a:off x="1332000" y="4149720"/>
                <a:ext cx="1547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3"/>
              <p:cNvSpPr txBox="1"/>
              <p:nvPr/>
            </p:nvSpPr>
            <p:spPr>
              <a:xfrm>
                <a:off x="3780000" y="4292640"/>
                <a:ext cx="13046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1332000" y="5229360"/>
                <a:ext cx="11221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3"/>
              <p:cNvSpPr txBox="1"/>
              <p:nvPr/>
            </p:nvSpPr>
            <p:spPr>
              <a:xfrm>
                <a:off x="1332000" y="6021360"/>
                <a:ext cx="14857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3924360" y="5084640"/>
                <a:ext cx="10015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3924360" y="5734080"/>
                <a:ext cx="26114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971640" y="260280"/>
            <a:ext cx="817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základ logaritmu 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+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,          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3"/>
              <p:cNvSpPr txBox="1"/>
              <p:nvPr/>
            </p:nvSpPr>
            <p:spPr>
              <a:xfrm>
                <a:off x="1116000" y="1773360"/>
                <a:ext cx="1882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25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Rectangle 3"/>
          <p:cNvSpPr/>
          <p:nvPr/>
        </p:nvSpPr>
        <p:spPr>
          <a:xfrm>
            <a:off x="3203640" y="3573360"/>
            <a:ext cx="3058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úloha nemá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3"/>
              <p:cNvSpPr txBox="1"/>
              <p:nvPr/>
            </p:nvSpPr>
            <p:spPr>
              <a:xfrm>
                <a:off x="1112760" y="2637000"/>
                <a:ext cx="191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3"/>
              <p:cNvSpPr txBox="1"/>
              <p:nvPr/>
            </p:nvSpPr>
            <p:spPr>
              <a:xfrm>
                <a:off x="1112760" y="3573360"/>
                <a:ext cx="1519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3"/>
              <p:cNvSpPr txBox="1"/>
              <p:nvPr/>
            </p:nvSpPr>
            <p:spPr>
              <a:xfrm>
                <a:off x="3059280" y="1773360"/>
                <a:ext cx="1029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3"/>
              <p:cNvSpPr txBox="1"/>
              <p:nvPr/>
            </p:nvSpPr>
            <p:spPr>
              <a:xfrm>
                <a:off x="3059280" y="2421000"/>
                <a:ext cx="10904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1112760" y="4365720"/>
                <a:ext cx="15494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3059280" y="4365720"/>
                <a:ext cx="10904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3"/>
              <p:cNvSpPr txBox="1"/>
              <p:nvPr/>
            </p:nvSpPr>
            <p:spPr>
              <a:xfrm>
                <a:off x="1116000" y="5589720"/>
                <a:ext cx="17906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3"/>
              <p:cNvSpPr txBox="1"/>
              <p:nvPr/>
            </p:nvSpPr>
            <p:spPr>
              <a:xfrm>
                <a:off x="5724360" y="1773360"/>
                <a:ext cx="14576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3"/>
              <p:cNvSpPr txBox="1"/>
              <p:nvPr/>
            </p:nvSpPr>
            <p:spPr>
              <a:xfrm>
                <a:off x="5724360" y="2637000"/>
                <a:ext cx="1913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3"/>
              <p:cNvSpPr txBox="1"/>
              <p:nvPr/>
            </p:nvSpPr>
            <p:spPr>
              <a:xfrm>
                <a:off x="5724360" y="3357720"/>
                <a:ext cx="1549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3"/>
              <p:cNvSpPr txBox="1"/>
              <p:nvPr/>
            </p:nvSpPr>
            <p:spPr>
              <a:xfrm>
                <a:off x="7684920" y="1700280"/>
                <a:ext cx="12430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3"/>
              <p:cNvSpPr txBox="1"/>
              <p:nvPr/>
            </p:nvSpPr>
            <p:spPr>
              <a:xfrm>
                <a:off x="7669080" y="2421000"/>
                <a:ext cx="10908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3"/>
              <p:cNvSpPr txBox="1"/>
              <p:nvPr/>
            </p:nvSpPr>
            <p:spPr>
              <a:xfrm>
                <a:off x="5724360" y="4365720"/>
                <a:ext cx="18543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Object 3"/>
              <p:cNvSpPr txBox="1"/>
              <p:nvPr/>
            </p:nvSpPr>
            <p:spPr>
              <a:xfrm>
                <a:off x="7686720" y="3573360"/>
                <a:ext cx="1241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3"/>
              <p:cNvSpPr txBox="1"/>
              <p:nvPr/>
            </p:nvSpPr>
            <p:spPr>
              <a:xfrm>
                <a:off x="5724360" y="5589720"/>
                <a:ext cx="1608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3059280" y="5589720"/>
                <a:ext cx="11808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7686720" y="4365720"/>
                <a:ext cx="12412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3"/>
              <p:cNvSpPr txBox="1"/>
              <p:nvPr/>
            </p:nvSpPr>
            <p:spPr>
              <a:xfrm>
                <a:off x="7746840" y="5589720"/>
                <a:ext cx="11811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258920" y="1557360"/>
            <a:ext cx="7705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LODNER, J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obchodní akademie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. vyd. Svitavy : Svitavská tiskárna, 1998. ISBN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9781213621442 .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Část II, Kapitola 1, s. 64–6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4505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stnosti logaritmické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ponenciální funkce; Inverzní funkce; Logaritmická funkce; Hodnota logaritmu; Argument logaritmu; Základ logaritm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260280"/>
            <a:ext cx="609264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82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Vlastnosti logaritmické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21"/>
              <p:cNvSpPr txBox="1"/>
              <p:nvPr/>
            </p:nvSpPr>
            <p:spPr>
              <a:xfrm>
                <a:off x="1114560" y="2060640"/>
                <a:ext cx="49924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3" name="Rectangle 3"/>
          <p:cNvSpPr/>
          <p:nvPr/>
        </p:nvSpPr>
        <p:spPr>
          <a:xfrm>
            <a:off x="826920" y="1484280"/>
            <a:ext cx="781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dddddd"/>
                </a:solidFill>
                <a:latin typeface="Times New Roman"/>
              </a:rPr>
              <a:t>Logaritmická funkce je inverzní k funkci exponenciální:</a:t>
            </a:r>
            <a:endParaRPr b="0" lang="en-US" sz="2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2195640" y="2276280"/>
            <a:ext cx="1222200" cy="93636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 flipH="1">
            <a:off x="2555640" y="2276640"/>
            <a:ext cx="863640" cy="0"/>
          </a:xfrm>
          <a:prstGeom prst="line">
            <a:avLst/>
          </a:prstGeom>
          <a:ln w="572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1086840" y="4365720"/>
            <a:ext cx="132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2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165040" y="4365720"/>
            <a:ext cx="16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3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611160" y="4365720"/>
            <a:ext cx="252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6012000" y="4365720"/>
            <a:ext cx="290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log </a:t>
            </a:r>
            <a:r>
              <a:rPr b="0" i="1" lang="cs-CZ" sz="3200" spc="-1" strike="noStrike" baseline="-25000">
                <a:solidFill>
                  <a:srgbClr val="00ff00"/>
                </a:solidFill>
                <a:latin typeface="Times New Roman"/>
              </a:rPr>
              <a:t>x</a:t>
            </a: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 x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086840" y="5516640"/>
            <a:ext cx="1329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1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2165040" y="5516640"/>
            <a:ext cx="1662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3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1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3684240" y="5516640"/>
            <a:ext cx="2418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log 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6014880" y="5518080"/>
            <a:ext cx="2939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...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log </a:t>
            </a:r>
            <a:r>
              <a:rPr b="0" i="1" lang="cs-CZ" sz="3200" spc="-1" strike="noStrike" baseline="-25000">
                <a:solidFill>
                  <a:srgbClr val="00ff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1 =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7126200" y="4294080"/>
            <a:ext cx="1763640" cy="7192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7054920" y="5445000"/>
            <a:ext cx="1836720" cy="7192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968400" y="378936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apamatujte si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10"/>
          <p:cNvSpPr/>
          <p:nvPr/>
        </p:nvSpPr>
        <p:spPr>
          <a:xfrm flipV="1">
            <a:off x="5364000" y="2205000"/>
            <a:ext cx="1222560" cy="936720"/>
          </a:xfrm>
          <a:prstGeom prst="line">
            <a:avLst/>
          </a:prstGeom>
          <a:ln w="572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H="1">
            <a:off x="4788000" y="2205000"/>
            <a:ext cx="1800000" cy="0"/>
          </a:xfrm>
          <a:prstGeom prst="line">
            <a:avLst/>
          </a:prstGeom>
          <a:ln w="572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971640" y="33336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logaritmu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3"/>
              <p:cNvSpPr txBox="1"/>
              <p:nvPr/>
            </p:nvSpPr>
            <p:spPr>
              <a:xfrm>
                <a:off x="1195560" y="1170000"/>
                <a:ext cx="15159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2340000" y="1773360"/>
                <a:ext cx="1182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9"/>
              <p:cNvSpPr txBox="1"/>
              <p:nvPr/>
            </p:nvSpPr>
            <p:spPr>
              <a:xfrm>
                <a:off x="2484360" y="2925720"/>
                <a:ext cx="8492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2771640" y="1268280"/>
                <a:ext cx="6066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2340000" y="2349360"/>
                <a:ext cx="11224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3"/>
              <p:cNvSpPr txBox="1"/>
              <p:nvPr/>
            </p:nvSpPr>
            <p:spPr>
              <a:xfrm>
                <a:off x="4716360" y="1125360"/>
                <a:ext cx="1578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5892840" y="1744560"/>
                <a:ext cx="11826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6037200" y="2897280"/>
                <a:ext cx="84924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6324480" y="1239840"/>
                <a:ext cx="606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9"/>
              <p:cNvSpPr txBox="1"/>
              <p:nvPr/>
            </p:nvSpPr>
            <p:spPr>
              <a:xfrm>
                <a:off x="5907240" y="2306520"/>
                <a:ext cx="1091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1195560" y="4122720"/>
                <a:ext cx="15159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9"/>
              <p:cNvSpPr txBox="1"/>
              <p:nvPr/>
            </p:nvSpPr>
            <p:spPr>
              <a:xfrm>
                <a:off x="2354400" y="4653000"/>
                <a:ext cx="1152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9"/>
              <p:cNvSpPr txBox="1"/>
              <p:nvPr/>
            </p:nvSpPr>
            <p:spPr>
              <a:xfrm>
                <a:off x="2470320" y="5805360"/>
                <a:ext cx="8794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2771640" y="4221000"/>
                <a:ext cx="6066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2325600" y="5229360"/>
                <a:ext cx="11527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3"/>
              <p:cNvSpPr txBox="1"/>
              <p:nvPr/>
            </p:nvSpPr>
            <p:spPr>
              <a:xfrm>
                <a:off x="4800600" y="4179960"/>
                <a:ext cx="13636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6156360" y="4149720"/>
                <a:ext cx="5144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177" name="Group 20"/>
          <p:cNvGrpSpPr/>
          <p:nvPr/>
        </p:nvGrpSpPr>
        <p:grpSpPr>
          <a:xfrm>
            <a:off x="2268360" y="1125000"/>
            <a:ext cx="1079640" cy="792360"/>
            <a:chOff x="2268360" y="1125000"/>
            <a:chExt cx="1079640" cy="792360"/>
          </a:xfrm>
        </p:grpSpPr>
        <p:sp>
          <p:nvSpPr>
            <p:cNvPr id="178" name="Line 21"/>
            <p:cNvSpPr/>
            <p:nvPr/>
          </p:nvSpPr>
          <p:spPr>
            <a:xfrm flipV="1">
              <a:off x="2268360" y="112500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9" name="Line 22"/>
            <p:cNvSpPr/>
            <p:nvPr/>
          </p:nvSpPr>
          <p:spPr>
            <a:xfrm flipH="1">
              <a:off x="2412720" y="112536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5219640" y="189000"/>
                <a:ext cx="163836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og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9"/>
              <p:cNvSpPr txBox="1"/>
              <p:nvPr/>
            </p:nvSpPr>
            <p:spPr>
              <a:xfrm>
                <a:off x="6300720" y="1052640"/>
                <a:ext cx="15462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6588000" y="2781360"/>
                <a:ext cx="10620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9"/>
              <p:cNvSpPr txBox="1"/>
              <p:nvPr/>
            </p:nvSpPr>
            <p:spPr>
              <a:xfrm>
                <a:off x="6929280" y="498600"/>
                <a:ext cx="606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9"/>
              <p:cNvSpPr txBox="1"/>
              <p:nvPr/>
            </p:nvSpPr>
            <p:spPr>
              <a:xfrm>
                <a:off x="6300720" y="2060640"/>
                <a:ext cx="15480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3"/>
              <p:cNvSpPr txBox="1"/>
              <p:nvPr/>
            </p:nvSpPr>
            <p:spPr>
              <a:xfrm>
                <a:off x="1403280" y="189000"/>
                <a:ext cx="14572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2556000" y="1052640"/>
                <a:ext cx="1030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2700360" y="2708280"/>
                <a:ext cx="10317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9"/>
              <p:cNvSpPr txBox="1"/>
              <p:nvPr/>
            </p:nvSpPr>
            <p:spPr>
              <a:xfrm>
                <a:off x="3022560" y="498600"/>
                <a:ext cx="6066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9"/>
              <p:cNvSpPr txBox="1"/>
              <p:nvPr/>
            </p:nvSpPr>
            <p:spPr>
              <a:xfrm>
                <a:off x="2556000" y="2060640"/>
                <a:ext cx="1214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1476360" y="3933720"/>
                <a:ext cx="1335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2843280" y="3933720"/>
                <a:ext cx="576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5219640" y="4005360"/>
                <a:ext cx="1971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og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 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9"/>
              <p:cNvSpPr txBox="1"/>
              <p:nvPr/>
            </p:nvSpPr>
            <p:spPr>
              <a:xfrm>
                <a:off x="6516720" y="4724280"/>
                <a:ext cx="1909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 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6804000" y="5950080"/>
                <a:ext cx="880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7236000" y="4076640"/>
                <a:ext cx="606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6516720" y="5373720"/>
                <a:ext cx="1427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971640" y="333360"/>
            <a:ext cx="817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argument logaritmu,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3"/>
              <p:cNvSpPr txBox="1"/>
              <p:nvPr/>
            </p:nvSpPr>
            <p:spPr>
              <a:xfrm>
                <a:off x="5348160" y="1341360"/>
                <a:ext cx="20638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9"/>
              <p:cNvSpPr txBox="1"/>
              <p:nvPr/>
            </p:nvSpPr>
            <p:spPr>
              <a:xfrm>
                <a:off x="6229440" y="2060640"/>
                <a:ext cx="10904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6445080" y="2565360"/>
                <a:ext cx="8794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3"/>
              <p:cNvSpPr txBox="1"/>
              <p:nvPr/>
            </p:nvSpPr>
            <p:spPr>
              <a:xfrm>
                <a:off x="1273320" y="1341360"/>
                <a:ext cx="1881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9"/>
              <p:cNvSpPr txBox="1"/>
              <p:nvPr/>
            </p:nvSpPr>
            <p:spPr>
              <a:xfrm>
                <a:off x="2124000" y="2205000"/>
                <a:ext cx="998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9"/>
              <p:cNvSpPr txBox="1"/>
              <p:nvPr/>
            </p:nvSpPr>
            <p:spPr>
              <a:xfrm>
                <a:off x="2268360" y="2852640"/>
                <a:ext cx="10321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3"/>
              <p:cNvSpPr txBox="1"/>
              <p:nvPr/>
            </p:nvSpPr>
            <p:spPr>
              <a:xfrm>
                <a:off x="1332000" y="4221000"/>
                <a:ext cx="1881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2195640" y="5013360"/>
                <a:ext cx="10000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2263680" y="5688000"/>
                <a:ext cx="10303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5568840" y="4091040"/>
                <a:ext cx="1760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og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9"/>
              <p:cNvSpPr txBox="1"/>
              <p:nvPr/>
            </p:nvSpPr>
            <p:spPr>
              <a:xfrm>
                <a:off x="6516720" y="4724280"/>
                <a:ext cx="78912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09" name="Group 14"/>
          <p:cNvGrpSpPr/>
          <p:nvPr/>
        </p:nvGrpSpPr>
        <p:grpSpPr>
          <a:xfrm>
            <a:off x="2411280" y="1341000"/>
            <a:ext cx="1079640" cy="792360"/>
            <a:chOff x="2411280" y="1341000"/>
            <a:chExt cx="1079640" cy="792360"/>
          </a:xfrm>
        </p:grpSpPr>
        <p:sp>
          <p:nvSpPr>
            <p:cNvPr id="210" name="Line 15"/>
            <p:cNvSpPr/>
            <p:nvPr/>
          </p:nvSpPr>
          <p:spPr>
            <a:xfrm flipV="1">
              <a:off x="2411280" y="134100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 flipH="1">
              <a:off x="2555640" y="134136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5322960" y="352440"/>
                <a:ext cx="1942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9"/>
              <p:cNvSpPr txBox="1"/>
              <p:nvPr/>
            </p:nvSpPr>
            <p:spPr>
              <a:xfrm>
                <a:off x="6189840" y="1147680"/>
                <a:ext cx="9982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8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9"/>
              <p:cNvSpPr txBox="1"/>
              <p:nvPr/>
            </p:nvSpPr>
            <p:spPr>
              <a:xfrm>
                <a:off x="6372360" y="2852640"/>
                <a:ext cx="84924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1201680" y="534960"/>
                <a:ext cx="1851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9"/>
              <p:cNvSpPr txBox="1"/>
              <p:nvPr/>
            </p:nvSpPr>
            <p:spPr>
              <a:xfrm>
                <a:off x="2268360" y="1197000"/>
                <a:ext cx="847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1187280" y="2637000"/>
                <a:ext cx="2214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6300720" y="2133720"/>
                <a:ext cx="10908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9"/>
              <p:cNvSpPr txBox="1"/>
              <p:nvPr/>
            </p:nvSpPr>
            <p:spPr>
              <a:xfrm>
                <a:off x="1979640" y="3573360"/>
                <a:ext cx="11494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9"/>
              <p:cNvSpPr txBox="1"/>
              <p:nvPr/>
            </p:nvSpPr>
            <p:spPr>
              <a:xfrm>
                <a:off x="3348000" y="5445000"/>
                <a:ext cx="90972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2268360" y="4437000"/>
                <a:ext cx="109080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9"/>
              <p:cNvSpPr txBox="1"/>
              <p:nvPr/>
            </p:nvSpPr>
            <p:spPr>
              <a:xfrm>
                <a:off x="2195640" y="5589720"/>
                <a:ext cx="115236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5435640" y="4005360"/>
                <a:ext cx="1547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6156360" y="4508640"/>
                <a:ext cx="7891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3"/>
              <p:cNvSpPr txBox="1"/>
              <p:nvPr/>
            </p:nvSpPr>
            <p:spPr>
              <a:xfrm>
                <a:off x="5435640" y="5589720"/>
                <a:ext cx="14875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l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9"/>
              <p:cNvSpPr txBox="1"/>
              <p:nvPr/>
            </p:nvSpPr>
            <p:spPr>
              <a:xfrm>
                <a:off x="6126120" y="6021360"/>
                <a:ext cx="819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e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971640" y="333360"/>
            <a:ext cx="8172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základ logaritmu 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+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,           pro který plat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5508720" y="1628640"/>
                <a:ext cx="1850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9"/>
              <p:cNvSpPr txBox="1"/>
              <p:nvPr/>
            </p:nvSpPr>
            <p:spPr>
              <a:xfrm>
                <a:off x="6593040" y="2416320"/>
                <a:ext cx="8175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1174680" y="1635120"/>
                <a:ext cx="2125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9"/>
              <p:cNvSpPr txBox="1"/>
              <p:nvPr/>
            </p:nvSpPr>
            <p:spPr>
              <a:xfrm>
                <a:off x="2195640" y="2422440"/>
                <a:ext cx="11491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9"/>
              <p:cNvSpPr txBox="1"/>
              <p:nvPr/>
            </p:nvSpPr>
            <p:spPr>
              <a:xfrm>
                <a:off x="2340000" y="2924280"/>
                <a:ext cx="10634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=+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1258920" y="3789360"/>
                <a:ext cx="20034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195640" y="4653000"/>
                <a:ext cx="1030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9"/>
              <p:cNvSpPr txBox="1"/>
              <p:nvPr/>
            </p:nvSpPr>
            <p:spPr>
              <a:xfrm>
                <a:off x="2325600" y="5589720"/>
                <a:ext cx="9399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5508720" y="3789360"/>
                <a:ext cx="19429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7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9"/>
              <p:cNvSpPr txBox="1"/>
              <p:nvPr/>
            </p:nvSpPr>
            <p:spPr>
              <a:xfrm>
                <a:off x="6804000" y="5950080"/>
                <a:ext cx="11239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38" name="Rectangle 3"/>
          <p:cNvSpPr/>
          <p:nvPr/>
        </p:nvSpPr>
        <p:spPr>
          <a:xfrm>
            <a:off x="6084720" y="4437000"/>
            <a:ext cx="305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úloha nemá řeše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5508720" y="5445000"/>
                <a:ext cx="18525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9"/>
              <p:cNvSpPr txBox="1"/>
              <p:nvPr/>
            </p:nvSpPr>
            <p:spPr>
              <a:xfrm>
                <a:off x="3708360" y="2349360"/>
                <a:ext cx="72540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41" name="Line 16"/>
          <p:cNvSpPr/>
          <p:nvPr/>
        </p:nvSpPr>
        <p:spPr>
          <a:xfrm flipV="1">
            <a:off x="3419640" y="980640"/>
            <a:ext cx="3168360" cy="208764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3492360" y="4797360"/>
                <a:ext cx="725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243" name="Group 18"/>
          <p:cNvGrpSpPr/>
          <p:nvPr/>
        </p:nvGrpSpPr>
        <p:grpSpPr>
          <a:xfrm>
            <a:off x="2484360" y="1628280"/>
            <a:ext cx="1079640" cy="792360"/>
            <a:chOff x="2484360" y="1628280"/>
            <a:chExt cx="1079640" cy="792360"/>
          </a:xfrm>
        </p:grpSpPr>
        <p:sp>
          <p:nvSpPr>
            <p:cNvPr id="244" name="Line 19"/>
            <p:cNvSpPr/>
            <p:nvPr/>
          </p:nvSpPr>
          <p:spPr>
            <a:xfrm flipV="1">
              <a:off x="2484360" y="1628280"/>
              <a:ext cx="1079640" cy="7923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5" name="Line 20"/>
            <p:cNvSpPr/>
            <p:nvPr/>
          </p:nvSpPr>
          <p:spPr>
            <a:xfrm flipH="1">
              <a:off x="2628720" y="1628640"/>
              <a:ext cx="93528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900000" y="404640"/>
                <a:ext cx="23688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9"/>
              <p:cNvSpPr txBox="1"/>
              <p:nvPr/>
            </p:nvSpPr>
            <p:spPr>
              <a:xfrm>
                <a:off x="1870200" y="1197000"/>
                <a:ext cx="13906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2301840" y="4221000"/>
                <a:ext cx="91296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3780000" y="404640"/>
                <a:ext cx="2125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9"/>
              <p:cNvSpPr txBox="1"/>
              <p:nvPr/>
            </p:nvSpPr>
            <p:spPr>
              <a:xfrm>
                <a:off x="1941480" y="1989000"/>
                <a:ext cx="13604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9"/>
              <p:cNvSpPr txBox="1"/>
              <p:nvPr/>
            </p:nvSpPr>
            <p:spPr>
              <a:xfrm>
                <a:off x="2014560" y="3141720"/>
                <a:ext cx="12985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4643280" y="1197000"/>
                <a:ext cx="11178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9"/>
              <p:cNvSpPr txBox="1"/>
              <p:nvPr/>
            </p:nvSpPr>
            <p:spPr>
              <a:xfrm>
                <a:off x="4873680" y="4162320"/>
                <a:ext cx="118728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9"/>
              <p:cNvSpPr txBox="1"/>
              <p:nvPr/>
            </p:nvSpPr>
            <p:spPr>
              <a:xfrm>
                <a:off x="4770360" y="1989000"/>
                <a:ext cx="111924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9"/>
              <p:cNvSpPr txBox="1"/>
              <p:nvPr/>
            </p:nvSpPr>
            <p:spPr>
              <a:xfrm>
                <a:off x="4843440" y="3127320"/>
                <a:ext cx="10573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3"/>
              <p:cNvSpPr txBox="1"/>
              <p:nvPr/>
            </p:nvSpPr>
            <p:spPr>
              <a:xfrm>
                <a:off x="6588000" y="189000"/>
                <a:ext cx="20336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6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9"/>
              <p:cNvSpPr txBox="1"/>
              <p:nvPr/>
            </p:nvSpPr>
            <p:spPr>
              <a:xfrm>
                <a:off x="7451640" y="1052640"/>
                <a:ext cx="10875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9"/>
              <p:cNvSpPr txBox="1"/>
              <p:nvPr/>
            </p:nvSpPr>
            <p:spPr>
              <a:xfrm>
                <a:off x="7380360" y="2060640"/>
                <a:ext cx="1149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9"/>
              <p:cNvSpPr txBox="1"/>
              <p:nvPr/>
            </p:nvSpPr>
            <p:spPr>
              <a:xfrm>
                <a:off x="7667640" y="2781360"/>
                <a:ext cx="1027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9"/>
              <p:cNvSpPr txBox="1"/>
              <p:nvPr/>
            </p:nvSpPr>
            <p:spPr>
              <a:xfrm>
                <a:off x="8532720" y="2060640"/>
                <a:ext cx="393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9"/>
              <p:cNvSpPr txBox="1"/>
              <p:nvPr/>
            </p:nvSpPr>
            <p:spPr>
              <a:xfrm>
                <a:off x="3419640" y="3284640"/>
                <a:ext cx="72540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9"/>
              <p:cNvSpPr txBox="1"/>
              <p:nvPr/>
            </p:nvSpPr>
            <p:spPr>
              <a:xfrm>
                <a:off x="6084720" y="3284640"/>
                <a:ext cx="7257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6:43Z</dcterms:modified>
  <cp:revision>325</cp:revision>
  <dc:subject/>
  <dc:title>FCE</dc:title>
</cp:coreProperties>
</file>