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539F-C84F-4B35-A38E-4FEE1EF294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A7C6-7476-4C05-9EC5-3F1F1D26C4D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BC35-2CAC-47C3-885E-8509AC589BA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E8BE-04B9-4525-8485-4BCF9F79690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F298-656F-4E00-BE9E-AB22C49F298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6661-0538-41BB-ABA7-B448BC9CF55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3CAF-7A99-485E-ACCD-08E02587B93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0008-A955-4469-BC6C-29B3DBF7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ADC-4524-4C79-92F1-2AD114A3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D9B-ADE0-411D-8478-B97B356B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1431-B35B-46E0-91CE-9C83C2ED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4078-5BBA-45AC-9EDA-9C0C725E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2C4F-78BA-457B-8391-61FEBE94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80ED-3706-413D-8D93-3B0B5E1E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EA72-051C-4F89-9EB3-5CF5D04C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3BBE-657D-457B-9D90-CA23D9DA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83FA-A372-46B8-B0F2-1C849FEF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A630-C965-4371-A868-BF8E57C3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A06-E1D3-4607-93B6-C8A93FB1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975D-C921-4FE0-A052-DE90B7B2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6538-0176-48D3-B874-CEA84958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3B0D-C91B-4AFC-8A11-E2890E92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9573-8613-4E25-A6C6-9E569D47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717E-6307-4F4A-9F65-65E96809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A62-EB37-45CE-9987-35E433A8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BC50-4ADD-4AD0-850A-4B304CA9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FC8-1CE3-41D5-A797-2823DF31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B7C-45EF-4CAF-8474-7EE3B86D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4D3-CFC3-4C5C-B9E6-CEEBE71E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C38-CC38-40FD-9854-6E60FD5B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B79-5083-4A50-A7B3-E23ED5BA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AB78-0EDC-4B8A-B3FF-891DD2AA473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EFEA-41B0-40AE-940C-904240EC525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4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32544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3"/>
              <p:cNvSpPr txBox="1"/>
              <p:nvPr/>
            </p:nvSpPr>
            <p:spPr>
              <a:xfrm>
                <a:off x="6877080" y="1700280"/>
                <a:ext cx="16556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6896160" y="2852640"/>
                <a:ext cx="22478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7" name="Picture 5" descr="kopie - 7"/>
          <p:cNvPicPr/>
          <p:nvPr/>
        </p:nvPicPr>
        <p:blipFill>
          <a:blip r:embed="rId1"/>
          <a:stretch/>
        </p:blipFill>
        <p:spPr>
          <a:xfrm>
            <a:off x="250920" y="426960"/>
            <a:ext cx="6553080" cy="605304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>
            <a:off x="468360" y="2852640"/>
            <a:ext cx="611964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116000" y="1052640"/>
            <a:ext cx="554364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564000" y="285264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564000" y="83664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 flipV="1">
            <a:off x="2556000" y="1052640"/>
            <a:ext cx="0" cy="18000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639520" y="148428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611280" y="4797360"/>
            <a:ext cx="59767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3645720" y="400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6012000" y="486900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604800" y="486900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8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5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5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5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3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6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3"/>
              <p:cNvSpPr txBox="1"/>
              <p:nvPr/>
            </p:nvSpPr>
            <p:spPr>
              <a:xfrm>
                <a:off x="6022800" y="1901880"/>
                <a:ext cx="2611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4"/>
              <p:cNvSpPr txBox="1"/>
              <p:nvPr/>
            </p:nvSpPr>
            <p:spPr>
              <a:xfrm>
                <a:off x="6084720" y="3068640"/>
                <a:ext cx="2614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1" name="Picture 5" descr="kopie - 8"/>
          <p:cNvPicPr/>
          <p:nvPr/>
        </p:nvPicPr>
        <p:blipFill>
          <a:blip r:embed="rId1"/>
          <a:stretch/>
        </p:blipFill>
        <p:spPr>
          <a:xfrm>
            <a:off x="250920" y="260280"/>
            <a:ext cx="5302080" cy="6354720"/>
          </a:xfrm>
          <a:prstGeom prst="rect">
            <a:avLst/>
          </a:prstGeom>
          <a:ln w="0">
            <a:noFill/>
          </a:ln>
        </p:spPr>
      </p:pic>
      <p:sp>
        <p:nvSpPr>
          <p:cNvPr id="262" name="Line 6"/>
          <p:cNvSpPr/>
          <p:nvPr/>
        </p:nvSpPr>
        <p:spPr>
          <a:xfrm>
            <a:off x="1908000" y="119700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4211640" y="1052640"/>
            <a:ext cx="0" cy="525600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3995640" y="321300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1620000" y="321300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Oval 10"/>
          <p:cNvSpPr/>
          <p:nvPr/>
        </p:nvSpPr>
        <p:spPr>
          <a:xfrm>
            <a:off x="4067280" y="5734080"/>
            <a:ext cx="287280" cy="28872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1763640" y="2276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826920" y="5877000"/>
            <a:ext cx="446436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826920" y="2421000"/>
            <a:ext cx="446580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2772360" y="566100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2771640" y="213372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Oval 16"/>
          <p:cNvSpPr/>
          <p:nvPr/>
        </p:nvSpPr>
        <p:spPr>
          <a:xfrm>
            <a:off x="4067280" y="5734080"/>
            <a:ext cx="287280" cy="28872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Oval 17"/>
          <p:cNvSpPr/>
          <p:nvPr/>
        </p:nvSpPr>
        <p:spPr>
          <a:xfrm>
            <a:off x="1763640" y="2276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18"/>
          <p:cNvSpPr/>
          <p:nvPr/>
        </p:nvSpPr>
        <p:spPr>
          <a:xfrm>
            <a:off x="1908000" y="1989000"/>
            <a:ext cx="2303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2853720" y="112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 flipV="1">
            <a:off x="1042920" y="2421000"/>
            <a:ext cx="0" cy="34560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1116000" y="3716280"/>
            <a:ext cx="693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5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8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1" dur="5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4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5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5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3" dur="5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5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1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4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3"/>
              <p:cNvSpPr txBox="1"/>
              <p:nvPr/>
            </p:nvSpPr>
            <p:spPr>
              <a:xfrm>
                <a:off x="5837400" y="1916280"/>
                <a:ext cx="19238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5724360" y="2924280"/>
                <a:ext cx="34196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81" name="Picture 5" descr="kopie - 9"/>
          <p:cNvPicPr/>
          <p:nvPr/>
        </p:nvPicPr>
        <p:blipFill>
          <a:blip r:embed="rId1"/>
          <a:stretch/>
        </p:blipFill>
        <p:spPr>
          <a:xfrm>
            <a:off x="179280" y="333360"/>
            <a:ext cx="5519880" cy="6173640"/>
          </a:xfrm>
          <a:prstGeom prst="rect">
            <a:avLst/>
          </a:prstGeom>
          <a:ln w="0">
            <a:noFill/>
          </a:ln>
        </p:spPr>
      </p:pic>
      <p:sp>
        <p:nvSpPr>
          <p:cNvPr id="282" name="Line 6"/>
          <p:cNvSpPr/>
          <p:nvPr/>
        </p:nvSpPr>
        <p:spPr>
          <a:xfrm>
            <a:off x="3132000" y="620640"/>
            <a:ext cx="0" cy="568800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3" name="Line 7"/>
          <p:cNvSpPr/>
          <p:nvPr/>
        </p:nvSpPr>
        <p:spPr>
          <a:xfrm>
            <a:off x="395280" y="5013360"/>
            <a:ext cx="27352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4006080" y="422100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4788000" y="508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388800" y="508464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Line 11"/>
          <p:cNvSpPr/>
          <p:nvPr/>
        </p:nvSpPr>
        <p:spPr>
          <a:xfrm>
            <a:off x="3132000" y="5013360"/>
            <a:ext cx="23767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324000" y="4005360"/>
            <a:ext cx="5184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13"/>
          <p:cNvSpPr/>
          <p:nvPr/>
        </p:nvSpPr>
        <p:spPr>
          <a:xfrm>
            <a:off x="1619280" y="404640"/>
            <a:ext cx="0" cy="2087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1692360" y="112536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1692360" y="40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1685880" y="580536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204360" y="371628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 flipV="1">
            <a:off x="1619280" y="4005000"/>
            <a:ext cx="0" cy="23763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Line 19"/>
          <p:cNvSpPr/>
          <p:nvPr/>
        </p:nvSpPr>
        <p:spPr>
          <a:xfrm>
            <a:off x="395280" y="2421000"/>
            <a:ext cx="5184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3203640" y="328464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2485080" y="2205000"/>
            <a:ext cx="4870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9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5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5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2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5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1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1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4" dur="5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5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0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3" dur="5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9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2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5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3"/>
              <p:cNvSpPr txBox="1"/>
              <p:nvPr/>
            </p:nvSpPr>
            <p:spPr>
              <a:xfrm>
                <a:off x="6515280" y="1854360"/>
                <a:ext cx="15602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4"/>
              <p:cNvSpPr txBox="1"/>
              <p:nvPr/>
            </p:nvSpPr>
            <p:spPr>
              <a:xfrm>
                <a:off x="6588000" y="2781360"/>
                <a:ext cx="208764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01" name="Picture 5" descr="kopie - 10"/>
          <p:cNvPicPr/>
          <p:nvPr/>
        </p:nvPicPr>
        <p:blipFill>
          <a:blip r:embed="rId1"/>
          <a:stretch/>
        </p:blipFill>
        <p:spPr>
          <a:xfrm>
            <a:off x="179280" y="398520"/>
            <a:ext cx="6264360" cy="613872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6"/>
          <p:cNvSpPr/>
          <p:nvPr/>
        </p:nvSpPr>
        <p:spPr>
          <a:xfrm>
            <a:off x="3132000" y="1916280"/>
            <a:ext cx="9352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/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910440" y="184464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611280" y="4797360"/>
            <a:ext cx="53290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645720" y="400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5364000" y="4869000"/>
            <a:ext cx="57636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604800" y="486900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1835280" y="2205000"/>
            <a:ext cx="115236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1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1" dur="5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4" dur="5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5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5940360" y="1844640"/>
                <a:ext cx="27590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Object 4"/>
              <p:cNvSpPr txBox="1"/>
              <p:nvPr/>
            </p:nvSpPr>
            <p:spPr>
              <a:xfrm>
                <a:off x="6012000" y="3068640"/>
                <a:ext cx="27716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2" name="Picture 5" descr="kopie - 11"/>
          <p:cNvPicPr/>
          <p:nvPr/>
        </p:nvPicPr>
        <p:blipFill>
          <a:blip r:embed="rId1"/>
          <a:stretch/>
        </p:blipFill>
        <p:spPr>
          <a:xfrm>
            <a:off x="250920" y="260280"/>
            <a:ext cx="5551560" cy="6399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3"/>
              <p:cNvSpPr txBox="1"/>
              <p:nvPr/>
            </p:nvSpPr>
            <p:spPr>
              <a:xfrm>
                <a:off x="6516720" y="1916280"/>
                <a:ext cx="1265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6443640" y="2924280"/>
                <a:ext cx="2700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16" name="Picture 5" descr="kopie - 12"/>
          <p:cNvPicPr/>
          <p:nvPr/>
        </p:nvPicPr>
        <p:blipFill>
          <a:blip r:embed="rId1"/>
          <a:stretch/>
        </p:blipFill>
        <p:spPr>
          <a:xfrm>
            <a:off x="250920" y="476280"/>
            <a:ext cx="6192720" cy="6076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5932440" y="1822320"/>
                <a:ext cx="27432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5940360" y="2997360"/>
                <a:ext cx="2708280" cy="82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20" name="Picture 5" descr="kopie - 13"/>
          <p:cNvPicPr/>
          <p:nvPr/>
        </p:nvPicPr>
        <p:blipFill>
          <a:blip r:embed="rId1"/>
          <a:stretch/>
        </p:blipFill>
        <p:spPr>
          <a:xfrm>
            <a:off x="250920" y="260280"/>
            <a:ext cx="5527440" cy="6326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6084720" y="1916280"/>
                <a:ext cx="28814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6084720" y="2997360"/>
                <a:ext cx="24307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24" name="Picture 5" descr="kopie - 14"/>
          <p:cNvPicPr/>
          <p:nvPr/>
        </p:nvPicPr>
        <p:blipFill>
          <a:blip r:embed="rId1"/>
          <a:stretch/>
        </p:blipFill>
        <p:spPr>
          <a:xfrm>
            <a:off x="324000" y="333360"/>
            <a:ext cx="5564160" cy="6235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3"/>
              <p:cNvSpPr txBox="1"/>
              <p:nvPr/>
            </p:nvSpPr>
            <p:spPr>
              <a:xfrm>
                <a:off x="6454800" y="2117880"/>
                <a:ext cx="162072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"/>
              <p:cNvSpPr txBox="1"/>
              <p:nvPr/>
            </p:nvSpPr>
            <p:spPr>
              <a:xfrm>
                <a:off x="6462720" y="3114720"/>
                <a:ext cx="25020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28" name="Picture 5" descr="kopie - 15"/>
          <p:cNvPicPr/>
          <p:nvPr/>
        </p:nvPicPr>
        <p:blipFill>
          <a:blip r:embed="rId1"/>
          <a:stretch/>
        </p:blipFill>
        <p:spPr>
          <a:xfrm>
            <a:off x="250920" y="260280"/>
            <a:ext cx="6046560" cy="63738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6012000" y="1844640"/>
                <a:ext cx="16603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4"/>
              <p:cNvSpPr txBox="1"/>
              <p:nvPr/>
            </p:nvSpPr>
            <p:spPr>
              <a:xfrm>
                <a:off x="6012000" y="2924280"/>
                <a:ext cx="27781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332" name="Picture 5" descr="kopie - 16"/>
          <p:cNvPicPr/>
          <p:nvPr/>
        </p:nvPicPr>
        <p:blipFill>
          <a:blip r:embed="rId1"/>
          <a:stretch/>
        </p:blipFill>
        <p:spPr>
          <a:xfrm>
            <a:off x="395280" y="333360"/>
            <a:ext cx="5424480" cy="6297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916280"/>
          <a:ext cx="7561080" cy="4403520"/>
        </p:xfrm>
        <a:graphic>
          <a:graphicData uri="http://schemas.openxmlformats.org/drawingml/2006/table">
            <a:tbl>
              <a:tblPr/>
              <a:tblGrid>
                <a:gridCol w="2952720"/>
                <a:gridCol w="460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iční obor a obor hodnot funkce - určení na základě grafu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názorně vyřešené příklady určování D</a:t>
                      </a:r>
                      <a:r>
                        <a:rPr b="0" i="1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, H</a:t>
                      </a:r>
                      <a:r>
                        <a:rPr b="0" i="1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říklady na samostatné procvičení. Žáci využívají pracovních listů, kde pouze vyznačují důležité prvky a zaznamenávají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fin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í obor funkce; Obor hodnot funkce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"/>
              <p:cNvSpPr txBox="1"/>
              <p:nvPr/>
            </p:nvSpPr>
            <p:spPr>
              <a:xfrm>
                <a:off x="6588000" y="1916280"/>
                <a:ext cx="199260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6572160" y="2938320"/>
                <a:ext cx="20494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36" name="Picture 5" descr="kopie - 17"/>
          <p:cNvPicPr/>
          <p:nvPr/>
        </p:nvPicPr>
        <p:blipFill>
          <a:blip r:embed="rId1"/>
          <a:stretch/>
        </p:blipFill>
        <p:spPr>
          <a:xfrm>
            <a:off x="179280" y="189000"/>
            <a:ext cx="6177240" cy="6459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3"/>
              <p:cNvSpPr txBox="1"/>
              <p:nvPr/>
            </p:nvSpPr>
            <p:spPr>
              <a:xfrm>
                <a:off x="6656400" y="1916280"/>
                <a:ext cx="24876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4"/>
              <p:cNvSpPr txBox="1"/>
              <p:nvPr/>
            </p:nvSpPr>
            <p:spPr>
              <a:xfrm>
                <a:off x="6659640" y="2997360"/>
                <a:ext cx="1611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40" name="Picture 5" descr="kopie - 18"/>
          <p:cNvPicPr/>
          <p:nvPr/>
        </p:nvPicPr>
        <p:blipFill>
          <a:blip r:embed="rId1"/>
          <a:stretch/>
        </p:blipFill>
        <p:spPr>
          <a:xfrm>
            <a:off x="324000" y="333360"/>
            <a:ext cx="6145200" cy="6270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Definiční obor funkce, ozn. D</a:t>
            </a:r>
            <a:r>
              <a:rPr b="0" i="1" lang="cs-CZ" sz="40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341360"/>
            <a:ext cx="8172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35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 grafu funkce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Množina, která odpovídá průmětům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šech bodů funkce na os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orientace na ose: zleva doprava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928800" y="3284640"/>
            <a:ext cx="82152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Obor hodnot funkce, ozn. H</a:t>
            </a:r>
            <a:r>
              <a:rPr b="0" i="1" lang="cs-CZ" sz="40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71640" y="4365720"/>
            <a:ext cx="8172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35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z grafu funkce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Množina, která odpovídá průmětům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šech bodů funkce na osu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(orientace na ose: zdola nahoru)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50920" y="189000"/>
            <a:ext cx="88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 a obor hodnot funk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6300720" y="1916280"/>
                <a:ext cx="25052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6300720" y="2924280"/>
                <a:ext cx="262728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9" name="Picture 6" descr="Kopie - 1"/>
          <p:cNvPicPr/>
          <p:nvPr/>
        </p:nvPicPr>
        <p:blipFill>
          <a:blip r:embed="rId1"/>
          <a:stretch/>
        </p:blipFill>
        <p:spPr>
          <a:xfrm>
            <a:off x="250920" y="907920"/>
            <a:ext cx="5976720" cy="57261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250920" y="836640"/>
            <a:ext cx="889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Funkce je zadaná grafem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výsledek odvodíme z grafu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2627280" y="119700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5148360" y="1052640"/>
            <a:ext cx="0" cy="525600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859280" y="414972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2339280" y="33908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2484360" y="5445000"/>
            <a:ext cx="287280" cy="28908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5003640" y="1446120"/>
            <a:ext cx="287640" cy="28908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19280" y="5589720"/>
            <a:ext cx="446400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>
            <a:off x="1619280" y="1557360"/>
            <a:ext cx="446544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3636000" y="5300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843280" y="141300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Oval 18"/>
          <p:cNvSpPr/>
          <p:nvPr/>
        </p:nvSpPr>
        <p:spPr>
          <a:xfrm>
            <a:off x="2484360" y="5445000"/>
            <a:ext cx="287280" cy="28908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5003640" y="1413000"/>
            <a:ext cx="28764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2627280" y="5013360"/>
            <a:ext cx="25210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3574440" y="422100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Line 22"/>
          <p:cNvSpPr/>
          <p:nvPr/>
        </p:nvSpPr>
        <p:spPr>
          <a:xfrm flipV="1">
            <a:off x="1763640" y="1557000"/>
            <a:ext cx="0" cy="410364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1774080" y="227664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6578640" y="1700280"/>
                <a:ext cx="2565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6588000" y="3141720"/>
                <a:ext cx="2340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0" name="Picture 5" descr="kopie - 2"/>
          <p:cNvPicPr/>
          <p:nvPr/>
        </p:nvPicPr>
        <p:blipFill>
          <a:blip r:embed="rId1"/>
          <a:stretch/>
        </p:blipFill>
        <p:spPr>
          <a:xfrm>
            <a:off x="179280" y="452520"/>
            <a:ext cx="6408720" cy="6000840"/>
          </a:xfrm>
          <a:prstGeom prst="rect">
            <a:avLst/>
          </a:prstGeom>
          <a:ln w="0">
            <a:noFill/>
          </a:ln>
        </p:spPr>
      </p:pic>
      <p:sp>
        <p:nvSpPr>
          <p:cNvPr id="171" name="Line 6"/>
          <p:cNvSpPr/>
          <p:nvPr/>
        </p:nvSpPr>
        <p:spPr>
          <a:xfrm>
            <a:off x="1116000" y="83664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5219640" y="765000"/>
            <a:ext cx="0" cy="525636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1116000" y="5013360"/>
            <a:ext cx="4103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710800" y="422100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59280" y="299736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/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756360" y="3860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Oval 12"/>
          <p:cNvSpPr/>
          <p:nvPr/>
        </p:nvSpPr>
        <p:spPr>
          <a:xfrm>
            <a:off x="971640" y="3573360"/>
            <a:ext cx="287280" cy="289080"/>
          </a:xfrm>
          <a:prstGeom prst="ellipse">
            <a:avLst/>
          </a:prstGeom>
          <a:noFill/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5076720" y="4508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611280" y="4653000"/>
            <a:ext cx="5400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611280" y="1844640"/>
            <a:ext cx="533088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3996360" y="4292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3924360" y="1557360"/>
            <a:ext cx="5763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Oval 18"/>
          <p:cNvSpPr/>
          <p:nvPr/>
        </p:nvSpPr>
        <p:spPr>
          <a:xfrm>
            <a:off x="5076720" y="4508640"/>
            <a:ext cx="28728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Oval 19"/>
          <p:cNvSpPr/>
          <p:nvPr/>
        </p:nvSpPr>
        <p:spPr>
          <a:xfrm>
            <a:off x="2771640" y="1773360"/>
            <a:ext cx="287640" cy="288720"/>
          </a:xfrm>
          <a:prstGeom prst="ellipse">
            <a:avLst/>
          </a:prstGeom>
          <a:solidFill>
            <a:srgbClr val="00172e"/>
          </a:solidFill>
          <a:ln w="5724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1763640" y="1844280"/>
            <a:ext cx="0" cy="28083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1774080" y="249228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6732720" y="2138400"/>
                <a:ext cx="165564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6732720" y="3146400"/>
                <a:ext cx="16999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0" name="Picture 5" descr="kopie - 3"/>
          <p:cNvPicPr/>
          <p:nvPr/>
        </p:nvPicPr>
        <p:blipFill>
          <a:blip r:embed="rId1"/>
          <a:stretch/>
        </p:blipFill>
        <p:spPr>
          <a:xfrm>
            <a:off x="250920" y="260280"/>
            <a:ext cx="6156360" cy="6329520"/>
          </a:xfrm>
          <a:prstGeom prst="rect">
            <a:avLst/>
          </a:prstGeom>
          <a:ln w="0">
            <a:noFill/>
          </a:ln>
        </p:spPr>
      </p:pic>
      <p:sp>
        <p:nvSpPr>
          <p:cNvPr id="191" name="Line 6"/>
          <p:cNvSpPr/>
          <p:nvPr/>
        </p:nvSpPr>
        <p:spPr>
          <a:xfrm>
            <a:off x="611280" y="2133720"/>
            <a:ext cx="547200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069720" y="1341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5508720" y="220500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77880" y="219708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828800" y="579744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835280" y="83664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Line 12"/>
          <p:cNvSpPr/>
          <p:nvPr/>
        </p:nvSpPr>
        <p:spPr>
          <a:xfrm flipV="1">
            <a:off x="1763640" y="836280"/>
            <a:ext cx="0" cy="55450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1774080" y="342900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6588000" y="1628640"/>
                <a:ext cx="16812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6588000" y="2739960"/>
                <a:ext cx="2546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02" name="Picture 5" descr="kopie - 4"/>
          <p:cNvPicPr/>
          <p:nvPr/>
        </p:nvPicPr>
        <p:blipFill>
          <a:blip r:embed="rId1"/>
          <a:stretch/>
        </p:blipFill>
        <p:spPr>
          <a:xfrm>
            <a:off x="250920" y="260280"/>
            <a:ext cx="5919840" cy="6359760"/>
          </a:xfrm>
          <a:prstGeom prst="rect">
            <a:avLst/>
          </a:prstGeom>
          <a:ln w="0">
            <a:noFill/>
          </a:ln>
        </p:spPr>
      </p:pic>
      <p:sp>
        <p:nvSpPr>
          <p:cNvPr id="203" name="Line 6"/>
          <p:cNvSpPr/>
          <p:nvPr/>
        </p:nvSpPr>
        <p:spPr>
          <a:xfrm>
            <a:off x="611280" y="4508640"/>
            <a:ext cx="5400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755640" y="2781360"/>
            <a:ext cx="533088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277440" y="4292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3276720" y="2492280"/>
            <a:ext cx="5760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332000" y="2781360"/>
            <a:ext cx="0" cy="17272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342440" y="306864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39640" y="1628640"/>
            <a:ext cx="547236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3574440" y="83664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5437080" y="1700280"/>
            <a:ext cx="57636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606240" y="169236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6084720" y="1844640"/>
                <a:ext cx="17272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6084720" y="2994120"/>
                <a:ext cx="29671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6" name="Picture 5" descr="kopie - 5"/>
          <p:cNvPicPr/>
          <p:nvPr/>
        </p:nvPicPr>
        <p:blipFill>
          <a:blip r:embed="rId1"/>
          <a:stretch/>
        </p:blipFill>
        <p:spPr>
          <a:xfrm>
            <a:off x="250920" y="260280"/>
            <a:ext cx="5275080" cy="6359760"/>
          </a:xfrm>
          <a:prstGeom prst="rect">
            <a:avLst/>
          </a:prstGeom>
          <a:ln w="0">
            <a:noFill/>
          </a:ln>
        </p:spPr>
      </p:pic>
      <p:sp>
        <p:nvSpPr>
          <p:cNvPr id="217" name="Line 6"/>
          <p:cNvSpPr/>
          <p:nvPr/>
        </p:nvSpPr>
        <p:spPr>
          <a:xfrm flipV="1">
            <a:off x="755640" y="5372280"/>
            <a:ext cx="3960720" cy="144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348720" y="508464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 flipV="1">
            <a:off x="1619280" y="404280"/>
            <a:ext cx="0" cy="496908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629720" y="2133720"/>
            <a:ext cx="6728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692360" y="404640"/>
            <a:ext cx="57600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539640" y="1916280"/>
            <a:ext cx="431964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2494800" y="112536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4284720" y="1989000"/>
            <a:ext cx="576360" cy="10688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606240" y="197964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5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6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5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172e"/>
          </a:solidFill>
          <a:ln w="9360">
            <a:solidFill>
              <a:srgbClr val="0017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6084720" y="1916280"/>
                <a:ext cx="28814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6075360" y="2924280"/>
                <a:ext cx="26002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29" name="Picture 5" descr="kopie - 6"/>
          <p:cNvPicPr/>
          <p:nvPr/>
        </p:nvPicPr>
        <p:blipFill>
          <a:blip r:embed="rId1"/>
          <a:stretch/>
        </p:blipFill>
        <p:spPr>
          <a:xfrm>
            <a:off x="250920" y="260280"/>
            <a:ext cx="5653080" cy="6389640"/>
          </a:xfrm>
          <a:prstGeom prst="rect">
            <a:avLst/>
          </a:prstGeom>
          <a:ln w="0">
            <a:noFill/>
          </a:ln>
        </p:spPr>
      </p:pic>
      <p:sp>
        <p:nvSpPr>
          <p:cNvPr id="230" name="Line 6"/>
          <p:cNvSpPr/>
          <p:nvPr/>
        </p:nvSpPr>
        <p:spPr>
          <a:xfrm>
            <a:off x="2916360" y="404640"/>
            <a:ext cx="0" cy="619308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468360" y="5013360"/>
            <a:ext cx="237492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1702800" y="4149720"/>
            <a:ext cx="644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5003640" y="508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533160" y="507672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2628000" y="3573360"/>
            <a:ext cx="58896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2916360" y="5013360"/>
            <a:ext cx="280800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611280" y="3429000"/>
            <a:ext cx="5184720" cy="0"/>
          </a:xfrm>
          <a:prstGeom prst="line">
            <a:avLst/>
          </a:prstGeom>
          <a:ln cap="rnd" w="5724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1619280" y="404640"/>
            <a:ext cx="0" cy="299412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15"/>
          <p:cNvSpPr/>
          <p:nvPr/>
        </p:nvSpPr>
        <p:spPr>
          <a:xfrm>
            <a:off x="1692360" y="148428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i="1" lang="cs-CZ" sz="40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1692360" y="404640"/>
            <a:ext cx="72072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1685880" y="5950080"/>
            <a:ext cx="69120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–</a:t>
            </a:r>
            <a:r>
              <a:rPr b="1" lang="cs-CZ" sz="3200" spc="-1" strike="noStrike">
                <a:solidFill>
                  <a:srgbClr val="00172e"/>
                </a:solidFill>
                <a:latin typeface="Symbol"/>
                <a:ea typeface="Symbol"/>
              </a:rPr>
              <a:t>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4501800" y="3357720"/>
            <a:ext cx="3848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172e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19"/>
          <p:cNvSpPr/>
          <p:nvPr/>
        </p:nvSpPr>
        <p:spPr>
          <a:xfrm flipV="1">
            <a:off x="1619280" y="3499920"/>
            <a:ext cx="0" cy="302436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5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0" dur="5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5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9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5" dur="5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9:23Z</dcterms:modified>
  <cp:revision>307</cp:revision>
  <dc:subject/>
  <dc:title>FCE</dc:title>
</cp:coreProperties>
</file>