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1FF5-830A-4781-B10E-E241BC230A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E188-0283-4556-9CD6-2380725D94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90E4-8EE2-48A8-BDBE-09153A46D8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úročený vklad + 2. zúročený vklad + ... + poslední zúročený vkl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E76-9874-488B-ABED-778BD37D43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966E-5B84-4683-9443-D6C1F0E8244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15D2-0548-46C0-8D2F-DDAF2AAA7F0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01FC-2BBA-4FA7-9A7D-CF6A943F6D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AD1C-B0C0-427B-869E-96FC3AF1347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A56-AB91-4E1D-87F3-AA2E3DFFB9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FE0B-7CB1-46DE-8E95-C1A096E8196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0DB2-8A25-4430-9CB9-1B8F8BC5E6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B4B-07D7-4D17-B3EE-AD0488F023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9ADF-3D64-4639-B0EC-5A76F72031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D12-C7E3-430E-A7CF-322710BC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D16-B9F1-4B99-8459-4E9A05EC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9D1-6DCC-4CFF-A50F-2D0AC901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DD6-1EB7-4608-B548-C80457A8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BE6-F36E-4A72-8EA8-44813E45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5C0-6006-46D9-BE3F-6F931D33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C33-CF23-4409-B8B4-99622964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283-E6BE-4966-A1C2-8529884C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B7F-2405-495F-86AA-B37A0842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120-05C5-49D9-AA43-5631A21B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A47-1358-47B0-9A20-26819082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F2F-8FF7-4AB5-9D04-FBC74A2D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F02F-23DA-4AB5-9C43-024B8F3B559A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STŘÁD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88000" y="4572000"/>
            <a:ext cx="435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Užití  GP  v praxi</a:t>
            </a:r>
            <a:endParaRPr b="0" lang="en-US" sz="3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15840" y="3284640"/>
            <a:ext cx="29437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součet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členů GP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0"/>
              <p:cNvSpPr txBox="1"/>
              <p:nvPr/>
            </p:nvSpPr>
            <p:spPr>
              <a:xfrm>
                <a:off x="4643280" y="3141720"/>
                <a:ext cx="2521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3"/>
              <p:cNvSpPr txBox="1"/>
              <p:nvPr/>
            </p:nvSpPr>
            <p:spPr>
              <a:xfrm>
                <a:off x="2916360" y="4870440"/>
                <a:ext cx="352728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5"/>
              <p:cNvSpPr txBox="1"/>
              <p:nvPr/>
            </p:nvSpPr>
            <p:spPr>
              <a:xfrm>
                <a:off x="1258920" y="1197000"/>
                <a:ext cx="57452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182600" y="2060640"/>
                <a:ext cx="7115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elková nastřádaná částk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50920" y="2133720"/>
            <a:ext cx="6337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2637000"/>
            <a:ext cx="0" cy="720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4941720"/>
            <a:ext cx="3816360" cy="158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70160" y="37162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a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70520" y="41497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= r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92480" y="4221000"/>
            <a:ext cx="54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(každý následující sčítanec – člen GP je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krát větší)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Ze základního vzor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který vyjadřuje velikost nastřádané částky po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dvodím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klad, anuita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20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čet let, po které vklady střádáme, </a:t>
            </a: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Object 23"/>
              <p:cNvSpPr txBox="1"/>
              <p:nvPr/>
            </p:nvSpPr>
            <p:spPr>
              <a:xfrm>
                <a:off x="1476360" y="836640"/>
                <a:ext cx="1835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47636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119700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3"/>
              <p:cNvSpPr txBox="1"/>
              <p:nvPr/>
            </p:nvSpPr>
            <p:spPr>
              <a:xfrm>
                <a:off x="3995640" y="2959200"/>
                <a:ext cx="5763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1692360" y="1773360"/>
                <a:ext cx="1834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476360" y="5084640"/>
                <a:ext cx="281772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3"/>
              <p:cNvSpPr txBox="1"/>
              <p:nvPr/>
            </p:nvSpPr>
            <p:spPr>
              <a:xfrm>
                <a:off x="1488960" y="2708280"/>
                <a:ext cx="2082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3"/>
              <p:cNvSpPr txBox="1"/>
              <p:nvPr/>
            </p:nvSpPr>
            <p:spPr>
              <a:xfrm>
                <a:off x="1765440" y="3789360"/>
                <a:ext cx="18637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3"/>
              <p:cNvSpPr txBox="1"/>
              <p:nvPr/>
            </p:nvSpPr>
            <p:spPr>
              <a:xfrm>
                <a:off x="3995640" y="3789360"/>
                <a:ext cx="1154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3618360" y="1125360"/>
            <a:ext cx="55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nejprve zaměníme pro lepší orientac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3"/>
              <p:cNvSpPr txBox="1"/>
              <p:nvPr/>
            </p:nvSpPr>
            <p:spPr>
              <a:xfrm>
                <a:off x="5148360" y="3860640"/>
                <a:ext cx="13208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40360" y="3789360"/>
            <a:ext cx="1008000" cy="9349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1908000" y="620640"/>
                <a:ext cx="16560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Rectangle 3"/>
          <p:cNvSpPr/>
          <p:nvPr/>
        </p:nvSpPr>
        <p:spPr>
          <a:xfrm>
            <a:off x="1403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87640" y="692280"/>
            <a:ext cx="216000" cy="2174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17440"/>
              <a:gd name="textAreaBottom" fmla="*/ 207000 h 217440"/>
            </a:gdLst>
            <a:ahLst/>
            <a:rect l="textAreaLeft" t="textAreaTop" r="textAreaRight" b="textAreaBottom"/>
            <a:pathLst>
              <a:path w="21600" h="21744">
                <a:moveTo>
                  <a:pt x="3600" y="0"/>
                </a:moveTo>
                <a:arcTo wR="3600" hR="3600" stAng="16200000" swAng="-5400000"/>
                <a:lnTo>
                  <a:pt x="0" y="18144"/>
                </a:lnTo>
                <a:arcTo wR="3600" hR="3600" stAng="10800000" swAng="-5400000"/>
                <a:lnTo>
                  <a:pt x="18000" y="217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620640"/>
            <a:ext cx="7273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3780000" y="1584360"/>
                <a:ext cx="158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375440" y="299736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3"/>
              <p:cNvSpPr txBox="1"/>
              <p:nvPr/>
            </p:nvSpPr>
            <p:spPr>
              <a:xfrm>
                <a:off x="4809960" y="4005360"/>
                <a:ext cx="4334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žijeme vzorec: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3"/>
              <p:cNvSpPr txBox="1"/>
              <p:nvPr/>
            </p:nvSpPr>
            <p:spPr>
              <a:xfrm>
                <a:off x="4786200" y="4863960"/>
                <a:ext cx="93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867280" y="5084640"/>
                <a:ext cx="30765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23"/>
              <p:cNvSpPr txBox="1"/>
              <p:nvPr/>
            </p:nvSpPr>
            <p:spPr>
              <a:xfrm>
                <a:off x="1619280" y="2205000"/>
                <a:ext cx="21463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23"/>
              <p:cNvSpPr txBox="1"/>
              <p:nvPr/>
            </p:nvSpPr>
            <p:spPr>
              <a:xfrm>
                <a:off x="1979640" y="2997360"/>
                <a:ext cx="21463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3"/>
              <p:cNvSpPr txBox="1"/>
              <p:nvPr/>
            </p:nvSpPr>
            <p:spPr>
              <a:xfrm>
                <a:off x="1332000" y="3789360"/>
                <a:ext cx="3182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1187280" y="4726080"/>
                <a:ext cx="3354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1116000" y="1339920"/>
                <a:ext cx="1728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3923280" y="8366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áměna stra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0920" y="228600"/>
            <a:ext cx="7988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0 000,- Kč placenými vždy počátkem roku               za 5 let při 2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99640" y="2438280"/>
            <a:ext cx="7969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23"/>
              <p:cNvSpPr txBox="1"/>
              <p:nvPr/>
            </p:nvSpPr>
            <p:spPr>
              <a:xfrm>
                <a:off x="971640" y="5300640"/>
                <a:ext cx="233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3"/>
              <p:cNvSpPr txBox="1"/>
              <p:nvPr/>
            </p:nvSpPr>
            <p:spPr>
              <a:xfrm>
                <a:off x="3203640" y="5300640"/>
                <a:ext cx="38019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6967440" y="5587920"/>
                <a:ext cx="21765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877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20 let nastřádali 1 000 000,- Kč         při 3,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2437920"/>
            <a:ext cx="787896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 00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,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1116000" y="5300640"/>
                <a:ext cx="22384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348000" y="5373720"/>
                <a:ext cx="36194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0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3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997680" y="5589720"/>
                <a:ext cx="21463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 165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3457080" y="3932280"/>
            <a:ext cx="727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40720" y="3933720"/>
            <a:ext cx="134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35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nastřádám 150 000,- Kč pravidelnými počátkem roku placenými vklady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18 000,- Kč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6"/>
              <p:cNvSpPr txBox="1"/>
              <p:nvPr/>
            </p:nvSpPr>
            <p:spPr>
              <a:xfrm>
                <a:off x="1042920" y="5013360"/>
                <a:ext cx="30592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878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5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18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68000" y="386064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640" y="3860640"/>
            <a:ext cx="115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6"/>
              <p:cNvSpPr txBox="1"/>
              <p:nvPr/>
            </p:nvSpPr>
            <p:spPr>
              <a:xfrm>
                <a:off x="4067280" y="5084640"/>
                <a:ext cx="3456000" cy="14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0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6"/>
              <p:cNvSpPr txBox="1"/>
              <p:nvPr/>
            </p:nvSpPr>
            <p:spPr>
              <a:xfrm>
                <a:off x="7596360" y="5805360"/>
                <a:ext cx="138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5 000,- Kč placenými vždy počátkem roku za 6 let při 9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nastřádáme za 10 let pravidelnými počátkem roku placenými vklady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4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8 % p.a., b) 10 % p.a., c) 1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41 002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75 492,- Kč, b) 420 748,- Kč, c) 471 71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23569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5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ve stejných časových  intervalech ukládáme stále stejnou částku, tzv. vklad (anuita)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5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 000 000,- Kč při 9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7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lik musíme ukládat počátkem každého roku, abychom za 10 let nastřádal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500 000,- 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) 7 % p.a., b) 9 % p.a., c) 11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51 084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3 821,- Kč, b) 30 193,- Kč, c) 26 9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914400" y="476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400 000,- Kč pravidelnými počátkem roku placenými vklady 40 000,- Kč při 10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8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nastřádám 120 000,- Kč pravidelnými počátkem roku placenými vklady 10 000,- Kč př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5 % p.a., b) 10 % p.a., c) 1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59436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700" spc="-1" strike="noStrike">
                <a:solidFill>
                  <a:srgbClr val="ffff00"/>
                </a:solidFill>
                <a:latin typeface="Times New Roman"/>
              </a:rPr>
              <a:t>a) 9 let a 3 měs., b) 7 let a 9 měs., c) 6 let a 9 měs.</a:t>
            </a: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8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70–7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nastřádaná částk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vklad, anuit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10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333000"/>
            <a:ext cx="76518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astřádaná částk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r>
              <a:rPr b="0" i="1" lang="cs-CZ" sz="32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2000" y="830160"/>
            <a:ext cx="7196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finanční hodnota, kterou nastřádáme, (naspoříme) po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úrokovacích obdobíc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198900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klad, anuit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692360" y="2506680"/>
            <a:ext cx="71960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avidelně ukládaná částka, vždy počátkem úrokovacího obdob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187280" y="3629160"/>
            <a:ext cx="76518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692360" y="4148280"/>
            <a:ext cx="7196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2800" indent="-4428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ýše odměny vyjádřená v procentech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187280" y="4941720"/>
            <a:ext cx="76518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2268360" y="5661000"/>
                <a:ext cx="19447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920" y="456840"/>
            <a:ext cx="765648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257480" y="1268280"/>
            <a:ext cx="7886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nastřádáme pravidelnými ročními vklady         10 000,- Kč placenými vždy počátkem roku               za 4 roky při 5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258920" y="2708280"/>
            <a:ext cx="752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1258920" y="3357720"/>
            <a:ext cx="115236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2050920" y="335772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Rectangle 22"/>
          <p:cNvSpPr/>
          <p:nvPr/>
        </p:nvSpPr>
        <p:spPr>
          <a:xfrm>
            <a:off x="2050920" y="393228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Rectangle 22"/>
          <p:cNvSpPr/>
          <p:nvPr/>
        </p:nvSpPr>
        <p:spPr>
          <a:xfrm>
            <a:off x="2050920" y="4508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5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3564000" y="4508640"/>
            <a:ext cx="255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4427640" y="4508640"/>
            <a:ext cx="255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= 1,05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050920" y="5084640"/>
            <a:ext cx="2521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26028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13080" y="763560"/>
            <a:ext cx="655308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26880" y="260280"/>
            <a:ext cx="27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Times New Roman"/>
              </a:rPr>
              <a:t>úroky (5 %) / Kč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4872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3308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09440" y="692280"/>
            <a:ext cx="753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360" y="4076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360" y="4653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2360" y="5229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2360" y="58053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4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46560" y="4651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46560" y="522756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46560" y="58024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1268280"/>
            <a:ext cx="65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260280"/>
            <a:ext cx="0" cy="5904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3860640"/>
            <a:ext cx="0" cy="230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410920" y="260280"/>
            <a:ext cx="180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059280" y="763560"/>
            <a:ext cx="144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86064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11280" y="443556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3272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355640" y="763560"/>
            <a:ext cx="180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164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00720" y="763560"/>
            <a:ext cx="0" cy="54007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42756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17080" y="1195560"/>
            <a:ext cx="0" cy="4968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964720" y="260280"/>
            <a:ext cx="1440" cy="59040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836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3427560"/>
            <a:ext cx="12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9280" y="3427560"/>
            <a:ext cx="64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6560" y="40752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42756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40720" y="34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2000" y="34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342756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59640" y="1195560"/>
            <a:ext cx="36036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vklad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013360"/>
            <a:ext cx="8353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280" y="558972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11280" y="6164280"/>
            <a:ext cx="835344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9080" y="407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04360" y="3786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93080" y="1195560"/>
            <a:ext cx="36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ddddd"/>
                </a:solidFill>
                <a:latin typeface="Times New Roman"/>
              </a:rPr>
              <a:t>úroku</a:t>
            </a:r>
            <a:endParaRPr b="0" lang="en-US" sz="2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4908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4075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8360" y="4651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522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5803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2720" y="4076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6836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12720" y="465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68360" y="436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720" y="5227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49080" y="378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20000" y="4075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20000" y="46512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860640"/>
            <a:ext cx="8353440" cy="230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00" y="4581360"/>
            <a:ext cx="50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6253200"/>
            <a:ext cx="8459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nastřádáme za 4 roky 45 256,–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0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(střád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484280"/>
            <a:ext cx="7970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ednotlivé vklady se neúročí stejně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45720" indent="-49752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z prvního roku „vynese“ rozhodně více, než vklad vložen rok poslední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4776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 úročení vkladů za jednotlivá období využijeme vzorce z předešlé kapitol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á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3780000" y="4005360"/>
                <a:ext cx="18000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780000" y="4005360"/>
            <a:ext cx="647640" cy="79200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92000"/>
              <a:gd name="textAreaBottom" fmla="*/ 760680 h 792000"/>
            </a:gdLst>
            <a:ahLst/>
            <a:rect l="textAreaLeft" t="textAreaTop" r="textAreaRight" b="textAreaBottom"/>
            <a:pathLst>
              <a:path w="21600" h="26412">
                <a:moveTo>
                  <a:pt x="3600" y="0"/>
                </a:moveTo>
                <a:arcTo wR="3600" hR="3600" stAng="16200000" swAng="-5400000"/>
                <a:lnTo>
                  <a:pt x="0" y="22812"/>
                </a:lnTo>
                <a:arcTo wR="3600" hR="3600" stAng="10800000" swAng="-5400000"/>
                <a:lnTo>
                  <a:pt x="18000" y="264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522936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ečná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rčována vždy za 1 ro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522936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čáteční jisti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klad na počátku jednotlivých obdob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843280" y="4797360"/>
            <a:ext cx="122544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4005360"/>
            <a:ext cx="288720" cy="79200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792000"/>
              <a:gd name="textAreaBottom" fmla="*/ 777960 h 792000"/>
            </a:gdLst>
            <a:ahLst/>
            <a:rect l="textAreaLeft" t="textAreaTop" r="textAreaRight" b="textAreaBottom"/>
            <a:pathLst>
              <a:path w="21600" h="59205">
                <a:moveTo>
                  <a:pt x="3600" y="0"/>
                </a:moveTo>
                <a:arcTo wR="3600" hR="3600" stAng="16200000" swAng="-5400000"/>
                <a:lnTo>
                  <a:pt x="0" y="55605"/>
                </a:lnTo>
                <a:arcTo wR="3600" hR="3600" stAng="10800000" swAng="-5400000"/>
                <a:lnTo>
                  <a:pt x="18000" y="5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48200" y="4797360"/>
            <a:ext cx="163980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920" y="138924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1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2920" y="203688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2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2920" y="268452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3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2920" y="3332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4. vkla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820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8200" y="20606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8200" y="270828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18200" y="33559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0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436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55280" y="141300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,06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8292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1399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0" y="3787920"/>
            <a:ext cx="914400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0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33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19875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8000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7744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17080" y="14130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17080" y="2060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17080" y="2708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17080" y="33559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85800" y="141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4144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85800" y="206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1440" y="1771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880" y="2709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49080" y="112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3080" y="1413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206208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,2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49360" y="3932280"/>
            <a:ext cx="459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...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elková nastřádaná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47640" y="404640"/>
            <a:ext cx="404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Times New Roman"/>
              </a:rPr>
              <a:t>vklad a z něj vzniklé úro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56360" y="119556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5274360" y="-2674080"/>
            <a:ext cx="287640" cy="7451640"/>
          </a:xfrm>
          <a:custGeom>
            <a:avLst/>
            <a:gdLst>
              <a:gd name="textAreaLeft" fmla="*/ 0 w 287640"/>
              <a:gd name="textAreaRight" fmla="*/ 103680 w 287640"/>
              <a:gd name="textAreaTop" fmla="*/ 194040 h 7451640"/>
              <a:gd name="textAreaBottom" fmla="*/ 7257600 h 745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0" y="126828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692360" y="1195560"/>
            <a:ext cx="7451640" cy="64908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20"/>
              <p:cNvSpPr txBox="1"/>
              <p:nvPr/>
            </p:nvSpPr>
            <p:spPr>
              <a:xfrm>
                <a:off x="1979640" y="1268280"/>
                <a:ext cx="4906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92360" y="184464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0"/>
              <p:cNvSpPr txBox="1"/>
              <p:nvPr/>
            </p:nvSpPr>
            <p:spPr>
              <a:xfrm>
                <a:off x="1979640" y="1916280"/>
                <a:ext cx="4535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7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92360" y="249228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2046240" y="2550960"/>
                <a:ext cx="4402080" cy="5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  02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692360" y="3139920"/>
            <a:ext cx="7451640" cy="649440"/>
          </a:xfrm>
          <a:prstGeom prst="rect">
            <a:avLst/>
          </a:prstGeom>
          <a:solidFill>
            <a:srgbClr val="00172e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0"/>
              <p:cNvSpPr txBox="1"/>
              <p:nvPr/>
            </p:nvSpPr>
            <p:spPr>
              <a:xfrm>
                <a:off x="2046240" y="3211560"/>
                <a:ext cx="440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000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,0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64360" y="119556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. vklad se úročí nejdéle a proto „vynese“ největší část zisk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0"/>
              <p:cNvSpPr txBox="1"/>
              <p:nvPr/>
            </p:nvSpPr>
            <p:spPr>
              <a:xfrm>
                <a:off x="0" y="1916280"/>
                <a:ext cx="159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0"/>
              <p:cNvSpPr txBox="1"/>
              <p:nvPr/>
            </p:nvSpPr>
            <p:spPr>
              <a:xfrm>
                <a:off x="0" y="2563920"/>
                <a:ext cx="16178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0"/>
              <p:cNvSpPr txBox="1"/>
              <p:nvPr/>
            </p:nvSpPr>
            <p:spPr>
              <a:xfrm>
                <a:off x="468360" y="2995560"/>
                <a:ext cx="1587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0"/>
              <p:cNvSpPr txBox="1"/>
              <p:nvPr/>
            </p:nvSpPr>
            <p:spPr>
              <a:xfrm>
                <a:off x="0" y="3211560"/>
                <a:ext cx="13525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1195560"/>
            <a:ext cx="9144000" cy="259236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"/>
              <p:cNvSpPr txBox="1"/>
              <p:nvPr/>
            </p:nvSpPr>
            <p:spPr>
              <a:xfrm>
                <a:off x="1979640" y="4724280"/>
                <a:ext cx="57452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7164360" y="2492280"/>
            <a:ext cx="19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aopak poslední vklad  „vynese“ pouze jeden úrok z vklad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41300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708280"/>
            <a:ext cx="223920" cy="914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5400" y="18000"/>
                  <a:pt x="0" y="18000"/>
                </a:cubicBezTo>
                <a:cubicBezTo>
                  <a:pt x="54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57340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čítance seřazeny tak, aby měli postupně vzrůstající hodnotu, tj. od posledního vkladu až po první vklad a z nich vznikl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07Z</dcterms:modified>
  <cp:revision>97</cp:revision>
  <dc:subject/>
  <dc:title>Posloupnosti</dc:title>
</cp:coreProperties>
</file>