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4C6-2FD9-4C15-9684-6ADD70429B2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5A36-1A91-432B-8D04-BFB96D8AC2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4B8-7F85-4D5F-989A-B7645F9DD2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1715-AA24-4811-9F49-225D38A6A3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8A9C-0E19-4DE5-B8AA-B3FB0C327D3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1E7D-5575-40A4-8F53-F60A8701631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359-056B-4CB3-A0BD-5EBD4293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44D-D192-4555-8ED1-03754C7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D77-74B2-4F10-B7AD-225F8A28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30B-64BA-43F4-9C8F-E97CFD80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B063-13C7-4C36-B769-E53EA29C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BB43-2C7F-45EA-BB75-102D701A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B656-92F4-47A4-84DD-2D58343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7D94-C4D1-4852-B9AF-D2EB978D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B4F9-01FA-4BE8-A161-6D4EB7A5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1F5D-3A7C-47A9-B5B5-FCAE13AA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E4E-618A-46ED-BC5F-878B25A6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B74-24E2-41CD-93B1-FFC8EA5B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A432-1D59-4D12-B032-D602397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68D3-D9DB-4F24-A89B-797DA22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144-F4C3-40C5-A117-826FB79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CC8-730B-4472-BF80-87394BF3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DD1-5AB7-4629-B655-49304883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D5F-7EC6-4DD2-A2AE-52890886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DBC-103C-46FE-B4D9-EE88E025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497-4179-432B-B31B-1C7A848E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EAA-57A3-48BE-849D-E75869D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25F-F740-492B-868A-30159105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77D-2A99-4709-BF11-A38B50D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05D-023D-4556-BA16-9DE2992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692E-753E-4FD5-840E-732C837A3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F47-8E3B-4EAC-9C7D-501159ED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34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64 = 0  vložte 9 čísel tak, aby s kořeny rovnice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1547640" y="2637000"/>
                <a:ext cx="979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7"/>
              <p:cNvSpPr txBox="1"/>
              <p:nvPr/>
            </p:nvSpPr>
            <p:spPr>
              <a:xfrm>
                <a:off x="1692360" y="3716280"/>
                <a:ext cx="1458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7"/>
              <p:cNvSpPr txBox="1"/>
              <p:nvPr/>
            </p:nvSpPr>
            <p:spPr>
              <a:xfrm>
                <a:off x="2268360" y="4581360"/>
                <a:ext cx="457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3"/>
          <p:cNvSpPr/>
          <p:nvPr/>
        </p:nvSpPr>
        <p:spPr>
          <a:xfrm>
            <a:off x="2268360" y="3645000"/>
            <a:ext cx="3313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 čísel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6084720" y="2781360"/>
                <a:ext cx="2338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6227640" y="3556080"/>
                <a:ext cx="211788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6211800" y="4132440"/>
                <a:ext cx="15336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427800" y="470844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979640" y="3357720"/>
            <a:ext cx="144360" cy="1079280"/>
          </a:xfrm>
          <a:custGeom>
            <a:avLst/>
            <a:gdLst>
              <a:gd name="textAreaLeft" fmla="*/ 0 w 144360"/>
              <a:gd name="textAreaRight" fmla="*/ 5220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32000" y="5373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ých devět čísel tvoří množinu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7"/>
              <p:cNvSpPr txBox="1"/>
              <p:nvPr/>
            </p:nvSpPr>
            <p:spPr>
              <a:xfrm>
                <a:off x="1411200" y="4510080"/>
                <a:ext cx="849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547640" y="1268280"/>
                <a:ext cx="2664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8920" y="1916280"/>
                <a:ext cx="2994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4427640" y="1916280"/>
                <a:ext cx="2855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132000" y="5950080"/>
                <a:ext cx="52945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0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5 musíme sečíst, aby byl součet  –17 32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1836720" y="177336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2987640" y="765000"/>
            <a:ext cx="129708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2268360" y="1557360"/>
                <a:ext cx="224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2557440" y="1628640"/>
            <a:ext cx="432000" cy="433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29080" y="1125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5902200" y="1484280"/>
                <a:ext cx="32418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5902200" y="90792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5940360" y="1916280"/>
                <a:ext cx="24782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5940360" y="2349360"/>
                <a:ext cx="19335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76" name=""/>
          <p:cNvCxnSpPr>
            <a:stCxn id="268" idx="1"/>
          </p:cNvCxnSpPr>
          <p:nvPr/>
        </p:nvCxnSpPr>
        <p:spPr>
          <a:xfrm flipV="1" rot="10800000">
            <a:off x="2071080" y="982440"/>
            <a:ext cx="902160" cy="79128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7" name="Object 4"/>
              <p:cNvSpPr txBox="1"/>
              <p:nvPr/>
            </p:nvSpPr>
            <p:spPr>
              <a:xfrm>
                <a:off x="971640" y="2565360"/>
                <a:ext cx="43923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32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5435640" y="2925720"/>
                <a:ext cx="5572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4"/>
              <p:cNvSpPr txBox="1"/>
              <p:nvPr/>
            </p:nvSpPr>
            <p:spPr>
              <a:xfrm>
                <a:off x="900000" y="3492360"/>
                <a:ext cx="3452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900000" y="3933720"/>
                <a:ext cx="32068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46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211640" y="407664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1258920" y="4508640"/>
                <a:ext cx="31021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3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4716360" y="4653000"/>
                <a:ext cx="17449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8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1908000" y="5157720"/>
                <a:ext cx="2370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16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4643280" y="5137200"/>
                <a:ext cx="122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5940360" y="513720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4572000" y="5713560"/>
                <a:ext cx="149868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5940360" y="5722920"/>
                <a:ext cx="7318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6372360" y="4508640"/>
                <a:ext cx="1778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3852720" y="1844640"/>
            <a:ext cx="576360" cy="5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0" idx="0"/>
          </p:cNvCxnSpPr>
          <p:nvPr/>
        </p:nvCxnSpPr>
        <p:spPr>
          <a:xfrm flipH="1" flipV="1" rot="5400000">
            <a:off x="4733640" y="656640"/>
            <a:ext cx="577080" cy="17611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 flipV="1">
            <a:off x="4284720" y="549720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84720" y="571356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90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00000" y="189000"/>
            <a:ext cx="82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olik členů AP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6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4  musíme sečíst, aby byl součet  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1403280" y="2060640"/>
                <a:ext cx="46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2987640" y="765000"/>
            <a:ext cx="5047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835280" y="1881360"/>
                <a:ext cx="216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2124000" y="1989000"/>
            <a:ext cx="358920" cy="360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1484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5905440" y="3429000"/>
                <a:ext cx="2774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5867280" y="2852640"/>
                <a:ext cx="280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905440" y="3860640"/>
                <a:ext cx="24782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5905440" y="4292640"/>
                <a:ext cx="1763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5" name=""/>
          <p:cNvCxnSpPr>
            <a:stCxn id="297" idx="1"/>
          </p:cNvCxnSpPr>
          <p:nvPr/>
        </p:nvCxnSpPr>
        <p:spPr>
          <a:xfrm flipV="1" rot="10800000">
            <a:off x="1637640" y="982800"/>
            <a:ext cx="1335600" cy="1078200"/>
          </a:xfrm>
          <a:prstGeom prst="curvedConnector2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403280" y="2708280"/>
                <a:ext cx="32400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4643280" y="2997360"/>
                <a:ext cx="557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258920" y="3573360"/>
                <a:ext cx="2663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258920" y="4024440"/>
                <a:ext cx="24256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3924360" y="4149720"/>
                <a:ext cx="650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1619280" y="4581360"/>
                <a:ext cx="245916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2268360" y="5805360"/>
                <a:ext cx="3096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248436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4"/>
              <p:cNvSpPr txBox="1"/>
              <p:nvPr/>
            </p:nvSpPr>
            <p:spPr>
              <a:xfrm>
                <a:off x="3635280" y="5805360"/>
                <a:ext cx="75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4284720" y="5805360"/>
                <a:ext cx="720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3348000" y="2133720"/>
            <a:ext cx="576360" cy="5760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6"/>
          </p:cNvCxnSpPr>
          <p:nvPr/>
        </p:nvCxnSpPr>
        <p:spPr>
          <a:xfrm>
            <a:off x="3943440" y="2422080"/>
            <a:ext cx="1924560" cy="772200"/>
          </a:xfrm>
          <a:prstGeom prst="curvedConnector5">
            <a:avLst>
              <a:gd name="adj1" fmla="val 59232"/>
              <a:gd name="adj2" fmla="val 50000"/>
              <a:gd name="adj3" fmla="val 59232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 flipH="1">
            <a:off x="2555640" y="5589720"/>
            <a:ext cx="14436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35280" y="5589720"/>
            <a:ext cx="144720" cy="288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1187280" y="621036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třeba sečíst prvních 6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4859280" y="836640"/>
                <a:ext cx="18684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21120" y="1398600"/>
                <a:ext cx="183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5003640" y="1771560"/>
                <a:ext cx="1011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5003640" y="2131920"/>
                <a:ext cx="851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7020000" y="836640"/>
                <a:ext cx="1806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4"/>
              <p:cNvSpPr txBox="1"/>
              <p:nvPr/>
            </p:nvSpPr>
            <p:spPr>
              <a:xfrm>
                <a:off x="7128000" y="1368360"/>
                <a:ext cx="15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7128000" y="1801800"/>
                <a:ext cx="1042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1619280" y="5157720"/>
                <a:ext cx="2662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3780000" y="260280"/>
            <a:ext cx="2376360" cy="50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836640"/>
            <a:ext cx="417672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042920" y="1844640"/>
            <a:ext cx="8101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trany pravoúhlého trojúhelníka tvoří AP, přičemž delší z odvěsen měří        12 cm. Vypočtěte zbylé strany, obvod   a obsah trojúhelníka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trany trojúhelníka obvykle značíme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ale protože tvoří AP, přejdeme ke značení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1116000" y="189000"/>
                <a:ext cx="2125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124000" y="4857840"/>
                <a:ext cx="3841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1763640" y="1486080"/>
            <a:ext cx="1297080" cy="3384360"/>
          </a:xfrm>
          <a:prstGeom prst="rtTriangl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6000" y="18900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o rostoucí AP je diference kladná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 proto seřadíme strany nejlépe od nejkratší (kratší z odvěsen) po nejdelší (přepona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1116000" y="3357720"/>
                <a:ext cx="412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2195640" y="2278080"/>
                <a:ext cx="412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Rectangle 3"/>
          <p:cNvSpPr/>
          <p:nvPr/>
        </p:nvSpPr>
        <p:spPr>
          <a:xfrm>
            <a:off x="1116000" y="189000"/>
            <a:ext cx="802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ojici, která tvoří AP, nejlépe vyjádříme zafixováním prostředního (druhého) členu – viz zadání, protože první pak bude o diferenci menší, poslední (třetí) o diferenci větš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96040" y="525924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kratší = kratší z odvěse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8920" y="184464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ejdelší = přepo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2482920" y="486900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4"/>
              <p:cNvSpPr txBox="1"/>
              <p:nvPr/>
            </p:nvSpPr>
            <p:spPr>
              <a:xfrm>
                <a:off x="2627280" y="2276640"/>
                <a:ext cx="135900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4"/>
              <p:cNvSpPr txBox="1"/>
              <p:nvPr/>
            </p:nvSpPr>
            <p:spPr>
              <a:xfrm>
                <a:off x="3205080" y="189000"/>
                <a:ext cx="2160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00" y="765000"/>
                <a:ext cx="1549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2700360" y="692280"/>
                <a:ext cx="13669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Rectangle 3"/>
          <p:cNvSpPr/>
          <p:nvPr/>
        </p:nvSpPr>
        <p:spPr>
          <a:xfrm>
            <a:off x="5219640" y="1197000"/>
            <a:ext cx="39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jprve musíme ovšem určit délky stran, pro které platí Pythagorova vě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4"/>
              <p:cNvSpPr txBox="1"/>
              <p:nvPr/>
            </p:nvSpPr>
            <p:spPr>
              <a:xfrm>
                <a:off x="5292720" y="1484280"/>
                <a:ext cx="2733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180040" y="2219400"/>
                <a:ext cx="3456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560760" y="2781360"/>
                <a:ext cx="55832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d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4"/>
              <p:cNvSpPr txBox="1"/>
              <p:nvPr/>
            </p:nvSpPr>
            <p:spPr>
              <a:xfrm>
                <a:off x="6012000" y="3430440"/>
                <a:ext cx="15364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 flipV="1">
            <a:off x="370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9272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948360" y="2854080"/>
            <a:ext cx="43200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8712360" y="2854080"/>
            <a:ext cx="431640" cy="43164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6300720" y="3933720"/>
                <a:ext cx="8557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3780000" y="4869000"/>
                <a:ext cx="707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4"/>
              <p:cNvSpPr txBox="1"/>
              <p:nvPr/>
            </p:nvSpPr>
            <p:spPr>
              <a:xfrm>
                <a:off x="3851280" y="2276640"/>
                <a:ext cx="8557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5153040" y="4495680"/>
                <a:ext cx="23302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7529400" y="449568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Rectangle 3"/>
          <p:cNvSpPr/>
          <p:nvPr/>
        </p:nvSpPr>
        <p:spPr>
          <a:xfrm>
            <a:off x="1116000" y="587700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rany trojúhelníka mají délky 9 cm, 12 cm, 15 cm. Obvod trojúhelníka je 36 cm, obsah 54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148360" y="4869000"/>
                <a:ext cx="1622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6804000" y="5084640"/>
                <a:ext cx="885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1476360" y="3357720"/>
                <a:ext cx="8571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1332000" y="4437000"/>
            <a:ext cx="86328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08000" y="4653000"/>
            <a:ext cx="71640" cy="71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763416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říklady pro samostatné řešení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114800"/>
            <a:ext cx="7164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ritmetická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3"/>
          <p:cNvSpPr/>
          <p:nvPr/>
        </p:nvSpPr>
        <p:spPr>
          <a:xfrm>
            <a:off x="1042920" y="260280"/>
            <a:ext cx="810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které AP o deseti členech je součet prostředních dvou členů 55 a součin krajních členů 250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1042920" y="2421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 5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7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0  a součet prvních tří členů je dvanác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042920" y="1413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5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042920" y="3573360"/>
            <a:ext cx="810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1042920" y="4653000"/>
            <a:ext cx="81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AP, v níž prvních pět členů dává součet 30 a součet jejich čtverců je 220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042920" y="5805360"/>
            <a:ext cx="8101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394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3"/>
          <p:cNvSpPr/>
          <p:nvPr/>
        </p:nvSpPr>
        <p:spPr>
          <a:xfrm>
            <a:off x="1042920" y="47628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ětičlenné AP je součin druhého a čtvrtého členu roven osmi pětinám součinu krajních členů. Součet druhých mocnin všech členů je 220. Určete tuto posloup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042920" y="234792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1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2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>
              <a:spcBef>
                <a:spcPts val="700"/>
              </a:spcBef>
              <a:tabLst>
                <a:tab algn="l" pos="0"/>
                <a:tab algn="l" pos="4121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3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2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P4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10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´´´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042920" y="429264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AP  30, 27, 24, ... najděte člen, který se rovná jedné osmině součtu všech předcházejíc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1042920" y="530064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15;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–6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042920" y="40464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Železné roury jsou srovnány v 10 řadách nad sebou tak, že vrchní řada má 15 trubek a každá další řada o 1 více. Kolik je všech trub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042920" y="1844640"/>
            <a:ext cx="810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95 kus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042920" y="3213000"/>
            <a:ext cx="8101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Teplota Země přibývá o 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 na 33 m. Jak velká je teplota v šachtě hluboké 1015 m, je-li v hloubce 25 m stálá teplota +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Teplota tvoří pořadí členů, hloubk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šachty jejich hodnot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1042920" y="5589720"/>
            <a:ext cx="8101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+39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°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1042920" y="3645000"/>
            <a:ext cx="8101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terý člen posloupnosti přirozených čísel se rovná součtu všech předcházejících členů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tabLst>
                <a:tab algn="l" pos="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Uvědomte si nejprve vše, co znáte o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i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042920" y="333360"/>
            <a:ext cx="810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kořeny rovnice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12 = 0  vložte          13 čísel tak, aby s kořeny rovnice tvořila prvních patnáct členů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1042920" y="5518080"/>
            <a:ext cx="81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4"/>
              <p:cNvSpPr txBox="1"/>
              <p:nvPr/>
            </p:nvSpPr>
            <p:spPr>
              <a:xfrm>
                <a:off x="1619280" y="1844640"/>
                <a:ext cx="69022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i zadání příkladů pouze s výsledky pro samostatné procvičen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1042920" y="333360"/>
            <a:ext cx="8101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rozměry kvádru, které tvoří tři po sobě jdoucí členy AP a jejichž součet je 18 cm, je-li objem kvádru 120 cm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1042920" y="1773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cm; 6 cm; 10 cm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neb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10 cm; 6 cm; 2 c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1042920" y="2997360"/>
            <a:ext cx="810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rany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becného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trojúhelníka, které se dají vyjádřit třemi po sobě jdoucími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mi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čísly, je-li obsah trojúhelní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Pro vyjádření obsahu trojúhelníka použijte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eronův vzorec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1042920" y="5805360"/>
            <a:ext cx="81010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cm; 6 cm; 7 c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932360" y="4005360"/>
                <a:ext cx="1584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2205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P – příklady se zamyšlení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2" name="Object 7"/>
              <p:cNvSpPr txBox="1"/>
              <p:nvPr/>
            </p:nvSpPr>
            <p:spPr>
              <a:xfrm>
                <a:off x="1474920" y="1341360"/>
                <a:ext cx="166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619280" y="616572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o členů dané AP dává součet 24 8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1619280" y="3645000"/>
                <a:ext cx="34336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4292640"/>
                <a:ext cx="3105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796000" y="3573360"/>
                <a:ext cx="2557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867280" y="4149720"/>
                <a:ext cx="2482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3635280" y="1268280"/>
                <a:ext cx="1403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619280" y="1916280"/>
                <a:ext cx="156672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3635280" y="1844640"/>
                <a:ext cx="1535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1547640" y="2492280"/>
                <a:ext cx="176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 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635280" y="2492280"/>
                <a:ext cx="1633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651640" y="1844640"/>
                <a:ext cx="1274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867280" y="4653000"/>
                <a:ext cx="1789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8760" y="5013360"/>
                <a:ext cx="2226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1280" y="1484280"/>
            <a:ext cx="215640" cy="1224000"/>
          </a:xfrm>
          <a:custGeom>
            <a:avLst/>
            <a:gdLst>
              <a:gd name="textAreaLeft" fmla="*/ 0 w 215640"/>
              <a:gd name="textAreaRight" fmla="*/ 7776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2920" y="260280"/>
            <a:ext cx="810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sto přirozených čísel, jejichž zbytek po dělení číslem pět je jedn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900000" y="260280"/>
            <a:ext cx="82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dvojcifer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042920" y="6093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oučet všech přirozených dvojciferných čísel je 4 90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5776920" y="3664080"/>
                <a:ext cx="2995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68800" y="5535720"/>
                <a:ext cx="11318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7"/>
              <p:cNvSpPr txBox="1"/>
              <p:nvPr/>
            </p:nvSpPr>
            <p:spPr>
              <a:xfrm>
                <a:off x="1403280" y="836640"/>
                <a:ext cx="110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403280" y="134136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1403280" y="1916280"/>
                <a:ext cx="1143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2987640" y="1341360"/>
                <a:ext cx="1243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761080" y="4292640"/>
                <a:ext cx="18986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9" name="Rectangle 3"/>
          <p:cNvSpPr/>
          <p:nvPr/>
        </p:nvSpPr>
        <p:spPr>
          <a:xfrm>
            <a:off x="1187280" y="2852640"/>
            <a:ext cx="352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dvojciferné čísl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411200" y="3267000"/>
                <a:ext cx="1174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1474920" y="4508640"/>
                <a:ext cx="29224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043000" y="5030640"/>
                <a:ext cx="23385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84720" y="2276280"/>
            <a:ext cx="1582560" cy="3313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98100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900000" y="260280"/>
            <a:ext cx="82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trojciferných čísel, která končí číslicí 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49 59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5724360" y="2852640"/>
                <a:ext cx="3214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9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5746680" y="3573360"/>
                <a:ext cx="3397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3860640"/>
                <a:ext cx="2849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3492360" y="5516640"/>
                <a:ext cx="11322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1467000" y="1123920"/>
                <a:ext cx="1271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450800" y="1628640"/>
                <a:ext cx="1336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1467000" y="2203560"/>
                <a:ext cx="1306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3033720" y="1628640"/>
                <a:ext cx="1440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724360" y="4221000"/>
                <a:ext cx="2232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59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1" name="Rectangle 3"/>
          <p:cNvSpPr/>
          <p:nvPr/>
        </p:nvSpPr>
        <p:spPr>
          <a:xfrm>
            <a:off x="1332000" y="2924280"/>
            <a:ext cx="39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slední číslo dané vlastnost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1457280" y="3338640"/>
                <a:ext cx="1371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4437000"/>
                <a:ext cx="34560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476360" y="5013360"/>
                <a:ext cx="33624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5757840" y="1376280"/>
                <a:ext cx="27399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516720" y="1484280"/>
            <a:ext cx="503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1916280"/>
            <a:ext cx="287280" cy="3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01080" y="1916280"/>
            <a:ext cx="216000" cy="288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8800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4720" y="1268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7" idx="2"/>
          </p:cNvCxnSpPr>
          <p:nvPr/>
        </p:nvCxnSpPr>
        <p:spPr>
          <a:xfrm flipV="1">
            <a:off x="4624560" y="2096640"/>
            <a:ext cx="1297440" cy="3656880"/>
          </a:xfrm>
          <a:prstGeom prst="curvedConnector5">
            <a:avLst>
              <a:gd name="adj1" fmla="val 50652"/>
              <a:gd name="adj2" fmla="val 49995"/>
              <a:gd name="adj3" fmla="val 50652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900000" y="260280"/>
            <a:ext cx="82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přirozených čísel, která jsou dělitelná číslem 7 a přitom jsou větší než 1 000, ale zároveň jsou také menší než 1 50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89 964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7165800" y="2347920"/>
                <a:ext cx="13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877080" y="1916280"/>
            <a:ext cx="216000" cy="12236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1476360" y="1700280"/>
                <a:ext cx="31654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t xml:space="preserve">,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7"/>
              <p:cNvSpPr txBox="1"/>
              <p:nvPr/>
            </p:nvSpPr>
            <p:spPr>
              <a:xfrm>
                <a:off x="1403280" y="2205000"/>
                <a:ext cx="15336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1403280" y="2708280"/>
                <a:ext cx="1536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01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1403280" y="350028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267000" y="509904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403280" y="4149720"/>
                <a:ext cx="3340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835280" y="4653000"/>
                <a:ext cx="2859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1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467160" y="5605560"/>
                <a:ext cx="961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364000" y="4076640"/>
                <a:ext cx="3213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2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435640" y="4724280"/>
                <a:ext cx="37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49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5435640" y="5227560"/>
                <a:ext cx="2081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9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835280" y="3500280"/>
                <a:ext cx="2836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  <m:r>
                          <m:t xml:space="preserve">: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4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4572000" y="1700280"/>
                <a:ext cx="22860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 0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4643280" y="3500280"/>
                <a:ext cx="23814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4</m:t>
                    </m:r>
                    <m:r>
                      <m:t xml:space="preserve">⋅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všech trojciferných přirozených čísel, která jsou dělitelná číslem 9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258920" y="6093000"/>
            <a:ext cx="78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Čísla daných vlastností dávají součet 55 35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6532560" y="1844640"/>
                <a:ext cx="1276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6227640" y="14842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76360" y="3357720"/>
                <a:ext cx="457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5219640" y="4005360"/>
                <a:ext cx="34322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5292720" y="4653000"/>
                <a:ext cx="348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5310360" y="5227560"/>
                <a:ext cx="2190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7"/>
              <p:cNvSpPr txBox="1"/>
              <p:nvPr/>
            </p:nvSpPr>
            <p:spPr>
              <a:xfrm>
                <a:off x="1476360" y="1268280"/>
                <a:ext cx="27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76360" y="1844640"/>
                <a:ext cx="1338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1476360" y="2421000"/>
                <a:ext cx="13082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908000" y="3429000"/>
                <a:ext cx="914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"/>
              <p:cNvSpPr txBox="1"/>
              <p:nvPr/>
            </p:nvSpPr>
            <p:spPr>
              <a:xfrm>
                <a:off x="4211640" y="1268280"/>
                <a:ext cx="19242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3193920" y="5025960"/>
                <a:ext cx="1305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1403280" y="4076640"/>
                <a:ext cx="31510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1763640" y="4579920"/>
                <a:ext cx="27129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3390840" y="5459400"/>
                <a:ext cx="11160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0000" y="260280"/>
            <a:ext cx="82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ezi čísla  – 5 a 20 vložte 4 čísla tak, aby s danými čísly tvořila AP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1547640" y="1484280"/>
                <a:ext cx="1141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7"/>
              <p:cNvSpPr txBox="1"/>
              <p:nvPr/>
            </p:nvSpPr>
            <p:spPr>
              <a:xfrm>
                <a:off x="1682640" y="2187720"/>
                <a:ext cx="2430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2268360" y="3860640"/>
                <a:ext cx="4892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3"/>
          <p:cNvSpPr/>
          <p:nvPr/>
        </p:nvSpPr>
        <p:spPr>
          <a:xfrm>
            <a:off x="2330280" y="2690640"/>
            <a:ext cx="3313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 čísla, která hled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6218280" y="1971720"/>
                <a:ext cx="20826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6216480" y="2763720"/>
                <a:ext cx="21542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6180120" y="3413160"/>
                <a:ext cx="135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6362640" y="4059360"/>
                <a:ext cx="949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041560" y="233208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332000" y="5589720"/>
            <a:ext cx="781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anou čtveřici tvoří čísla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5651640" y="5589720"/>
                <a:ext cx="23000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7"/>
              <p:cNvSpPr txBox="1"/>
              <p:nvPr/>
            </p:nvSpPr>
            <p:spPr>
              <a:xfrm>
                <a:off x="1476360" y="3789360"/>
                <a:ext cx="750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6:56Z</dcterms:modified>
  <cp:revision>323</cp:revision>
  <dc:subject/>
  <dc:title>Posloupnosti</dc:title>
</cp:coreProperties>
</file>