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B92A-F402-4094-A56A-D3ABA00B69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27DE-4F2D-40B1-BACF-7768E400F6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8D0-F27E-4B81-8080-E18D0B0C65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2A8B-A680-492E-87A9-1D682F443F6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270F-A40E-43FD-A4BF-C3EC40B3EE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D809-40D3-4CF9-97F4-D3528A6D70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18D3-6054-46CA-B9F9-93826F4D4BC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B369-A1A8-46A4-88BF-0B0BE42740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9AD0-BBB4-43FA-8DBA-CF66BCB2153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1E0D-97D8-42D2-ABD4-76946C1D46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E9DF-90D4-470B-A115-3179E3F4EF3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CB9B-0A70-4317-B90D-591B2D52E5D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B5C-7EF8-4247-9E41-CA26D7A966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15DC-6EF7-4C93-946C-4EC37A0851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96C-48EF-4A41-94F8-E49795DD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8D0-9611-491A-8CF8-EB4B44A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EE6-7E6C-4A68-B5F0-1F525756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DF8-0CC9-4DC4-8C3E-97B8B3F4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2DCB-D460-4504-A12D-8430B16E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5DB0-F810-4589-B188-A9C0E92C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A5B-C6F5-4485-8904-4C89DFE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295-AD7D-4C7D-A05C-E1EBE4F3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262-2B5D-4DE8-92B9-38A51D69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2D8-F9EC-4BDF-A41D-679CF7B7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980-08C5-4CCC-AFD4-4E6BC08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A6C-D7F8-4514-9785-B12F8D48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AC36-02E5-48DF-BD27-A348DAB4C738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UMOŘOVÁNÍ DLUHU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Užití GP v praxi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dluhu, jenž můžeme z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 umořit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roční splátka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dluh splácí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97080" y="979560"/>
            <a:ext cx="360360" cy="35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788000" y="2276640"/>
                <a:ext cx="633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1258920" y="76500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43280" y="4365720"/>
                <a:ext cx="328608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4716360" y="3068640"/>
                <a:ext cx="123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1476360" y="836640"/>
                <a:ext cx="2160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0"/>
              <p:cNvSpPr txBox="1"/>
              <p:nvPr/>
            </p:nvSpPr>
            <p:spPr>
              <a:xfrm>
                <a:off x="1835280" y="1989000"/>
                <a:ext cx="21603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0"/>
              <p:cNvSpPr txBox="1"/>
              <p:nvPr/>
            </p:nvSpPr>
            <p:spPr>
              <a:xfrm>
                <a:off x="2050920" y="2997360"/>
                <a:ext cx="2403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716360" y="3141720"/>
                <a:ext cx="1127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1187280" y="765000"/>
                <a:ext cx="1872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11280" y="83664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58920" y="692280"/>
            <a:ext cx="788508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508720" y="4437000"/>
                <a:ext cx="346212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908000" y="1268280"/>
            <a:ext cx="216000" cy="2178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800"/>
              <a:gd name="textAreaBottom" fmla="*/ 207360 h 217800"/>
            </a:gdLst>
            <a:ahLst/>
            <a:rect l="textAreaLeft" t="textAreaTop" r="textAreaRight" b="textAreaBottom"/>
            <a:pathLst>
              <a:path w="21600" h="21780">
                <a:moveTo>
                  <a:pt x="3600" y="0"/>
                </a:moveTo>
                <a:arcTo wR="3600" hR="3600" stAng="16200000" swAng="-5400000"/>
                <a:lnTo>
                  <a:pt x="0" y="18180"/>
                </a:lnTo>
                <a:arcTo wR="3600" hR="3600" stAng="10800000" swAng="-5400000"/>
                <a:lnTo>
                  <a:pt x="18000" y="21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87280" y="1700280"/>
                <a:ext cx="2108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260360" y="2565360"/>
                <a:ext cx="2397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76720" y="3009960"/>
            <a:ext cx="217440" cy="29052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290520"/>
              <a:gd name="textAreaBottom" fmla="*/ 280080 h 290520"/>
            </a:gdLst>
            <a:ahLst/>
            <a:rect l="textAreaLeft" t="textAreaTop" r="textAreaRight" b="textAreaBottom"/>
            <a:pathLst>
              <a:path w="21600" h="28848">
                <a:moveTo>
                  <a:pt x="3600" y="0"/>
                </a:moveTo>
                <a:arcTo wR="3600" hR="3600" stAng="16200000" swAng="-5400000"/>
                <a:lnTo>
                  <a:pt x="0" y="25248"/>
                </a:lnTo>
                <a:arcTo wR="3600" hR="3600" stAng="10800000" swAng="-5400000"/>
                <a:lnTo>
                  <a:pt x="18000" y="28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"/>
              <p:cNvSpPr txBox="1"/>
              <p:nvPr/>
            </p:nvSpPr>
            <p:spPr>
              <a:xfrm>
                <a:off x="1332000" y="3500280"/>
                <a:ext cx="23968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700360" y="1771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4720" y="220356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3"/>
              <p:cNvSpPr txBox="1"/>
              <p:nvPr/>
            </p:nvSpPr>
            <p:spPr>
              <a:xfrm>
                <a:off x="3851280" y="3573360"/>
                <a:ext cx="8748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2340000" y="4437000"/>
                <a:ext cx="21081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1692360" y="5229360"/>
                <a:ext cx="21081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5148360" y="765000"/>
                <a:ext cx="23446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025280" y="5950080"/>
            <a:ext cx="660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hledáme převrácenou hodnotu pravé strany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 vhodné mít levou stranu také ve tvaru jednoduchého zlom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6443640" y="1557360"/>
                <a:ext cx="22924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5981760" y="2421000"/>
                <a:ext cx="3162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797440" y="3357720"/>
                <a:ext cx="33465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3"/>
              <p:cNvSpPr txBox="1"/>
              <p:nvPr/>
            </p:nvSpPr>
            <p:spPr>
              <a:xfrm>
                <a:off x="3851280" y="3573360"/>
                <a:ext cx="8510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ý dluh umořím za 7 let pravidelnými ročními anuitami 15 000,- Kč při 2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789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7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30"/>
              <p:cNvSpPr txBox="1"/>
              <p:nvPr/>
            </p:nvSpPr>
            <p:spPr>
              <a:xfrm>
                <a:off x="1116000" y="5013360"/>
                <a:ext cx="23655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457080" y="357192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0720" y="357336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30"/>
              <p:cNvSpPr txBox="1"/>
              <p:nvPr/>
            </p:nvSpPr>
            <p:spPr>
              <a:xfrm>
                <a:off x="3421080" y="5013360"/>
                <a:ext cx="2924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0"/>
              <p:cNvSpPr txBox="1"/>
              <p:nvPr/>
            </p:nvSpPr>
            <p:spPr>
              <a:xfrm>
                <a:off x="6300720" y="5300640"/>
                <a:ext cx="2166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1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802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zaplatili dluh 90 000,- Kč za 10 let při 21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789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0 000,- Kč</a:t>
            </a:r>
            <a:r>
              <a:rPr b="0" lang="en-US" sz="30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1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1042920" y="4581360"/>
                <a:ext cx="2519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162440" y="5854680"/>
            <a:ext cx="750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šimněte si, že splátka je vždy větší než část, kterou si „bere“ banka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21 % z 90 000,- Kč, tzn. 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18 9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8360" y="342756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12360" y="342900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21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2"/>
              <p:cNvSpPr txBox="1"/>
              <p:nvPr/>
            </p:nvSpPr>
            <p:spPr>
              <a:xfrm>
                <a:off x="3564000" y="4581360"/>
                <a:ext cx="3308400" cy="11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2"/>
              <p:cNvSpPr txBox="1"/>
              <p:nvPr/>
            </p:nvSpPr>
            <p:spPr>
              <a:xfrm>
                <a:off x="6804000" y="4869000"/>
                <a:ext cx="2160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50 000,- Kč při 15 % p.a. pravidelnými ročními anuitami 9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8789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5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9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5 % z 5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7 5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16"/>
              <p:cNvSpPr txBox="1"/>
              <p:nvPr/>
            </p:nvSpPr>
            <p:spPr>
              <a:xfrm>
                <a:off x="1042920" y="5084640"/>
                <a:ext cx="293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K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528360" y="285120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2360" y="285264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3924360" y="5084640"/>
                <a:ext cx="37432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9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6"/>
              <p:cNvSpPr txBox="1"/>
              <p:nvPr/>
            </p:nvSpPr>
            <p:spPr>
              <a:xfrm>
                <a:off x="7596360" y="5734080"/>
                <a:ext cx="15476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umořím dluh</a:t>
            </a:r>
            <a:r>
              <a:rPr b="0" lang="en-US" sz="3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200 000,- Kč při 17 % p.a. pravidelnými ročními anuitami 3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200 000,- Kč</a:t>
            </a:r>
            <a:r>
              <a:rPr b="0" lang="en-US" sz="19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1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?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00"/>
                </a:solidFill>
                <a:latin typeface="Times New Roman"/>
              </a:rPr>
              <a:t>!!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17 % z 200 000,- Kč, tzn. 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34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5562720"/>
            <a:ext cx="787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Za daných podmínek dluh nelze splatit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1440" y="29224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85080" y="2924280"/>
            <a:ext cx="1159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17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14400" y="6094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aký dluh umořím za 20 let pravidelnými ročními anuitami 6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17 % p.a.,  b) 12 % p.a.,  c) 7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 činit každoroční anuity, abychom při 11 % p.a. zaplatili dluh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80 000,- Kč za a) 5 let, b) 7 let, c) 9 let?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2666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337 666,- Kč, b) 448 167,- Kč, c) 635 641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48 703,- Kč, b) 38 199,- Kč, c) 32 508,- Kč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2356920"/>
            <a:ext cx="80010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plácení dluhu a z něho plynoucích úroků pravidelnými, stále stejně velkými částkami, po dobu několika úrokovacích období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500 000,- Kč při  8 % p.a. pravidelnými ročními anuitam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a) 50 000,- Kč, b) 70 000,- Kč, c) 100 000,- Kč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10800"/>
              </a:spcBef>
              <a:buClr>
                <a:srgbClr val="ffff00"/>
              </a:buClr>
              <a:buSzPct val="8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umořím dluh 100 000,- Kč pravidelnými ročními anuitami 15 000,- Kč při  a) 17 % p.a., b) 12 % p.a., c) 8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20 let a 11 měsíců, b) 11 let, c) 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0" y="55166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500" spc="-1" strike="noStrike">
                <a:solidFill>
                  <a:srgbClr val="ffff00"/>
                </a:solidFill>
                <a:latin typeface="Times New Roman"/>
              </a:rPr>
              <a:t>a) dluh nelze splatit, b) 14 let a 2 měsíce, c) 9 let a 11 měsíců</a:t>
            </a: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5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8–8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roční splátka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Dluh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852480"/>
            <a:ext cx="7556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musíme splatit (umořit) za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206064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ční splátka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332000" y="2624040"/>
            <a:ext cx="7556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placená částka, vždy konc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86064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32000" y="4354560"/>
            <a:ext cx="755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44928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515772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7684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456840"/>
            <a:ext cx="80280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116000" y="126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jak dlouho umoříme (splatíme) dluh 5 000,- Kč   při úročení 10 % p.a. ročními anuitami (splátkami)      1 150,- Kč placenými koncem roku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16000" y="270828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187280" y="342900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979640" y="342900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00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1979640" y="400536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1979640" y="4508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-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7069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500720" y="4005360"/>
            <a:ext cx="226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,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979640" y="5084640"/>
            <a:ext cx="2521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2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50920" y="1125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50920" y="198900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85264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3718080"/>
          <a:ext cx="8785080" cy="8632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581360"/>
          <a:ext cx="8785080" cy="86364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50920" y="5445000"/>
          <a:ext cx="8785080" cy="865080"/>
        </p:xfrm>
        <a:graphic>
          <a:graphicData uri="http://schemas.openxmlformats.org/drawingml/2006/table">
            <a:tbl>
              <a:tblPr/>
              <a:tblGrid>
                <a:gridCol w="576000"/>
                <a:gridCol w="1224000"/>
                <a:gridCol w="1225800"/>
                <a:gridCol w="1224000"/>
                <a:gridCol w="3311280"/>
                <a:gridCol w="12240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276720" y="1268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341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  5 0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0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134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34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6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34136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1341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2000" y="1341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6237360"/>
            <a:ext cx="8172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daných podmínek umoříme dluh za necelých 6 le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205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4 3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2205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220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05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12000" y="21589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2205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30700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  3 63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0920" y="3067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3067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6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067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86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3070080"/>
            <a:ext cx="117180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3070080"/>
            <a:ext cx="129528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2000" y="30700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93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 2 849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33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393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8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86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2000" y="393372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393372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720" y="393372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9736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  1 984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47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4797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98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797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95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0560" y="4797360"/>
            <a:ext cx="1204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79736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12000" y="479736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6610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6.   1 032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661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150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4000" y="566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3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047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5661000"/>
            <a:ext cx="11718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566100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566244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,–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1270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21319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299556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472608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5589720"/>
            <a:ext cx="431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341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4000" y="2205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131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3067200"/>
            <a:ext cx="2324160" cy="502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9941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93372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386064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79736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2428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23241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87920"/>
            <a:ext cx="360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32880" y="1341360"/>
            <a:ext cx="1131840" cy="503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545"/>
              <p:cNvSpPr txBox="1"/>
              <p:nvPr/>
            </p:nvSpPr>
            <p:spPr>
              <a:xfrm>
                <a:off x="5867280" y="1989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545"/>
              <p:cNvSpPr txBox="1"/>
              <p:nvPr/>
            </p:nvSpPr>
            <p:spPr>
              <a:xfrm>
                <a:off x="5867280" y="112536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545"/>
              <p:cNvSpPr txBox="1"/>
              <p:nvPr/>
            </p:nvSpPr>
            <p:spPr>
              <a:xfrm>
                <a:off x="5867280" y="285120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545"/>
              <p:cNvSpPr txBox="1"/>
              <p:nvPr/>
            </p:nvSpPr>
            <p:spPr>
              <a:xfrm>
                <a:off x="5867280" y="3718080"/>
                <a:ext cx="9921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45"/>
              <p:cNvSpPr txBox="1"/>
              <p:nvPr/>
            </p:nvSpPr>
            <p:spPr>
              <a:xfrm>
                <a:off x="5867280" y="464652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sSup>
                          <m:e>
                            <m:r>
                              <m:t xml:space="preserve">1,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545"/>
              <p:cNvSpPr txBox="1"/>
              <p:nvPr/>
            </p:nvSpPr>
            <p:spPr>
              <a:xfrm>
                <a:off x="5867280" y="5445000"/>
                <a:ext cx="99216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50</m:t>
                        </m:r>
                      </m:num>
                      <m:den>
                        <m:r>
                          <m:t xml:space="preserve">1,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50"/>
              <p:cNvSpPr txBox="1"/>
              <p:nvPr/>
            </p:nvSpPr>
            <p:spPr>
              <a:xfrm>
                <a:off x="6804000" y="1054080"/>
                <a:ext cx="80316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50"/>
              <p:cNvSpPr txBox="1"/>
              <p:nvPr/>
            </p:nvSpPr>
            <p:spPr>
              <a:xfrm>
                <a:off x="6804000" y="1916280"/>
                <a:ext cx="99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50"/>
              <p:cNvSpPr txBox="1"/>
              <p:nvPr/>
            </p:nvSpPr>
            <p:spPr>
              <a:xfrm>
                <a:off x="6804000" y="2781360"/>
                <a:ext cx="103500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50"/>
              <p:cNvSpPr txBox="1"/>
              <p:nvPr/>
            </p:nvSpPr>
            <p:spPr>
              <a:xfrm>
                <a:off x="6804000" y="4508640"/>
                <a:ext cx="803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50"/>
              <p:cNvSpPr txBox="1"/>
              <p:nvPr/>
            </p:nvSpPr>
            <p:spPr>
              <a:xfrm>
                <a:off x="6804000" y="5373720"/>
                <a:ext cx="771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53"/>
              <p:cNvSpPr txBox="1"/>
              <p:nvPr/>
            </p:nvSpPr>
            <p:spPr>
              <a:xfrm>
                <a:off x="7164360" y="3933720"/>
                <a:ext cx="2556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7667640" y="260280"/>
            <a:ext cx="1476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konec roku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75280" y="304920"/>
            <a:ext cx="21909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kutečná splát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3800" y="304920"/>
            <a:ext cx="7524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(10%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04920"/>
            <a:ext cx="927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ui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04920"/>
            <a:ext cx="1022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lu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zač. roku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Kč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2360" y="304920"/>
            <a:ext cx="5875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260280"/>
            <a:ext cx="3311280" cy="604836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5344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umořování dluhu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258920" y="1125360"/>
                <a:ext cx="60102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Dluh = součet všech skutečných splátek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1268280"/>
            <a:ext cx="5400720" cy="1081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6360" y="2349360"/>
            <a:ext cx="0" cy="64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852640"/>
            <a:ext cx="294624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0"/>
              <p:cNvSpPr txBox="1"/>
              <p:nvPr/>
            </p:nvSpPr>
            <p:spPr>
              <a:xfrm>
                <a:off x="4664160" y="2709720"/>
                <a:ext cx="252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2792520" y="4821120"/>
                <a:ext cx="37764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9924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0"/>
              <p:cNvSpPr txBox="1"/>
              <p:nvPr/>
            </p:nvSpPr>
            <p:spPr>
              <a:xfrm>
                <a:off x="2340000" y="3284640"/>
                <a:ext cx="7491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5:19Z</dcterms:modified>
  <cp:revision>95</cp:revision>
  <dc:subject/>
  <dc:title>Posloupnosti</dc:title>
</cp:coreProperties>
</file>