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8AF6-11EC-46DD-8B18-4A7E43AE429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4F6D-B0F3-475A-84C1-C6830EA9DCE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A11D-F457-4769-AE7E-7139C5D03C3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879A-6AE9-44BD-8898-686012B0315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00C7-350C-4720-BD7E-C9C48573D45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EA67-C44C-4407-8D4B-A0EED65C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AFFB-C8B4-485A-BE69-7BCF003B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7CA2-4B73-4A31-9539-C995D6AB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EE47-F12C-4826-8623-DEEBC3674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31E2-E492-4A27-ACF3-CF78E874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D963-A001-4D16-99F3-A38DE7DA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9305-7A0F-4AD7-9C2C-1E63D914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B653-C49B-4F24-9626-C77A9280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053A-9AA1-497F-A4F1-26A120BA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6F23-D7D3-4EE0-8EE3-C2973D0E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200A-5654-43A0-9FA2-38449C8E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10A1-B56C-40D9-A391-884EED77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268E-B4F6-4CF8-895D-1C83B5FD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C2F5-F66E-4CC7-AE83-78F957D9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82DB-4AC8-4315-8B7A-5087E123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00D4-3353-44A4-A217-2FE790148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CB17-7721-4843-99B6-10FDB8BB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EFD5-4C1F-49B3-80AB-6F66EB8F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341D-1F58-453A-947B-649B4563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5CA7-71E5-4C45-803F-E2D99AB6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3DDF-F860-4D8F-94C9-26A52E1E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0BC6-AEBF-436C-A616-3A4D3AD3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6F6B-EFCF-4A0E-971A-917F514E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3E25-5B20-4A4F-A791-154A04CD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93C7-785E-4D5F-A281-8C8AA0AF6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FA62-A2F2-467B-B050-840C38BF5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1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 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Object 7"/>
              <p:cNvSpPr txBox="1"/>
              <p:nvPr/>
            </p:nvSpPr>
            <p:spPr>
              <a:xfrm>
                <a:off x="1116000" y="765000"/>
                <a:ext cx="3013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7"/>
              <p:cNvSpPr txBox="1"/>
              <p:nvPr/>
            </p:nvSpPr>
            <p:spPr>
              <a:xfrm>
                <a:off x="1116000" y="2349360"/>
                <a:ext cx="29494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4"/>
              <p:cNvSpPr txBox="1"/>
              <p:nvPr/>
            </p:nvSpPr>
            <p:spPr>
              <a:xfrm>
                <a:off x="5565600" y="779400"/>
                <a:ext cx="24544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3203640" y="2997360"/>
                <a:ext cx="565776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0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 8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7"/>
              <p:cNvSpPr txBox="1"/>
              <p:nvPr/>
            </p:nvSpPr>
            <p:spPr>
              <a:xfrm>
                <a:off x="1116000" y="4365720"/>
                <a:ext cx="314496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3206880" y="5300640"/>
                <a:ext cx="547668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5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900000" y="260280"/>
            <a:ext cx="82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Sečtěte daný počet prvních členů AP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7"/>
              <p:cNvSpPr txBox="1"/>
              <p:nvPr/>
            </p:nvSpPr>
            <p:spPr>
              <a:xfrm>
                <a:off x="1403280" y="1052640"/>
                <a:ext cx="4129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3057480" y="2852640"/>
                <a:ext cx="57657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5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800</m:t>
                    </m:r>
                    <m:r>
                      <m:t xml:space="preserve">/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4"/>
              <p:cNvSpPr txBox="1"/>
              <p:nvPr/>
            </p:nvSpPr>
            <p:spPr>
              <a:xfrm>
                <a:off x="7164360" y="1341360"/>
                <a:ext cx="16369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7"/>
              <p:cNvSpPr txBox="1"/>
              <p:nvPr/>
            </p:nvSpPr>
            <p:spPr>
              <a:xfrm>
                <a:off x="1403280" y="2276640"/>
                <a:ext cx="41623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4140360" y="4365720"/>
                <a:ext cx="46987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7"/>
              <p:cNvSpPr txBox="1"/>
              <p:nvPr/>
            </p:nvSpPr>
            <p:spPr>
              <a:xfrm>
                <a:off x="1403280" y="3789360"/>
                <a:ext cx="4327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3635280" y="5877000"/>
                <a:ext cx="51976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7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7"/>
              <p:cNvSpPr txBox="1"/>
              <p:nvPr/>
            </p:nvSpPr>
            <p:spPr>
              <a:xfrm>
                <a:off x="1403280" y="5300640"/>
                <a:ext cx="43941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187280" y="2708280"/>
            <a:ext cx="795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hodnotu hledané členu AP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1187280" y="105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4. vzorce pro AP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435640" y="1413000"/>
            <a:ext cx="216000" cy="2872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32720" y="1413000"/>
            <a:ext cx="287280" cy="2872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84720" y="1413000"/>
            <a:ext cx="214560" cy="2872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7"/>
              <p:cNvSpPr txBox="1"/>
              <p:nvPr/>
            </p:nvSpPr>
            <p:spPr>
              <a:xfrm>
                <a:off x="971640" y="260280"/>
                <a:ext cx="176688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8" name="Line 5"/>
          <p:cNvSpPr/>
          <p:nvPr/>
        </p:nvSpPr>
        <p:spPr>
          <a:xfrm>
            <a:off x="1476360" y="1989000"/>
            <a:ext cx="14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3059280" y="260280"/>
            <a:ext cx="608472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okud bude platit aritmetický průměr pro pořadí členů, musí platit také pro hodnoty členů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15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1258920" y="2205000"/>
            <a:ext cx="403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pořadí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4"/>
              <p:cNvSpPr txBox="1"/>
              <p:nvPr/>
            </p:nvSpPr>
            <p:spPr>
              <a:xfrm>
                <a:off x="1403280" y="3500280"/>
                <a:ext cx="2538360" cy="8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1403280" y="4365720"/>
                <a:ext cx="22287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403280" y="5229360"/>
                <a:ext cx="20113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3419640" y="5445000"/>
                <a:ext cx="6807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45" name="Rectangle 3"/>
          <p:cNvSpPr/>
          <p:nvPr/>
        </p:nvSpPr>
        <p:spPr>
          <a:xfrm>
            <a:off x="1258920" y="6181560"/>
            <a:ext cx="78850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atnáctý člen dané AP má hodnotu 31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5292720" y="1989000"/>
                <a:ext cx="11462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4"/>
              <p:cNvSpPr txBox="1"/>
              <p:nvPr/>
            </p:nvSpPr>
            <p:spPr>
              <a:xfrm>
                <a:off x="6443640" y="2276640"/>
                <a:ext cx="6811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Rectangle 3"/>
          <p:cNvSpPr/>
          <p:nvPr/>
        </p:nvSpPr>
        <p:spPr>
          <a:xfrm>
            <a:off x="7380360" y="2205000"/>
            <a:ext cx="17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latí!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1258920" y="2852640"/>
            <a:ext cx="453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hodnoty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64000" y="1989000"/>
            <a:ext cx="1008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59640" y="2276640"/>
            <a:ext cx="504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34" idx="2"/>
            <a:endCxn id="250" idx="1"/>
          </p:cNvCxnSpPr>
          <p:nvPr/>
        </p:nvCxnSpPr>
        <p:spPr>
          <a:xfrm rot="5400000">
            <a:off x="5193720" y="1855800"/>
            <a:ext cx="505440" cy="194400"/>
          </a:xfrm>
          <a:prstGeom prst="curvedConnector5">
            <a:avLst>
              <a:gd name="adj1" fmla="val 28296"/>
              <a:gd name="adj2" fmla="val 105194"/>
              <a:gd name="adj3" fmla="val 28296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35" idx="2"/>
            <a:endCxn id="250" idx="3"/>
          </p:cNvCxnSpPr>
          <p:nvPr/>
        </p:nvCxnSpPr>
        <p:spPr>
          <a:xfrm rot="5400000">
            <a:off x="6378480" y="1707120"/>
            <a:ext cx="505440" cy="491400"/>
          </a:xfrm>
          <a:prstGeom prst="curvedConnector2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36" idx="2"/>
            <a:endCxn id="251" idx="0"/>
          </p:cNvCxnSpPr>
          <p:nvPr/>
        </p:nvCxnSpPr>
        <p:spPr>
          <a:xfrm flipH="1" rot="16200000">
            <a:off x="6271200" y="1621080"/>
            <a:ext cx="562680" cy="720000"/>
          </a:xfrm>
          <a:prstGeom prst="curvedConnector5">
            <a:avLst>
              <a:gd name="adj1" fmla="val 25416"/>
              <a:gd name="adj2" fmla="val 49974"/>
              <a:gd name="adj3" fmla="val 25416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5435640" y="1268280"/>
            <a:ext cx="216000" cy="287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59640" y="1268280"/>
            <a:ext cx="287280" cy="287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12000" y="1268280"/>
            <a:ext cx="288720" cy="289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7"/>
              <p:cNvSpPr txBox="1"/>
              <p:nvPr/>
            </p:nvSpPr>
            <p:spPr>
              <a:xfrm>
                <a:off x="1020600" y="260280"/>
                <a:ext cx="166860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9" name="Line 5"/>
          <p:cNvSpPr/>
          <p:nvPr/>
        </p:nvSpPr>
        <p:spPr>
          <a:xfrm>
            <a:off x="1476360" y="1989000"/>
            <a:ext cx="14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258920" y="2205000"/>
            <a:ext cx="403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pořadí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4"/>
              <p:cNvSpPr txBox="1"/>
              <p:nvPr/>
            </p:nvSpPr>
            <p:spPr>
              <a:xfrm>
                <a:off x="1332000" y="3573360"/>
                <a:ext cx="21049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4"/>
              <p:cNvSpPr txBox="1"/>
              <p:nvPr/>
            </p:nvSpPr>
            <p:spPr>
              <a:xfrm>
                <a:off x="1332000" y="4437000"/>
                <a:ext cx="22287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4"/>
              <p:cNvSpPr txBox="1"/>
              <p:nvPr/>
            </p:nvSpPr>
            <p:spPr>
              <a:xfrm>
                <a:off x="3635280" y="4653000"/>
                <a:ext cx="7732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3,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64" name="Rectangle 3"/>
          <p:cNvSpPr/>
          <p:nvPr/>
        </p:nvSpPr>
        <p:spPr>
          <a:xfrm>
            <a:off x="1258920" y="5734080"/>
            <a:ext cx="78850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vanáctý člen dané AP má hodnotu 3,5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4"/>
              <p:cNvSpPr txBox="1"/>
              <p:nvPr/>
            </p:nvSpPr>
            <p:spPr>
              <a:xfrm>
                <a:off x="5369040" y="1989000"/>
                <a:ext cx="9921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4"/>
              <p:cNvSpPr txBox="1"/>
              <p:nvPr/>
            </p:nvSpPr>
            <p:spPr>
              <a:xfrm>
                <a:off x="6443640" y="2292480"/>
                <a:ext cx="6811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Rectangle 3"/>
          <p:cNvSpPr/>
          <p:nvPr/>
        </p:nvSpPr>
        <p:spPr>
          <a:xfrm>
            <a:off x="7380360" y="2205000"/>
            <a:ext cx="17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latí!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258920" y="2852640"/>
            <a:ext cx="453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hodnoty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64000" y="1989000"/>
            <a:ext cx="1008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59640" y="2276640"/>
            <a:ext cx="504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55" idx="2"/>
            <a:endCxn id="269" idx="1"/>
          </p:cNvCxnSpPr>
          <p:nvPr/>
        </p:nvCxnSpPr>
        <p:spPr>
          <a:xfrm rot="5400000">
            <a:off x="5121720" y="1783440"/>
            <a:ext cx="649800" cy="194400"/>
          </a:xfrm>
          <a:prstGeom prst="curvedConnector5">
            <a:avLst>
              <a:gd name="adj1" fmla="val 33203"/>
              <a:gd name="adj2" fmla="val 105194"/>
              <a:gd name="adj3" fmla="val 33203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72" name=""/>
          <p:cNvCxnSpPr>
            <a:stCxn id="256" idx="2"/>
            <a:endCxn id="269" idx="3"/>
          </p:cNvCxnSpPr>
          <p:nvPr/>
        </p:nvCxnSpPr>
        <p:spPr>
          <a:xfrm rot="5400000">
            <a:off x="6270120" y="1671480"/>
            <a:ext cx="649800" cy="418320"/>
          </a:xfrm>
          <a:prstGeom prst="curvedConnector2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57" idx="2"/>
            <a:endCxn id="270" idx="0"/>
          </p:cNvCxnSpPr>
          <p:nvPr/>
        </p:nvCxnSpPr>
        <p:spPr>
          <a:xfrm flipH="1" rot="16200000">
            <a:off x="6180840" y="1531800"/>
            <a:ext cx="705240" cy="756360"/>
          </a:xfrm>
          <a:prstGeom prst="curvedConnector5">
            <a:avLst>
              <a:gd name="adj1" fmla="val 50919"/>
              <a:gd name="adj2" fmla="val 50000"/>
              <a:gd name="adj3" fmla="val 50919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274" name="Rectangle 3"/>
          <p:cNvSpPr/>
          <p:nvPr/>
        </p:nvSpPr>
        <p:spPr>
          <a:xfrm>
            <a:off x="3059280" y="981000"/>
            <a:ext cx="608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5435640" y="1268280"/>
            <a:ext cx="216000" cy="287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1268280"/>
            <a:ext cx="287280" cy="287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12000" y="1268280"/>
            <a:ext cx="288720" cy="289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7"/>
              <p:cNvSpPr txBox="1"/>
              <p:nvPr/>
            </p:nvSpPr>
            <p:spPr>
              <a:xfrm>
                <a:off x="971640" y="260280"/>
                <a:ext cx="176688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9" name="Line 5"/>
          <p:cNvSpPr/>
          <p:nvPr/>
        </p:nvSpPr>
        <p:spPr>
          <a:xfrm>
            <a:off x="1476360" y="1989000"/>
            <a:ext cx="14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1258920" y="2205000"/>
            <a:ext cx="403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pořadí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4"/>
              <p:cNvSpPr txBox="1"/>
              <p:nvPr/>
            </p:nvSpPr>
            <p:spPr>
              <a:xfrm>
                <a:off x="5276880" y="1989000"/>
                <a:ext cx="11779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4"/>
              <p:cNvSpPr txBox="1"/>
              <p:nvPr/>
            </p:nvSpPr>
            <p:spPr>
              <a:xfrm>
                <a:off x="6443640" y="2276640"/>
                <a:ext cx="6811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Rectangle 3"/>
          <p:cNvSpPr/>
          <p:nvPr/>
        </p:nvSpPr>
        <p:spPr>
          <a:xfrm>
            <a:off x="7380360" y="2205000"/>
            <a:ext cx="17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platí!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1258920" y="2852640"/>
            <a:ext cx="554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hodnoty neplatí!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64000" y="1989000"/>
            <a:ext cx="1008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59640" y="2276640"/>
            <a:ext cx="504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75" idx="2"/>
            <a:endCxn id="285" idx="1"/>
          </p:cNvCxnSpPr>
          <p:nvPr/>
        </p:nvCxnSpPr>
        <p:spPr>
          <a:xfrm rot="5400000">
            <a:off x="5121720" y="1783440"/>
            <a:ext cx="649800" cy="194400"/>
          </a:xfrm>
          <a:prstGeom prst="curvedConnector5">
            <a:avLst>
              <a:gd name="adj1" fmla="val 33203"/>
              <a:gd name="adj2" fmla="val 105194"/>
              <a:gd name="adj3" fmla="val 33203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76" idx="2"/>
            <a:endCxn id="285" idx="3"/>
          </p:cNvCxnSpPr>
          <p:nvPr/>
        </p:nvCxnSpPr>
        <p:spPr>
          <a:xfrm rot="5400000">
            <a:off x="6306480" y="1634760"/>
            <a:ext cx="649800" cy="491400"/>
          </a:xfrm>
          <a:prstGeom prst="curvedConnector2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77" idx="2"/>
            <a:endCxn id="286" idx="0"/>
          </p:cNvCxnSpPr>
          <p:nvPr/>
        </p:nvCxnSpPr>
        <p:spPr>
          <a:xfrm flipH="1" rot="16200000">
            <a:off x="6180840" y="1531800"/>
            <a:ext cx="705240" cy="756360"/>
          </a:xfrm>
          <a:prstGeom prst="curvedConnector5">
            <a:avLst>
              <a:gd name="adj1" fmla="val 50919"/>
              <a:gd name="adj2" fmla="val 50000"/>
              <a:gd name="adj3" fmla="val 50919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290" name="Rectangle 3"/>
          <p:cNvSpPr/>
          <p:nvPr/>
        </p:nvSpPr>
        <p:spPr>
          <a:xfrm>
            <a:off x="3059280" y="981000"/>
            <a:ext cx="608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26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30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36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1258920" y="5950080"/>
            <a:ext cx="78850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řicátý člen dané AP má hodnotu 15,2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4"/>
              <p:cNvSpPr txBox="1"/>
              <p:nvPr/>
            </p:nvSpPr>
            <p:spPr>
              <a:xfrm>
                <a:off x="1476360" y="3500280"/>
                <a:ext cx="26668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4"/>
              <p:cNvSpPr txBox="1"/>
              <p:nvPr/>
            </p:nvSpPr>
            <p:spPr>
              <a:xfrm>
                <a:off x="1692360" y="4149720"/>
                <a:ext cx="23367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4"/>
              <p:cNvSpPr txBox="1"/>
              <p:nvPr/>
            </p:nvSpPr>
            <p:spPr>
              <a:xfrm>
                <a:off x="1692360" y="4654440"/>
                <a:ext cx="15350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4"/>
              <p:cNvSpPr txBox="1"/>
              <p:nvPr/>
            </p:nvSpPr>
            <p:spPr>
              <a:xfrm>
                <a:off x="1620720" y="5230800"/>
                <a:ext cx="1241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,8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4"/>
              <p:cNvSpPr txBox="1"/>
              <p:nvPr/>
            </p:nvSpPr>
            <p:spPr>
              <a:xfrm>
                <a:off x="5364000" y="3500280"/>
                <a:ext cx="25210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4"/>
              <p:cNvSpPr txBox="1"/>
              <p:nvPr/>
            </p:nvSpPr>
            <p:spPr>
              <a:xfrm>
                <a:off x="5435640" y="4076640"/>
                <a:ext cx="27399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5,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4"/>
              <p:cNvSpPr txBox="1"/>
              <p:nvPr/>
            </p:nvSpPr>
            <p:spPr>
              <a:xfrm>
                <a:off x="5435640" y="4581360"/>
                <a:ext cx="25588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,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4"/>
              <p:cNvSpPr txBox="1"/>
              <p:nvPr/>
            </p:nvSpPr>
            <p:spPr>
              <a:xfrm>
                <a:off x="5435640" y="5157720"/>
                <a:ext cx="1716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,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00"/>
                            </p:stCondLst>
                            <p:childTnLst>
                              <p:par>
                                <p:cTn id="5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435640" y="1268280"/>
            <a:ext cx="216000" cy="287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59640" y="1268280"/>
            <a:ext cx="287280" cy="287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12000" y="1268280"/>
            <a:ext cx="288720" cy="289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7"/>
              <p:cNvSpPr txBox="1"/>
              <p:nvPr/>
            </p:nvSpPr>
            <p:spPr>
              <a:xfrm>
                <a:off x="1020600" y="260280"/>
                <a:ext cx="166860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4" name="Line 5"/>
          <p:cNvSpPr/>
          <p:nvPr/>
        </p:nvSpPr>
        <p:spPr>
          <a:xfrm>
            <a:off x="1476360" y="1989000"/>
            <a:ext cx="14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1258920" y="2205000"/>
            <a:ext cx="403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pořadí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4"/>
              <p:cNvSpPr txBox="1"/>
              <p:nvPr/>
            </p:nvSpPr>
            <p:spPr>
              <a:xfrm>
                <a:off x="1332000" y="3429000"/>
                <a:ext cx="21366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4"/>
              <p:cNvSpPr txBox="1"/>
              <p:nvPr/>
            </p:nvSpPr>
            <p:spPr>
              <a:xfrm>
                <a:off x="5867280" y="5013360"/>
                <a:ext cx="2259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4"/>
              <p:cNvSpPr txBox="1"/>
              <p:nvPr/>
            </p:nvSpPr>
            <p:spPr>
              <a:xfrm>
                <a:off x="8099280" y="5013360"/>
                <a:ext cx="68112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9" name="Rectangle 3"/>
          <p:cNvSpPr/>
          <p:nvPr/>
        </p:nvSpPr>
        <p:spPr>
          <a:xfrm>
            <a:off x="1258920" y="5950080"/>
            <a:ext cx="78850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vacátý člen dané AP má hodnotu 16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4"/>
              <p:cNvSpPr txBox="1"/>
              <p:nvPr/>
            </p:nvSpPr>
            <p:spPr>
              <a:xfrm>
                <a:off x="5354640" y="1989000"/>
                <a:ext cx="10224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4"/>
              <p:cNvSpPr txBox="1"/>
              <p:nvPr/>
            </p:nvSpPr>
            <p:spPr>
              <a:xfrm>
                <a:off x="6443640" y="2292480"/>
                <a:ext cx="6811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Rectangle 3"/>
          <p:cNvSpPr/>
          <p:nvPr/>
        </p:nvSpPr>
        <p:spPr>
          <a:xfrm>
            <a:off x="7380360" y="2205000"/>
            <a:ext cx="17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latí!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1258920" y="2852640"/>
            <a:ext cx="453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ritmetický průměr pro hodnoty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64000" y="1989000"/>
            <a:ext cx="1008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659640" y="2276640"/>
            <a:ext cx="504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16" name=""/>
          <p:cNvCxnSpPr>
            <a:stCxn id="300" idx="2"/>
            <a:endCxn id="314" idx="1"/>
          </p:cNvCxnSpPr>
          <p:nvPr/>
        </p:nvCxnSpPr>
        <p:spPr>
          <a:xfrm rot="5400000">
            <a:off x="5121720" y="1783440"/>
            <a:ext cx="649800" cy="194400"/>
          </a:xfrm>
          <a:prstGeom prst="curvedConnector5">
            <a:avLst>
              <a:gd name="adj1" fmla="val 33203"/>
              <a:gd name="adj2" fmla="val 105194"/>
              <a:gd name="adj3" fmla="val 33203"/>
            </a:avLst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301" idx="2"/>
            <a:endCxn id="314" idx="3"/>
          </p:cNvCxnSpPr>
          <p:nvPr/>
        </p:nvCxnSpPr>
        <p:spPr>
          <a:xfrm rot="5400000">
            <a:off x="6270120" y="1671480"/>
            <a:ext cx="649800" cy="418320"/>
          </a:xfrm>
          <a:prstGeom prst="curvedConnector2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2" idx="2"/>
            <a:endCxn id="315" idx="0"/>
          </p:cNvCxnSpPr>
          <p:nvPr/>
        </p:nvCxnSpPr>
        <p:spPr>
          <a:xfrm flipH="1" rot="16200000">
            <a:off x="6180840" y="1531800"/>
            <a:ext cx="705240" cy="756360"/>
          </a:xfrm>
          <a:prstGeom prst="curvedConnector5">
            <a:avLst>
              <a:gd name="adj1" fmla="val 50919"/>
              <a:gd name="adj2" fmla="val 50000"/>
              <a:gd name="adj3" fmla="val 50919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319" name="Rectangle 3"/>
          <p:cNvSpPr/>
          <p:nvPr/>
        </p:nvSpPr>
        <p:spPr>
          <a:xfrm>
            <a:off x="3059280" y="981000"/>
            <a:ext cx="608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08360" y="3933720"/>
            <a:ext cx="129708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4"/>
              <p:cNvSpPr txBox="1"/>
              <p:nvPr/>
            </p:nvSpPr>
            <p:spPr>
              <a:xfrm>
                <a:off x="5651640" y="3716280"/>
                <a:ext cx="21985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4"/>
              <p:cNvSpPr txBox="1"/>
              <p:nvPr/>
            </p:nvSpPr>
            <p:spPr>
              <a:xfrm>
                <a:off x="4859280" y="4221000"/>
                <a:ext cx="241452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4"/>
              <p:cNvSpPr txBox="1"/>
              <p:nvPr/>
            </p:nvSpPr>
            <p:spPr>
              <a:xfrm>
                <a:off x="4067280" y="3500280"/>
                <a:ext cx="43344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5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4" name="Object 7"/>
              <p:cNvSpPr txBox="1"/>
              <p:nvPr/>
            </p:nvSpPr>
            <p:spPr>
              <a:xfrm>
                <a:off x="1042920" y="549360"/>
                <a:ext cx="4291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4"/>
              <p:cNvSpPr txBox="1"/>
              <p:nvPr/>
            </p:nvSpPr>
            <p:spPr>
              <a:xfrm>
                <a:off x="5003640" y="907920"/>
                <a:ext cx="345132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7"/>
              <p:cNvSpPr txBox="1"/>
              <p:nvPr/>
            </p:nvSpPr>
            <p:spPr>
              <a:xfrm>
                <a:off x="971640" y="1844640"/>
                <a:ext cx="4160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"/>
              <p:cNvSpPr txBox="1"/>
              <p:nvPr/>
            </p:nvSpPr>
            <p:spPr>
              <a:xfrm>
                <a:off x="5003640" y="2421000"/>
                <a:ext cx="316404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7"/>
              <p:cNvSpPr txBox="1"/>
              <p:nvPr/>
            </p:nvSpPr>
            <p:spPr>
              <a:xfrm>
                <a:off x="1042920" y="3645000"/>
                <a:ext cx="40942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4"/>
              <p:cNvSpPr txBox="1"/>
              <p:nvPr/>
            </p:nvSpPr>
            <p:spPr>
              <a:xfrm>
                <a:off x="4756320" y="4186080"/>
                <a:ext cx="295092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7"/>
              <p:cNvSpPr txBox="1"/>
              <p:nvPr/>
            </p:nvSpPr>
            <p:spPr>
              <a:xfrm>
                <a:off x="1042920" y="4869000"/>
                <a:ext cx="465156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4"/>
              <p:cNvSpPr txBox="1"/>
              <p:nvPr/>
            </p:nvSpPr>
            <p:spPr>
              <a:xfrm>
                <a:off x="5003640" y="5516640"/>
                <a:ext cx="35578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2" name="Object 7"/>
              <p:cNvSpPr txBox="1"/>
              <p:nvPr/>
            </p:nvSpPr>
            <p:spPr>
              <a:xfrm>
                <a:off x="1187280" y="333360"/>
                <a:ext cx="386568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4"/>
              <p:cNvSpPr txBox="1"/>
              <p:nvPr/>
            </p:nvSpPr>
            <p:spPr>
              <a:xfrm>
                <a:off x="5219640" y="1125360"/>
                <a:ext cx="29527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7"/>
              <p:cNvSpPr txBox="1"/>
              <p:nvPr/>
            </p:nvSpPr>
            <p:spPr>
              <a:xfrm>
                <a:off x="1116000" y="1844640"/>
                <a:ext cx="40957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7"/>
              <p:cNvSpPr txBox="1"/>
              <p:nvPr/>
            </p:nvSpPr>
            <p:spPr>
              <a:xfrm>
                <a:off x="1076400" y="3643200"/>
                <a:ext cx="402732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4"/>
              <p:cNvSpPr txBox="1"/>
              <p:nvPr/>
            </p:nvSpPr>
            <p:spPr>
              <a:xfrm>
                <a:off x="5202360" y="4221000"/>
                <a:ext cx="25621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7"/>
              <p:cNvSpPr txBox="1"/>
              <p:nvPr/>
            </p:nvSpPr>
            <p:spPr>
              <a:xfrm>
                <a:off x="1187280" y="5084640"/>
                <a:ext cx="40309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4"/>
              <p:cNvSpPr txBox="1"/>
              <p:nvPr/>
            </p:nvSpPr>
            <p:spPr>
              <a:xfrm>
                <a:off x="5219640" y="2421000"/>
                <a:ext cx="3059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4"/>
              <p:cNvSpPr txBox="1"/>
              <p:nvPr/>
            </p:nvSpPr>
            <p:spPr>
              <a:xfrm>
                <a:off x="5219640" y="5734080"/>
                <a:ext cx="32371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21–3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1–13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557360"/>
          <a:ext cx="7416720" cy="387828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itmetická posloupnost – příklady I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příklady na procvičení vztahu pro součet několika prvních členů AP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čet členů AP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187280" y="2708280"/>
            <a:ext cx="795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Sečtěte prvních padesát členů AP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1187280" y="83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zorce pro součet AP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Object 7"/>
              <p:cNvSpPr txBox="1"/>
              <p:nvPr/>
            </p:nvSpPr>
            <p:spPr>
              <a:xfrm>
                <a:off x="1187280" y="189000"/>
                <a:ext cx="176868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2,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Line 5"/>
          <p:cNvSpPr/>
          <p:nvPr/>
        </p:nvSpPr>
        <p:spPr>
          <a:xfrm>
            <a:off x="1692360" y="133992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1619280" y="2276640"/>
                <a:ext cx="28814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1601640" y="3571920"/>
                <a:ext cx="32022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5713560" y="2781360"/>
                <a:ext cx="32511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5580000" y="3429000"/>
                <a:ext cx="25941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5580000" y="4005360"/>
                <a:ext cx="3105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⋅</m:t>
                    </m:r>
                    <m:r>
                      <m:t xml:space="preserve">2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5580000" y="4581360"/>
                <a:ext cx="28497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2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5580000" y="5157720"/>
                <a:ext cx="20098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6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1601640" y="4579920"/>
                <a:ext cx="3557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6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1619280" y="5229360"/>
                <a:ext cx="24908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1619280" y="5877000"/>
                <a:ext cx="22413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 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62</m:t>
                            </m:r>
                            <m:r>
                              <m:t xml:space="preserve">,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3995640" y="3787920"/>
            <a:ext cx="649440" cy="647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41440" y="328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4571640" y="4365720"/>
            <a:ext cx="1079640" cy="10080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258920" y="1268280"/>
            <a:ext cx="37447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součet 50 členů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5219640" y="1268280"/>
            <a:ext cx="3745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 součtu potřebujeme první a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ední čl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0" name="Object 7"/>
              <p:cNvSpPr txBox="1"/>
              <p:nvPr/>
            </p:nvSpPr>
            <p:spPr>
              <a:xfrm>
                <a:off x="1042920" y="333360"/>
                <a:ext cx="154008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1" name="Line 5"/>
          <p:cNvSpPr/>
          <p:nvPr/>
        </p:nvSpPr>
        <p:spPr>
          <a:xfrm>
            <a:off x="1619280" y="1484280"/>
            <a:ext cx="108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1598760" y="3772080"/>
                <a:ext cx="313200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50</m:t>
                                </m:r>
                              </m:sub>
                            </m:sSub>
                          </m:e>
                        </m:d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5797440" y="3770280"/>
                <a:ext cx="25210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5796000" y="4508640"/>
                <a:ext cx="31068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5775480" y="5159520"/>
                <a:ext cx="22287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4"/>
              <p:cNvSpPr txBox="1"/>
              <p:nvPr/>
            </p:nvSpPr>
            <p:spPr>
              <a:xfrm>
                <a:off x="5738760" y="5807160"/>
                <a:ext cx="17542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1598760" y="4543560"/>
                <a:ext cx="34160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8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1546200" y="5192640"/>
                <a:ext cx="25956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1509840" y="5894280"/>
                <a:ext cx="18856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 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70" name="Rectangle 3"/>
          <p:cNvSpPr/>
          <p:nvPr/>
        </p:nvSpPr>
        <p:spPr>
          <a:xfrm>
            <a:off x="3780000" y="189000"/>
            <a:ext cx="536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ejprve musíme určit samotnou AP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3852720" y="1035000"/>
                <a:ext cx="21924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4159080" y="1717560"/>
                <a:ext cx="16797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3851280" y="2133720"/>
                <a:ext cx="14619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3924360" y="2565360"/>
                <a:ext cx="12049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6732720" y="1052640"/>
                <a:ext cx="215424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7021440" y="1700280"/>
                <a:ext cx="16066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6877080" y="2133720"/>
                <a:ext cx="11682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1116000" y="549360"/>
                <a:ext cx="27846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7"/>
              <p:cNvSpPr txBox="1"/>
              <p:nvPr/>
            </p:nvSpPr>
            <p:spPr>
              <a:xfrm>
                <a:off x="1116000" y="2349360"/>
                <a:ext cx="33418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5796000" y="549360"/>
                <a:ext cx="199224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52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3419640" y="2997360"/>
                <a:ext cx="554976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3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7"/>
              <p:cNvSpPr txBox="1"/>
              <p:nvPr/>
            </p:nvSpPr>
            <p:spPr>
              <a:xfrm>
                <a:off x="1116000" y="4365720"/>
                <a:ext cx="32432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3402000" y="5300640"/>
                <a:ext cx="508644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1187280" y="2708280"/>
            <a:ext cx="795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Sečtěte prvních sto členů AP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5" name="Object 7"/>
              <p:cNvSpPr txBox="1"/>
              <p:nvPr/>
            </p:nvSpPr>
            <p:spPr>
              <a:xfrm>
                <a:off x="1042920" y="260280"/>
                <a:ext cx="18655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Line 5"/>
          <p:cNvSpPr/>
          <p:nvPr/>
        </p:nvSpPr>
        <p:spPr>
          <a:xfrm>
            <a:off x="1808280" y="1357200"/>
            <a:ext cx="122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1619280" y="1484280"/>
                <a:ext cx="273996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4"/>
              <p:cNvSpPr txBox="1"/>
              <p:nvPr/>
            </p:nvSpPr>
            <p:spPr>
              <a:xfrm>
                <a:off x="1384200" y="2779560"/>
                <a:ext cx="3594240" cy="10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5796000" y="1700280"/>
                <a:ext cx="31050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5580000" y="2349360"/>
                <a:ext cx="2629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4"/>
              <p:cNvSpPr txBox="1"/>
              <p:nvPr/>
            </p:nvSpPr>
            <p:spPr>
              <a:xfrm>
                <a:off x="5580000" y="2924280"/>
                <a:ext cx="33624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4"/>
              <p:cNvSpPr txBox="1"/>
              <p:nvPr/>
            </p:nvSpPr>
            <p:spPr>
              <a:xfrm>
                <a:off x="5580000" y="3500280"/>
                <a:ext cx="2629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9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5580000" y="4076640"/>
                <a:ext cx="20829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1380960" y="3859200"/>
                <a:ext cx="38084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5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1403280" y="4581360"/>
                <a:ext cx="28814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1403280" y="5373720"/>
                <a:ext cx="24559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 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4121280" y="2960640"/>
            <a:ext cx="718920" cy="7207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85800" y="24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88000" y="3499920"/>
            <a:ext cx="792000" cy="792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0" name="Object 7"/>
              <p:cNvSpPr txBox="1"/>
              <p:nvPr/>
            </p:nvSpPr>
            <p:spPr>
              <a:xfrm>
                <a:off x="1042920" y="260280"/>
                <a:ext cx="193032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1" name="Line 5"/>
          <p:cNvSpPr/>
          <p:nvPr/>
        </p:nvSpPr>
        <p:spPr>
          <a:xfrm>
            <a:off x="1692360" y="1413000"/>
            <a:ext cx="1295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1547640" y="3068640"/>
                <a:ext cx="3345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 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sub>
                            </m:sSub>
                          </m:e>
                        </m:d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5799240" y="3067200"/>
                <a:ext cx="26287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4"/>
              <p:cNvSpPr txBox="1"/>
              <p:nvPr/>
            </p:nvSpPr>
            <p:spPr>
              <a:xfrm>
                <a:off x="5818320" y="3840120"/>
                <a:ext cx="28494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5781600" y="4491000"/>
                <a:ext cx="2629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9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5729400" y="5138640"/>
                <a:ext cx="18270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1509840" y="3840120"/>
                <a:ext cx="34160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9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4"/>
              <p:cNvSpPr txBox="1"/>
              <p:nvPr/>
            </p:nvSpPr>
            <p:spPr>
              <a:xfrm>
                <a:off x="1455840" y="4489560"/>
                <a:ext cx="23112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9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4"/>
              <p:cNvSpPr txBox="1"/>
              <p:nvPr/>
            </p:nvSpPr>
            <p:spPr>
              <a:xfrm>
                <a:off x="1438200" y="5191200"/>
                <a:ext cx="20271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 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0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3635280" y="260280"/>
                <a:ext cx="23367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3811680" y="942840"/>
                <a:ext cx="20826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3851280" y="1519200"/>
                <a:ext cx="13161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3975120" y="2095560"/>
                <a:ext cx="9856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6697800" y="241200"/>
                <a:ext cx="219060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6856560" y="942840"/>
                <a:ext cx="1971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6659640" y="1519200"/>
                <a:ext cx="13507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4:52Z</dcterms:modified>
  <cp:revision>321</cp:revision>
  <dc:subject/>
  <dc:title>Posloupnosti</dc:title>
</cp:coreProperties>
</file>