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F044-FE6A-49DD-97C5-AF26B481E2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8C54-4A6D-45B3-BC23-545E69A063E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E57-3093-4DE1-96E8-B8C69B1EB9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ABBD-70A5-4AEB-9717-548231B2EB3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B815-B9AC-4D28-9D51-2FE5113258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071-99FF-456B-B772-F0010B1DB05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3C5-C42E-40AE-98F2-E497A810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0D9E-7F4B-422D-AD70-17F11D09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63C-19B8-4BF6-86D2-AE4F96F6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BC2-19F0-4815-BABF-F20FBC5E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7AA1-C2D1-4CDE-B13B-E4997C70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76C5-90AB-4EBB-BB81-D0ECFA23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DD1E-81A1-4BFB-AE11-F87EF193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F34D-7454-42CB-8983-BB39B704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336D-C2A6-4F15-B287-0B848028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325-AC3F-4D3A-95FA-C5DE8D2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E4DF-AC79-4D78-A974-041F299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317-64B1-4DBC-85AC-BCE7BA8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F4FE-AA7D-4119-BE26-107413A4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0BD7-4C8F-417F-BD3A-5EB0190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9971-2804-4F72-9135-1F9EB2AC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1AA2-5ADF-4963-AA10-680B5C4A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7ADE-5168-4B6F-85B5-DA6F913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BEE-F54C-442D-8489-3527D40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E46-33D6-4F81-A7AD-359A193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A1C-2FD8-42F0-B46F-FAEC29F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084-D8E8-4DE3-B100-691B365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9974-465D-4268-B25A-5BDAF5C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3E3-A45E-489F-9624-220B7C86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ACD-7F5E-4FAC-A0DF-6AEAAA6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A90B-F1C7-4820-ADEF-720BBEBA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B693-8F7D-437F-B125-A6148E9F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934920" y="165240"/>
                <a:ext cx="231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21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"/>
              <p:cNvSpPr txBox="1"/>
              <p:nvPr/>
            </p:nvSpPr>
            <p:spPr>
              <a:xfrm>
                <a:off x="3348000" y="260280"/>
                <a:ext cx="31021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1835280" y="177336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1835280" y="263700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835280" y="342900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2340000" y="1413000"/>
                <a:ext cx="61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3205080" y="2205000"/>
                <a:ext cx="7905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916360" y="1773360"/>
                <a:ext cx="5554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1363680" y="53355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4917960"/>
                <a:ext cx="1173240" cy="19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3924360" y="5300640"/>
                <a:ext cx="11048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7380360" y="5300640"/>
                <a:ext cx="704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987640" y="1773360"/>
            <a:ext cx="504720" cy="90144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66">
                <a:moveTo>
                  <a:pt x="3600" y="0"/>
                </a:moveTo>
                <a:arcTo wR="3600" hR="3600" stAng="16200000" swAng="-5400000"/>
                <a:lnTo>
                  <a:pt x="0" y="34966"/>
                </a:lnTo>
                <a:arcTo wR="3600" hR="3600" stAng="10800000" swAng="-5400000"/>
                <a:lnTo>
                  <a:pt x="18000" y="38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3128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4680" y="242100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03640" y="5300640"/>
                <a:ext cx="1506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2"/>
              <p:cNvSpPr txBox="1"/>
              <p:nvPr/>
            </p:nvSpPr>
            <p:spPr>
              <a:xfrm>
                <a:off x="6516720" y="5516640"/>
                <a:ext cx="871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97440" y="256536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4716360" y="2565360"/>
                <a:ext cx="555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4861080" y="3068640"/>
                <a:ext cx="9064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724360" y="3429000"/>
                <a:ext cx="849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6516720" y="3429000"/>
                <a:ext cx="5554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788000" y="256536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342900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903240" y="84240"/>
                <a:ext cx="23828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3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49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348000" y="260280"/>
                <a:ext cx="25797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835280" y="1484280"/>
                <a:ext cx="525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835280" y="234792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835280" y="3139920"/>
                <a:ext cx="52704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2916360" y="1916280"/>
                <a:ext cx="64440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908000" y="407664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340000" y="1484280"/>
                <a:ext cx="58428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"/>
          <p:cNvSpPr/>
          <p:nvPr/>
        </p:nvSpPr>
        <p:spPr>
          <a:xfrm>
            <a:off x="1258920" y="465300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332000" y="5229360"/>
                <a:ext cx="146844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43280" y="4751280"/>
                <a:ext cx="1206360" cy="21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num>
                      <m:den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2484360" y="148428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1280" y="1773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38640" y="2276640"/>
            <a:ext cx="29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3564000" y="2276640"/>
                <a:ext cx="9651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4500720" y="2276640"/>
                <a:ext cx="5857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2"/>
              <p:cNvSpPr txBox="1"/>
              <p:nvPr/>
            </p:nvSpPr>
            <p:spPr>
              <a:xfrm>
                <a:off x="5076720" y="2781360"/>
                <a:ext cx="64296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665680" y="3139920"/>
                <a:ext cx="966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6588000" y="3141720"/>
                <a:ext cx="584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643280" y="2276640"/>
            <a:ext cx="505080" cy="90144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440"/>
              <a:gd name="textAreaBottom" fmla="*/ 876960 h 901440"/>
            </a:gdLst>
            <a:ahLst/>
            <a:rect l="textAreaLeft" t="textAreaTop" r="textAreaRight" b="textAreaBottom"/>
            <a:pathLst>
              <a:path w="21600" h="38538">
                <a:moveTo>
                  <a:pt x="3600" y="0"/>
                </a:moveTo>
                <a:arcTo wR="3600" hR="3600" stAng="16200000" swAng="-5400000"/>
                <a:lnTo>
                  <a:pt x="0" y="34938"/>
                </a:lnTo>
                <a:arcTo wR="3600" hR="3600" stAng="10800000" swAng="-5400000"/>
                <a:lnTo>
                  <a:pt x="18000" y="385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314172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3995640" y="5229360"/>
                <a:ext cx="2811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6804000" y="5229360"/>
                <a:ext cx="11714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7956720" y="5229360"/>
                <a:ext cx="701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332000" y="5084640"/>
                <a:ext cx="2025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9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903240" y="165240"/>
                <a:ext cx="23828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5" name="Line 8"/>
          <p:cNvSpPr/>
          <p:nvPr/>
        </p:nvSpPr>
        <p:spPr>
          <a:xfrm>
            <a:off x="1555920" y="13842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3298680" y="260280"/>
                <a:ext cx="2678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83672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1836720" y="278136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1836720" y="3573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1909800" y="45100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2268360" y="1557360"/>
                <a:ext cx="6429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2413080" y="1557360"/>
            <a:ext cx="504720" cy="1297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1297080"/>
              <a:gd name="textAreaBottom" fmla="*/ 1272600 h 1297080"/>
            </a:gdLst>
            <a:ahLst/>
            <a:rect l="textAreaLeft" t="textAreaTop" r="textAreaRight" b="textAreaBottom"/>
            <a:pathLst>
              <a:path w="21600" h="55486">
                <a:moveTo>
                  <a:pt x="3600" y="0"/>
                </a:moveTo>
                <a:arcTo wR="3600" hR="3600" stAng="16200000" swAng="-5400000"/>
                <a:lnTo>
                  <a:pt x="0" y="51886"/>
                </a:lnTo>
                <a:arcTo wR="3600" hR="3600" stAng="10800000" swAng="-5400000"/>
                <a:lnTo>
                  <a:pt x="18000" y="55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87280" y="21337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díl není definová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1547640" y="551808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900000" y="260280"/>
                <a:ext cx="26449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6" name="Line 8"/>
          <p:cNvSpPr/>
          <p:nvPr/>
        </p:nvSpPr>
        <p:spPr>
          <a:xfrm>
            <a:off x="1547640" y="105264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"/>
              <p:cNvSpPr txBox="1"/>
              <p:nvPr/>
            </p:nvSpPr>
            <p:spPr>
              <a:xfrm>
                <a:off x="3564000" y="404640"/>
                <a:ext cx="3624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1763640" y="1125360"/>
                <a:ext cx="52560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763640" y="198900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763640" y="278136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1763640" y="357336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"/>
              <p:cNvSpPr txBox="1"/>
              <p:nvPr/>
            </p:nvSpPr>
            <p:spPr>
              <a:xfrm>
                <a:off x="2268360" y="1125360"/>
                <a:ext cx="8193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2268360" y="198900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2297160" y="2781360"/>
                <a:ext cx="965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2268360" y="3573360"/>
                <a:ext cx="1052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836720" y="4438800"/>
                <a:ext cx="2635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32000" y="1341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220500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276720" y="2997360"/>
                <a:ext cx="70164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276720" y="3789360"/>
                <a:ext cx="7016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"/>
              <p:cNvSpPr txBox="1"/>
              <p:nvPr/>
            </p:nvSpPr>
            <p:spPr>
              <a:xfrm>
                <a:off x="2631960" y="5396040"/>
                <a:ext cx="16750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"/>
              <p:cNvSpPr txBox="1"/>
              <p:nvPr/>
            </p:nvSpPr>
            <p:spPr>
              <a:xfrm>
                <a:off x="4284720" y="5373720"/>
                <a:ext cx="251136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"/>
              <p:cNvSpPr txBox="1"/>
              <p:nvPr/>
            </p:nvSpPr>
            <p:spPr>
              <a:xfrm>
                <a:off x="7740720" y="5805360"/>
                <a:ext cx="80496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3276720" y="1198440"/>
            <a:ext cx="718920" cy="323856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3238560"/>
              <a:gd name="textAreaBottom" fmla="*/ 3203640 h 3238560"/>
            </a:gdLst>
            <a:ahLst/>
            <a:rect l="textAreaLeft" t="textAreaTop" r="textAreaRight" b="textAreaBottom"/>
            <a:pathLst>
              <a:path w="21600" h="97265">
                <a:moveTo>
                  <a:pt x="3600" y="0"/>
                </a:moveTo>
                <a:arcTo wR="3600" hR="3600" stAng="16200000" swAng="-5400000"/>
                <a:lnTo>
                  <a:pt x="0" y="93665"/>
                </a:lnTo>
                <a:arcTo wR="3600" hR="3600" stAng="10800000" swAng="-5400000"/>
                <a:lnTo>
                  <a:pt x="18000" y="972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8920" y="234936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4440" y="285444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403280" y="5661000"/>
                <a:ext cx="2025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6732720" y="5516640"/>
                <a:ext cx="9381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6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042920" y="189000"/>
                <a:ext cx="23511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2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3276720" y="404640"/>
                <a:ext cx="39178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763640" y="1917720"/>
                <a:ext cx="5256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774800" y="2827440"/>
                <a:ext cx="5367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1763640" y="3789360"/>
                <a:ext cx="536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268360" y="1557360"/>
                <a:ext cx="7909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3782880" y="2421000"/>
                <a:ext cx="8924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835280" y="4653000"/>
                <a:ext cx="268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059280" y="1916280"/>
                <a:ext cx="819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4716360" y="2781360"/>
                <a:ext cx="83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508720" y="3355920"/>
                <a:ext cx="8920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6251400" y="270828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547640" y="566100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620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6372360" y="3716280"/>
                <a:ext cx="833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349800" y="184464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03640" y="2781360"/>
            <a:ext cx="505080" cy="9018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54">
                <a:moveTo>
                  <a:pt x="3600" y="0"/>
                </a:moveTo>
                <a:arcTo wR="3600" hR="3600" stAng="16200000" swAng="-5400000"/>
                <a:lnTo>
                  <a:pt x="0" y="34954"/>
                </a:lnTo>
                <a:arcTo wR="3600" hR="3600" stAng="10800000" swAng="-5400000"/>
                <a:lnTo>
                  <a:pt x="18000" y="385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659640" y="3716280"/>
            <a:ext cx="504720" cy="90180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901800"/>
              <a:gd name="textAreaBottom" fmla="*/ 877320 h 901800"/>
            </a:gdLst>
            <a:ahLst/>
            <a:rect l="textAreaLeft" t="textAreaTop" r="textAreaRight" b="textAreaBottom"/>
            <a:pathLst>
              <a:path w="21600" h="38581">
                <a:moveTo>
                  <a:pt x="3600" y="0"/>
                </a:moveTo>
                <a:arcTo wR="3600" hR="3600" stAng="16200000" swAng="-5400000"/>
                <a:lnTo>
                  <a:pt x="0" y="34981"/>
                </a:lnTo>
                <a:arcTo wR="3600" hR="3600" stAng="10800000" swAng="-5400000"/>
                <a:lnTo>
                  <a:pt x="18000" y="385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5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1168560" y="368280"/>
                <a:ext cx="26222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5322960" y="687240"/>
                <a:ext cx="19558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1258920" y="2565360"/>
                <a:ext cx="2413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222880" y="2719440"/>
                <a:ext cx="20955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1200240" y="4213080"/>
                <a:ext cx="234324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5305320" y="4430880"/>
                <a:ext cx="19908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31–4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8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44067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ometr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geometrická posloupnost, kvocient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eometr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G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971640" y="90792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71640" y="1700280"/>
            <a:ext cx="8172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Určete hmotnost jádra atomu po dvou minutách štěpné reakce, když se štěpením jeho hmotnost každých 20 s sníží na polovinu. Původní hmotnost jádra atomu byla 3 mg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90000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hmotnost za 2 min, což je 120 s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900000" y="162720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čase 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2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4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60 s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 120 s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00000" y="621036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Za 2 min se hmotnost jádra sníží na 3/64 = 0,046 875 mg.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292720" y="83664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268360" y="83664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hmotnos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1339920"/>
            <a:ext cx="217440" cy="432108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4321080"/>
              <a:gd name="textAreaBottom" fmla="*/ 4310640 h 4321080"/>
            </a:gdLst>
            <a:ahLst/>
            <a:rect l="textAreaLeft" t="textAreaTop" r="textAreaRight" b="textAreaBottom"/>
            <a:pathLst>
              <a:path w="21600" h="428573">
                <a:moveTo>
                  <a:pt x="3600" y="0"/>
                </a:moveTo>
                <a:arcTo wR="3600" hR="3600" stAng="16200000" swAng="-5400000"/>
                <a:lnTo>
                  <a:pt x="0" y="424973"/>
                </a:lnTo>
                <a:arcTo wR="3600" hR="3600" stAng="10800000" swAng="-5400000"/>
                <a:lnTo>
                  <a:pt x="18000" y="428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7640" y="1484280"/>
            <a:ext cx="360360" cy="4680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4680000"/>
              <a:gd name="textAreaBottom" fmla="*/ 4662720 h 4680000"/>
            </a:gdLst>
            <a:ahLst/>
            <a:rect l="textAreaLeft" t="textAreaTop" r="textAreaRight" b="textAreaBottom"/>
            <a:pathLst>
              <a:path w="21600" h="280261">
                <a:moveTo>
                  <a:pt x="3600" y="0"/>
                </a:moveTo>
                <a:arcTo wR="3600" hR="3600" stAng="16200000" swAng="-5400000"/>
                <a:lnTo>
                  <a:pt x="0" y="276661"/>
                </a:lnTo>
                <a:arcTo wR="3600" hR="3600" stAng="10800000" swAng="-5400000"/>
                <a:lnTo>
                  <a:pt x="18000" y="280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7020000" y="4148280"/>
                <a:ext cx="14238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8244000" y="5229360"/>
            <a:ext cx="0" cy="576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9240" y="573264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kvoc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788000" y="6019920"/>
            <a:ext cx="2305080" cy="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8960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exponent kvocientu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28000" y="1844640"/>
            <a:ext cx="504720" cy="338472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384720"/>
              <a:gd name="textAreaBottom" fmla="*/ 3360240 h 3384720"/>
            </a:gdLst>
            <a:ahLst/>
            <a:rect l="textAreaLeft" t="textAreaTop" r="textAreaRight" b="textAreaBottom"/>
            <a:pathLst>
              <a:path w="21600" h="144765">
                <a:moveTo>
                  <a:pt x="3600" y="0"/>
                </a:moveTo>
                <a:arcTo wR="3600" hR="3600" stAng="16200000" swAng="-5400000"/>
                <a:lnTo>
                  <a:pt x="0" y="141165"/>
                </a:lnTo>
                <a:arcTo wR="3600" hR="3600" stAng="10800000" swAng="-5400000"/>
                <a:lnTo>
                  <a:pt x="18000" y="144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348000" y="1771560"/>
                <a:ext cx="2620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987640" y="2421000"/>
                <a:ext cx="6714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2195640" y="3284640"/>
                <a:ext cx="14396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050920" y="4246560"/>
                <a:ext cx="16574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3708360" y="3213000"/>
                <a:ext cx="1346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3708360" y="4221000"/>
                <a:ext cx="13446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3995640" y="5229360"/>
                <a:ext cx="11098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7380360" y="1916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7380360" y="2924280"/>
                <a:ext cx="1052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3708360" y="1413000"/>
                <a:ext cx="13431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708360" y="2276640"/>
                <a:ext cx="131436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5219640" y="1628640"/>
            <a:ext cx="143820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G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vocient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708360" y="4221000"/>
                <a:ext cx="2656080" cy="6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geometrická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16000" y="260280"/>
                <a:ext cx="1795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6" name="Line 8"/>
          <p:cNvSpPr/>
          <p:nvPr/>
        </p:nvSpPr>
        <p:spPr>
          <a:xfrm>
            <a:off x="1692360" y="1052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3203640" y="404640"/>
                <a:ext cx="3232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340000" y="1052640"/>
                <a:ext cx="55548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2340000" y="3500280"/>
                <a:ext cx="87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203640" y="1268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3203640" y="213372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203640" y="2924280"/>
                <a:ext cx="4968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3203640" y="3716280"/>
                <a:ext cx="4968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2"/>
          <p:cNvSpPr/>
          <p:nvPr/>
        </p:nvSpPr>
        <p:spPr>
          <a:xfrm>
            <a:off x="1258920" y="479736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1403280" y="5445000"/>
                <a:ext cx="146844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"/>
              <p:cNvSpPr txBox="1"/>
              <p:nvPr/>
            </p:nvSpPr>
            <p:spPr>
              <a:xfrm>
                <a:off x="2916360" y="5445000"/>
                <a:ext cx="1104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3995640" y="5445000"/>
                <a:ext cx="140652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5292720" y="5805360"/>
                <a:ext cx="6364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276720" y="1125360"/>
            <a:ext cx="504720" cy="3024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3024360"/>
              <a:gd name="textAreaBottom" fmla="*/ 2999880 h 3024360"/>
            </a:gdLst>
            <a:ahLst/>
            <a:rect l="textAreaLeft" t="textAreaTop" r="textAreaRight" b="textAreaBottom"/>
            <a:pathLst>
              <a:path w="21600" h="129354">
                <a:moveTo>
                  <a:pt x="3600" y="0"/>
                </a:moveTo>
                <a:arcTo wR="3600" hR="3600" stAng="16200000" swAng="-5400000"/>
                <a:lnTo>
                  <a:pt x="0" y="125754"/>
                </a:lnTo>
                <a:arcTo wR="3600" hR="3600" stAng="10800000" swAng="-5400000"/>
                <a:lnTo>
                  <a:pt x="18000" y="129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4560" y="2276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0080" y="27748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7020000" y="5661000"/>
                <a:ext cx="18860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8120" y="285912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vocient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971640" y="260280"/>
                <a:ext cx="2414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02" name="Line 8"/>
          <p:cNvSpPr/>
          <p:nvPr/>
        </p:nvSpPr>
        <p:spPr>
          <a:xfrm>
            <a:off x="1692360" y="105264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476520" y="404640"/>
                <a:ext cx="32655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835280" y="1052640"/>
                <a:ext cx="525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835280" y="1916280"/>
                <a:ext cx="5270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1835280" y="2708280"/>
                <a:ext cx="5270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1835280" y="3500280"/>
                <a:ext cx="527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2340000" y="1052640"/>
                <a:ext cx="6732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2340000" y="1916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2340000" y="2708280"/>
                <a:ext cx="73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2340000" y="3500280"/>
                <a:ext cx="7318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1908000" y="4365720"/>
                <a:ext cx="263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3132000" y="1268280"/>
                <a:ext cx="7304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3132000" y="2133720"/>
                <a:ext cx="10810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3132000" y="2924280"/>
                <a:ext cx="993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132000" y="3716280"/>
                <a:ext cx="1022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3348000" y="1197000"/>
            <a:ext cx="936720" cy="302400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024000"/>
              <a:gd name="textAreaBottom" fmla="*/ 2978280 h 3024000"/>
            </a:gdLst>
            <a:ahLst/>
            <a:rect l="textAreaLeft" t="textAreaTop" r="textAreaRight" b="textAreaBottom"/>
            <a:pathLst>
              <a:path w="21600" h="69712">
                <a:moveTo>
                  <a:pt x="3600" y="0"/>
                </a:moveTo>
                <a:arcTo wR="3600" hR="3600" stAng="16200000" swAng="-5400000"/>
                <a:lnTo>
                  <a:pt x="0" y="66112"/>
                </a:lnTo>
                <a:arcTo wR="3600" hR="3600" stAng="10800000" swAng="-5400000"/>
                <a:lnTo>
                  <a:pt x="18000" y="697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547640" y="5229360"/>
            <a:ext cx="759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geometr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8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7:16Z</dcterms:modified>
  <cp:revision>328</cp:revision>
  <dc:subject/>
  <dc:title>Posloupnosti</dc:title>
</cp:coreProperties>
</file>