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56FE-F8CC-4950-BB01-245C7C2E407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D245-DB3C-4B80-B5D0-E9A12693F1D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EC45-A7E4-464A-9602-95BDEA6AC0F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41AE-A99C-4F82-B0EB-888C7D85F5B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6884-FB2B-45E2-B3FE-5313AE6001A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DC8A-AACC-42F0-B0C9-029994AA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246-6E7E-45F0-9BA1-71876DA3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012-1F14-4FFF-9CE7-DC946E64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25A-ED0F-43A7-8552-71430AB7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422C-30B7-40F1-9B80-5386A8C7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5C8D-8FDA-4C77-A146-8F889A97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FF7E-57A3-4FA8-8622-68634C0F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365B-A1A1-4FBD-AB32-B12D482A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F6D1-AF46-433C-82DC-07556C62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35C4-CDE9-4C2F-873D-FA39273C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C4BC-CB1E-44A9-9C2A-66098EA0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6C1-3634-496A-BFC9-D7E28BC5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78AC-5A91-4BB8-8DFB-931D058C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93BF-03BC-4CD0-A1FF-4C06F4DF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73CE-A7BF-4DFC-954E-5D5DDE56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BADE-1E1E-436C-ABD6-DA4E63E6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1242-67B4-4DFD-8D33-D7B8F6E0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DFA-202E-4B50-A324-EC90ED30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B652-BF25-42B7-BB0A-37A6625B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6E5-CA6B-4DFA-80C9-B09D6B12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49A-A85E-4EAC-9712-A4A11719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B59C-BB82-499F-AA01-3DA8CCA7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72E-5E9B-4A22-84A4-EE3E60F3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10B-6A9D-4B29-AE7B-707DD5F2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2853-ED34-4A89-B5E5-3902CD7DC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E3FC-C433-47D3-986A-D60D155DA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900000" y="476280"/>
            <a:ext cx="7883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                                              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vztah vycházející z názvu AP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AP kromě prvního je aritmetickým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ůměrem sousedních člen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547640" y="189000"/>
                <a:ext cx="61056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pro  </m:t>
                    </m:r>
                    <m:r>
                      <m:t xml:space="preserve">n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1258920" y="3573360"/>
                <a:ext cx="1866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3132000" y="3573360"/>
                <a:ext cx="30927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6227640" y="3573360"/>
                <a:ext cx="1589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7777080" y="3789360"/>
                <a:ext cx="1366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258920" y="4510080"/>
                <a:ext cx="18669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258920" y="5445000"/>
                <a:ext cx="18669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1692360" y="6237360"/>
                <a:ext cx="1666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3780000" y="5316480"/>
            <a:ext cx="4752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5243400"/>
            <a:ext cx="0" cy="217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6012000" y="5316480"/>
                <a:ext cx="390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565164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5964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5796000" y="4668840"/>
                <a:ext cx="306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6299280" y="4668840"/>
                <a:ext cx="306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5506920" y="5460840"/>
                <a:ext cx="39060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6516720" y="5460840"/>
                <a:ext cx="390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65" name=""/>
          <p:cNvCxnSpPr>
            <a:stCxn id="257" idx="0"/>
            <a:endCxn id="260" idx="0"/>
          </p:cNvCxnSpPr>
          <p:nvPr/>
        </p:nvCxnSpPr>
        <p:spPr>
          <a:xfrm flipH="1" rot="16200000">
            <a:off x="6405480" y="4978800"/>
            <a:ext cx="5400" cy="504000"/>
          </a:xfrm>
          <a:prstGeom prst="curvedConnector5">
            <a:avLst>
              <a:gd name="adj1" fmla="val -4800000"/>
              <a:gd name="adj2" fmla="val 49964"/>
              <a:gd name="adj3" fmla="val -48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57" idx="0"/>
            <a:endCxn id="259" idx="0"/>
          </p:cNvCxnSpPr>
          <p:nvPr/>
        </p:nvCxnSpPr>
        <p:spPr>
          <a:xfrm rot="5400000">
            <a:off x="5901120" y="4978440"/>
            <a:ext cx="5400" cy="505440"/>
          </a:xfrm>
          <a:prstGeom prst="curvedConnector5">
            <a:avLst>
              <a:gd name="adj1" fmla="val -4800000"/>
              <a:gd name="adj2" fmla="val 49964"/>
              <a:gd name="adj3" fmla="val -48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514836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91280" y="5243400"/>
            <a:ext cx="0" cy="360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5424480" y="4092480"/>
                <a:ext cx="473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6434280" y="4092480"/>
                <a:ext cx="473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5003640" y="5460840"/>
                <a:ext cx="390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6948360" y="5460840"/>
                <a:ext cx="3906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cxnSp>
        <p:nvCxnSpPr>
          <p:cNvPr id="273" name=""/>
          <p:cNvCxnSpPr>
            <a:stCxn id="257" idx="0"/>
            <a:endCxn id="268" idx="0"/>
          </p:cNvCxnSpPr>
          <p:nvPr/>
        </p:nvCxnSpPr>
        <p:spPr>
          <a:xfrm flipH="1" rot="16200000">
            <a:off x="6621120" y="4763160"/>
            <a:ext cx="5400" cy="935640"/>
          </a:xfrm>
          <a:prstGeom prst="curvedConnector5">
            <a:avLst>
              <a:gd name="adj1" fmla="val -16300000"/>
              <a:gd name="adj2" fmla="val 50000"/>
              <a:gd name="adj3" fmla="val -163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57" idx="0"/>
            <a:endCxn id="267" idx="0"/>
          </p:cNvCxnSpPr>
          <p:nvPr/>
        </p:nvCxnSpPr>
        <p:spPr>
          <a:xfrm rot="5400000">
            <a:off x="5649480" y="4726800"/>
            <a:ext cx="5400" cy="1008720"/>
          </a:xfrm>
          <a:prstGeom prst="curvedConnector5">
            <a:avLst>
              <a:gd name="adj1" fmla="val -16400000"/>
              <a:gd name="adj2" fmla="val 49982"/>
              <a:gd name="adj3" fmla="val -16400000"/>
            </a:avLst>
          </a:prstGeom>
          <a:ln w="936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3117960" y="4510080"/>
                <a:ext cx="31208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6227640" y="4510080"/>
                <a:ext cx="15890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7777080" y="4726080"/>
                <a:ext cx="1366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"/>
              <p:cNvSpPr txBox="1"/>
              <p:nvPr/>
            </p:nvSpPr>
            <p:spPr>
              <a:xfrm>
                <a:off x="3132000" y="5445000"/>
                <a:ext cx="2954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6227640" y="5445000"/>
                <a:ext cx="1589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7777080" y="5661000"/>
                <a:ext cx="1366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1332000" y="907920"/>
                <a:ext cx="677052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2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3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4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97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98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99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Rectangle 3"/>
          <p:cNvSpPr/>
          <p:nvPr/>
        </p:nvSpPr>
        <p:spPr>
          <a:xfrm>
            <a:off x="1042920" y="5661000"/>
            <a:ext cx="81010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</a:rPr>
              <a:t>... vztah pro součet </a:t>
            </a:r>
            <a:r>
              <a:rPr b="0" i="1" lang="en-US" sz="27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</a:rPr>
              <a:t> členů AP</a:t>
            </a:r>
            <a:endParaRPr b="0" lang="en-US" sz="27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4"/>
              <p:cNvSpPr txBox="1"/>
              <p:nvPr/>
            </p:nvSpPr>
            <p:spPr>
              <a:xfrm>
                <a:off x="1547640" y="5526000"/>
                <a:ext cx="30956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4" name="Rectangle 3"/>
          <p:cNvSpPr/>
          <p:nvPr/>
        </p:nvSpPr>
        <p:spPr>
          <a:xfrm>
            <a:off x="1187280" y="189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součet prvních 100 přiroze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76360" y="2060640"/>
            <a:ext cx="626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476360" y="1412640"/>
            <a:ext cx="0" cy="6476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7740720" y="1412640"/>
            <a:ext cx="0" cy="6476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24000" y="1413000"/>
            <a:ext cx="0" cy="1295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24000" y="2708280"/>
            <a:ext cx="468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276720" y="1413000"/>
            <a:ext cx="2374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276720" y="206064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771640" y="1412640"/>
            <a:ext cx="0" cy="19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12000" y="1412640"/>
            <a:ext cx="0" cy="1942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276720" y="2708280"/>
            <a:ext cx="23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9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3355920"/>
            <a:ext cx="324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1187280" y="3429000"/>
            <a:ext cx="7956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oučet prvního a posledního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0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 je shodný se součtem druhého a předposledního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99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, ..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ednotlivé sčítance obecně vyjádříme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spcBef>
                <a:spcPts val="1199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očet sčítanců se ale přitom zmenší na polovinu: 100/2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Vzorce – přehled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1187280" y="3213000"/>
            <a:ext cx="795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627120"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P (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971640" y="2205000"/>
            <a:ext cx="8172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971640" y="189000"/>
            <a:ext cx="8172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500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dvěma  po sobě jdoucími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členy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1547640" y="333360"/>
                <a:ext cx="2519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3"/>
          <p:cNvSpPr/>
          <p:nvPr/>
        </p:nvSpPr>
        <p:spPr>
          <a:xfrm>
            <a:off x="971640" y="1197000"/>
            <a:ext cx="8172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vní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412920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 libovolným členem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1547640" y="1341360"/>
                <a:ext cx="3507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4"/>
              <p:cNvSpPr txBox="1"/>
              <p:nvPr/>
            </p:nvSpPr>
            <p:spPr>
              <a:xfrm>
                <a:off x="1547640" y="2349360"/>
                <a:ext cx="35434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d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&gt;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6" name="Rectangle 3"/>
          <p:cNvSpPr/>
          <p:nvPr/>
        </p:nvSpPr>
        <p:spPr>
          <a:xfrm>
            <a:off x="971640" y="3716280"/>
            <a:ext cx="81723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5386320"/>
                <a:tab algn="l" pos="564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)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každý člen je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aritmetický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průměre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sousedů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1547640" y="3932280"/>
                <a:ext cx="48182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8" name="Rectangle 3"/>
          <p:cNvSpPr/>
          <p:nvPr/>
        </p:nvSpPr>
        <p:spPr>
          <a:xfrm>
            <a:off x="971640" y="5445000"/>
            <a:ext cx="817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29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.. vztah pro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součet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vních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členů A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1547640" y="5516640"/>
                <a:ext cx="30956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557360"/>
          <a:ext cx="7561080" cy="5003640"/>
        </p:xfrm>
        <a:graphic>
          <a:graphicData uri="http://schemas.openxmlformats.org/drawingml/2006/table">
            <a:tbl>
              <a:tblPr/>
              <a:tblGrid>
                <a:gridCol w="3095640"/>
                <a:gridCol w="4465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vlastnosti, vzor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odvození jednotlivých vztahů platných pro členy aritmetické posloupnosti a závěrečný přehled všech vzorců, které studenti aplikují ústně i písemně na tabuli pro konkrétní pořadí podle zadání učitel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stnosti AP; Vztahy mezi členy AP; Součet několika prvních členů AP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1989000"/>
            <a:ext cx="795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prvních pět členů dané AP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763640" y="3284640"/>
                <a:ext cx="26337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138320" y="363600"/>
                <a:ext cx="3265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4432320" y="2766960"/>
                <a:ext cx="38084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1116000" y="3500280"/>
                <a:ext cx="32958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4427640" y="6021360"/>
                <a:ext cx="35845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619280" y="836640"/>
            <a:ext cx="273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2411280" y="907920"/>
                <a:ext cx="17128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4140360" y="979560"/>
                <a:ext cx="12668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5364000" y="979560"/>
                <a:ext cx="5065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2395440" y="1339920"/>
                <a:ext cx="1744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4140360" y="1411200"/>
                <a:ext cx="10141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5364000" y="1411200"/>
                <a:ext cx="5702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2395440" y="1771560"/>
                <a:ext cx="17449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"/>
              <p:cNvSpPr txBox="1"/>
              <p:nvPr/>
            </p:nvSpPr>
            <p:spPr>
              <a:xfrm>
                <a:off x="4140360" y="1843200"/>
                <a:ext cx="1076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5364000" y="1843200"/>
                <a:ext cx="5702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2419200" y="2220840"/>
                <a:ext cx="1744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4140360" y="2276640"/>
                <a:ext cx="1076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5364000" y="2276640"/>
                <a:ext cx="6969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670040" y="3987720"/>
            <a:ext cx="266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2462040" y="4060800"/>
                <a:ext cx="1713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"/>
              <p:cNvSpPr txBox="1"/>
              <p:nvPr/>
            </p:nvSpPr>
            <p:spPr>
              <a:xfrm>
                <a:off x="4189320" y="4060800"/>
                <a:ext cx="1457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5702400" y="4132440"/>
                <a:ext cx="56988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2444760" y="4492800"/>
                <a:ext cx="1744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"/>
              <p:cNvSpPr txBox="1"/>
              <p:nvPr/>
            </p:nvSpPr>
            <p:spPr>
              <a:xfrm>
                <a:off x="4189320" y="4579920"/>
                <a:ext cx="10144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5702400" y="4564080"/>
                <a:ext cx="5061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2444760" y="4924440"/>
                <a:ext cx="1744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4253040" y="5011560"/>
                <a:ext cx="949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5702400" y="4997520"/>
                <a:ext cx="569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2468520" y="5373720"/>
                <a:ext cx="1744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4221000" y="5429160"/>
                <a:ext cx="1013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5702400" y="5429160"/>
                <a:ext cx="7286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1042920" y="404640"/>
                <a:ext cx="32972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4500720" y="1052640"/>
                <a:ext cx="38383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042920" y="2637000"/>
                <a:ext cx="40276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4067280" y="3645000"/>
                <a:ext cx="50767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1116000" y="5229360"/>
                <a:ext cx="3424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A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4500720" y="5734080"/>
                <a:ext cx="3394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lastnosti A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116000" y="242100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iferenc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276720" y="119844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4284720" y="1198440"/>
            <a:ext cx="45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AP je konstantní, omeze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203640" y="350208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508720" y="2422440"/>
            <a:ext cx="3635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AP je rostouc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mezená zdol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643280" y="242244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&gt;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5508720" y="4581360"/>
            <a:ext cx="3635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AP je klesajíc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omezená sho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643280" y="458136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&lt;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71640" y="1846440"/>
            <a:ext cx="360360" cy="86328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2925720"/>
            <a:ext cx="360360" cy="863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140360" y="2925360"/>
            <a:ext cx="360360" cy="863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4006800"/>
            <a:ext cx="360360" cy="86364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7280" y="148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ccecff"/>
                </a:solidFill>
                <a:uFillTx/>
                <a:latin typeface="Times New Roman"/>
              </a:rPr>
              <a:t>Vzorce – odvození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187280" y="3213000"/>
            <a:ext cx="795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7120" indent="-627120">
              <a:spcBef>
                <a:spcPts val="11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P (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en-US" sz="4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; </a:t>
            </a:r>
            <a:r>
              <a:rPr b="0" i="1" lang="en-US" sz="44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140360" y="2492280"/>
            <a:ext cx="1008000" cy="432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332000" y="260280"/>
            <a:ext cx="78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definice A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1908000" y="331920"/>
                <a:ext cx="26337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908000" y="1197000"/>
                <a:ext cx="379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908000" y="1773360"/>
                <a:ext cx="17226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1908000" y="2421000"/>
                <a:ext cx="1752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1924200" y="3068640"/>
                <a:ext cx="1635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1924200" y="3716280"/>
                <a:ext cx="17524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3780000" y="2421000"/>
                <a:ext cx="2014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6012000" y="2421000"/>
                <a:ext cx="1431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3708360" y="3068640"/>
                <a:ext cx="21891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6012000" y="3068640"/>
                <a:ext cx="1431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3724200" y="3716280"/>
                <a:ext cx="21589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6012000" y="3716280"/>
                <a:ext cx="1431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3"/>
          <p:cNvSpPr/>
          <p:nvPr/>
        </p:nvSpPr>
        <p:spPr>
          <a:xfrm>
            <a:off x="1332000" y="5227560"/>
            <a:ext cx="7812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rvní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a libovolným člene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A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1979640" y="5300640"/>
                <a:ext cx="36655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6084720" y="4292640"/>
                <a:ext cx="13431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vzt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2627280" y="1773360"/>
            <a:ext cx="100800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2276640"/>
            <a:ext cx="360360" cy="3603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35280" y="1773360"/>
            <a:ext cx="50472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1" idx="3"/>
            <a:endCxn id="194" idx="0"/>
          </p:cNvCxnSpPr>
          <p:nvPr/>
        </p:nvCxnSpPr>
        <p:spPr>
          <a:xfrm>
            <a:off x="3645000" y="2025720"/>
            <a:ext cx="1000800" cy="457920"/>
          </a:xfrm>
          <a:prstGeom prst="curvedConnector2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340000" y="3213000"/>
            <a:ext cx="21600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59280" y="3213000"/>
            <a:ext cx="21564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3213000"/>
            <a:ext cx="21600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75640" y="3213000"/>
            <a:ext cx="215640" cy="649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"/>
              <p:cNvSpPr txBox="1"/>
              <p:nvPr/>
            </p:nvSpPr>
            <p:spPr>
              <a:xfrm>
                <a:off x="2050920" y="1052640"/>
                <a:ext cx="17226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4211640" y="4078440"/>
                <a:ext cx="13143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vzta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1" name="Rectangle 3"/>
          <p:cNvSpPr/>
          <p:nvPr/>
        </p:nvSpPr>
        <p:spPr>
          <a:xfrm>
            <a:off x="1332000" y="5227560"/>
            <a:ext cx="7812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                           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vztah mezi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dvěma libovolnými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členy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A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979640" y="5300640"/>
                <a:ext cx="50403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e>
                    </m:d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r</m:t>
                    </m:r>
                    <m:r>
                      <m:t xml:space="preserve">&g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2050920" y="1700280"/>
                <a:ext cx="1897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922400" y="229068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11480" y="200196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299120" y="128268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011120" y="128268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43480" y="16416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70400" y="149868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1403280" y="2492280"/>
                <a:ext cx="1925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2124000" y="3355920"/>
                <a:ext cx="19256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5867280" y="1052640"/>
                <a:ext cx="1870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5881680" y="1700280"/>
                <a:ext cx="18684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5738760" y="229068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27840" y="200196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115480" y="1282680"/>
            <a:ext cx="0" cy="71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827480" y="128268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59840" y="1641600"/>
            <a:ext cx="142920" cy="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86760" y="1498680"/>
            <a:ext cx="289080" cy="2872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5234040" y="2492280"/>
                <a:ext cx="1896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5954760" y="3355920"/>
                <a:ext cx="18968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Rectangle 3"/>
          <p:cNvSpPr/>
          <p:nvPr/>
        </p:nvSpPr>
        <p:spPr>
          <a:xfrm>
            <a:off x="1187280" y="189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mocí 2. vztahu vyjádřete dvojice (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 a (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15" idx="2"/>
            <a:endCxn id="216" idx="2"/>
          </p:cNvCxnSpPr>
          <p:nvPr/>
        </p:nvCxnSpPr>
        <p:spPr>
          <a:xfrm flipH="1" rot="16200000">
            <a:off x="2805840" y="3503520"/>
            <a:ext cx="2160" cy="719640"/>
          </a:xfrm>
          <a:prstGeom prst="curvedConnector5">
            <a:avLst>
              <a:gd name="adj1" fmla="val 14300000"/>
              <a:gd name="adj2" fmla="val 50000"/>
              <a:gd name="adj3" fmla="val 14300000"/>
            </a:avLst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3348000" y="3284640"/>
            <a:ext cx="432000" cy="576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76000"/>
              <a:gd name="textAreaBottom" fmla="*/ 555120 h 576000"/>
            </a:gdLst>
            <a:ahLst/>
            <a:rect l="textAreaLeft" t="textAreaTop" r="textAreaRight" b="textAreaBottom"/>
            <a:pathLst>
              <a:path w="21600" h="28794">
                <a:moveTo>
                  <a:pt x="3600" y="0"/>
                </a:moveTo>
                <a:arcTo wR="3600" hR="3600" stAng="16200000" swAng="-5400000"/>
                <a:lnTo>
                  <a:pt x="0" y="25194"/>
                </a:lnTo>
                <a:arcTo wR="3600" hR="3600" stAng="10800000" swAng="-5400000"/>
                <a:lnTo>
                  <a:pt x="18000" y="28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17" idx="2"/>
            <a:endCxn id="218" idx="2"/>
          </p:cNvCxnSpPr>
          <p:nvPr/>
        </p:nvCxnSpPr>
        <p:spPr>
          <a:xfrm flipH="1" rot="16200000">
            <a:off x="6622200" y="3503520"/>
            <a:ext cx="2160" cy="719640"/>
          </a:xfrm>
          <a:prstGeom prst="curvedConnector5">
            <a:avLst>
              <a:gd name="adj1" fmla="val 14300000"/>
              <a:gd name="adj2" fmla="val 50000"/>
              <a:gd name="adj3" fmla="val 14300000"/>
            </a:avLst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7164360" y="3284640"/>
            <a:ext cx="432000" cy="576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576000"/>
              <a:gd name="textAreaBottom" fmla="*/ 555120 h 576000"/>
            </a:gdLst>
            <a:ahLst/>
            <a:rect l="textAreaLeft" t="textAreaTop" r="textAreaRight" b="textAreaBottom"/>
            <a:pathLst>
              <a:path w="21600" h="28794">
                <a:moveTo>
                  <a:pt x="3600" y="0"/>
                </a:moveTo>
                <a:arcTo wR="3600" hR="3600" stAng="16200000" swAng="-5400000"/>
                <a:lnTo>
                  <a:pt x="0" y="25194"/>
                </a:lnTo>
                <a:arcTo wR="3600" hR="3600" stAng="10800000" swAng="-5400000"/>
                <a:lnTo>
                  <a:pt x="18000" y="28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9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9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4:08Z</dcterms:modified>
  <cp:revision>316</cp:revision>
  <dc:subject/>
  <dc:title>Posloupnosti</dc:title>
</cp:coreProperties>
</file>