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600F-4959-4595-95C5-7A71F8E8F5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3EC1-040C-4C85-B561-5FF55DE0DF3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947F-FC88-4837-8411-FA2E11D0864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693D-8503-42A4-BC69-425DCA4014B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FB0A-6959-49AC-AA00-5F4B17330E8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6242-BBAE-4A06-8E4A-E9F48D770C4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07D8-CB5D-462D-8094-ACBDEF92ADD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11C3-321F-4327-BCA8-1B4B4F43287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FCFF-BD2D-49A1-BD5B-D55F97B983A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1CA5-DC02-4A45-946B-7135767D890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CC49-7A83-42DE-84C7-55635019503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3CEC-B8C2-4185-A654-F2D65DAD4AA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32A6-392D-4176-A1E1-4B2699BFA9A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EF27-EE29-4613-91C2-A464D473757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2172-71EB-4715-B6C9-9C77B0D8374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BD71-0117-41F2-B326-480DEA06570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9FCD-E763-4466-9D68-BE3AD63F848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83C-6DD4-4DA4-8500-A26C5B49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4BD-BE28-40B4-8769-86A31F55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C19-D7E6-499A-A0DA-005965CD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161-F9B4-4254-9E23-255E4C40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B91-23BC-4338-ADD8-1DD7964D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B4D-2D7F-4E06-A572-5E9D816A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D30-109F-49F5-A571-5C9FEB08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029-1E2E-4E7A-BCF1-D68A7B12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B02-EE51-4CCF-84CF-988C237F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5D0-1EE5-447C-82A9-6A0A7BBE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F63-7C73-411A-A118-C6AAF6E1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8E8-0F13-4F89-9DA1-4081ED72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prstGeom prst="pie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B66A-659A-420D-BCB6-1B9BF6679142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Times New Roman"/>
              </a:rPr>
              <a:t>ÚROKOVÁNÍ</a:t>
            </a:r>
            <a:endParaRPr b="0" lang="en-US" sz="8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371600"/>
            <a:ext cx="780264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ODVOZENÍ  VZORCE 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(jednoduché úrokování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Object 9"/>
              <p:cNvSpPr txBox="1"/>
              <p:nvPr/>
            </p:nvSpPr>
            <p:spPr>
              <a:xfrm>
                <a:off x="5435640" y="620640"/>
                <a:ext cx="936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3851280" y="816120"/>
                <a:ext cx="1631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rPr>
                        <m:lit/>
                        <m:nor/>
                      </m:rPr>
                      <m:t xml:space="preserve"> z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042920" y="1773360"/>
                <a:ext cx="15843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2627280" y="1557360"/>
                <a:ext cx="1575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9"/>
              <p:cNvSpPr txBox="1"/>
              <p:nvPr/>
            </p:nvSpPr>
            <p:spPr>
              <a:xfrm>
                <a:off x="7020000" y="1557360"/>
                <a:ext cx="19270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1042920" y="2781360"/>
                <a:ext cx="15480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9"/>
              <p:cNvSpPr txBox="1"/>
              <p:nvPr/>
            </p:nvSpPr>
            <p:spPr>
              <a:xfrm>
                <a:off x="2590920" y="2565360"/>
                <a:ext cx="2473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274920" y="1628640"/>
            <a:ext cx="936720" cy="793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41800" y="2643120"/>
            <a:ext cx="977760" cy="785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4560" y="1630440"/>
            <a:ext cx="129708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79640" y="2638440"/>
            <a:ext cx="121752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5292720" y="2565360"/>
                <a:ext cx="1793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7020000" y="2570040"/>
                <a:ext cx="19270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042920" y="3860640"/>
                <a:ext cx="15778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2627280" y="3645000"/>
                <a:ext cx="2664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4427640" y="3716280"/>
            <a:ext cx="865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3716280"/>
            <a:ext cx="143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9"/>
              <p:cNvSpPr txBox="1"/>
              <p:nvPr/>
            </p:nvSpPr>
            <p:spPr>
              <a:xfrm>
                <a:off x="5292720" y="3645000"/>
                <a:ext cx="1766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9"/>
              <p:cNvSpPr txBox="1"/>
              <p:nvPr/>
            </p:nvSpPr>
            <p:spPr>
              <a:xfrm>
                <a:off x="7018200" y="3645000"/>
                <a:ext cx="1928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580000" y="2637000"/>
            <a:ext cx="144144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1042920" y="4941720"/>
                <a:ext cx="15778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2627280" y="4726080"/>
                <a:ext cx="2736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427640" y="4797360"/>
            <a:ext cx="86508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4797360"/>
            <a:ext cx="1439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5280120" y="4726080"/>
                <a:ext cx="17938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7018200" y="4726080"/>
                <a:ext cx="1928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580000" y="3716280"/>
            <a:ext cx="144000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2360" y="2782800"/>
            <a:ext cx="358560" cy="50328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309">
                <a:moveTo>
                  <a:pt x="3600" y="0"/>
                </a:moveTo>
                <a:arcTo wR="3600" hR="3600" stAng="16200000" swAng="-5400000"/>
                <a:lnTo>
                  <a:pt x="0" y="26709"/>
                </a:lnTo>
                <a:arcTo wR="3600" hR="3600" stAng="10800000" swAng="-5400000"/>
                <a:lnTo>
                  <a:pt x="18000" y="303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3860640"/>
            <a:ext cx="358560" cy="50508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505080"/>
              <a:gd name="textAreaBottom" fmla="*/ 487800 h 505080"/>
            </a:gdLst>
            <a:ahLst/>
            <a:rect l="textAreaLeft" t="textAreaTop" r="textAreaRight" b="textAreaBottom"/>
            <a:pathLst>
              <a:path w="21600" h="30418">
                <a:moveTo>
                  <a:pt x="3600" y="0"/>
                </a:moveTo>
                <a:arcTo wR="3600" hR="3600" stAng="16200000" swAng="-5400000"/>
                <a:lnTo>
                  <a:pt x="0" y="26818"/>
                </a:lnTo>
                <a:arcTo wR="3600" hR="3600" stAng="10800000" swAng="-5400000"/>
                <a:lnTo>
                  <a:pt x="18000" y="3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92360" y="494172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042920" y="189000"/>
            <a:ext cx="78454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Úrok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a stejné úrokovací doby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Times New Roman"/>
              </a:rPr>
              <a:t>se nemě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a vypočítává se stále z téže původní jistin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24000" y="1773360"/>
            <a:ext cx="503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278280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4000" y="386064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24000" y="4941720"/>
            <a:ext cx="503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162864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70172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tknět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1989000"/>
            <a:ext cx="10098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6620040" y="5734080"/>
                <a:ext cx="2336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7093080" y="5373720"/>
                <a:ext cx="163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Object 8"/>
              <p:cNvSpPr txBox="1"/>
              <p:nvPr/>
            </p:nvSpPr>
            <p:spPr>
              <a:xfrm>
                <a:off x="4643280" y="3284640"/>
                <a:ext cx="26895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1935000" y="3214800"/>
                <a:ext cx="27655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1979640" y="181080"/>
                <a:ext cx="23209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1908000" y="1117440"/>
                <a:ext cx="239112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1908000" y="2054160"/>
                <a:ext cx="24609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2340000" y="2852640"/>
                <a:ext cx="183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 rot="16200000">
            <a:off x="-849960" y="2082240"/>
            <a:ext cx="417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ednotlivé jistiny tvoří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198900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očáteční jistina je prvním členem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80360" y="3429000"/>
            <a:ext cx="1763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úrok je diferencí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8000" y="333360"/>
            <a:ext cx="459000" cy="4097520"/>
          </a:xfrm>
          <a:custGeom>
            <a:avLst/>
            <a:gdLst>
              <a:gd name="textAreaLeft" fmla="*/ 22320 w 459000"/>
              <a:gd name="textAreaRight" fmla="*/ 436680 w 459000"/>
              <a:gd name="textAreaTop" fmla="*/ 22320 h 4097520"/>
              <a:gd name="textAreaBottom" fmla="*/ 4075200 h 4097520"/>
            </a:gdLst>
            <a:ahLst/>
            <a:rect l="textAreaLeft" t="textAreaTop" r="textAreaRight" b="textAreaBottom"/>
            <a:pathLst>
              <a:path w="21600" h="192690">
                <a:moveTo>
                  <a:pt x="3600" y="0"/>
                </a:moveTo>
                <a:arcTo wR="3600" hR="3600" stAng="16200000" swAng="-5400000"/>
                <a:lnTo>
                  <a:pt x="0" y="189090"/>
                </a:lnTo>
                <a:arcTo wR="3600" hR="3600" stAng="10800000" swAng="-5400000"/>
                <a:lnTo>
                  <a:pt x="18000" y="1926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76000" y="2349360"/>
            <a:ext cx="431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221440" y="2781000"/>
            <a:ext cx="1440" cy="647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3429000"/>
            <a:ext cx="432000" cy="172872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728720"/>
              <a:gd name="textAreaBottom" fmla="*/ 1707840 h 1728720"/>
            </a:gdLst>
            <a:ahLst/>
            <a:rect l="textAreaLeft" t="textAreaTop" r="textAreaRight" b="textAreaBottom"/>
            <a:pathLst>
              <a:path w="21600" h="86382">
                <a:moveTo>
                  <a:pt x="3600" y="0"/>
                </a:moveTo>
                <a:arcTo wR="3600" hR="3600" stAng="16200000" swAng="-5400000"/>
                <a:lnTo>
                  <a:pt x="0" y="82782"/>
                </a:lnTo>
                <a:arcTo wR="3600" hR="3600" stAng="10800000" swAng="-5400000"/>
                <a:lnTo>
                  <a:pt x="18000" y="86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16720" y="3284640"/>
            <a:ext cx="719280" cy="108108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1081080"/>
              <a:gd name="textAreaBottom" fmla="*/ 1046160 h 1081080"/>
            </a:gdLst>
            <a:ahLst/>
            <a:rect l="textAreaLeft" t="textAreaTop" r="textAreaRight" b="textAreaBottom"/>
            <a:pathLst>
              <a:path w="21600" h="32459">
                <a:moveTo>
                  <a:pt x="3600" y="0"/>
                </a:moveTo>
                <a:arcTo wR="3600" hR="3600" stAng="16200000" swAng="-5400000"/>
                <a:lnTo>
                  <a:pt x="0" y="28859"/>
                </a:lnTo>
                <a:arcTo wR="3600" hR="3600" stAng="10800000" swAng="-5400000"/>
                <a:lnTo>
                  <a:pt x="18000" y="324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6000" y="3933720"/>
            <a:ext cx="43164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1116000" y="5229360"/>
            <a:ext cx="8028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i jednoduchém úrokování roste hodnota jistiny lineárně (pozvolna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íklady jsou velmi jednoduché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8"/>
              <p:cNvSpPr txBox="1"/>
              <p:nvPr/>
            </p:nvSpPr>
            <p:spPr>
              <a:xfrm>
                <a:off x="3276720" y="4508640"/>
                <a:ext cx="40510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6948360" y="4365720"/>
            <a:ext cx="360360" cy="647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647640"/>
              <a:gd name="textAreaBottom" fmla="*/ 630360 h 647640"/>
            </a:gdLst>
            <a:ahLst/>
            <a:rect l="textAreaLeft" t="textAreaTop" r="textAreaRight" b="textAreaBottom"/>
            <a:pathLst>
              <a:path w="21600" h="38802">
                <a:moveTo>
                  <a:pt x="3600" y="0"/>
                </a:moveTo>
                <a:arcTo wR="3600" hR="3600" stAng="16200000" swAng="-5400000"/>
                <a:lnTo>
                  <a:pt x="0" y="35202"/>
                </a:lnTo>
                <a:arcTo wR="3600" hR="3600" stAng="10800000" swAng="-5400000"/>
                <a:lnTo>
                  <a:pt x="18000" y="388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1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á je tržní hodnota směnky s nominální hodnotou 120 000,- Kč po 5 letech při úročení 1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2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5 le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5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3"/>
              <p:cNvSpPr txBox="1"/>
              <p:nvPr/>
            </p:nvSpPr>
            <p:spPr>
              <a:xfrm>
                <a:off x="1116000" y="5084640"/>
                <a:ext cx="257508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3"/>
              <p:cNvSpPr txBox="1"/>
              <p:nvPr/>
            </p:nvSpPr>
            <p:spPr>
              <a:xfrm>
                <a:off x="3660840" y="5087880"/>
                <a:ext cx="302400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3"/>
              <p:cNvSpPr txBox="1"/>
              <p:nvPr/>
            </p:nvSpPr>
            <p:spPr>
              <a:xfrm>
                <a:off x="6640560" y="5303880"/>
                <a:ext cx="22780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2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á byla nominální hodnota směnky, jejíž tržní hodnota je po 10 letech 51 000,- Kč při 5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0 le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51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5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5292720" y="234936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4788000" y="3357720"/>
                <a:ext cx="3027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3"/>
              <p:cNvSpPr txBox="1"/>
              <p:nvPr/>
            </p:nvSpPr>
            <p:spPr>
              <a:xfrm>
                <a:off x="5292720" y="5145120"/>
                <a:ext cx="2289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č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3"/>
              <p:cNvSpPr txBox="1"/>
              <p:nvPr/>
            </p:nvSpPr>
            <p:spPr>
              <a:xfrm>
                <a:off x="4788000" y="4437000"/>
                <a:ext cx="1909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t xml:space="preserve">1,5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3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Za kolik let vzroste hodnota směnky z 10 000,- Kč na 100 000,- Kč při 12 % p.a.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10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12 % p.a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3"/>
              <p:cNvSpPr txBox="1"/>
              <p:nvPr/>
            </p:nvSpPr>
            <p:spPr>
              <a:xfrm>
                <a:off x="4789440" y="220500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3"/>
              <p:cNvSpPr txBox="1"/>
              <p:nvPr/>
            </p:nvSpPr>
            <p:spPr>
              <a:xfrm>
                <a:off x="4140360" y="3932280"/>
                <a:ext cx="24271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3"/>
              <p:cNvSpPr txBox="1"/>
              <p:nvPr/>
            </p:nvSpPr>
            <p:spPr>
              <a:xfrm>
                <a:off x="5005440" y="6165720"/>
                <a:ext cx="13348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let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3"/>
              <p:cNvSpPr txBox="1"/>
              <p:nvPr/>
            </p:nvSpPr>
            <p:spPr>
              <a:xfrm>
                <a:off x="4140360" y="3068640"/>
                <a:ext cx="370656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3"/>
              <p:cNvSpPr txBox="1"/>
              <p:nvPr/>
            </p:nvSpPr>
            <p:spPr>
              <a:xfrm>
                <a:off x="4500720" y="4724280"/>
                <a:ext cx="1663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3"/>
              <p:cNvSpPr txBox="1"/>
              <p:nvPr/>
            </p:nvSpPr>
            <p:spPr>
              <a:xfrm>
                <a:off x="4716360" y="5661000"/>
                <a:ext cx="1390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3"/>
              <p:cNvSpPr txBox="1"/>
              <p:nvPr/>
            </p:nvSpPr>
            <p:spPr>
              <a:xfrm>
                <a:off x="6588000" y="4941720"/>
                <a:ext cx="79056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3"/>
              <p:cNvSpPr txBox="1"/>
              <p:nvPr/>
            </p:nvSpPr>
            <p:spPr>
              <a:xfrm>
                <a:off x="7862760" y="3357720"/>
                <a:ext cx="1254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3"/>
              <p:cNvSpPr txBox="1"/>
              <p:nvPr/>
            </p:nvSpPr>
            <p:spPr>
              <a:xfrm>
                <a:off x="6534000" y="5661000"/>
                <a:ext cx="7081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077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4:</a:t>
            </a:r>
            <a:br>
              <a:rPr sz="3000"/>
            </a:b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Jak je úročena směnka, jejíž hodnota za 4 roky vzrostla 40 000,- Kč na 50 000,- Kč?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2920" y="2205000"/>
            <a:ext cx="7878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Řešení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 4 rok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4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= 50 0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= 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859280" y="2205000"/>
                <a:ext cx="23432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3"/>
              <p:cNvSpPr txBox="1"/>
              <p:nvPr/>
            </p:nvSpPr>
            <p:spPr>
              <a:xfrm>
                <a:off x="4282920" y="3860640"/>
                <a:ext cx="22910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3"/>
              <p:cNvSpPr txBox="1"/>
              <p:nvPr/>
            </p:nvSpPr>
            <p:spPr>
              <a:xfrm>
                <a:off x="4930920" y="6080040"/>
                <a:ext cx="15523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6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3"/>
              <p:cNvSpPr txBox="1"/>
              <p:nvPr/>
            </p:nvSpPr>
            <p:spPr>
              <a:xfrm>
                <a:off x="4346640" y="3068640"/>
                <a:ext cx="34336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3"/>
              <p:cNvSpPr txBox="1"/>
              <p:nvPr/>
            </p:nvSpPr>
            <p:spPr>
              <a:xfrm>
                <a:off x="4282920" y="4724280"/>
                <a:ext cx="18828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3"/>
              <p:cNvSpPr txBox="1"/>
              <p:nvPr/>
            </p:nvSpPr>
            <p:spPr>
              <a:xfrm>
                <a:off x="4859280" y="5589720"/>
                <a:ext cx="11448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3"/>
              <p:cNvSpPr txBox="1"/>
              <p:nvPr/>
            </p:nvSpPr>
            <p:spPr>
              <a:xfrm>
                <a:off x="6546960" y="4968720"/>
                <a:ext cx="79056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3"/>
              <p:cNvSpPr txBox="1"/>
              <p:nvPr/>
            </p:nvSpPr>
            <p:spPr>
              <a:xfrm>
                <a:off x="7835760" y="3284640"/>
                <a:ext cx="1308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3"/>
              <p:cNvSpPr txBox="1"/>
              <p:nvPr/>
            </p:nvSpPr>
            <p:spPr>
              <a:xfrm>
                <a:off x="6516720" y="5589720"/>
                <a:ext cx="6001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3, s. 41–6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Rozlišujeme dva druhy úrokování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7280" y="1484280"/>
            <a:ext cx="7596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Jednoduché úrokování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žití AP v praxi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užití výjimečné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cenné papíry, směnk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547640" y="3860640"/>
            <a:ext cx="759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Složené úrokování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žití GP v prax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raxi daleko častěji využíva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10000"/>
              </a:lnSpc>
              <a:buClr>
                <a:srgbClr val="dddddd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běžné účty, půjčk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Nejjednodušší přípa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terým se budeme zabývat v hodinách matematiky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16000" y="270792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4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avidelně na konci roku je úročena, a to buď v jednoduchém či složeném úrokování, jednorázově uložená částka, tzv. jistina.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Důležité pojmy: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jistina</a:t>
            </a: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dob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ací období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ková mír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  <a:p>
            <a:pPr marL="673200" indent="-673200">
              <a:lnSpc>
                <a:spcPct val="9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Times New Roman"/>
              </a:rPr>
              <a:t>úročitel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91840" y="259920"/>
            <a:ext cx="76518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8000" y="765000"/>
            <a:ext cx="7236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9640" indent="-3596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dměna (např. finančního ústavu) uvedená     v Kč za zapůjčenou částk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05080" y="2521080"/>
            <a:ext cx="7738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Jistin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763640" y="3139920"/>
            <a:ext cx="7309080" cy="37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45240" indent="-3452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apůjčená či uložená peněžní část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načen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r>
              <a:rPr b="0" lang="cs-CZ" sz="2800" spc="-1" strike="noStrike" baseline="-25000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počáteční (původní) jisti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1.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2.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66ff33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elikost jistiny na konci n-tého rok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5240" indent="-34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konečná jisti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900000" y="1916280"/>
            <a:ext cx="7485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še úroku závisí na veličinách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ací období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47280" y="2133360"/>
            <a:ext cx="75963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5200" indent="-5652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likož se v hodinách matematiky zaměřujeme na nejjednodušší typy příkladů finanční matematiky, bude ve všech příkladech toto období  </a:t>
            </a: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jeden rok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187280" y="4005360"/>
            <a:ext cx="7651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míra, ozn.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547640" y="4653000"/>
            <a:ext cx="7596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ýše odměny ze zapůjčené jisti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a úrokovací období (1 rok, per annum: zkratka – p.a.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yjádřená v procentec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565200" indent="-5652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. 1,5 %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.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187280" y="189000"/>
            <a:ext cx="7561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Úroková dob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547640" y="836640"/>
            <a:ext cx="759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5200" indent="-565200">
              <a:lnSpc>
                <a:spcPct val="12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oba, na kterou je jistina zapůjčena či ulože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902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rocento je jedna setina ze základu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76964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počtěte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0 % z 59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0 % z 6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5 % z 8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7 % z 200,- Kč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99072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% z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4067280" y="1557360"/>
                <a:ext cx="2514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9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4067280" y="2276640"/>
                <a:ext cx="2514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7"/>
              <p:cNvSpPr txBox="1"/>
              <p:nvPr/>
            </p:nvSpPr>
            <p:spPr>
              <a:xfrm>
                <a:off x="4067280" y="3068640"/>
                <a:ext cx="2539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8"/>
              <p:cNvSpPr txBox="1"/>
              <p:nvPr/>
            </p:nvSpPr>
            <p:spPr>
              <a:xfrm>
                <a:off x="4016520" y="3835440"/>
                <a:ext cx="14475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2871720" y="5416560"/>
                <a:ext cx="1452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4356000" y="5373720"/>
                <a:ext cx="1038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5435640" y="5373720"/>
                <a:ext cx="10382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5580000" y="3789360"/>
                <a:ext cx="1295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6934320" y="4005360"/>
                <a:ext cx="2209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Kč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92320" y="3968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rok za stejné úrokovací doby se nemění a vypočítává se stále z téže původní jistin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116000" y="692280"/>
            <a:ext cx="7802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Times New Roman"/>
              </a:rPr>
              <a:t>JEDNODUCHÉ ÚROKOVÁNÍ</a:t>
            </a:r>
            <a:endParaRPr b="0" lang="en-US" sz="6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91676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Ukázkový příklad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966960" y="765000"/>
            <a:ext cx="817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aká je tržní hodnota dluhopisu s nominální hodnotou 40 000,- Kč po 4 letech při úročení 10 % p.a.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966960" y="1700280"/>
            <a:ext cx="817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Zápi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971640" y="2276640"/>
            <a:ext cx="198432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1763640" y="2276640"/>
            <a:ext cx="23050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0 000,- Kč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4 ro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10 % p.a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708360" y="2997360"/>
          <a:ext cx="5257800" cy="1944360"/>
        </p:xfrm>
        <a:graphic>
          <a:graphicData uri="http://schemas.openxmlformats.org/drawingml/2006/table">
            <a:tbl>
              <a:tblPr/>
              <a:tblGrid>
                <a:gridCol w="1224000"/>
                <a:gridCol w="1008000"/>
                <a:gridCol w="1049400"/>
                <a:gridCol w="968400"/>
                <a:gridCol w="1008000"/>
              </a:tblGrid>
              <a:tr h="576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635280" y="4292640"/>
            <a:ext cx="13226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0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216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4149720"/>
            <a:ext cx="707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3380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4292640"/>
            <a:ext cx="992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56720" y="4292640"/>
            <a:ext cx="1008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0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3068640"/>
            <a:ext cx="12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nominální hodnota dluhopis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221000"/>
            <a:ext cx="5257800" cy="720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03640" y="5084640"/>
                <a:ext cx="4895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0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9" name="Rectangle 22"/>
          <p:cNvSpPr/>
          <p:nvPr/>
        </p:nvSpPr>
        <p:spPr>
          <a:xfrm>
            <a:off x="1042920" y="57340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2252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daných podmínek vzroste za 4 roky hodnota dluhopisu na 56 000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1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2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20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3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28000" y="357336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z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4. ro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640" y="30686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Times New Roman"/>
              </a:rPr>
              <a:t>úrok (10 %) / Kč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7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UserXP</cp:lastModifiedBy>
  <dcterms:modified xsi:type="dcterms:W3CDTF">2013-05-28T11:32:27Z</dcterms:modified>
  <cp:revision>96</cp:revision>
  <dc:subject/>
  <dc:title>ÚROKOVÁNÍ</dc:title>
</cp:coreProperties>
</file>