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3C4D-6233-4A71-A7F2-F2B61035CB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89AF-9405-4B13-BAEF-B6E45F8AAD5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A34F-BDE3-4E06-B55B-D456DBCEEE0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45D8-8421-4876-968F-81019C1D67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834C-3F8E-4689-A69B-D9FF467CC1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3B2-747F-4383-899E-1328C423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CC2-5F11-43E8-A678-F9A4354D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2C2-DB80-4E58-A964-84131D55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041-9296-48FB-BC3C-23F6ECA6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E643-A762-4DFD-AFF8-C5518FF9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9F43-CD66-41FE-B902-9BE2B2B5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4C76-8343-40D4-ADF3-9D4BD802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41E2-EACF-401F-A859-A222A488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63B8-65C6-4AE1-8888-AED18D09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BF98-CB6D-4227-8723-A1EA179A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C4D2-53DE-4FEB-A681-25E38D07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D8B-A5F8-455E-87A1-E3566556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55B2-7925-4543-8E13-2F0F321B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969C-CC4E-404F-85A2-2ED5E0C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8095-D380-4604-86AC-1E5C2EAB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ED13-ABAC-403F-A8D6-DA75DE17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F853-AE5B-431E-8210-B5902AB6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E28-DDDE-43B0-884F-60134F1F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7A1-83B9-4871-B42E-49091B9E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5AD-8392-44A1-B834-F474FAC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4298-27D4-42BB-888D-B7234E20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8F9-B287-4694-9DCE-C0F8EBF0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C7B-7A64-4899-8A1D-B91DDAB9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2A6-DC9E-4768-9BE4-9D50ED87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DA3F-8F33-442B-A7B7-54EE570F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3379-2816-43C9-A11A-F3DC0938A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5699160" y="2637000"/>
                <a:ext cx="9795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shor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860480" y="4149720"/>
                <a:ext cx="1314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12400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7" name="Line 8"/>
          <p:cNvSpPr/>
          <p:nvPr/>
        </p:nvSpPr>
        <p:spPr>
          <a:xfrm>
            <a:off x="169236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větší než 1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"/>
              <p:cNvSpPr txBox="1"/>
              <p:nvPr/>
            </p:nvSpPr>
            <p:spPr>
              <a:xfrm>
                <a:off x="4932360" y="2205000"/>
                <a:ext cx="2462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2"/>
              <p:cNvSpPr txBox="1"/>
              <p:nvPr/>
            </p:nvSpPr>
            <p:spPr>
              <a:xfrm>
                <a:off x="4427640" y="2708280"/>
                <a:ext cx="2938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2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4067280" y="4365720"/>
                <a:ext cx="1158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4140360" y="522936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Rectangle 4"/>
          <p:cNvSpPr/>
          <p:nvPr/>
        </p:nvSpPr>
        <p:spPr>
          <a:xfrm>
            <a:off x="6516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"/>
              <p:cNvSpPr txBox="1"/>
              <p:nvPr/>
            </p:nvSpPr>
            <p:spPr>
              <a:xfrm>
                <a:off x="4643280" y="5732640"/>
                <a:ext cx="7290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4"/>
          <p:cNvSpPr/>
          <p:nvPr/>
        </p:nvSpPr>
        <p:spPr>
          <a:xfrm>
            <a:off x="4356000" y="6165720"/>
            <a:ext cx="129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5796000" y="3284640"/>
                <a:ext cx="727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6045120" y="4365720"/>
                <a:ext cx="1239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2"/>
              <p:cNvSpPr txBox="1"/>
              <p:nvPr/>
            </p:nvSpPr>
            <p:spPr>
              <a:xfrm>
                <a:off x="766764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2"/>
              <p:cNvSpPr txBox="1"/>
              <p:nvPr/>
            </p:nvSpPr>
            <p:spPr>
              <a:xfrm>
                <a:off x="6084720" y="5229360"/>
                <a:ext cx="1398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2"/>
              <p:cNvSpPr txBox="1"/>
              <p:nvPr/>
            </p:nvSpPr>
            <p:spPr>
              <a:xfrm>
                <a:off x="6588000" y="5732640"/>
                <a:ext cx="7272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4"/>
          <p:cNvSpPr/>
          <p:nvPr/>
        </p:nvSpPr>
        <p:spPr>
          <a:xfrm>
            <a:off x="7596360" y="6165720"/>
            <a:ext cx="15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2520" y="41400"/>
                <a:ext cx="2384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Line 8"/>
          <p:cNvSpPr/>
          <p:nvPr/>
        </p:nvSpPr>
        <p:spPr>
          <a:xfrm>
            <a:off x="1763640" y="1413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1835280" y="1916280"/>
                <a:ext cx="62690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99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4"/>
          <p:cNvSpPr/>
          <p:nvPr/>
        </p:nvSpPr>
        <p:spPr>
          <a:xfrm>
            <a:off x="1187280" y="350028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Všechny hodnoty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jsou stále menší než 1 –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"/>
              <p:cNvSpPr txBox="1"/>
              <p:nvPr/>
            </p:nvSpPr>
            <p:spPr>
              <a:xfrm>
                <a:off x="550872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5292720" y="1341360"/>
                <a:ext cx="229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"/>
              <p:cNvSpPr txBox="1"/>
              <p:nvPr/>
            </p:nvSpPr>
            <p:spPr>
              <a:xfrm>
                <a:off x="4356000" y="2276640"/>
                <a:ext cx="25750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4"/>
          <p:cNvSpPr/>
          <p:nvPr/>
        </p:nvSpPr>
        <p:spPr>
          <a:xfrm>
            <a:off x="7164360" y="3284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5219640" y="2708280"/>
                <a:ext cx="15382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4"/>
          <p:cNvSpPr/>
          <p:nvPr/>
        </p:nvSpPr>
        <p:spPr>
          <a:xfrm>
            <a:off x="1116000" y="386064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0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1523880" y="44388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"/>
              <p:cNvSpPr txBox="1"/>
              <p:nvPr/>
            </p:nvSpPr>
            <p:spPr>
              <a:xfrm>
                <a:off x="4040280" y="4365720"/>
                <a:ext cx="12128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4067280" y="5229360"/>
                <a:ext cx="1201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4"/>
          <p:cNvSpPr/>
          <p:nvPr/>
        </p:nvSpPr>
        <p:spPr>
          <a:xfrm>
            <a:off x="3852720" y="6165720"/>
            <a:ext cx="93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4500720" y="5734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4"/>
          <p:cNvSpPr/>
          <p:nvPr/>
        </p:nvSpPr>
        <p:spPr>
          <a:xfrm>
            <a:off x="6877080" y="616572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2"/>
              <p:cNvSpPr txBox="1"/>
              <p:nvPr/>
            </p:nvSpPr>
            <p:spPr>
              <a:xfrm>
                <a:off x="7885080" y="1628640"/>
                <a:ext cx="12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"/>
              <p:cNvSpPr txBox="1"/>
              <p:nvPr/>
            </p:nvSpPr>
            <p:spPr>
              <a:xfrm>
                <a:off x="5580000" y="3284640"/>
                <a:ext cx="978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"/>
              <p:cNvSpPr txBox="1"/>
              <p:nvPr/>
            </p:nvSpPr>
            <p:spPr>
              <a:xfrm>
                <a:off x="6534000" y="4365720"/>
                <a:ext cx="11592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"/>
              <p:cNvSpPr txBox="1"/>
              <p:nvPr/>
            </p:nvSpPr>
            <p:spPr>
              <a:xfrm>
                <a:off x="8116920" y="458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⋅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2"/>
              <p:cNvSpPr txBox="1"/>
              <p:nvPr/>
            </p:nvSpPr>
            <p:spPr>
              <a:xfrm>
                <a:off x="6588000" y="522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2"/>
              <p:cNvSpPr txBox="1"/>
              <p:nvPr/>
            </p:nvSpPr>
            <p:spPr>
              <a:xfrm>
                <a:off x="6804000" y="5734080"/>
                <a:ext cx="977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4"/>
          <p:cNvSpPr/>
          <p:nvPr/>
        </p:nvSpPr>
        <p:spPr>
          <a:xfrm>
            <a:off x="4716360" y="6165720"/>
            <a:ext cx="15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6" name="Object 2"/>
              <p:cNvSpPr txBox="1"/>
              <p:nvPr/>
            </p:nvSpPr>
            <p:spPr>
              <a:xfrm>
                <a:off x="1289160" y="277920"/>
                <a:ext cx="1974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7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2340000" y="1773360"/>
                <a:ext cx="5257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9 0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9" name="Rectangle 4"/>
          <p:cNvSpPr/>
          <p:nvPr/>
        </p:nvSpPr>
        <p:spPr>
          <a:xfrm>
            <a:off x="1187280" y="270828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"/>
              <p:cNvSpPr txBox="1"/>
              <p:nvPr/>
            </p:nvSpPr>
            <p:spPr>
              <a:xfrm>
                <a:off x="5651640" y="1628640"/>
                <a:ext cx="12398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"/>
              <p:cNvSpPr txBox="1"/>
              <p:nvPr/>
            </p:nvSpPr>
            <p:spPr>
              <a:xfrm>
                <a:off x="5796000" y="2133720"/>
                <a:ext cx="12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"/>
              <p:cNvSpPr txBox="1"/>
              <p:nvPr/>
            </p:nvSpPr>
            <p:spPr>
              <a:xfrm>
                <a:off x="5823000" y="2637000"/>
                <a:ext cx="7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2050920" y="4869000"/>
                <a:ext cx="889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"/>
              <p:cNvSpPr txBox="1"/>
              <p:nvPr/>
            </p:nvSpPr>
            <p:spPr>
              <a:xfrm>
                <a:off x="2050920" y="5373720"/>
                <a:ext cx="10368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4"/>
          <p:cNvSpPr/>
          <p:nvPr/>
        </p:nvSpPr>
        <p:spPr>
          <a:xfrm>
            <a:off x="3132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19564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4"/>
          <p:cNvSpPr/>
          <p:nvPr/>
        </p:nvSpPr>
        <p:spPr>
          <a:xfrm>
            <a:off x="3995640" y="5950080"/>
            <a:ext cx="172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1403280" y="1628640"/>
            <a:ext cx="38880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3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1;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∞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nemě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557360"/>
            <a:ext cx="19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exponenc. nerce, učivo II. roč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2"/>
              <p:cNvSpPr txBox="1"/>
              <p:nvPr/>
            </p:nvSpPr>
            <p:spPr>
              <a:xfrm>
                <a:off x="974880" y="196920"/>
                <a:ext cx="305748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07" name="Line 8"/>
          <p:cNvSpPr/>
          <p:nvPr/>
        </p:nvSpPr>
        <p:spPr>
          <a:xfrm>
            <a:off x="1619280" y="184464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2097000" y="2127240"/>
                <a:ext cx="6723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2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048 57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9" name="Rectangle 4"/>
          <p:cNvSpPr/>
          <p:nvPr/>
        </p:nvSpPr>
        <p:spPr>
          <a:xfrm>
            <a:off x="1187280" y="3860640"/>
            <a:ext cx="7956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jsou stále větší než 0 –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2108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5164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6732720" y="3213000"/>
                <a:ext cx="12952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5148360" y="3213000"/>
                <a:ext cx="12700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9,8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6805440" y="1484280"/>
            <a:ext cx="9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2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1844640"/>
            <a:ext cx="0" cy="289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1116000" y="69228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klesají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1116000" y="18900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5867280" y="69228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5345280" y="1300320"/>
                <a:ext cx="25588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580000" y="2349360"/>
                <a:ext cx="12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Rectangle 4"/>
          <p:cNvSpPr/>
          <p:nvPr/>
        </p:nvSpPr>
        <p:spPr>
          <a:xfrm>
            <a:off x="7164360" y="2852640"/>
            <a:ext cx="197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5796000" y="2852640"/>
                <a:ext cx="9810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4"/>
          <p:cNvSpPr/>
          <p:nvPr/>
        </p:nvSpPr>
        <p:spPr>
          <a:xfrm>
            <a:off x="1116000" y="342900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1403280" y="1413000"/>
            <a:ext cx="3888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poznámk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= 1/2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Symbol"/>
                <a:ea typeface="Symbol"/>
              </a:rPr>
              <a:t>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(0; 1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znak nerovnosti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při přechodu od základu mocnin k exponentům,   </a:t>
            </a:r>
            <a:r>
              <a:rPr b="0" lang="en-US" sz="20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se mění na opačn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4"/>
              <p:cNvSpPr txBox="1"/>
              <p:nvPr/>
            </p:nvSpPr>
            <p:spPr>
              <a:xfrm>
                <a:off x="1523880" y="40212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924360" y="3860640"/>
                <a:ext cx="13860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6372360" y="3860640"/>
                <a:ext cx="13366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588000" y="5732640"/>
                <a:ext cx="12020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7020000" y="6164280"/>
                <a:ext cx="726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4"/>
          <p:cNvSpPr/>
          <p:nvPr/>
        </p:nvSpPr>
        <p:spPr>
          <a:xfrm>
            <a:off x="7956720" y="6164280"/>
            <a:ext cx="1187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3564000" y="5084640"/>
                <a:ext cx="1225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2" name="Rectangle 4"/>
          <p:cNvSpPr/>
          <p:nvPr/>
        </p:nvSpPr>
        <p:spPr>
          <a:xfrm>
            <a:off x="3059280" y="6178680"/>
            <a:ext cx="295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odmínka platí vždy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3670200" y="5589720"/>
                <a:ext cx="1152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 rot="5400000">
            <a:off x="4232160" y="450216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Skupina 110"/>
          <p:cNvGrpSpPr/>
          <p:nvPr/>
        </p:nvGrpSpPr>
        <p:grpSpPr>
          <a:xfrm>
            <a:off x="4788000" y="3933720"/>
            <a:ext cx="285480" cy="285840"/>
            <a:chOff x="4788000" y="3933720"/>
            <a:chExt cx="285480" cy="285840"/>
          </a:xfrm>
        </p:grpSpPr>
        <p:sp>
          <p:nvSpPr>
            <p:cNvPr id="336" name="Elipsa 109"/>
            <p:cNvSpPr/>
            <p:nvPr/>
          </p:nvSpPr>
          <p:spPr>
            <a:xfrm>
              <a:off x="4788000" y="393372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33"/>
            <p:cNvSpPr/>
            <p:nvPr/>
          </p:nvSpPr>
          <p:spPr>
            <a:xfrm>
              <a:off x="4859280" y="4076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4930920" y="4004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564000" y="5589720"/>
            <a:ext cx="1368360" cy="503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3"/>
            <a:endCxn id="336" idx="6"/>
          </p:cNvCxnSpPr>
          <p:nvPr/>
        </p:nvCxnSpPr>
        <p:spPr>
          <a:xfrm flipV="1">
            <a:off x="4941720" y="4076280"/>
            <a:ext cx="132480" cy="1766160"/>
          </a:xfrm>
          <a:prstGeom prst="curvedConnector5">
            <a:avLst>
              <a:gd name="adj1" fmla="val 523978"/>
              <a:gd name="adj2" fmla="val 49989"/>
              <a:gd name="adj3" fmla="val 523978"/>
            </a:avLst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6372360" y="4724280"/>
                <a:ext cx="18666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4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1004760" y="176040"/>
                <a:ext cx="2541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43" name="Line 8"/>
          <p:cNvSpPr/>
          <p:nvPr/>
        </p:nvSpPr>
        <p:spPr>
          <a:xfrm>
            <a:off x="1619280" y="1125360"/>
            <a:ext cx="19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"/>
              <p:cNvSpPr txBox="1"/>
              <p:nvPr/>
            </p:nvSpPr>
            <p:spPr>
              <a:xfrm>
                <a:off x="3708360" y="333360"/>
                <a:ext cx="388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5" name="Rectangle 4"/>
          <p:cNvSpPr/>
          <p:nvPr/>
        </p:nvSpPr>
        <p:spPr>
          <a:xfrm>
            <a:off x="1187280" y="119700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není ani rostoucí, ani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Členy oscilují mezi zápornými a kladnými hodnotami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liché: záporné hodnoty,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– sudé: kladné hodnot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–1,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116000" y="414972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–1,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M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1547640" y="472428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08360" y="4653000"/>
                <a:ext cx="145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4356000" y="5373720"/>
                <a:ext cx="893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6499080" y="4653000"/>
                <a:ext cx="1239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7093080" y="5373720"/>
                <a:ext cx="669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Rectangle 4"/>
          <p:cNvSpPr/>
          <p:nvPr/>
        </p:nvSpPr>
        <p:spPr>
          <a:xfrm>
            <a:off x="8028000" y="537372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1116000" y="3716280"/>
            <a:ext cx="7843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50560" y="5373720"/>
            <a:ext cx="103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sud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363640" y="5589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5589720"/>
            <a:ext cx="2872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4140360" y="5950080"/>
                <a:ext cx="1145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6877080" y="5950080"/>
                <a:ext cx="92088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Rectangle 4"/>
          <p:cNvSpPr/>
          <p:nvPr/>
        </p:nvSpPr>
        <p:spPr>
          <a:xfrm>
            <a:off x="8028000" y="5950080"/>
            <a:ext cx="111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50920" y="5950080"/>
            <a:ext cx="10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– lich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363640" y="6165720"/>
            <a:ext cx="2876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32720" y="6165720"/>
            <a:ext cx="144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3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0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84280"/>
          <a:ext cx="7416720" cy="4883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lastností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monotónní; Posloupnost rostoucí; Posloupnost klesající; Posloupnost omezená zdola; Posloupnost omezená shora; Posloupnost omezen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3"/>
          <p:cNvSpPr/>
          <p:nvPr/>
        </p:nvSpPr>
        <p:spPr>
          <a:xfrm>
            <a:off x="1187280" y="191628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, pro který reálný parametr 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  je daná posloupnost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a) rostoucí,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b) klesající,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901"/>
              </a:spcBef>
              <a:tabLst>
                <a:tab algn="l" pos="0"/>
                <a:tab algn="l" pos="386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c) konstantní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900000" y="476280"/>
                <a:ext cx="16765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65" name="Line 8"/>
          <p:cNvSpPr/>
          <p:nvPr/>
        </p:nvSpPr>
        <p:spPr>
          <a:xfrm>
            <a:off x="1425600" y="1162080"/>
            <a:ext cx="1150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962440" y="585720"/>
                <a:ext cx="16365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222720" y="1214280"/>
                <a:ext cx="22892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5580000" y="1341360"/>
                <a:ext cx="1293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69236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4"/>
              <p:cNvSpPr txBox="1"/>
              <p:nvPr/>
            </p:nvSpPr>
            <p:spPr>
              <a:xfrm>
                <a:off x="1908000" y="371808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1700280" y="47498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298764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4"/>
              <p:cNvSpPr txBox="1"/>
              <p:nvPr/>
            </p:nvSpPr>
            <p:spPr>
              <a:xfrm>
                <a:off x="444168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464184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4"/>
              <p:cNvSpPr txBox="1"/>
              <p:nvPr/>
            </p:nvSpPr>
            <p:spPr>
              <a:xfrm>
                <a:off x="4341960" y="4749840"/>
                <a:ext cx="1555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4"/>
              <p:cNvSpPr txBox="1"/>
              <p:nvPr/>
            </p:nvSpPr>
            <p:spPr>
              <a:xfrm>
                <a:off x="5881680" y="46544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7250040" y="3141720"/>
                <a:ext cx="16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7450200" y="3718080"/>
                <a:ext cx="8096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7378560" y="4726080"/>
                <a:ext cx="997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692360" y="5230800"/>
            <a:ext cx="1942920" cy="71280"/>
            <a:chOff x="1692360" y="5230800"/>
            <a:chExt cx="1942920" cy="71280"/>
          </a:xfrm>
        </p:grpSpPr>
        <p:sp>
          <p:nvSpPr>
            <p:cNvPr id="387" name=""/>
            <p:cNvSpPr/>
            <p:nvPr/>
          </p:nvSpPr>
          <p:spPr>
            <a:xfrm>
              <a:off x="1692360" y="52308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92360" y="53020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427640" y="5230800"/>
            <a:ext cx="2089080" cy="71280"/>
            <a:chOff x="4427640" y="5230800"/>
            <a:chExt cx="2089080" cy="71280"/>
          </a:xfrm>
        </p:grpSpPr>
        <p:sp>
          <p:nvSpPr>
            <p:cNvPr id="390" name=""/>
            <p:cNvSpPr/>
            <p:nvPr/>
          </p:nvSpPr>
          <p:spPr>
            <a:xfrm>
              <a:off x="4427640" y="52308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27640" y="530208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451640" y="5230800"/>
            <a:ext cx="865440" cy="71280"/>
            <a:chOff x="7451640" y="5230800"/>
            <a:chExt cx="865440" cy="71280"/>
          </a:xfrm>
        </p:grpSpPr>
        <p:sp>
          <p:nvSpPr>
            <p:cNvPr id="393" name=""/>
            <p:cNvSpPr/>
            <p:nvPr/>
          </p:nvSpPr>
          <p:spPr>
            <a:xfrm>
              <a:off x="7451640" y="52308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51640" y="53020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Line 8"/>
          <p:cNvSpPr/>
          <p:nvPr/>
        </p:nvSpPr>
        <p:spPr>
          <a:xfrm>
            <a:off x="1403280" y="112536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3203640" y="620640"/>
                <a:ext cx="2071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3492360" y="1197000"/>
                <a:ext cx="2752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6300720" y="1268280"/>
                <a:ext cx="1724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18908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4"/>
              <p:cNvSpPr txBox="1"/>
              <p:nvPr/>
            </p:nvSpPr>
            <p:spPr>
              <a:xfrm>
                <a:off x="1692360" y="234936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1258920" y="3213000"/>
                <a:ext cx="2428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4"/>
              <p:cNvSpPr txBox="1"/>
              <p:nvPr/>
            </p:nvSpPr>
            <p:spPr>
              <a:xfrm>
                <a:off x="1771560" y="3821040"/>
                <a:ext cx="9954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4292640" y="3164040"/>
                <a:ext cx="13381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5580000" y="306864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3929040" y="2278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4"/>
              <p:cNvSpPr txBox="1"/>
              <p:nvPr/>
            </p:nvSpPr>
            <p:spPr>
              <a:xfrm>
                <a:off x="442764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419120" y="5283360"/>
                <a:ext cx="1555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2959200" y="5187960"/>
                <a:ext cx="7477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6747120" y="22780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4"/>
              <p:cNvSpPr txBox="1"/>
              <p:nvPr/>
            </p:nvSpPr>
            <p:spPr>
              <a:xfrm>
                <a:off x="7236000" y="234936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7308720" y="3139920"/>
                <a:ext cx="9972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12" name=""/>
          <p:cNvGrpSpPr/>
          <p:nvPr/>
        </p:nvGrpSpPr>
        <p:grpSpPr>
          <a:xfrm>
            <a:off x="4284720" y="3645000"/>
            <a:ext cx="1942920" cy="71280"/>
            <a:chOff x="4284720" y="3645000"/>
            <a:chExt cx="1942920" cy="71280"/>
          </a:xfrm>
        </p:grpSpPr>
        <p:sp>
          <p:nvSpPr>
            <p:cNvPr id="413" name=""/>
            <p:cNvSpPr/>
            <p:nvPr/>
          </p:nvSpPr>
          <p:spPr>
            <a:xfrm>
              <a:off x="4284720" y="364500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84720" y="3716280"/>
              <a:ext cx="19429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504800" y="5764320"/>
            <a:ext cx="2089080" cy="71280"/>
            <a:chOff x="1504800" y="5764320"/>
            <a:chExt cx="2089080" cy="71280"/>
          </a:xfrm>
        </p:grpSpPr>
        <p:sp>
          <p:nvSpPr>
            <p:cNvPr id="416" name=""/>
            <p:cNvSpPr/>
            <p:nvPr/>
          </p:nvSpPr>
          <p:spPr>
            <a:xfrm>
              <a:off x="1504800" y="576432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04800" y="5835600"/>
              <a:ext cx="2089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381800" y="3645000"/>
            <a:ext cx="865440" cy="71280"/>
            <a:chOff x="7381800" y="3645000"/>
            <a:chExt cx="865440" cy="71280"/>
          </a:xfrm>
        </p:grpSpPr>
        <p:sp>
          <p:nvSpPr>
            <p:cNvPr id="419" name=""/>
            <p:cNvSpPr/>
            <p:nvPr/>
          </p:nvSpPr>
          <p:spPr>
            <a:xfrm>
              <a:off x="7381800" y="364500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81800" y="3716280"/>
              <a:ext cx="865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900000" y="476280"/>
                <a:ext cx="21765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4"/>
              <p:cNvSpPr txBox="1"/>
              <p:nvPr/>
            </p:nvSpPr>
            <p:spPr>
              <a:xfrm>
                <a:off x="1735200" y="4395960"/>
                <a:ext cx="777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Line 8"/>
          <p:cNvSpPr/>
          <p:nvPr/>
        </p:nvSpPr>
        <p:spPr>
          <a:xfrm>
            <a:off x="1403280" y="1386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3236760" y="396720"/>
                <a:ext cx="180180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3492360" y="1341360"/>
                <a:ext cx="20829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5580000" y="1328760"/>
                <a:ext cx="1295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332000" y="23828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1835280" y="245412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1476360" y="3102120"/>
                <a:ext cx="2076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900000" y="4038480"/>
                <a:ext cx="2737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x</m:t>
                    </m:r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4"/>
              <p:cNvSpPr txBox="1"/>
              <p:nvPr/>
            </p:nvSpPr>
            <p:spPr>
              <a:xfrm>
                <a:off x="1908000" y="5950080"/>
                <a:ext cx="10274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4976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6948360" y="2924280"/>
                <a:ext cx="13068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4"/>
              <p:cNvSpPr txBox="1"/>
              <p:nvPr/>
            </p:nvSpPr>
            <p:spPr>
              <a:xfrm>
                <a:off x="6948360" y="350028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645984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Object 4"/>
              <p:cNvSpPr txBox="1"/>
              <p:nvPr/>
            </p:nvSpPr>
            <p:spPr>
              <a:xfrm>
                <a:off x="6948360" y="4751280"/>
                <a:ext cx="1306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4"/>
              <p:cNvSpPr txBox="1"/>
              <p:nvPr/>
            </p:nvSpPr>
            <p:spPr>
              <a:xfrm>
                <a:off x="6948360" y="5373720"/>
                <a:ext cx="997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4"/>
              <p:cNvSpPr txBox="1"/>
              <p:nvPr/>
            </p:nvSpPr>
            <p:spPr>
              <a:xfrm>
                <a:off x="971640" y="4653000"/>
                <a:ext cx="3189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n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826920" y="219240"/>
                <a:ext cx="21718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3851280" y="3284640"/>
                <a:ext cx="18730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4"/>
              <p:cNvSpPr txBox="1"/>
              <p:nvPr/>
            </p:nvSpPr>
            <p:spPr>
              <a:xfrm>
                <a:off x="4643280" y="3781440"/>
                <a:ext cx="838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1908000" y="5300640"/>
                <a:ext cx="777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8"/>
          <p:cNvSpPr/>
          <p:nvPr/>
        </p:nvSpPr>
        <p:spPr>
          <a:xfrm>
            <a:off x="1403280" y="148428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2987640" y="525600"/>
                <a:ext cx="1728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4716360" y="549360"/>
                <a:ext cx="24894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7236000" y="549360"/>
                <a:ext cx="133344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837080" y="191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4"/>
              <p:cNvSpPr txBox="1"/>
              <p:nvPr/>
            </p:nvSpPr>
            <p:spPr>
              <a:xfrm>
                <a:off x="2340000" y="1989000"/>
                <a:ext cx="12762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4"/>
              <p:cNvSpPr txBox="1"/>
              <p:nvPr/>
            </p:nvSpPr>
            <p:spPr>
              <a:xfrm>
                <a:off x="2052720" y="256536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n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4"/>
              <p:cNvSpPr txBox="1"/>
              <p:nvPr/>
            </p:nvSpPr>
            <p:spPr>
              <a:xfrm>
                <a:off x="1189080" y="3429000"/>
                <a:ext cx="2444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4"/>
              <p:cNvSpPr txBox="1"/>
              <p:nvPr/>
            </p:nvSpPr>
            <p:spPr>
              <a:xfrm>
                <a:off x="7175520" y="3651120"/>
                <a:ext cx="10270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6521400" y="28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4"/>
              <p:cNvSpPr txBox="1"/>
              <p:nvPr/>
            </p:nvSpPr>
            <p:spPr>
              <a:xfrm>
                <a:off x="7020000" y="2924280"/>
                <a:ext cx="1306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2484360" y="6021360"/>
                <a:ext cx="1027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6531120" y="4680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Object 4"/>
              <p:cNvSpPr txBox="1"/>
              <p:nvPr/>
            </p:nvSpPr>
            <p:spPr>
              <a:xfrm>
                <a:off x="7020000" y="475128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4"/>
              <p:cNvSpPr txBox="1"/>
              <p:nvPr/>
            </p:nvSpPr>
            <p:spPr>
              <a:xfrm>
                <a:off x="7196040" y="5965920"/>
                <a:ext cx="809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4"/>
              <p:cNvSpPr txBox="1"/>
              <p:nvPr/>
            </p:nvSpPr>
            <p:spPr>
              <a:xfrm>
                <a:off x="1258920" y="4292640"/>
                <a:ext cx="19191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826920" y="349200"/>
                <a:ext cx="20275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4"/>
              <p:cNvSpPr txBox="1"/>
              <p:nvPr/>
            </p:nvSpPr>
            <p:spPr>
              <a:xfrm>
                <a:off x="4356000" y="2781360"/>
                <a:ext cx="1239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4572000" y="3286080"/>
                <a:ext cx="838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4"/>
              <p:cNvSpPr txBox="1"/>
              <p:nvPr/>
            </p:nvSpPr>
            <p:spPr>
              <a:xfrm>
                <a:off x="2484360" y="5229360"/>
                <a:ext cx="7128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Line 10"/>
          <p:cNvSpPr/>
          <p:nvPr/>
        </p:nvSpPr>
        <p:spPr>
          <a:xfrm>
            <a:off x="3564000" y="5580000"/>
            <a:ext cx="2232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716360" y="5229360"/>
            <a:ext cx="0" cy="4302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Oval 26"/>
          <p:cNvSpPr/>
          <p:nvPr/>
        </p:nvSpPr>
        <p:spPr>
          <a:xfrm>
            <a:off x="4643280" y="5084640"/>
            <a:ext cx="142920" cy="1447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4597560" y="5661000"/>
                <a:ext cx="258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9"/>
              <p:cNvSpPr txBox="1"/>
              <p:nvPr/>
            </p:nvSpPr>
            <p:spPr>
              <a:xfrm>
                <a:off x="4932360" y="515772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9"/>
              <p:cNvSpPr txBox="1"/>
              <p:nvPr/>
            </p:nvSpPr>
            <p:spPr>
              <a:xfrm>
                <a:off x="4067280" y="530064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9" name="Skupina 212"/>
          <p:cNvGrpSpPr/>
          <p:nvPr/>
        </p:nvGrpSpPr>
        <p:grpSpPr>
          <a:xfrm>
            <a:off x="2771640" y="5229360"/>
            <a:ext cx="285840" cy="285480"/>
            <a:chOff x="2771640" y="5229360"/>
            <a:chExt cx="285840" cy="285480"/>
          </a:xfrm>
        </p:grpSpPr>
        <p:sp>
          <p:nvSpPr>
            <p:cNvPr id="470" name="Elipsa 213"/>
            <p:cNvSpPr/>
            <p:nvPr/>
          </p:nvSpPr>
          <p:spPr>
            <a:xfrm>
              <a:off x="2771640" y="522936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3"/>
            <p:cNvSpPr/>
            <p:nvPr/>
          </p:nvSpPr>
          <p:spPr>
            <a:xfrm>
              <a:off x="2842920" y="53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 flipH="1">
            <a:off x="3563640" y="5229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"/>
              <p:cNvSpPr txBox="1"/>
              <p:nvPr/>
            </p:nvSpPr>
            <p:spPr>
              <a:xfrm>
                <a:off x="7210440" y="5460840"/>
                <a:ext cx="8110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5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8"/>
          <p:cNvSpPr/>
          <p:nvPr/>
        </p:nvSpPr>
        <p:spPr>
          <a:xfrm>
            <a:off x="1547640" y="134136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"/>
              <p:cNvSpPr txBox="1"/>
              <p:nvPr/>
            </p:nvSpPr>
            <p:spPr>
              <a:xfrm>
                <a:off x="3147840" y="622440"/>
                <a:ext cx="15876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"/>
              <p:cNvSpPr txBox="1"/>
              <p:nvPr/>
            </p:nvSpPr>
            <p:spPr>
              <a:xfrm>
                <a:off x="3348000" y="1268280"/>
                <a:ext cx="1600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"/>
              <p:cNvSpPr txBox="1"/>
              <p:nvPr/>
            </p:nvSpPr>
            <p:spPr>
              <a:xfrm>
                <a:off x="4932360" y="1268280"/>
                <a:ext cx="137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1692360" y="22446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4"/>
              <p:cNvSpPr txBox="1"/>
              <p:nvPr/>
            </p:nvSpPr>
            <p:spPr>
              <a:xfrm>
                <a:off x="2195640" y="2316240"/>
                <a:ext cx="12762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4"/>
              <p:cNvSpPr txBox="1"/>
              <p:nvPr/>
            </p:nvSpPr>
            <p:spPr>
              <a:xfrm>
                <a:off x="2124000" y="3035160"/>
                <a:ext cx="1508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4"/>
              <p:cNvSpPr txBox="1"/>
              <p:nvPr/>
            </p:nvSpPr>
            <p:spPr>
              <a:xfrm>
                <a:off x="1114560" y="3755880"/>
                <a:ext cx="1974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4"/>
              <p:cNvSpPr txBox="1"/>
              <p:nvPr/>
            </p:nvSpPr>
            <p:spPr>
              <a:xfrm>
                <a:off x="7597800" y="3795840"/>
                <a:ext cx="11826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7021440" y="29973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7520040" y="3068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1187280" y="5445000"/>
                <a:ext cx="1432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7107480" y="5013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4"/>
              <p:cNvSpPr txBox="1"/>
              <p:nvPr/>
            </p:nvSpPr>
            <p:spPr>
              <a:xfrm>
                <a:off x="7596360" y="5084640"/>
                <a:ext cx="13064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7667640" y="5705640"/>
                <a:ext cx="11844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4"/>
              <p:cNvSpPr txBox="1"/>
              <p:nvPr/>
            </p:nvSpPr>
            <p:spPr>
              <a:xfrm>
                <a:off x="1332000" y="4548240"/>
                <a:ext cx="1789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Skupina 212"/>
          <p:cNvGrpSpPr/>
          <p:nvPr/>
        </p:nvGrpSpPr>
        <p:grpSpPr>
          <a:xfrm>
            <a:off x="2627280" y="4403880"/>
            <a:ext cx="285840" cy="285480"/>
            <a:chOff x="2627280" y="4403880"/>
            <a:chExt cx="285840" cy="285480"/>
          </a:xfrm>
        </p:grpSpPr>
        <p:sp>
          <p:nvSpPr>
            <p:cNvPr id="491" name="Elipsa 213"/>
            <p:cNvSpPr/>
            <p:nvPr/>
          </p:nvSpPr>
          <p:spPr>
            <a:xfrm>
              <a:off x="2627280" y="4403880"/>
              <a:ext cx="28584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2698560" y="45464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3" name="Object 2"/>
              <p:cNvSpPr txBox="1"/>
              <p:nvPr/>
            </p:nvSpPr>
            <p:spPr>
              <a:xfrm>
                <a:off x="900000" y="476280"/>
                <a:ext cx="2057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9"/>
              <p:cNvSpPr txBox="1"/>
              <p:nvPr/>
            </p:nvSpPr>
            <p:spPr>
              <a:xfrm>
                <a:off x="5940360" y="458136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5" name="Group 25"/>
          <p:cNvGrpSpPr/>
          <p:nvPr/>
        </p:nvGrpSpPr>
        <p:grpSpPr>
          <a:xfrm>
            <a:off x="3851280" y="4332240"/>
            <a:ext cx="2952720" cy="1004760"/>
            <a:chOff x="3851280" y="4332240"/>
            <a:chExt cx="2952720" cy="1004760"/>
          </a:xfrm>
        </p:grpSpPr>
        <p:sp>
          <p:nvSpPr>
            <p:cNvPr id="496" name="Line 10"/>
            <p:cNvSpPr/>
            <p:nvPr/>
          </p:nvSpPr>
          <p:spPr>
            <a:xfrm>
              <a:off x="3851280" y="48844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566100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5589720" y="43322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9" name="Line 25"/>
            <p:cNvSpPr/>
            <p:nvPr/>
          </p:nvSpPr>
          <p:spPr>
            <a:xfrm>
              <a:off x="4875120" y="4474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26"/>
            <p:cNvSpPr/>
            <p:nvPr/>
          </p:nvSpPr>
          <p:spPr>
            <a:xfrm>
              <a:off x="4803840" y="43322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1" name="Object 9"/>
                <p:cNvSpPr txBox="1"/>
                <p:nvPr/>
              </p:nvSpPr>
              <p:spPr>
                <a:xfrm>
                  <a:off x="4751280" y="5040000"/>
                  <a:ext cx="2239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2" name="Object 9"/>
                <p:cNvSpPr txBox="1"/>
                <p:nvPr/>
              </p:nvSpPr>
              <p:spPr>
                <a:xfrm>
                  <a:off x="5594400" y="5067000"/>
                  <a:ext cx="162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3" name="Object 9"/>
              <p:cNvSpPr txBox="1"/>
              <p:nvPr/>
            </p:nvSpPr>
            <p:spPr>
              <a:xfrm>
                <a:off x="5075280" y="447660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5651640" y="4508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46920" y="4149720"/>
            <a:ext cx="145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nelz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jednoznačně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rozhodnou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75280" y="494172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sud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9"/>
              <p:cNvSpPr txBox="1"/>
              <p:nvPr/>
            </p:nvSpPr>
            <p:spPr>
              <a:xfrm>
                <a:off x="4356000" y="4869000"/>
                <a:ext cx="37800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276000" y="5229360"/>
            <a:ext cx="11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 – liché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9"/>
              <p:cNvSpPr txBox="1"/>
              <p:nvPr/>
            </p:nvSpPr>
            <p:spPr>
              <a:xfrm>
                <a:off x="4356000" y="5229360"/>
                <a:ext cx="3463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6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500"/>
                            </p:stCondLst>
                            <p:childTnLst>
                              <p:par>
                                <p:cTn id="1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lastností posloupností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708280"/>
            <a:ext cx="7956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Určete pro dané posloupnosti obecné vyjádření členů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042920" y="403200"/>
                <a:ext cx="20163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4" name="Line 8"/>
          <p:cNvSpPr/>
          <p:nvPr/>
        </p:nvSpPr>
        <p:spPr>
          <a:xfrm>
            <a:off x="1619280" y="1052640"/>
            <a:ext cx="1440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492360" y="476280"/>
                <a:ext cx="1549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3492360" y="1052640"/>
                <a:ext cx="2443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6012000" y="1052640"/>
                <a:ext cx="1073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1042920" y="1989000"/>
                <a:ext cx="2168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9" name="Line 8"/>
          <p:cNvSpPr/>
          <p:nvPr/>
        </p:nvSpPr>
        <p:spPr>
          <a:xfrm>
            <a:off x="1619280" y="2637000"/>
            <a:ext cx="15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"/>
              <p:cNvSpPr txBox="1"/>
              <p:nvPr/>
            </p:nvSpPr>
            <p:spPr>
              <a:xfrm>
                <a:off x="3427560" y="2060640"/>
                <a:ext cx="1670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3427560" y="2637000"/>
                <a:ext cx="25635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5940360" y="2637000"/>
                <a:ext cx="17287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7667640" y="2637000"/>
                <a:ext cx="1282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1049400" y="3573360"/>
                <a:ext cx="20192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5" name="Line 8"/>
          <p:cNvSpPr/>
          <p:nvPr/>
        </p:nvSpPr>
        <p:spPr>
          <a:xfrm>
            <a:off x="1625760" y="4221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3492360" y="3645000"/>
                <a:ext cx="15512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3492360" y="4221000"/>
                <a:ext cx="2444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5940360" y="4221000"/>
                <a:ext cx="1550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7524720" y="4221000"/>
                <a:ext cx="10429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284720" y="549360"/>
            <a:ext cx="216000" cy="3585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560"/>
              <a:gd name="textAreaBottom" fmla="*/ 348120 h 358560"/>
            </a:gdLst>
            <a:ahLst/>
            <a:rect l="textAreaLeft" t="textAreaTop" r="textAreaRight" b="textAreaBottom"/>
            <a:pathLst>
              <a:path w="21600" h="35832">
                <a:moveTo>
                  <a:pt x="3600" y="0"/>
                </a:moveTo>
                <a:arcTo wR="3600" hR="3600" stAng="16200000" swAng="-5400000"/>
                <a:lnTo>
                  <a:pt x="0" y="32232"/>
                </a:lnTo>
                <a:arcTo wR="3600" hR="3600" stAng="10800000" swAng="-5400000"/>
                <a:lnTo>
                  <a:pt x="18000" y="358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1052640"/>
            <a:ext cx="0" cy="215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765000"/>
            <a:ext cx="216000" cy="287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640"/>
              <a:gd name="textAreaBottom" fmla="*/ 277200 h 287640"/>
            </a:gdLst>
            <a:ahLst/>
            <a:rect l="textAreaLeft" t="textAreaTop" r="textAreaRight" b="textAreaBottom"/>
            <a:pathLst>
              <a:path w="21600" h="28752">
                <a:moveTo>
                  <a:pt x="3600" y="0"/>
                </a:moveTo>
                <a:arcTo wR="3600" hR="3600" stAng="16200000" swAng="-5400000"/>
                <a:lnTo>
                  <a:pt x="0" y="25152"/>
                </a:lnTo>
                <a:arcTo wR="3600" hR="3600" stAng="10800000" swAng="-5400000"/>
                <a:lnTo>
                  <a:pt x="18000" y="28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0" idx="2"/>
            <a:endCxn id="164" idx="1"/>
          </p:cNvCxnSpPr>
          <p:nvPr/>
        </p:nvCxnSpPr>
        <p:spPr>
          <a:xfrm flipH="1" rot="16200000">
            <a:off x="4247280" y="1062000"/>
            <a:ext cx="388080" cy="9900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3708360" y="1268280"/>
            <a:ext cx="432000" cy="360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1052640"/>
            <a:ext cx="9349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1042920" y="5229360"/>
                <a:ext cx="2200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7" name="Line 8"/>
          <p:cNvSpPr/>
          <p:nvPr/>
        </p:nvSpPr>
        <p:spPr>
          <a:xfrm>
            <a:off x="1625760" y="587700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3419640" y="5300640"/>
                <a:ext cx="1698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3417840" y="5877000"/>
                <a:ext cx="2594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6012000" y="5877000"/>
                <a:ext cx="1730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7740720" y="5877000"/>
                <a:ext cx="1251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1042920" y="260280"/>
                <a:ext cx="29480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3" name="Line 8"/>
          <p:cNvSpPr/>
          <p:nvPr/>
        </p:nvSpPr>
        <p:spPr>
          <a:xfrm>
            <a:off x="1547640" y="1052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476360" y="1125360"/>
                <a:ext cx="2443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476360" y="1700280"/>
                <a:ext cx="3992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"/>
              <p:cNvSpPr txBox="1"/>
              <p:nvPr/>
            </p:nvSpPr>
            <p:spPr>
              <a:xfrm>
                <a:off x="5477040" y="1700280"/>
                <a:ext cx="3666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971640" y="3284640"/>
                <a:ext cx="2468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8" name="Line 8"/>
          <p:cNvSpPr/>
          <p:nvPr/>
        </p:nvSpPr>
        <p:spPr>
          <a:xfrm>
            <a:off x="1704960" y="4489560"/>
            <a:ext cx="172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1547640" y="4508640"/>
                <a:ext cx="17892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1547640" y="5516640"/>
                <a:ext cx="26845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4211640" y="5516640"/>
                <a:ext cx="1847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6084720" y="5516640"/>
                <a:ext cx="128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226836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1773360"/>
            <a:ext cx="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92360" y="1484280"/>
            <a:ext cx="215640" cy="28728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64">
                <a:moveTo>
                  <a:pt x="3600" y="0"/>
                </a:moveTo>
                <a:arcTo wR="3600" hR="3600" stAng="16200000" swAng="-5400000"/>
                <a:lnTo>
                  <a:pt x="0" y="25164"/>
                </a:lnTo>
                <a:arcTo wR="3600" hR="3600" stAng="10800000" swAng="-5400000"/>
                <a:lnTo>
                  <a:pt x="18000" y="287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3" idx="2"/>
            <a:endCxn id="187" idx="1"/>
          </p:cNvCxnSpPr>
          <p:nvPr/>
        </p:nvCxnSpPr>
        <p:spPr>
          <a:xfrm flipH="1" rot="16200000">
            <a:off x="2284200" y="1727640"/>
            <a:ext cx="424800" cy="242280"/>
          </a:xfrm>
          <a:prstGeom prst="curvedConnector2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1692360" y="2060640"/>
            <a:ext cx="4316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1843200"/>
            <a:ext cx="64944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2124000" y="2419200"/>
                <a:ext cx="14907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203640" y="1268280"/>
            <a:ext cx="216000" cy="35892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58920"/>
              <a:gd name="textAreaBottom" fmla="*/ 348480 h 358920"/>
            </a:gdLst>
            <a:ahLst/>
            <a:rect l="textAreaLeft" t="textAreaTop" r="textAreaRight" b="textAreaBottom"/>
            <a:pathLst>
              <a:path w="21600" h="35868">
                <a:moveTo>
                  <a:pt x="3600" y="0"/>
                </a:moveTo>
                <a:arcTo wR="3600" hR="3600" stAng="16200000" swAng="-5400000"/>
                <a:lnTo>
                  <a:pt x="0" y="32268"/>
                </a:lnTo>
                <a:arcTo wR="3600" hR="3600" stAng="10800000" swAng="-5400000"/>
                <a:lnTo>
                  <a:pt x="18000" y="35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0"/>
            <a:endCxn id="192" idx="0"/>
          </p:cNvCxnSpPr>
          <p:nvPr/>
        </p:nvCxnSpPr>
        <p:spPr>
          <a:xfrm flipH="1" rot="16200000">
            <a:off x="3617640" y="951480"/>
            <a:ext cx="577080" cy="1189800"/>
          </a:xfrm>
          <a:prstGeom prst="curvedConnector5">
            <a:avLst>
              <a:gd name="adj1" fmla="val -14044"/>
              <a:gd name="adj2" fmla="val 50000"/>
              <a:gd name="adj3" fmla="val -14044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140360" y="1844640"/>
            <a:ext cx="718920" cy="433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monotónnost a omezenost dané posloupnosti. Svá tvrzení dokažte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1068480" y="333360"/>
                <a:ext cx="2415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95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1765440" y="1628640"/>
                <a:ext cx="7378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1187280" y="314172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rostou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vět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zdol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5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rostoucí, existuje vždy min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narůstají neomezeně, max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7800" y="2205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3080" y="10526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6760" y="22050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= 10 00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28000" y="2060640"/>
            <a:ext cx="0" cy="288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443640" y="1413000"/>
            <a:ext cx="0" cy="287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1116000" y="90792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rostoucí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ůkaz: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5513400" y="876240"/>
                <a:ext cx="15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"/>
              <p:cNvSpPr txBox="1"/>
              <p:nvPr/>
            </p:nvSpPr>
            <p:spPr>
              <a:xfrm>
                <a:off x="5148360" y="1628640"/>
                <a:ext cx="26161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5148360" y="2133720"/>
                <a:ext cx="25732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Rectangle 4"/>
          <p:cNvSpPr/>
          <p:nvPr/>
        </p:nvSpPr>
        <p:spPr>
          <a:xfrm>
            <a:off x="7164360" y="2637000"/>
            <a:ext cx="197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5796000" y="2637000"/>
                <a:ext cx="78408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4"/>
          <p:cNvSpPr/>
          <p:nvPr/>
        </p:nvSpPr>
        <p:spPr>
          <a:xfrm>
            <a:off x="1116000" y="3573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sloupnost je omezená zdola, 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=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4"/>
              <p:cNvSpPr txBox="1"/>
              <p:nvPr/>
            </p:nvSpPr>
            <p:spPr>
              <a:xfrm>
                <a:off x="1924200" y="4149720"/>
                <a:ext cx="11858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547640" y="4941720"/>
                <a:ext cx="1374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979640" y="5445000"/>
                <a:ext cx="9795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"/>
          <p:cNvSpPr/>
          <p:nvPr/>
        </p:nvSpPr>
        <p:spPr>
          <a:xfrm>
            <a:off x="334800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2124000" y="5950080"/>
                <a:ext cx="728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4"/>
          <p:cNvSpPr/>
          <p:nvPr/>
        </p:nvSpPr>
        <p:spPr>
          <a:xfrm>
            <a:off x="4284720" y="5950080"/>
            <a:ext cx="22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prav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50840" y="333360"/>
                <a:ext cx="2449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Line 8"/>
          <p:cNvSpPr/>
          <p:nvPr/>
        </p:nvSpPr>
        <p:spPr>
          <a:xfrm>
            <a:off x="1692360" y="1197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2"/>
              <p:cNvSpPr txBox="1"/>
              <p:nvPr/>
            </p:nvSpPr>
            <p:spPr>
              <a:xfrm>
                <a:off x="1835280" y="1628640"/>
                <a:ext cx="672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99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Rectangle 4"/>
          <p:cNvSpPr/>
          <p:nvPr/>
        </p:nvSpPr>
        <p:spPr>
          <a:xfrm>
            <a:off x="1187280" y="2852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klesajíc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á následující hodnota je menší než předchoz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Posloupnost je omezená shora: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rotože je klesající, existuje vždy maximu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klesají neomezeně, minimum neexistuj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24Z</dcterms:modified>
  <cp:revision>309</cp:revision>
  <dc:subject/>
  <dc:title>Posloupnosti</dc:title>
</cp:coreProperties>
</file>