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0D74-4051-484D-BB13-5D89F96363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57B4-05BD-47CD-A76F-DA5BDCF558E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D7A0-CD03-4F72-B45E-BE318C8239E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0559-86FD-4431-940C-7C8AC2DBAEA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7231-263C-4514-8941-53C8BD181E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D86F-F706-426A-BECD-53B8C3B2D5D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79A-E982-4D1C-9A7E-BAA19B1F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24E-0DBC-456F-B77A-6215690C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438-A7AC-4A83-B426-67CFD36B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8624-968E-4660-8036-54194E5E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4628-1885-4899-A06A-8E9A8954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A2CA-E25E-403A-8E5B-64DFAE18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8358-9381-4451-9D93-B8D60017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8515-C43E-4F71-AD29-39C410EB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AB59-8310-4261-A209-9C2C1728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3469-DEF4-444A-A7EF-82B5EB99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D301-E0F5-4A4A-B7A4-0FB8A42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C15-471B-4134-9163-CF831022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4B95-B655-45C6-8A5B-26EAFAF9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7E88-9641-4C8F-A33F-D69BA133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370D-3F72-428A-92B9-7BE0F61A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6540-5328-473C-9E8D-2B842B0C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AED9-8550-462C-851C-8C7F0609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F13-D7C1-45E0-A46B-1398CDEA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D4C-F613-4797-968B-C73A9933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2B6-4190-4160-9538-B02F8494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9BD-9930-412A-B6C9-0F3E1E15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246-ED99-4A79-9CAE-165073AD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B0E-8151-42B8-ADF3-C61F7380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72C-690E-4C1A-A032-4F20FE8A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944A-0A39-4BF6-90C9-E3035ECF3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8928-A545-49FE-8442-29B78636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8"/>
          <p:cNvSpPr/>
          <p:nvPr/>
        </p:nvSpPr>
        <p:spPr>
          <a:xfrm>
            <a:off x="1619280" y="981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69056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1690560" y="1555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69056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1690560" y="2637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2050920" y="31399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987480" y="263520"/>
                <a:ext cx="25779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708360" y="404640"/>
                <a:ext cx="48006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2843280" y="1052640"/>
                <a:ext cx="17524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2843280" y="1555920"/>
                <a:ext cx="18986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2843280" y="2060640"/>
                <a:ext cx="2044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2843280" y="2637000"/>
                <a:ext cx="20448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938920" y="1052640"/>
                <a:ext cx="7603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4643280" y="1052640"/>
                <a:ext cx="1287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4786200" y="1555920"/>
                <a:ext cx="7588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2"/>
              <p:cNvSpPr txBox="1"/>
              <p:nvPr/>
            </p:nvSpPr>
            <p:spPr>
              <a:xfrm>
                <a:off x="4930920" y="2060640"/>
                <a:ext cx="75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4930920" y="2637000"/>
                <a:ext cx="7585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2"/>
          <p:cNvSpPr/>
          <p:nvPr/>
        </p:nvSpPr>
        <p:spPr>
          <a:xfrm>
            <a:off x="1042920" y="3860640"/>
            <a:ext cx="810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1187280" y="436392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"/>
              <p:cNvSpPr txBox="1"/>
              <p:nvPr/>
            </p:nvSpPr>
            <p:spPr>
              <a:xfrm>
                <a:off x="8240760" y="5229360"/>
                <a:ext cx="903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3708360" y="4437000"/>
                <a:ext cx="4049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"/>
              <p:cNvSpPr txBox="1"/>
              <p:nvPr/>
            </p:nvSpPr>
            <p:spPr>
              <a:xfrm>
                <a:off x="1581120" y="5197320"/>
                <a:ext cx="37479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5335560" y="5227560"/>
                <a:ext cx="29815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5075280" y="1484280"/>
            <a:ext cx="649080" cy="1873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1873440"/>
              <a:gd name="textAreaBottom" fmla="*/ 1841760 h 1873440"/>
            </a:gdLst>
            <a:ahLst/>
            <a:rect l="textAreaLeft" t="textAreaTop" r="textAreaRight" b="textAreaBottom"/>
            <a:pathLst>
              <a:path w="21600" h="62322">
                <a:moveTo>
                  <a:pt x="3600" y="0"/>
                </a:moveTo>
                <a:arcTo wR="3600" hR="3600" stAng="16200000" swAng="-5400000"/>
                <a:lnTo>
                  <a:pt x="0" y="58722"/>
                </a:lnTo>
                <a:arcTo wR="3600" hR="3600" stAng="10800000" swAng="-5400000"/>
                <a:lnTo>
                  <a:pt x="18000" y="623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18640" y="184464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99640" y="2427120"/>
            <a:ext cx="28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–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981000"/>
            <a:ext cx="648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"/>
              <p:cNvSpPr txBox="1"/>
              <p:nvPr/>
            </p:nvSpPr>
            <p:spPr>
              <a:xfrm>
                <a:off x="6675480" y="5877000"/>
                <a:ext cx="2259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3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8"/>
          <p:cNvSpPr/>
          <p:nvPr/>
        </p:nvSpPr>
        <p:spPr>
          <a:xfrm>
            <a:off x="1619280" y="98100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169056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1690560" y="1555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2"/>
              <p:cNvSpPr txBox="1"/>
              <p:nvPr/>
            </p:nvSpPr>
            <p:spPr>
              <a:xfrm>
                <a:off x="169056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690560" y="2637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2050920" y="31399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"/>
              <p:cNvSpPr txBox="1"/>
              <p:nvPr/>
            </p:nvSpPr>
            <p:spPr>
              <a:xfrm>
                <a:off x="2843280" y="1052640"/>
                <a:ext cx="1519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2843280" y="1557360"/>
                <a:ext cx="105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843280" y="2062080"/>
                <a:ext cx="1197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2843280" y="2637000"/>
                <a:ext cx="13428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4427640" y="105264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4427640" y="155736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4427640" y="206208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4427640" y="2637000"/>
                <a:ext cx="55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2"/>
          <p:cNvSpPr/>
          <p:nvPr/>
        </p:nvSpPr>
        <p:spPr>
          <a:xfrm>
            <a:off x="1042920" y="3860640"/>
            <a:ext cx="78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1187280" y="436392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8483760" y="5229360"/>
                <a:ext cx="660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3635280" y="4437000"/>
                <a:ext cx="44182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1619280" y="5229360"/>
                <a:ext cx="4116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651640" y="5229360"/>
                <a:ext cx="2914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4500720" y="1052640"/>
            <a:ext cx="649080" cy="208908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089080"/>
              <a:gd name="textAreaBottom" fmla="*/ 2057400 h 2089080"/>
            </a:gdLst>
            <a:ahLst/>
            <a:rect l="textAreaLeft" t="textAreaTop" r="textAreaRight" b="textAreaBottom"/>
            <a:pathLst>
              <a:path w="21600" h="69494">
                <a:moveTo>
                  <a:pt x="3600" y="0"/>
                </a:moveTo>
                <a:arcTo wR="3600" hR="3600" stAng="16200000" swAng="-5400000"/>
                <a:lnTo>
                  <a:pt x="0" y="65894"/>
                </a:lnTo>
                <a:arcTo wR="3600" hR="3600" stAng="10800000" swAng="-5400000"/>
                <a:lnTo>
                  <a:pt x="18000" y="69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1640" y="1700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72640" y="2282760"/>
            <a:ext cx="26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971640" y="260280"/>
                <a:ext cx="2709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"/>
              <p:cNvSpPr txBox="1"/>
              <p:nvPr/>
            </p:nvSpPr>
            <p:spPr>
              <a:xfrm>
                <a:off x="3780000" y="333360"/>
                <a:ext cx="33969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6657840" y="5877000"/>
                <a:ext cx="2293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4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8"/>
          <p:cNvSpPr/>
          <p:nvPr/>
        </p:nvSpPr>
        <p:spPr>
          <a:xfrm>
            <a:off x="1619280" y="13413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2"/>
              <p:cNvSpPr txBox="1"/>
              <p:nvPr/>
            </p:nvSpPr>
            <p:spPr>
              <a:xfrm>
                <a:off x="1690560" y="1628640"/>
                <a:ext cx="1051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1690560" y="213192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2"/>
              <p:cNvSpPr txBox="1"/>
              <p:nvPr/>
            </p:nvSpPr>
            <p:spPr>
              <a:xfrm>
                <a:off x="1690560" y="263700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690560" y="321300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2843280" y="1628640"/>
                <a:ext cx="10508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2857680" y="2133720"/>
                <a:ext cx="1022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2857680" y="2638440"/>
                <a:ext cx="116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2828880" y="3213000"/>
                <a:ext cx="137160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"/>
              <p:cNvSpPr txBox="1"/>
              <p:nvPr/>
            </p:nvSpPr>
            <p:spPr>
              <a:xfrm>
                <a:off x="4211640" y="1628640"/>
                <a:ext cx="5554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4211640" y="2133720"/>
                <a:ext cx="555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2"/>
              <p:cNvSpPr txBox="1"/>
              <p:nvPr/>
            </p:nvSpPr>
            <p:spPr>
              <a:xfrm>
                <a:off x="4211640" y="2638440"/>
                <a:ext cx="554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4211640" y="321300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2"/>
          <p:cNvSpPr/>
          <p:nvPr/>
        </p:nvSpPr>
        <p:spPr>
          <a:xfrm>
            <a:off x="1547640" y="4581360"/>
            <a:ext cx="7596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4720" y="1628640"/>
            <a:ext cx="649080" cy="208944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089440"/>
              <a:gd name="textAreaBottom" fmla="*/ 2057760 h 2089440"/>
            </a:gdLst>
            <a:ahLst/>
            <a:rect l="textAreaLeft" t="textAreaTop" r="textAreaRight" b="textAreaBottom"/>
            <a:pathLst>
              <a:path w="21600" h="69506">
                <a:moveTo>
                  <a:pt x="3600" y="0"/>
                </a:moveTo>
                <a:arcTo wR="3600" hR="3600" stAng="16200000" swAng="-5400000"/>
                <a:lnTo>
                  <a:pt x="0" y="65906"/>
                </a:lnTo>
                <a:arcTo wR="3600" hR="3600" stAng="10800000" swAng="-5400000"/>
                <a:lnTo>
                  <a:pt x="18000" y="695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74560" y="2276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54120" y="285912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1117440" y="404640"/>
                <a:ext cx="2416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3708360" y="509760"/>
                <a:ext cx="3135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53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8"/>
          <p:cNvSpPr/>
          <p:nvPr/>
        </p:nvSpPr>
        <p:spPr>
          <a:xfrm>
            <a:off x="1692360" y="148428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1692360" y="170028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1692360" y="22035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"/>
              <p:cNvSpPr txBox="1"/>
              <p:nvPr/>
            </p:nvSpPr>
            <p:spPr>
              <a:xfrm>
                <a:off x="1692360" y="270828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1692360" y="3284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2700360" y="155736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3132000" y="213372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"/>
              <p:cNvSpPr txBox="1"/>
              <p:nvPr/>
            </p:nvSpPr>
            <p:spPr>
              <a:xfrm>
                <a:off x="3635280" y="2565360"/>
                <a:ext cx="544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4067280" y="3068640"/>
                <a:ext cx="544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Rectangle 2"/>
          <p:cNvSpPr/>
          <p:nvPr/>
        </p:nvSpPr>
        <p:spPr>
          <a:xfrm>
            <a:off x="1258920" y="4221000"/>
            <a:ext cx="788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1403280" y="4724280"/>
                <a:ext cx="23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3851280" y="5516640"/>
                <a:ext cx="6494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3851280" y="4581360"/>
                <a:ext cx="27986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588000" y="4581360"/>
                <a:ext cx="235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1762200" y="5516640"/>
                <a:ext cx="2147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2843280" y="1557360"/>
            <a:ext cx="1873080" cy="24480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448000"/>
              <a:gd name="textAreaBottom" fmla="*/ 2356560 h 2448000"/>
            </a:gdLst>
            <a:ahLst/>
            <a:rect l="textAreaLeft" t="textAreaTop" r="textAreaRight" b="textAreaBottom"/>
            <a:pathLst>
              <a:path w="21600" h="28229">
                <a:moveTo>
                  <a:pt x="3600" y="0"/>
                </a:moveTo>
                <a:arcTo wR="3600" hR="3600" stAng="16200000" swAng="-5400000"/>
                <a:lnTo>
                  <a:pt x="0" y="24629"/>
                </a:lnTo>
                <a:arcTo wR="3600" hR="3600" stAng="10800000" swAng="-5400000"/>
                <a:lnTo>
                  <a:pt x="18000" y="28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93080" y="23479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73720" y="29304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042920" y="189000"/>
                <a:ext cx="23511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3635280" y="260280"/>
                <a:ext cx="31021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"/>
              <p:cNvSpPr txBox="1"/>
              <p:nvPr/>
            </p:nvSpPr>
            <p:spPr>
              <a:xfrm>
                <a:off x="6804000" y="5589720"/>
                <a:ext cx="20527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5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8"/>
          <p:cNvSpPr/>
          <p:nvPr/>
        </p:nvSpPr>
        <p:spPr>
          <a:xfrm>
            <a:off x="1979640" y="112536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1979640" y="1413000"/>
                <a:ext cx="10508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1979640" y="191628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"/>
              <p:cNvSpPr txBox="1"/>
              <p:nvPr/>
            </p:nvSpPr>
            <p:spPr>
              <a:xfrm>
                <a:off x="1979640" y="242100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1979640" y="29973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2340000" y="3500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"/>
              <p:cNvSpPr txBox="1"/>
              <p:nvPr/>
            </p:nvSpPr>
            <p:spPr>
              <a:xfrm>
                <a:off x="3132000" y="1427040"/>
                <a:ext cx="5558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3132000" y="1932120"/>
                <a:ext cx="5558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3132000" y="2422440"/>
                <a:ext cx="5540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"/>
              <p:cNvSpPr txBox="1"/>
              <p:nvPr/>
            </p:nvSpPr>
            <p:spPr>
              <a:xfrm>
                <a:off x="3132000" y="2997360"/>
                <a:ext cx="700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2"/>
          <p:cNvSpPr/>
          <p:nvPr/>
        </p:nvSpPr>
        <p:spPr>
          <a:xfrm>
            <a:off x="1835280" y="4221000"/>
            <a:ext cx="7308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05080" y="1413000"/>
            <a:ext cx="649440" cy="2089080"/>
          </a:xfrm>
          <a:custGeom>
            <a:avLst/>
            <a:gdLst>
              <a:gd name="textAreaLeft" fmla="*/ 31680 w 649440"/>
              <a:gd name="textAreaRight" fmla="*/ 617760 w 649440"/>
              <a:gd name="textAreaTop" fmla="*/ 31680 h 2089080"/>
              <a:gd name="textAreaBottom" fmla="*/ 2057400 h 2089080"/>
            </a:gdLst>
            <a:ahLst/>
            <a:rect l="textAreaLeft" t="textAreaTop" r="textAreaRight" b="textAreaBottom"/>
            <a:pathLst>
              <a:path w="21600" h="69455">
                <a:moveTo>
                  <a:pt x="3600" y="0"/>
                </a:moveTo>
                <a:arcTo wR="3600" hR="3600" stAng="16200000" swAng="-5400000"/>
                <a:lnTo>
                  <a:pt x="0" y="65855"/>
                </a:lnTo>
                <a:arcTo wR="3600" hR="3600" stAng="10800000" swAng="-5400000"/>
                <a:lnTo>
                  <a:pt x="18000" y="69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95280" y="206064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4480" y="264312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1209600" y="333360"/>
                <a:ext cx="199224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3708360" y="509760"/>
                <a:ext cx="3135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8"/>
          <p:cNvSpPr/>
          <p:nvPr/>
        </p:nvSpPr>
        <p:spPr>
          <a:xfrm>
            <a:off x="1647720" y="151596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"/>
              <p:cNvSpPr txBox="1"/>
              <p:nvPr/>
            </p:nvSpPr>
            <p:spPr>
              <a:xfrm>
                <a:off x="1692360" y="184320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1692360" y="25653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"/>
              <p:cNvSpPr txBox="1"/>
              <p:nvPr/>
            </p:nvSpPr>
            <p:spPr>
              <a:xfrm>
                <a:off x="1692360" y="342900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698480" y="4292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2124000" y="494172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2843280" y="170028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2843280" y="249408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2849400" y="3286080"/>
                <a:ext cx="675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843280" y="4076640"/>
                <a:ext cx="700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843280" y="1700280"/>
            <a:ext cx="936720" cy="331308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3313080"/>
              <a:gd name="textAreaBottom" fmla="*/ 3267360 h 3313080"/>
            </a:gdLst>
            <a:ahLst/>
            <a:rect l="textAreaLeft" t="textAreaTop" r="textAreaRight" b="textAreaBottom"/>
            <a:pathLst>
              <a:path w="21600" h="76376">
                <a:moveTo>
                  <a:pt x="3600" y="0"/>
                </a:moveTo>
                <a:arcTo wR="3600" hR="3600" stAng="16200000" swAng="-5400000"/>
                <a:lnTo>
                  <a:pt x="0" y="72776"/>
                </a:lnTo>
                <a:arcTo wR="3600" hR="3600" stAng="10800000" swAng="-5400000"/>
                <a:lnTo>
                  <a:pt x="18000" y="76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944640" y="189000"/>
                <a:ext cx="27097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3359160" y="260280"/>
                <a:ext cx="36561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993480" y="29242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ení 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73040" y="3506760"/>
            <a:ext cx="29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ference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1619280" y="5734080"/>
            <a:ext cx="75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aná posloupnost není aritmetick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500"/>
                            </p:stCondLst>
                            <p:childTnLst>
                              <p:par>
                                <p:cTn id="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5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6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25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Line 8"/>
          <p:cNvSpPr/>
          <p:nvPr/>
        </p:nvSpPr>
        <p:spPr>
          <a:xfrm>
            <a:off x="1692360" y="148428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1692360" y="1700280"/>
                <a:ext cx="1050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692360" y="220356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692360" y="2708280"/>
                <a:ext cx="10825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1692360" y="3284640"/>
                <a:ext cx="10810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2050920" y="3716280"/>
                <a:ext cx="26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2700360" y="1557360"/>
                <a:ext cx="5475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132000" y="2133720"/>
                <a:ext cx="546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635280" y="2565360"/>
                <a:ext cx="54468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4067280" y="3068640"/>
                <a:ext cx="544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Rectangle 2"/>
          <p:cNvSpPr/>
          <p:nvPr/>
        </p:nvSpPr>
        <p:spPr>
          <a:xfrm>
            <a:off x="1258920" y="4292640"/>
            <a:ext cx="7885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1403280" y="4795920"/>
                <a:ext cx="23767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4827600" y="5594400"/>
                <a:ext cx="6494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3851280" y="4651200"/>
                <a:ext cx="324468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1763640" y="5589720"/>
                <a:ext cx="3009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843280" y="1557360"/>
            <a:ext cx="1873080" cy="2448000"/>
          </a:xfrm>
          <a:custGeom>
            <a:avLst/>
            <a:gdLst>
              <a:gd name="textAreaLeft" fmla="*/ 91440 w 1873080"/>
              <a:gd name="textAreaRight" fmla="*/ 1781640 w 1873080"/>
              <a:gd name="textAreaTop" fmla="*/ 91440 h 2448000"/>
              <a:gd name="textAreaBottom" fmla="*/ 2356560 h 2448000"/>
            </a:gdLst>
            <a:ahLst/>
            <a:rect l="textAreaLeft" t="textAreaTop" r="textAreaRight" b="textAreaBottom"/>
            <a:pathLst>
              <a:path w="21600" h="28229">
                <a:moveTo>
                  <a:pt x="3600" y="0"/>
                </a:moveTo>
                <a:arcTo wR="3600" hR="3600" stAng="16200000" swAng="-5400000"/>
                <a:lnTo>
                  <a:pt x="0" y="24629"/>
                </a:lnTo>
                <a:arcTo wR="3600" hR="3600" stAng="10800000" swAng="-5400000"/>
                <a:lnTo>
                  <a:pt x="18000" y="28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93080" y="234792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3720" y="2930400"/>
            <a:ext cx="29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3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1042920" y="189000"/>
                <a:ext cx="26132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3711600" y="260280"/>
                <a:ext cx="35272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6804000" y="5575320"/>
                <a:ext cx="2052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25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3000"/>
                            </p:stCondLst>
                            <p:childTnLst>
                              <p:par>
                                <p:cTn id="9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3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0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500"/>
                            </p:stCondLst>
                            <p:childTnLst>
                              <p:par>
                                <p:cTn id="9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1187280" y="476280"/>
                <a:ext cx="255132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5132520" y="882720"/>
                <a:ext cx="23050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1135080" y="1989000"/>
                <a:ext cx="265572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1082520" y="3537000"/>
                <a:ext cx="276228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1187280" y="5373720"/>
                <a:ext cx="251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5148360" y="2133720"/>
                <a:ext cx="2374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148360" y="3716280"/>
                <a:ext cx="2374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5148360" y="5445000"/>
                <a:ext cx="22352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2, s. 21–3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31–13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700280"/>
          <a:ext cx="7416720" cy="41925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 – defi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é pojmy – aritmetická posloupnost, diference. Prezentace obsahuje dále procvičení na řešených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itmetická posloupnost; Diferen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ruhy posloupnost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981000"/>
            <a:ext cx="795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le vztahu mezi dvěma po sobě jdoucími členy rozlišuje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187280" y="2060640"/>
            <a:ext cx="795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ou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ozdíl dvou sousedních členů je konstantní (stálý, stejný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y členů posloupnosti vzrůstají či klesají lineárně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geometrickou posloup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íl dvou sousedních členů je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odnoty členů posloupnosti vzrůstají či klesají exponenciálně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ritmetická posloupnost</a:t>
            </a:r>
            <a:br>
              <a:rPr sz="6000"/>
            </a:b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AP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71640" y="62064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170028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ylo uloženo 15 000 Kč. Po prvním měsíci se začalo k této částce ukládat měsíčně    500 Kč. Jaká byla cílová částka po 3 letech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900000" y="26028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Hledáme částku za 3 roky a 1 měsíc, což je 37 měsíců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00000" y="1771560"/>
            <a:ext cx="7956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měsíc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. měsíc: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7. měsíc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900000" y="5877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ylo naspořeno 33 000 Kč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292720" y="981000"/>
            <a:ext cx="298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souvislost s posloupnostm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21440" y="1771560"/>
            <a:ext cx="14032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268360" y="981000"/>
            <a:ext cx="273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spořená částka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K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1771560"/>
            <a:ext cx="28814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1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2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3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  4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5 000 + 36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564000" y="177156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+   0 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219640" y="1773360"/>
            <a:ext cx="14032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Times New Roman"/>
              </a:rPr>
              <a:t>3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1916280"/>
            <a:ext cx="792000" cy="381636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3816360"/>
              <a:gd name="textAreaBottom" fmla="*/ 3777840 h 3816360"/>
            </a:gdLst>
            <a:ahLst/>
            <a:rect l="textAreaLeft" t="textAreaTop" r="textAreaRight" b="textAreaBottom"/>
            <a:pathLst>
              <a:path w="21600" h="104045">
                <a:moveTo>
                  <a:pt x="3600" y="0"/>
                </a:moveTo>
                <a:arcTo wR="3600" hR="3600" stAng="16200000" swAng="-5400000"/>
                <a:lnTo>
                  <a:pt x="0" y="100445"/>
                </a:lnTo>
                <a:arcTo wR="3600" hR="3600" stAng="10800000" swAng="-5400000"/>
                <a:lnTo>
                  <a:pt x="18000" y="1040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0720" y="1916280"/>
            <a:ext cx="720720" cy="3816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3816360"/>
              <a:gd name="textAreaBottom" fmla="*/ 3781440 h 3816360"/>
            </a:gdLst>
            <a:ahLst/>
            <a:rect l="textAreaLeft" t="textAreaTop" r="textAreaRight" b="textAreaBottom"/>
            <a:pathLst>
              <a:path w="21600" h="114330">
                <a:moveTo>
                  <a:pt x="3600" y="0"/>
                </a:moveTo>
                <a:arcTo wR="3600" hR="3600" stAng="16200000" swAng="-5400000"/>
                <a:lnTo>
                  <a:pt x="0" y="110730"/>
                </a:lnTo>
                <a:arcTo wR="3600" hR="3600" stAng="10800000" swAng="-5400000"/>
                <a:lnTo>
                  <a:pt x="18000" y="1143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804000" y="2060640"/>
            <a:ext cx="2087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50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4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20000"/>
              </a:lnSpc>
              <a:tabLst>
                <a:tab algn="l" pos="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6445080" y="4338720"/>
                <a:ext cx="2232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H="1">
            <a:off x="8027640" y="4797360"/>
            <a:ext cx="431640" cy="1224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92360" y="587700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diferen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9640" y="5732640"/>
            <a:ext cx="187344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9280" y="5745240"/>
            <a:ext cx="338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ásobek diference vždy   o jedničku menší než je pořadí daného člen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72360" y="2131920"/>
            <a:ext cx="720720" cy="28814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2881440"/>
              <a:gd name="textAreaBottom" fmla="*/ 2846520 h 2881440"/>
            </a:gdLst>
            <a:ahLst/>
            <a:rect l="textAreaLeft" t="textAreaTop" r="textAreaRight" b="textAreaBottom"/>
            <a:pathLst>
              <a:path w="21600" h="86325">
                <a:moveTo>
                  <a:pt x="3600" y="0"/>
                </a:moveTo>
                <a:arcTo wR="3600" hR="3600" stAng="16200000" swAng="-5400000"/>
                <a:lnTo>
                  <a:pt x="0" y="82725"/>
                </a:lnTo>
                <a:arcTo wR="3600" hR="3600" stAng="10800000" swAng="-5400000"/>
                <a:lnTo>
                  <a:pt x="18000" y="863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116000" y="620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Definice AP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042920" y="1700280"/>
            <a:ext cx="8101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reálných čísel                   se nazývá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aritmetická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existuj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diference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) tak,   že pro každé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 platí rekurentní vzorec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1"/>
              <p:cNvSpPr txBox="1"/>
              <p:nvPr/>
            </p:nvSpPr>
            <p:spPr>
              <a:xfrm>
                <a:off x="5651640" y="1773360"/>
                <a:ext cx="1441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708360" y="4292640"/>
                <a:ext cx="26337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Dokažte, že je daná posloupnost aritmetická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971640" y="260280"/>
                <a:ext cx="2676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 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1" name="Line 8"/>
          <p:cNvSpPr/>
          <p:nvPr/>
        </p:nvSpPr>
        <p:spPr>
          <a:xfrm>
            <a:off x="1547640" y="981000"/>
            <a:ext cx="2016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3851280" y="401760"/>
                <a:ext cx="3068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1547640" y="1052640"/>
                <a:ext cx="1051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547640" y="1555920"/>
                <a:ext cx="10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547640" y="2060640"/>
                <a:ext cx="10828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1547640" y="2637000"/>
                <a:ext cx="10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2700360" y="1052640"/>
                <a:ext cx="1052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2700360" y="1555920"/>
                <a:ext cx="1052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2700360" y="2060640"/>
                <a:ext cx="1168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2700360" y="2637000"/>
                <a:ext cx="13161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908000" y="3139920"/>
                <a:ext cx="263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3924360" y="105264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3924360" y="155592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3924360" y="206064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4067280" y="2637000"/>
                <a:ext cx="5554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2"/>
          <p:cNvSpPr/>
          <p:nvPr/>
        </p:nvSpPr>
        <p:spPr>
          <a:xfrm>
            <a:off x="1187280" y="3860640"/>
            <a:ext cx="795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332000" y="4365720"/>
                <a:ext cx="23763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"/>
              <p:cNvSpPr txBox="1"/>
              <p:nvPr/>
            </p:nvSpPr>
            <p:spPr>
              <a:xfrm>
                <a:off x="6659640" y="5877000"/>
                <a:ext cx="22921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780000" y="4437000"/>
                <a:ext cx="4116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1692360" y="5229360"/>
                <a:ext cx="3816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5508720" y="5229360"/>
                <a:ext cx="27795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067280" y="1052640"/>
            <a:ext cx="649080" cy="216036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2160360"/>
              <a:gd name="textAreaBottom" fmla="*/ 2128680 h 2160360"/>
            </a:gdLst>
            <a:ahLst/>
            <a:rect l="textAreaLeft" t="textAreaTop" r="textAreaRight" b="textAreaBottom"/>
            <a:pathLst>
              <a:path w="21600" h="71864">
                <a:moveTo>
                  <a:pt x="3600" y="0"/>
                </a:moveTo>
                <a:arcTo wR="3600" hR="3600" stAng="16200000" swAng="-5400000"/>
                <a:lnTo>
                  <a:pt x="0" y="68264"/>
                </a:lnTo>
                <a:arcTo wR="3600" hR="3600" stAng="10800000" swAng="-5400000"/>
                <a:lnTo>
                  <a:pt x="18000" y="718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6560" y="1916280"/>
            <a:ext cx="25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onstantní hodno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080" y="24145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ředpoklad: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8292960" y="5229360"/>
                <a:ext cx="635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1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46Z</dcterms:modified>
  <cp:revision>316</cp:revision>
  <dc:subject/>
  <dc:title>Posloupnosti</dc:title>
</cp:coreProperties>
</file>