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A41A-4E55-43A3-8F52-297784168C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0E6F-D46E-40D7-B962-761530DF19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DB0D-4292-40B1-ADB4-EBD6F83E582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DE6-3D2B-4EF5-B55F-C543AA6CA4F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D2F3-0E7F-4D29-A4EA-F2EF4226AE4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4B4-5C27-4E3D-938A-1037A231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D63-3110-4972-B9A3-273C9CAA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66C-ABA7-4968-91B5-E0A31603B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10E-9E7C-4F02-8F50-C0ED2132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A82-3543-4EB0-80D9-577FEEAF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B76-9718-4D4F-A5B4-02EACD81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3708-2EBE-4A8A-A140-DD31E55B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F75B-7B88-4C90-BA3A-62CD5D24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8C5-D356-4D10-8CA1-2BF7E5F4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8FD3-6195-4811-94F1-D80DB207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7CCA-FBD7-467A-9BEB-0280EDBB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7EA-D078-48B6-BFFF-CA514F7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B248-9682-4DD8-A19E-39B2CF3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F24D-D36A-44BD-87C8-1BCD306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665A-BA82-4F64-9AC2-9F3B0ACA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EEF8-FDE5-4266-80CA-BA6E67FB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527D-EFFD-4721-939C-E7C2B52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39F1-C391-4A55-A857-9893CAC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1DC-A2D6-44EA-A0BE-AAD0AB52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68F7-7C7D-4C7F-82DB-FF150C9F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525-D537-44F1-8F56-3EBB4EB9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9E5-C63D-4986-8FCF-E3D8360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93E-8E92-48AA-9228-0ED7236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F667-0545-41E7-872A-4A48DED5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6BF3-58C2-4B0D-8552-0F4CEEE6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AD04-D7CD-4990-BF1B-123C2709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187280" y="155736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1; b) 3                                             členy posloupnosti                 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5027760" y="2637000"/>
                <a:ext cx="183348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116000" y="260280"/>
                <a:ext cx="1801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Line 3"/>
          <p:cNvSpPr/>
          <p:nvPr/>
        </p:nvSpPr>
        <p:spPr>
          <a:xfrm>
            <a:off x="1619280" y="907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3924360" y="3573360"/>
                <a:ext cx="2422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5221440" y="4797360"/>
                <a:ext cx="186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5437080" y="5516640"/>
                <a:ext cx="1146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"/>
              <p:cNvSpPr txBox="1"/>
              <p:nvPr/>
            </p:nvSpPr>
            <p:spPr>
              <a:xfrm>
                <a:off x="6372360" y="2060640"/>
                <a:ext cx="753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805440" y="5516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10"/>
          <p:cNvSpPr/>
          <p:nvPr/>
        </p:nvSpPr>
        <p:spPr>
          <a:xfrm>
            <a:off x="1611000" y="6021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1"/>
              <p:cNvSpPr txBox="1"/>
              <p:nvPr/>
            </p:nvSpPr>
            <p:spPr>
              <a:xfrm>
                <a:off x="1187280" y="3789360"/>
                <a:ext cx="1899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677556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5"/>
              <p:cNvSpPr txBox="1"/>
              <p:nvPr/>
            </p:nvSpPr>
            <p:spPr>
              <a:xfrm>
                <a:off x="5076720" y="1413000"/>
                <a:ext cx="1638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6"/>
              <p:cNvSpPr txBox="1"/>
              <p:nvPr/>
            </p:nvSpPr>
            <p:spPr>
              <a:xfrm>
                <a:off x="5292720" y="2060640"/>
                <a:ext cx="85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 Box 17"/>
          <p:cNvSpPr/>
          <p:nvPr/>
        </p:nvSpPr>
        <p:spPr>
          <a:xfrm>
            <a:off x="1468080" y="256536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je 1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780000" y="189000"/>
                <a:ext cx="2355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Line 3"/>
          <p:cNvSpPr/>
          <p:nvPr/>
        </p:nvSpPr>
        <p:spPr>
          <a:xfrm>
            <a:off x="1763640" y="44388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 079; b) – 53                                              členy posloupnosti     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4932360" y="2060640"/>
                <a:ext cx="257652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0" name="Text Box 17"/>
          <p:cNvSpPr/>
          <p:nvPr/>
        </p:nvSpPr>
        <p:spPr>
          <a:xfrm>
            <a:off x="2124000" y="350028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079 je 41. členem dané posloupnosti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2124000" y="4292640"/>
            <a:ext cx="70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53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20; b) – 4                                              členy posloupnosti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4932360" y="1773360"/>
                <a:ext cx="180648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4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20 není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– 4 je 28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1187280" y="620640"/>
            <a:ext cx="7956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    a) 5; b) 17                                               členy posloupnosti                      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32360" y="1773360"/>
                <a:ext cx="217476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58" name="Text Box 17"/>
          <p:cNvSpPr/>
          <p:nvPr/>
        </p:nvSpPr>
        <p:spPr>
          <a:xfrm>
            <a:off x="2484360" y="3645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) Číslo 5 je 21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2484360" y="4437000"/>
            <a:ext cx="66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) Číslo 17 je 3. členem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916280"/>
          <a:ext cx="7417080" cy="3663720"/>
        </p:xfrm>
        <a:graphic>
          <a:graphicData uri="http://schemas.openxmlformats.org/drawingml/2006/table">
            <a:tbl>
              <a:tblPr/>
              <a:tblGrid>
                <a:gridCol w="318456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řadí členů 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87280" y="1557360"/>
            <a:ext cx="7956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500; b) 223                      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5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4365720"/>
            <a:ext cx="795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41360" indent="-442800">
              <a:lnSpc>
                <a:spcPct val="110000"/>
              </a:lnSpc>
              <a:spcBef>
                <a:spcPts val="35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 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341360" indent="-44280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je dané číslo členem posloupnost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nalezneme jeho pořadí, tudíž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Symbol"/>
                <a:ea typeface="Symbol"/>
              </a:rPr>
              <a:t>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872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1187280" y="26028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6918480" y="233676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4284720" y="26028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796000" y="9079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6012000" y="1484280"/>
                <a:ext cx="1376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244000" y="4941720"/>
                <a:ext cx="75384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7524720" y="177336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Text Box 10"/>
          <p:cNvSpPr/>
          <p:nvPr/>
        </p:nvSpPr>
        <p:spPr>
          <a:xfrm>
            <a:off x="1683000" y="249228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5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187280" y="3500280"/>
                <a:ext cx="2292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Line 12"/>
          <p:cNvSpPr/>
          <p:nvPr/>
        </p:nvSpPr>
        <p:spPr>
          <a:xfrm>
            <a:off x="1619280" y="41180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3"/>
              <p:cNvSpPr txBox="1"/>
              <p:nvPr/>
            </p:nvSpPr>
            <p:spPr>
              <a:xfrm>
                <a:off x="6918480" y="554688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4"/>
              <p:cNvSpPr txBox="1"/>
              <p:nvPr/>
            </p:nvSpPr>
            <p:spPr>
              <a:xfrm>
                <a:off x="4284720" y="3470400"/>
                <a:ext cx="301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5"/>
              <p:cNvSpPr txBox="1"/>
              <p:nvPr/>
            </p:nvSpPr>
            <p:spPr>
              <a:xfrm>
                <a:off x="5796000" y="4149720"/>
                <a:ext cx="1506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6"/>
              <p:cNvSpPr txBox="1"/>
              <p:nvPr/>
            </p:nvSpPr>
            <p:spPr>
              <a:xfrm>
                <a:off x="6012000" y="4653000"/>
                <a:ext cx="21952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17"/>
          <p:cNvSpPr/>
          <p:nvPr/>
        </p:nvSpPr>
        <p:spPr>
          <a:xfrm>
            <a:off x="1609560" y="587700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je 4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1187280" y="1557360"/>
            <a:ext cx="795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50000"/>
              </a:lnSpc>
              <a:spcBef>
                <a:spcPts val="42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Zjistěte, zda jsou čísla                              a) 289; b) 223; c) 361; d) 1 000               členy posloupnosti 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i="1" lang="cs-CZ" sz="3400" spc="-1" strike="noStrike">
                <a:solidFill>
                  <a:srgbClr val="dddddd"/>
                </a:solidFill>
                <a:latin typeface="Times New Roman"/>
              </a:rPr>
              <a:t>n +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</a:rPr>
              <a:t> 1</a:t>
            </a:r>
            <a:r>
              <a:rPr b="0" lang="en-US" sz="34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∞</a:t>
            </a:r>
            <a:r>
              <a:rPr b="0" lang="cs-CZ" sz="3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1187280" y="333360"/>
                <a:ext cx="2259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"/>
          <p:cNvSpPr/>
          <p:nvPr/>
        </p:nvSpPr>
        <p:spPr>
          <a:xfrm>
            <a:off x="1619280" y="98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4325760" y="3274920"/>
                <a:ext cx="2034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5"/>
              <p:cNvSpPr txBox="1"/>
              <p:nvPr/>
            </p:nvSpPr>
            <p:spPr>
              <a:xfrm>
                <a:off x="1692360" y="112536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2195640" y="184644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5292720" y="2494080"/>
                <a:ext cx="2597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8"/>
              <p:cNvSpPr txBox="1"/>
              <p:nvPr/>
            </p:nvSpPr>
            <p:spPr>
              <a:xfrm>
                <a:off x="2195640" y="3718080"/>
                <a:ext cx="2358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7885080" y="3573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172360" y="458136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11"/>
          <p:cNvSpPr/>
          <p:nvPr/>
        </p:nvSpPr>
        <p:spPr>
          <a:xfrm>
            <a:off x="1682640" y="5805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89 je 16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500720" y="3286080"/>
                <a:ext cx="262080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7093080" y="3573360"/>
                <a:ext cx="7855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7093080" y="4581360"/>
                <a:ext cx="10141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7885080" y="2565360"/>
                <a:ext cx="105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187280" y="404640"/>
                <a:ext cx="229104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Line 3"/>
          <p:cNvSpPr/>
          <p:nvPr/>
        </p:nvSpPr>
        <p:spPr>
          <a:xfrm>
            <a:off x="1635120" y="1052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341960" y="3346560"/>
                <a:ext cx="2030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08200" y="1197000"/>
                <a:ext cx="3765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2211480" y="1917720"/>
                <a:ext cx="28810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7"/>
              <p:cNvSpPr txBox="1"/>
              <p:nvPr/>
            </p:nvSpPr>
            <p:spPr>
              <a:xfrm>
                <a:off x="5164200" y="2637000"/>
                <a:ext cx="271764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2139840" y="3573360"/>
                <a:ext cx="27831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24560" y="4005360"/>
                <a:ext cx="1508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n</m:t>
                    </m:r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Text Box 11"/>
          <p:cNvSpPr/>
          <p:nvPr/>
        </p:nvSpPr>
        <p:spPr>
          <a:xfrm>
            <a:off x="1322640" y="5805360"/>
            <a:ext cx="70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223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7827840" y="2709720"/>
                <a:ext cx="8780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AutoShape 14"/>
          <p:cNvSpPr/>
          <p:nvPr/>
        </p:nvSpPr>
        <p:spPr>
          <a:xfrm>
            <a:off x="3940200" y="3573360"/>
            <a:ext cx="9349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723120" y="3213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není celé čísl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6"/>
          <p:cNvSpPr/>
          <p:nvPr/>
        </p:nvSpPr>
        <p:spPr>
          <a:xfrm>
            <a:off x="3075120" y="3213000"/>
            <a:ext cx="2449440" cy="187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Úplné kvadratické rovnice můžete řešit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ždy pomocí vzorce s diskriminantem (a,b),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pro zajímavost uvádím i jinou možnost řešení (c,d)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987480" y="1628640"/>
                <a:ext cx="2225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Line 3"/>
          <p:cNvSpPr/>
          <p:nvPr/>
        </p:nvSpPr>
        <p:spPr>
          <a:xfrm>
            <a:off x="1403280" y="22766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1476360" y="2276640"/>
                <a:ext cx="37321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2987640" y="2852640"/>
                <a:ext cx="22608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Text Box 7"/>
          <p:cNvSpPr/>
          <p:nvPr/>
        </p:nvSpPr>
        <p:spPr>
          <a:xfrm>
            <a:off x="1466640" y="60213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361 je 18.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5780160" y="2820960"/>
                <a:ext cx="785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3348000" y="3573360"/>
                <a:ext cx="17049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2"/>
              <p:cNvSpPr txBox="1"/>
              <p:nvPr/>
            </p:nvSpPr>
            <p:spPr>
              <a:xfrm>
                <a:off x="7812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3"/>
              <p:cNvSpPr txBox="1"/>
              <p:nvPr/>
            </p:nvSpPr>
            <p:spPr>
              <a:xfrm>
                <a:off x="5364000" y="5300640"/>
                <a:ext cx="7542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Rectangle 17"/>
          <p:cNvSpPr/>
          <p:nvPr/>
        </p:nvSpPr>
        <p:spPr>
          <a:xfrm>
            <a:off x="3564000" y="407844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Rectangle 74"/>
          <p:cNvSpPr/>
          <p:nvPr/>
        </p:nvSpPr>
        <p:spPr>
          <a:xfrm>
            <a:off x="5105160" y="36464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0" name="Group 60"/>
          <p:cNvGrpSpPr/>
          <p:nvPr/>
        </p:nvGrpSpPr>
        <p:grpSpPr>
          <a:xfrm>
            <a:off x="5240160" y="4653000"/>
            <a:ext cx="3902040" cy="520560"/>
            <a:chOff x="5240160" y="4653000"/>
            <a:chExt cx="3902040" cy="520560"/>
          </a:xfrm>
        </p:grpSpPr>
        <p:sp>
          <p:nvSpPr>
            <p:cNvPr id="201" name="Line 61"/>
            <p:cNvSpPr/>
            <p:nvPr/>
          </p:nvSpPr>
          <p:spPr>
            <a:xfrm>
              <a:off x="5240160" y="4724640"/>
              <a:ext cx="3713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62"/>
            <p:cNvSpPr/>
            <p:nvPr/>
          </p:nvSpPr>
          <p:spPr>
            <a:xfrm>
              <a:off x="8783280" y="4653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ddddd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7"/>
          <p:cNvGrpSpPr/>
          <p:nvPr/>
        </p:nvGrpSpPr>
        <p:grpSpPr>
          <a:xfrm>
            <a:off x="6756120" y="4581360"/>
            <a:ext cx="511200" cy="757080"/>
            <a:chOff x="6756120" y="4581360"/>
            <a:chExt cx="511200" cy="757080"/>
          </a:xfrm>
        </p:grpSpPr>
        <p:sp>
          <p:nvSpPr>
            <p:cNvPr id="204" name="Line 64"/>
            <p:cNvSpPr/>
            <p:nvPr/>
          </p:nvSpPr>
          <p:spPr>
            <a:xfrm>
              <a:off x="6899040" y="45813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Text Box 65"/>
            <p:cNvSpPr/>
            <p:nvPr/>
          </p:nvSpPr>
          <p:spPr>
            <a:xfrm>
              <a:off x="6756120" y="481788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en-US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70"/>
          <p:cNvSpPr/>
          <p:nvPr/>
        </p:nvSpPr>
        <p:spPr>
          <a:xfrm>
            <a:off x="56736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71"/>
          <p:cNvSpPr/>
          <p:nvPr/>
        </p:nvSpPr>
        <p:spPr>
          <a:xfrm>
            <a:off x="5086440" y="4795920"/>
            <a:ext cx="1374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Line 72"/>
          <p:cNvSpPr/>
          <p:nvPr/>
        </p:nvSpPr>
        <p:spPr>
          <a:xfrm>
            <a:off x="8123400" y="45813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3"/>
          <p:cNvSpPr/>
          <p:nvPr/>
        </p:nvSpPr>
        <p:spPr>
          <a:xfrm>
            <a:off x="7603560" y="4795920"/>
            <a:ext cx="110304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0" name="Group 29"/>
          <p:cNvGrpSpPr/>
          <p:nvPr/>
        </p:nvGrpSpPr>
        <p:grpSpPr>
          <a:xfrm>
            <a:off x="8051400" y="4653000"/>
            <a:ext cx="144720" cy="142920"/>
            <a:chOff x="8051400" y="4653000"/>
            <a:chExt cx="144720" cy="142920"/>
          </a:xfrm>
        </p:grpSpPr>
        <p:sp>
          <p:nvSpPr>
            <p:cNvPr id="211" name="Line 30"/>
            <p:cNvSpPr/>
            <p:nvPr/>
          </p:nvSpPr>
          <p:spPr>
            <a:xfrm>
              <a:off x="80517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31"/>
            <p:cNvSpPr/>
            <p:nvPr/>
          </p:nvSpPr>
          <p:spPr>
            <a:xfrm flipH="1">
              <a:off x="80514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3" name="Group 29"/>
          <p:cNvGrpSpPr/>
          <p:nvPr/>
        </p:nvGrpSpPr>
        <p:grpSpPr>
          <a:xfrm>
            <a:off x="5601960" y="4653000"/>
            <a:ext cx="144720" cy="142920"/>
            <a:chOff x="5601960" y="4653000"/>
            <a:chExt cx="144720" cy="142920"/>
          </a:xfrm>
        </p:grpSpPr>
        <p:sp>
          <p:nvSpPr>
            <p:cNvPr id="214" name="Line 30"/>
            <p:cNvSpPr/>
            <p:nvPr/>
          </p:nvSpPr>
          <p:spPr>
            <a:xfrm>
              <a:off x="56023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 flipH="1">
              <a:off x="56019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6" name="Arc 66"/>
          <p:cNvSpPr/>
          <p:nvPr/>
        </p:nvSpPr>
        <p:spPr>
          <a:xfrm flipH="1">
            <a:off x="5673600" y="450864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rc 68"/>
          <p:cNvSpPr/>
          <p:nvPr/>
        </p:nvSpPr>
        <p:spPr>
          <a:xfrm flipH="1">
            <a:off x="6897600" y="4510080"/>
            <a:ext cx="1224000" cy="220680"/>
          </a:xfrm>
          <a:custGeom>
            <a:avLst/>
            <a:gdLst/>
            <a:ahLst/>
            <a:rect l="l" t="t" r="r" b="b"/>
            <a:pathLst>
              <a:path fill="none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</a:path>
              <a:path stroke="0" w="42808" h="21600">
                <a:moveTo>
                  <a:pt x="0" y="17502"/>
                </a:moveTo>
                <a:cubicBezTo>
                  <a:pt x="1963" y="7340"/>
                  <a:pt x="10858" y="0"/>
                  <a:pt x="21208" y="0"/>
                </a:cubicBezTo>
                <a:cubicBezTo>
                  <a:pt x="-32399" y="0"/>
                  <a:pt x="-22728" y="9670"/>
                  <a:pt x="-22728" y="21600"/>
                </a:cubicBezTo>
                <a:lnTo>
                  <a:pt x="21208" y="21600"/>
                </a:lnTo>
                <a:lnTo>
                  <a:pt x="0" y="17502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1073160" y="260280"/>
                <a:ext cx="2487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3"/>
          <p:cNvSpPr/>
          <p:nvPr/>
        </p:nvSpPr>
        <p:spPr>
          <a:xfrm>
            <a:off x="1619280" y="907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4349880" y="3878280"/>
                <a:ext cx="2030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606680" y="971640"/>
                <a:ext cx="3987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078000" y="1676520"/>
                <a:ext cx="25131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Text Box 7"/>
          <p:cNvSpPr/>
          <p:nvPr/>
        </p:nvSpPr>
        <p:spPr>
          <a:xfrm>
            <a:off x="1466280" y="5445000"/>
            <a:ext cx="73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Číslo 1 000 není členem dané posloupnosti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5996160" y="1668600"/>
                <a:ext cx="785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3419640" y="3357720"/>
                <a:ext cx="2411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6" name="Rectangle 17"/>
          <p:cNvSpPr/>
          <p:nvPr/>
        </p:nvSpPr>
        <p:spPr>
          <a:xfrm>
            <a:off x="3732120" y="396072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74"/>
          <p:cNvSpPr/>
          <p:nvPr/>
        </p:nvSpPr>
        <p:spPr>
          <a:xfrm>
            <a:off x="5924160" y="345744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23"/>
              <p:cNvSpPr txBox="1"/>
              <p:nvPr/>
            </p:nvSpPr>
            <p:spPr>
              <a:xfrm>
                <a:off x="6683400" y="3457440"/>
                <a:ext cx="754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3419640" y="2492280"/>
                <a:ext cx="2444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25Z</dcterms:modified>
  <cp:revision>304</cp:revision>
  <dc:subject/>
  <dc:title>Posloupnosti</dc:title>
</cp:coreProperties>
</file>