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AAFA-BD53-4A2A-8F67-6EE5A4D8D5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AE35-1301-41C1-8F9D-0879493DF9E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73D6-8F9C-4AEE-8134-D2DD11FDB2B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3BE8-A800-49DE-BBF5-24AD5B9125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71A4-F731-450C-A3B4-E55E6A2F96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944B-09F5-41F5-BD4B-88FA0FE7E3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7FD3-9C54-4F4C-B618-811199127CE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AC71-EC40-441C-A9C3-1252C9B406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B289-5104-400D-9AF4-3A252AEAE4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2E58-2FE3-4830-9655-EE5C8DF7002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B8B7-4F5D-4CEC-B73B-20691C0B9D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AC62-BD3A-440A-B0DA-FC4E8D26B83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9577-72BF-4128-9219-A37790A85A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701A-4AC3-43B8-8F4F-ED33E8FDB5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260E-0CDC-4B21-BE1B-64A13F78AE6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E395-61FF-4D5A-8550-05B177DEA25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6D7-2088-41F2-B6EC-07E77CAE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D40-6F75-400D-9C03-62DEBD7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928-B0A9-4E7C-94DE-0E9F7809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2D3A-5A11-4E91-9E03-0581DC5E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60E-D801-4885-B610-C1A69983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36D-3615-4014-B82F-15593CC4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EAC-14DE-434B-8389-9DDFE503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04E-2625-48B0-B937-0779F0E8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D18-4731-4924-AFCD-5314BCCB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6D6-88CB-46A3-B42B-6D0242C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855-C30C-4A6D-BC01-9266042F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2C3-0979-43AE-B685-E8290DAF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9B1C-6E10-46DF-90CE-6BDD1640E271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116000" y="3429000"/>
            <a:ext cx="769608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konci úrokovacího období se připíše úrok za uplynulé období a v příštím úrokovacím období se počítá úrok nejen z původní jistiny, ale také z připsaných úroků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143000" y="609480"/>
            <a:ext cx="7802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SLOŽEN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788000" y="4835520"/>
                <a:ext cx="223200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3"/>
              <p:cNvSpPr txBox="1"/>
              <p:nvPr/>
            </p:nvSpPr>
            <p:spPr>
              <a:xfrm>
                <a:off x="4716360" y="907920"/>
                <a:ext cx="13813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3"/>
              <p:cNvSpPr txBox="1"/>
              <p:nvPr/>
            </p:nvSpPr>
            <p:spPr>
              <a:xfrm>
                <a:off x="4714920" y="2060640"/>
                <a:ext cx="11318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3"/>
              <p:cNvSpPr txBox="1"/>
              <p:nvPr/>
            </p:nvSpPr>
            <p:spPr>
              <a:xfrm>
                <a:off x="4284720" y="2924280"/>
                <a:ext cx="207468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4067280" y="3860640"/>
                <a:ext cx="230508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Rectangle 3"/>
          <p:cNvSpPr/>
          <p:nvPr/>
        </p:nvSpPr>
        <p:spPr>
          <a:xfrm>
            <a:off x="1187280" y="1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258920" y="2492280"/>
                <a:ext cx="1800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3"/>
              <p:cNvSpPr txBox="1"/>
              <p:nvPr/>
            </p:nvSpPr>
            <p:spPr>
              <a:xfrm>
                <a:off x="1619280" y="90792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4716360" y="189000"/>
            <a:ext cx="12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332000" y="1628640"/>
                <a:ext cx="1380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340000" y="979560"/>
            <a:ext cx="360360" cy="431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31640"/>
              <a:gd name="textAreaBottom" fmla="*/ 414360 h 431640"/>
            </a:gdLst>
            <a:ahLst/>
            <a:rect l="textAreaLeft" t="textAreaTop" r="textAreaRight" b="textAreaBottom"/>
            <a:pathLst>
              <a:path w="21600" h="25868">
                <a:moveTo>
                  <a:pt x="3600" y="0"/>
                </a:moveTo>
                <a:arcTo wR="3600" hR="3600" stAng="16200000" swAng="-5400000"/>
                <a:lnTo>
                  <a:pt x="0" y="22268"/>
                </a:lnTo>
                <a:arcTo wR="3600" hR="3600" stAng="10800000" swAng="-5400000"/>
                <a:lnTo>
                  <a:pt x="18000" y="2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9080" y="907920"/>
            <a:ext cx="215640" cy="2890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9080"/>
              <a:gd name="textAreaBottom" fmla="*/ 278640 h 289080"/>
            </a:gdLst>
            <a:ahLst/>
            <a:rect l="textAreaLeft" t="textAreaTop" r="textAreaRight" b="textAreaBottom"/>
            <a:pathLst>
              <a:path w="21600" h="28944">
                <a:moveTo>
                  <a:pt x="3600" y="0"/>
                </a:moveTo>
                <a:arcTo wR="3600" hR="3600" stAng="16200000" swAng="-5400000"/>
                <a:lnTo>
                  <a:pt x="0" y="25344"/>
                </a:lnTo>
                <a:arcTo wR="3600" hR="3600" stAng="10800000" swAng="-5400000"/>
                <a:lnTo>
                  <a:pt x="18000" y="289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427640" y="1484280"/>
                <a:ext cx="1380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3"/>
              <p:cNvSpPr txBox="1"/>
              <p:nvPr/>
            </p:nvSpPr>
            <p:spPr>
              <a:xfrm>
                <a:off x="2916360" y="1628640"/>
                <a:ext cx="7347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6156360" y="1528920"/>
                <a:ext cx="7351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451920" y="2133720"/>
            <a:ext cx="267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známá v exponentu </a:t>
            </a:r>
            <a:r>
              <a:rPr b="0" lang="en-US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vnici logaritmuje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6964200" y="3141720"/>
                <a:ext cx="2179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6804000" y="40766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log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187280" y="189000"/>
            <a:ext cx="259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  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66ff33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= ?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2916360" y="1700280"/>
                <a:ext cx="807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258920" y="765000"/>
            <a:ext cx="7273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1403280" y="98100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1403280" y="2278080"/>
                <a:ext cx="123660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476360" y="3500280"/>
                <a:ext cx="165564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2482920" y="1125360"/>
            <a:ext cx="287280" cy="360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720"/>
              <a:gd name="textAreaBottom" fmla="*/ 346680 h 360720"/>
            </a:gdLst>
            <a:ahLst/>
            <a:rect l="textAreaLeft" t="textAreaTop" r="textAreaRight" b="textAreaBottom"/>
            <a:pathLst>
              <a:path w="21600" h="27115">
                <a:moveTo>
                  <a:pt x="3600" y="0"/>
                </a:moveTo>
                <a:arcTo wR="3600" hR="3600" stAng="16200000" swAng="-5400000"/>
                <a:lnTo>
                  <a:pt x="0" y="23515"/>
                </a:lnTo>
                <a:arcTo wR="3600" hR="3600" stAng="10800000" swAng="-5400000"/>
                <a:lnTo>
                  <a:pt x="18000" y="27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1042920" y="1628640"/>
                <a:ext cx="1509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2987640" y="2421000"/>
                <a:ext cx="7761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724360" y="907920"/>
                <a:ext cx="1989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4788000" y="2995560"/>
                <a:ext cx="2206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364000" y="3860640"/>
                <a:ext cx="23767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219640" y="4653000"/>
                <a:ext cx="32497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±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7020000" y="1052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859280" y="1844640"/>
                <a:ext cx="16272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877080" y="2060640"/>
                <a:ext cx="9381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1828800"/>
            <a:ext cx="76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značení definovaných veličin odpovídá označení v MFCHT:</a:t>
            </a:r>
            <a:br>
              <a:rPr sz="3200"/>
            </a:b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trana 29, Vzorce finanční aritmetik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787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ŘEŠENÉ  PŘÍKLADY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02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Na jakou částku vzroste vklad 30 000,- Kč 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5 let při 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3"/>
              <p:cNvSpPr txBox="1"/>
              <p:nvPr/>
            </p:nvSpPr>
            <p:spPr>
              <a:xfrm>
                <a:off x="1116000" y="5229360"/>
                <a:ext cx="1808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3312720" y="3573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7440" y="3573360"/>
            <a:ext cx="24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3"/>
              <p:cNvSpPr txBox="1"/>
              <p:nvPr/>
            </p:nvSpPr>
            <p:spPr>
              <a:xfrm>
                <a:off x="2916360" y="5229360"/>
                <a:ext cx="26604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5580000" y="5300640"/>
                <a:ext cx="2482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22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635280" y="90792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8026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Stroj ztrácí opotřebením každoročně 5 % své ceny. Jaká bude jeho cena za 10 let, když původně stál 11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1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3"/>
              <p:cNvSpPr txBox="1"/>
              <p:nvPr/>
            </p:nvSpPr>
            <p:spPr>
              <a:xfrm>
                <a:off x="1116000" y="5373720"/>
                <a:ext cx="1809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457080" y="2997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1800" y="2997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95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23"/>
              <p:cNvSpPr txBox="1"/>
              <p:nvPr/>
            </p:nvSpPr>
            <p:spPr>
              <a:xfrm>
                <a:off x="2843280" y="5445000"/>
                <a:ext cx="2732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3"/>
              <p:cNvSpPr txBox="1"/>
              <p:nvPr/>
            </p:nvSpPr>
            <p:spPr>
              <a:xfrm>
                <a:off x="5580000" y="5445000"/>
                <a:ext cx="2484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8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1908000" y="765000"/>
            <a:ext cx="9352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0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30 000,- Kč při 1,7 % p.a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30 0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,7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3"/>
              <p:cNvSpPr txBox="1"/>
              <p:nvPr/>
            </p:nvSpPr>
            <p:spPr>
              <a:xfrm>
                <a:off x="1042920" y="5157720"/>
                <a:ext cx="15256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3"/>
              <p:cNvSpPr txBox="1"/>
              <p:nvPr/>
            </p:nvSpPr>
            <p:spPr>
              <a:xfrm>
                <a:off x="4427640" y="5518080"/>
                <a:ext cx="2697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 833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3"/>
              <p:cNvSpPr txBox="1"/>
              <p:nvPr/>
            </p:nvSpPr>
            <p:spPr>
              <a:xfrm>
                <a:off x="2556000" y="5230800"/>
                <a:ext cx="18446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7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367308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57800" y="378936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17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16000" y="1413000"/>
            <a:ext cx="1295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Kolik by musel dnes stát přístroj, jehož hodnota by po 15 letech byla 100,-Kč? Odpisy činí 14 % p.a.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5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100,- Kč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1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3"/>
              <p:cNvSpPr txBox="1"/>
              <p:nvPr/>
            </p:nvSpPr>
            <p:spPr>
              <a:xfrm>
                <a:off x="1116000" y="5084640"/>
                <a:ext cx="152568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3528360" y="378936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13440" y="378936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6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23"/>
              <p:cNvSpPr txBox="1"/>
              <p:nvPr/>
            </p:nvSpPr>
            <p:spPr>
              <a:xfrm>
                <a:off x="2627280" y="5157720"/>
                <a:ext cx="1596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6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3"/>
              <p:cNvSpPr txBox="1"/>
              <p:nvPr/>
            </p:nvSpPr>
            <p:spPr>
              <a:xfrm>
                <a:off x="4211640" y="5373720"/>
                <a:ext cx="19861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1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5292720" y="1341360"/>
            <a:ext cx="1224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5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se jistina ztrojnásobí při 2,4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3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,4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511360"/>
                <a:tab algn="l" pos="62784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3"/>
              <p:cNvSpPr txBox="1"/>
              <p:nvPr/>
            </p:nvSpPr>
            <p:spPr>
              <a:xfrm>
                <a:off x="3203640" y="4365720"/>
                <a:ext cx="213840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3"/>
              <p:cNvSpPr txBox="1"/>
              <p:nvPr/>
            </p:nvSpPr>
            <p:spPr>
              <a:xfrm>
                <a:off x="1042920" y="4365720"/>
                <a:ext cx="227664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3"/>
              <p:cNvSpPr txBox="1"/>
              <p:nvPr/>
            </p:nvSpPr>
            <p:spPr>
              <a:xfrm>
                <a:off x="5292720" y="5084640"/>
                <a:ext cx="1967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3"/>
              <p:cNvSpPr txBox="1"/>
              <p:nvPr/>
            </p:nvSpPr>
            <p:spPr>
              <a:xfrm>
                <a:off x="7246800" y="5373720"/>
                <a:ext cx="18972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6708960" y="623736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(46 let a 4 měsíc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57080" y="31417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42160" y="3141720"/>
            <a:ext cx="26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1,024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24210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67560" y="21337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98920" y="234936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67560" y="26384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836640"/>
            <a:ext cx="1728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6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jak dlouho klesne hodnota stroje o čtvrtinu při každoročních odpisech 20 %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784520"/>
            <a:ext cx="249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75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20 % p.a.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3"/>
              <p:cNvSpPr txBox="1"/>
              <p:nvPr/>
            </p:nvSpPr>
            <p:spPr>
              <a:xfrm>
                <a:off x="971640" y="4540320"/>
                <a:ext cx="22762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3673080" y="33163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7800" y="3316320"/>
            <a:ext cx="250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0,80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2396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00640" y="230832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4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2452680"/>
            <a:ext cx="152640" cy="720720"/>
          </a:xfrm>
          <a:custGeom>
            <a:avLst/>
            <a:gdLst>
              <a:gd name="textAreaLeft" fmla="*/ 0 w 152640"/>
              <a:gd name="textAreaRight" fmla="*/ 55080 w 152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00640" y="281304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3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3"/>
              <p:cNvSpPr txBox="1"/>
              <p:nvPr/>
            </p:nvSpPr>
            <p:spPr>
              <a:xfrm>
                <a:off x="3132000" y="4540320"/>
                <a:ext cx="265608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5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3"/>
              <p:cNvSpPr txBox="1"/>
              <p:nvPr/>
            </p:nvSpPr>
            <p:spPr>
              <a:xfrm>
                <a:off x="5724360" y="5261040"/>
                <a:ext cx="18288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3"/>
              <p:cNvSpPr txBox="1"/>
              <p:nvPr/>
            </p:nvSpPr>
            <p:spPr>
              <a:xfrm>
                <a:off x="7523280" y="5477040"/>
                <a:ext cx="1620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3276720" y="692280"/>
            <a:ext cx="10792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456840"/>
            <a:ext cx="779940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Rectangle 22"/>
          <p:cNvSpPr/>
          <p:nvPr/>
        </p:nvSpPr>
        <p:spPr>
          <a:xfrm>
            <a:off x="1116000" y="1125360"/>
            <a:ext cx="802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jakou částku vzroste za 4 roky hodnota jednorázového vkladu 40 000,- Kč při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6000" y="242100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1116000" y="2997360"/>
            <a:ext cx="12952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Rectangle 22"/>
          <p:cNvSpPr/>
          <p:nvPr/>
        </p:nvSpPr>
        <p:spPr>
          <a:xfrm>
            <a:off x="2050920" y="2997360"/>
            <a:ext cx="237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7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0 let klesla na pětinu své původní ceny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0,2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30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3"/>
              <p:cNvSpPr txBox="1"/>
              <p:nvPr/>
            </p:nvSpPr>
            <p:spPr>
              <a:xfrm>
                <a:off x="1092240" y="4610160"/>
                <a:ext cx="13636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3"/>
              <p:cNvSpPr txBox="1"/>
              <p:nvPr/>
            </p:nvSpPr>
            <p:spPr>
              <a:xfrm>
                <a:off x="1019160" y="5978520"/>
                <a:ext cx="28656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2496600" y="381780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2040" y="3817800"/>
            <a:ext cx="200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pokles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63880" y="2593800"/>
            <a:ext cx="38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bo zvol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 dopočtět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7800" y="2378160"/>
            <a:ext cx="20340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= 10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2522520"/>
            <a:ext cx="152280" cy="720720"/>
          </a:xfrm>
          <a:custGeom>
            <a:avLst/>
            <a:gdLst>
              <a:gd name="textAreaLeft" fmla="*/ 0 w 152280"/>
              <a:gd name="textAreaRight" fmla="*/ 5508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88160" y="2882880"/>
            <a:ext cx="18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66ff33"/>
                </a:solidFill>
                <a:latin typeface="Times New Roman"/>
              </a:rPr>
              <a:t> = 5,- Kč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3"/>
              <p:cNvSpPr txBox="1"/>
              <p:nvPr/>
            </p:nvSpPr>
            <p:spPr>
              <a:xfrm>
                <a:off x="2460600" y="461016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r>
                              <m:t xml:space="preserve">0,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3"/>
              <p:cNvSpPr txBox="1"/>
              <p:nvPr/>
            </p:nvSpPr>
            <p:spPr>
              <a:xfrm>
                <a:off x="3971880" y="4897440"/>
                <a:ext cx="12128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g>
                      <m:e>
                        <m:r>
                          <m:t xml:space="preserve">0,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3"/>
              <p:cNvSpPr txBox="1"/>
              <p:nvPr/>
            </p:nvSpPr>
            <p:spPr>
              <a:xfrm>
                <a:off x="5195880" y="4970520"/>
                <a:ext cx="139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3"/>
              <p:cNvSpPr txBox="1"/>
              <p:nvPr/>
            </p:nvSpPr>
            <p:spPr>
              <a:xfrm>
                <a:off x="3900600" y="5978520"/>
                <a:ext cx="2414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3"/>
              <p:cNvSpPr txBox="1"/>
              <p:nvPr/>
            </p:nvSpPr>
            <p:spPr>
              <a:xfrm>
                <a:off x="6276960" y="5905440"/>
                <a:ext cx="2092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2484360" y="1197000"/>
            <a:ext cx="100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8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ou úrokovou míru poskytuje banka, když vklad 25 000,- Kč vzrostl za 8 let na hodnotu 98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cs-CZ" sz="30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25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38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98 000,- Kč</a:t>
            </a:r>
            <a:r>
              <a:rPr b="0" lang="cs-CZ" sz="19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8 let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247644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30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3"/>
              <p:cNvSpPr txBox="1"/>
              <p:nvPr/>
            </p:nvSpPr>
            <p:spPr>
              <a:xfrm>
                <a:off x="1042920" y="4581360"/>
                <a:ext cx="13636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3"/>
              <p:cNvSpPr txBox="1"/>
              <p:nvPr/>
            </p:nvSpPr>
            <p:spPr>
              <a:xfrm>
                <a:off x="971640" y="5948280"/>
                <a:ext cx="28652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45600" y="3746520"/>
            <a:ext cx="72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31400" y="3746520"/>
            <a:ext cx="193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= ? (nárůs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23"/>
              <p:cNvSpPr txBox="1"/>
              <p:nvPr/>
            </p:nvSpPr>
            <p:spPr>
              <a:xfrm>
                <a:off x="2411280" y="4581360"/>
                <a:ext cx="16970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8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3"/>
              <p:cNvSpPr txBox="1"/>
              <p:nvPr/>
            </p:nvSpPr>
            <p:spPr>
              <a:xfrm>
                <a:off x="4140360" y="4941720"/>
                <a:ext cx="1303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3851280" y="6021360"/>
                <a:ext cx="2351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3"/>
              <p:cNvSpPr txBox="1"/>
              <p:nvPr/>
            </p:nvSpPr>
            <p:spPr>
              <a:xfrm>
                <a:off x="6156360" y="5950080"/>
                <a:ext cx="2254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% 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2843280" y="1197000"/>
            <a:ext cx="115236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295280"/>
            <a:ext cx="7802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PŘÍKLADY  NA 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914400" y="45720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9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vzroste vklad 25 000,-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8 let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0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troj ztrácí opotřebením každoročně 15 % své ceny. Jaká bude jeho cena za 5 let, když původně stál 150 000,- Kč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jakou částku by vzrostlo 1 000,- Kč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a 50 let při 4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152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0 460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5943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033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6 556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2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částku musíme dnes uložit, aby nám vzrostla za 10 let na 150 000,-Kč při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 1,2 % p.a., b) 2,3 % p.a., c)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3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50 000,-Kč na 200 000,-Kč při a) 1,0 % p.a., b) 2,1 % p.a., c) 3,2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4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se jistina zdvojnásobí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ři 3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3 133,- Kč, b) 119 491,- Kč , c) 106 338,- Kč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 let a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) 139 let a 4 měsíce, b) 66 let a 8 měsíců, c) 44 le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5.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polovinu při každoročních odpisech 10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ceny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6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třetinu své původní hodnoty při 3,0 % p.a.?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7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klesne hodnota stroje na třetinu při každoročních odpisech 12 %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088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1752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6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8 let a 7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3962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 let a 9 měsíc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6040" indent="0">
              <a:lnSpc>
                <a:spcPct val="12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8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a jak dlouho vzroste jistina o 35 % své původní hodnoty při 2,5 % p.a.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9.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é jsou každoroční odpisy stroje, když jeho cena za 3 roky klesla o čtvrtinu své původní ceny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716040" indent="0">
              <a:lnSpc>
                <a:spcPct val="120000"/>
              </a:lnSpc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0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akou úrokovou míru by musel poskytovat bankovní ústav, když by se hodnota našeho vkladu za 6 let měla ztrojnásobit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 let 2 měsí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0" y="6095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0,09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9,14 % p.a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4360" y="549360"/>
          <a:ext cx="8064360" cy="4167000"/>
        </p:xfrm>
        <a:graphic>
          <a:graphicData uri="http://schemas.openxmlformats.org/drawingml/2006/table">
            <a:tbl>
              <a:tblPr/>
              <a:tblGrid>
                <a:gridCol w="1079280"/>
                <a:gridCol w="849240"/>
                <a:gridCol w="663840"/>
                <a:gridCol w="815760"/>
                <a:gridCol w="538200"/>
                <a:gridCol w="733320"/>
                <a:gridCol w="863640"/>
                <a:gridCol w="419400"/>
                <a:gridCol w="574560"/>
                <a:gridCol w="720720"/>
                <a:gridCol w="806400"/>
              </a:tblGrid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556000" y="3500280"/>
            <a:ext cx="7776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219560"/>
            <a:ext cx="110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4221000"/>
            <a:ext cx="914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22100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3500280"/>
            <a:ext cx="776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221000"/>
            <a:ext cx="93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3500280"/>
            <a:ext cx="581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4219560"/>
            <a:ext cx="538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421956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85080" y="4219560"/>
            <a:ext cx="934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4360" y="3500280"/>
            <a:ext cx="7779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3500280"/>
            <a:ext cx="621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500280"/>
            <a:ext cx="5461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27640" y="4221000"/>
            <a:ext cx="4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933720"/>
            <a:ext cx="708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79280" y="5013360"/>
                <a:ext cx="84250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6" name="Rectangle 22"/>
          <p:cNvSpPr/>
          <p:nvPr/>
        </p:nvSpPr>
        <p:spPr>
          <a:xfrm>
            <a:off x="179280" y="57340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uložená částka na hodnotu 58 564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2280"/>
            <a:ext cx="8064360" cy="792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440" y="23493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vkla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700280"/>
            <a:ext cx="39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1700280"/>
            <a:ext cx="3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700280"/>
            <a:ext cx="3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1700280"/>
            <a:ext cx="397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úroků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2195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105264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88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42195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005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221000"/>
            <a:ext cx="692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5493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4221000"/>
            <a:ext cx="576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422100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5640" y="422100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4005360"/>
            <a:ext cx="649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422100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složen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1116000" y="1341360"/>
                <a:ext cx="14652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2556000" y="1125360"/>
                <a:ext cx="1439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3995640" y="1125360"/>
                <a:ext cx="17636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1114560" y="2773440"/>
                <a:ext cx="15602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2700360" y="2205000"/>
                <a:ext cx="39974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211640" y="1125360"/>
            <a:ext cx="15112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2198520"/>
            <a:ext cx="2158920" cy="1295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2700360" y="3490920"/>
                <a:ext cx="2970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651640" y="3422520"/>
                <a:ext cx="19447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1116000" y="5157720"/>
                <a:ext cx="15638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ú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142" name=""/>
          <p:cNvCxnSpPr>
            <a:stCxn id="137" idx="3"/>
            <a:endCxn id="138" idx="3"/>
          </p:cNvCxnSpPr>
          <p:nvPr/>
        </p:nvCxnSpPr>
        <p:spPr>
          <a:xfrm>
            <a:off x="5736960" y="1522440"/>
            <a:ext cx="937080" cy="1324800"/>
          </a:xfrm>
          <a:prstGeom prst="curvedConnector5">
            <a:avLst>
              <a:gd name="adj1" fmla="val 122867"/>
              <a:gd name="adj2" fmla="val 49986"/>
              <a:gd name="adj3" fmla="val 122867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050920" y="2773440"/>
            <a:ext cx="6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2771640" y="4437000"/>
                <a:ext cx="43293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2627280" y="1844640"/>
            <a:ext cx="1584360" cy="936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2771640" y="5734080"/>
                <a:ext cx="31496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5867280" y="5734080"/>
                <a:ext cx="19195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nejen z původní jistiny, ale také z předešle připsaných úroků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125360"/>
            <a:ext cx="29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úročení 1. vkladu je stejné jako u jednoduchého úrokov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0520"/>
            <a:ext cx="151308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19852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08000" y="21985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7956720" y="6237360"/>
                <a:ext cx="3585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195640" y="3357720"/>
                <a:ext cx="34750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6"/>
              <p:cNvSpPr txBox="1"/>
              <p:nvPr/>
            </p:nvSpPr>
            <p:spPr>
              <a:xfrm>
                <a:off x="2268360" y="189000"/>
                <a:ext cx="2321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7"/>
              <p:cNvSpPr txBox="1"/>
              <p:nvPr/>
            </p:nvSpPr>
            <p:spPr>
              <a:xfrm>
                <a:off x="2195640" y="1052640"/>
                <a:ext cx="26524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8"/>
              <p:cNvSpPr txBox="1"/>
              <p:nvPr/>
            </p:nvSpPr>
            <p:spPr>
              <a:xfrm>
                <a:off x="2195640" y="1989000"/>
                <a:ext cx="2700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1"/>
              <p:cNvSpPr txBox="1"/>
              <p:nvPr/>
            </p:nvSpPr>
            <p:spPr>
              <a:xfrm>
                <a:off x="2411280" y="3068640"/>
                <a:ext cx="184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8"/>
          <p:cNvSpPr/>
          <p:nvPr/>
        </p:nvSpPr>
        <p:spPr>
          <a:xfrm>
            <a:off x="1187280" y="5589720"/>
            <a:ext cx="76201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složeném úrokování roste jistina exponenciálně (rychle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633600" y="2154600"/>
            <a:ext cx="417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3789360"/>
            <a:ext cx="31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kvocient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339840"/>
            <a:ext cx="603000" cy="4168800"/>
          </a:xfrm>
          <a:custGeom>
            <a:avLst/>
            <a:gdLst>
              <a:gd name="textAreaLeft" fmla="*/ 29160 w 603000"/>
              <a:gd name="textAreaRight" fmla="*/ 573840 w 603000"/>
              <a:gd name="textAreaTop" fmla="*/ 29160 h 4168800"/>
              <a:gd name="textAreaBottom" fmla="*/ 4139640 h 4168800"/>
            </a:gdLst>
            <a:ahLst/>
            <a:rect l="textAreaLeft" t="textAreaTop" r="textAreaRight" b="textAreaBottom"/>
            <a:pathLst>
              <a:path w="21600" h="149254">
                <a:moveTo>
                  <a:pt x="3600" y="0"/>
                </a:moveTo>
                <a:arcTo wR="3600" hR="3600" stAng="16200000" swAng="-5400000"/>
                <a:lnTo>
                  <a:pt x="0" y="145654"/>
                </a:lnTo>
                <a:arcTo wR="3600" hR="3600" stAng="10800000" swAng="-5400000"/>
                <a:lnTo>
                  <a:pt x="18000" y="149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763640" y="256536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48000" y="3068640"/>
            <a:ext cx="1584360" cy="792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3862440"/>
            <a:ext cx="432000" cy="148428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484280"/>
              <a:gd name="textAreaBottom" fmla="*/ 1463400 h 1484280"/>
            </a:gdLst>
            <a:ahLst/>
            <a:rect l="textAreaLeft" t="textAreaTop" r="textAreaRight" b="textAreaBottom"/>
            <a:pathLst>
              <a:path w="21600" h="74170">
                <a:moveTo>
                  <a:pt x="3600" y="0"/>
                </a:moveTo>
                <a:arcTo wR="3600" hR="3600" stAng="16200000" swAng="-5400000"/>
                <a:lnTo>
                  <a:pt x="0" y="70570"/>
                </a:lnTo>
                <a:arcTo wR="3600" hR="3600" stAng="10800000" swAng="-5400000"/>
                <a:lnTo>
                  <a:pt x="18000" y="741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3645000"/>
            <a:ext cx="1368360" cy="907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4076640"/>
            <a:ext cx="674640" cy="1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1415880" y="4665600"/>
                <a:ext cx="3073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708360" y="455436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2637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mortizace majetku (odpis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2880" y="1700280"/>
            <a:ext cx="7970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yjadřuj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potřebení příslušné položky dlouhodobého majetku v důsledku používání (fyzický odpis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073160" indent="-35712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používání“ – zastarávání (morální odpis) tohoto maje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7120" indent="-35712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 určí obdobně jako nárůst hodnoty – ale naopak z původní ceny odečítáme hodnotu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ÚROČITEL, ozn. </a:t>
            </a:r>
            <a:r>
              <a:rPr b="0" i="1" lang="cs-CZ" sz="3600" spc="-1" strike="noStrike" u="sng">
                <a:solidFill>
                  <a:srgbClr val="ffff00"/>
                </a:solidFill>
                <a:uFillTx/>
                <a:latin typeface="Times New Roman"/>
              </a:rPr>
              <a:t>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9280" y="980640"/>
            <a:ext cx="716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kvocient GP pro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nárůst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úročení vklad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řipisujeme úrok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ú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okles hodno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mortizace majetku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873000" indent="-4158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pisujeme odpisy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867280" y="1579680"/>
                <a:ext cx="2359080" cy="10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5940360" y="3019320"/>
                <a:ext cx="2322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1187280" y="46530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elikost jistiny za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úrokovacích období pro nárůst i pokles hodnoty tak můžeme zapsat zjednodušeně pomocí hodnoty úročitel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59280" y="1844640"/>
            <a:ext cx="9367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3213000"/>
            <a:ext cx="93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5940360" y="5661000"/>
                <a:ext cx="25923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72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Ze základního vzorc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terý vyjadřuje velikost jistiny p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letech,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odvodím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obecné vztahy pro výpočet velikostí veličin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áteční jistina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čet let, po které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901800" indent="-44460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ová míra, kterou se jistina úročí, </a:t>
            </a:r>
            <a:r>
              <a:rPr b="0" i="1" lang="en-US" sz="2800" spc="-1" strike="noStrike">
                <a:solidFill>
                  <a:srgbClr val="66ff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ZORC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7:25Z</dcterms:modified>
  <cp:revision>97</cp:revision>
  <dc:subject/>
  <dc:title>ÚROKOVÁNÍ</dc:title>
</cp:coreProperties>
</file>