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849E-3ECB-4736-A774-94E8F992BB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9C2-A77D-45D3-98F2-108944DFB46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8836-4E09-4410-99CD-D472D26BEE3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6C79-FD5B-435A-9A73-6550C925C1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658B-7C5B-4DEF-878D-7DB1228196D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96C1-4768-4B8A-A97A-127E1E6F82F1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E508-AA22-423C-86A7-B18DFBEDACFD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7B92-0E32-4C0E-9E43-4DA36819C8D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1A77-C877-4693-A611-B01C5C8E535B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B5D-0370-4E9B-B7F2-072D256EAD1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5B49-9B33-4E35-B6CB-BA01949CD91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50B-AD92-4878-8571-8AACD306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385-3782-49CD-B47D-897F9A0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04ADA-CB52-487B-A378-CA2D5E8D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0A31C-37DB-4184-B466-45769719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6D471-76A6-4496-A932-717C902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D4AD9-6AB9-4A27-8C7A-B52485ED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866DB-6E68-44F0-98ED-30EFBA8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15CE7-746E-4AD6-91A0-F5B767C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46752-EF25-49CC-ABDF-01BB42F9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0EF4B-00C7-41D9-8C6E-73C4E7FC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8428A-ADAD-4792-A375-228BDBF2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71F7A-929A-4FF3-B7E4-347B2825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73F-3C76-4239-91CB-88ADF214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B224C-47D8-43CF-965F-98E6F815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DF644-676C-43DB-BE8E-F7DDFBDE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32197-F9E6-48E6-84BE-D9B8B96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747ED-A529-4A5A-BF97-8F5CD26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0BDE7-21BD-4D72-A69F-A68AE3E0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4146C-916C-4007-8F02-F2BF980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A9089-8865-4197-91AC-CEE46BAA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F9C10-65BA-42EA-86B6-16C8654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B15C8-529C-45A7-8613-DB9A09AC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AD939-B7EC-47E8-8F77-9E808A2F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02A-48F1-479C-96B1-ECF1ED67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516D7-AFB7-482F-AEF5-25647D7A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D821C-24ED-401E-80DB-C85630F9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10981-66CF-40E2-A9FF-39B9791D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5C491-0E84-4DC6-8052-23697517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9AB40-047E-401D-8213-05BA6A7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25F3E-EB6E-4788-8ECC-035CA92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C954A-6634-444D-B986-9E00D7BB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E49BC-CDA4-446E-9E14-24EA8E1C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8674E-8B0E-4064-A34F-E0DFA9F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9BE05-94B5-4CAF-9D5B-ADB51E4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F0D0-0AE4-48C0-8768-3A53A12A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8DCED-744F-47FD-8C43-25A983EC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39D8-48CD-4692-AAC7-B83DB15E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9CA47-3816-4BF4-A947-D15B7411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DC570-5926-4302-A57D-DCA615D6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75194-01C6-4BC7-93A2-FFC01321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2C14D-2F4C-4DE5-BB7C-06A6B5EE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25180-CCC0-42A6-BA84-69FCAE0E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0C5A3-450E-45B2-A3F7-82A6BCB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C155E-1E64-40F5-AEFF-32A433D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62F7D-DC11-472C-8050-C06FB21C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4E65-227F-445C-A5B9-E8583E72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70776-08F1-4281-8912-36AFD788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F9563-12B6-46D3-AED1-156F6C4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CCD4A-1C04-4A96-98A9-87E74DC3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57A31-46F3-4F8D-A380-9471049F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F9343-D22C-4D96-8946-E4BF4745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734F6-1010-40CD-A00B-E2D467DA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B0AA3-5EC4-43FC-BBE1-1494551E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FC420-6D6B-4F9B-9282-0E1A70B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8C401-6774-4EB2-BA32-70BAF6A9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5A431-AE9E-4E72-BEE8-F3E49E97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0EE-29F6-4651-80FF-B0906491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044F6-1CAF-4AF5-9098-1E071A62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B6C7D-FA2E-44E2-BA58-E9CA37AE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A073F-864E-40E9-AA03-25BACD4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DE478-5541-4D4C-BCBD-53DFFC8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4A137-5C35-4286-B441-60DED58C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8EB25-E1F2-4B25-9FCD-432997DB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0DCC1-F988-4BB1-901C-28ED9F15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A4980A-1219-464A-BEE3-5E52C1AE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1A699D-A119-40A0-A13E-1F63F957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E01B8E-EEE2-496E-90BC-E7A2728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A66D-6EB3-4B0C-9C27-077E92B6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B3F58D-DF80-4B13-9061-C1640268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361767-2855-42DE-8F57-ADA8FAFA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EB86BD-F06C-4675-BAA5-407D71EF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793DD3-8730-4015-A0F0-89917E4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39E120-38F7-48AE-862A-96199223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1C08E8-E662-46F2-BFC5-EDB1D4F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3A0521-60A3-496B-B367-5B514CD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279007-3DBE-4A7E-AF82-92635AAE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D29EBA-0E9A-4C77-8FFD-707DA47C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9BDE3-847D-4CD8-8DB7-085538E9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688E-51AC-4EAB-B008-DEB67329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ABAECA-C0C8-4CE2-8D59-38FEE2B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A0060-F7B5-4CAE-AD01-0D61418E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69C29-54F3-4BAE-ACC2-C1C1EFED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3548A-6629-4B71-92E8-43F41F1A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0803E-E099-4C9E-9525-58952EA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82739-DB49-45E4-B363-ADBE8E8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B5B12-267C-4F77-B02A-7A715BD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1A4A8-0B0D-47F0-B3A7-13AFE56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1C921-6346-4A2F-ABF9-EE34C747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E1AE6-2606-4921-8328-749BFCA8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C9A3-5951-41B1-8809-A3FD9B43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C3C98-7267-49A0-8F13-47BE5144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88AE2-7C72-4244-9105-3D94B0B8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D00DA-4991-4E74-BC70-FDF5F063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A5E08-A6B9-4019-9C71-6C062970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D7CE3-04EB-4B17-A42D-CEE2BE40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BCF04-70E8-4701-BA18-DA2E694D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1F947-A93B-4679-8FA1-CF3FE88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318BA-DA72-4FCF-A2E4-A85E46F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BB02A-1AC8-4EF5-8E2E-ABF04425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C7240-0858-46FE-A3F1-9EFB05C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7F1C-7C73-41E0-9C37-021880FF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247E3-9897-4D65-A933-BC1589B9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D6941-321F-44CF-8D89-5E762AB9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76F3E-6C85-40C3-AF2C-82B45174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453EB-3712-45A2-9C4F-90377E87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7F6F8-B951-4B94-BFAC-80C79419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BAEC9-3AA6-4456-81FD-48B7EBE0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74C88-7B20-4B9D-85B9-EDEA295C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826F0-95B0-4CCD-B793-04A1D83E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D8165-891D-4BA7-85C3-94CA1E97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090D2-1956-4E72-91AE-126B667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098-F7FB-48EE-AF18-34E93278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071C-615E-4600-80A8-EB8F119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700F3-32B7-4921-8BAA-90CF7CC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EF1F9-3FEB-424C-BCED-4A95A33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51FAA-78F3-4C38-9D0E-0A758A3E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A7962-EA06-458D-BB13-9669785E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F02AE-EBF5-48FE-8BD2-06F5CD49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93192-7D3E-428E-8350-8F8FBB0B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CB167-EAC2-43F8-932A-0416D85B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FF470-C38D-45B6-BFAF-0F5CA89B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0E08A-319A-49AD-B56B-34040BD4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A89B3-4B44-4A1A-8C7B-9D449982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B23-25AA-48AC-853D-8975AFE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0ABB4-1147-4C81-9794-6AF0C60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11C50-F7D9-432D-B900-02739E7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DEBC9-18F9-428A-94E1-C0D040E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38DDC-9C07-4318-BBA4-160E1EC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AAB9E-DD2F-47AB-8A23-05450BA3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891F4-4D1C-4ECE-B428-B6A7F355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0FF00-61EC-4E57-8CF4-EE7E94C9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59DC9-66A2-4CF2-8A2A-85FD6F31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9E246-E154-428C-AED1-E2A5A364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2E191-BB82-4587-B250-2E95800C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6206-3D6F-4736-9FF8-E3AD728E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E6205-890E-4E1C-8707-D3803EA8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C4150D-0325-4768-AE29-ECB335AA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31A8D-E4B2-43DD-9CFE-C4356179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07034-A801-472C-9138-6297714E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E99CC-F729-4243-BC4D-765323D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0DA32-87CC-4464-BBEC-41ACDA11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43612-84BD-417B-B63C-9F1BD91A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6622F-3640-43E7-8690-D3FBC1A3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AF037B-A9B7-4BAF-AEEF-B55E13E5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6F930-8990-4EDA-B8BE-0DC50C14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CEFD-B18D-4B72-86AC-7F951571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ACD22-C589-4172-8366-F596332D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3489D-F8EC-49A3-B36C-B2FDD07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18F3F-536E-47DF-A311-C3933E7B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1F8AF-ECA5-4F25-8FA9-C90FE4A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4D7AD-EE67-488F-A76C-9F73931F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BEEFD-5EB5-41D9-8F3B-8DD1677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173A6-3967-4395-867A-4141DE7C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E22F6-42D7-4366-ACE0-AE7BEF3A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D03E4-049A-49ED-AE76-432218E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CC31F-E1E3-4487-A9DF-328CB0F2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716-00C8-423B-B54E-BB7D6203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63A99B-4E21-47EA-9EAD-9A51E902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DC274-1123-4099-9F2F-DD19CD81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98BB5-C1BD-4119-B776-D4CB982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7E3294-48DA-4E4B-8FFB-D8375DAA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350724-E1E0-4AA3-9D1B-399C42F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31EC2-FEA8-4C9A-8E1F-322B3B9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FBCE8-BB4D-43CE-A279-47D9DB98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90CDC-B69B-4E41-87AC-0E7C5289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2D95EF-B714-4D76-B324-02E89D7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D490B-740C-40B9-8DE3-41E93787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D6F6-CA7E-4908-A795-7FDF0542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7E63A-9129-4907-87DF-0911451E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E37C8-9666-4768-8426-F4B68228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9D094-5B2C-4112-B888-BBC4A57C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DEBBE-23DD-4A79-820E-ED0B0CDB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84169-B0FC-4116-9289-ABA1F578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BE0ABA-F375-4A22-9A15-5497EBA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B7435A-B6E8-4AA2-B4D6-B254AF4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D18C17-2A7D-494A-88F0-DC83070A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E20A71-4914-4165-9F50-BC09D2E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0D8F56-5167-4570-8FB0-721DF67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5A54-AF1D-4678-949A-F78F3FDF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B8456-5582-4429-83E1-60D8F53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80602C-0943-4D87-9E4E-774EF82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5CBD1E-F459-4E0B-9B4F-AA56059B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90FFED-A6A7-4311-9844-42BA3C17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D9B57-C304-48EB-9AF8-686AB97A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64CA9D-B4C9-41BE-A93D-CAC9EE75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749C5B-C140-4A27-BDCC-8FF13D33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9E321C-B480-45FA-B659-6B89A58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68601-2E23-4C59-B365-AA663A27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8B621E-0475-47E1-84BE-C45A8FDB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FC73-4575-4D65-B68B-5596868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F8C237-22E3-43FF-8EF0-F7117441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696441-261B-4387-BA2A-BFAD0E0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95213C-C76F-4945-9B18-BC0DA01B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816AF7-A9B4-4887-823D-ED1A6FA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6A1C97-ED04-49F0-B6BA-511CAA4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A3BCB1-6628-4963-BC48-11A7F9CA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B97DB-B57D-4B07-86C3-FEA27398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5CC212-FE54-4AAE-80BB-91F77AF3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A57CCC-8166-4345-A14E-08A538A9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F5C08A-85F6-484B-8C0F-8C36AE51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23D3-207D-47DB-AD1C-2562044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E6C603-7A0D-4FB3-BA06-9E8F4507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141F3F-FB4A-4106-871C-27E5DF11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1573C-8C39-4A14-A154-7639815C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5C1EA8-B647-46E3-8959-373E06C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FAC953-A914-46A8-8CF3-801DC14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A6874A-1857-47D8-8E35-1EAC312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25CDA8-3E8C-448F-B612-280218FB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24CE46-71B6-4428-B0BA-6A2006C4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21FC11-7A2A-4045-B0F0-94268609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8879F1-FAAA-445A-9673-DA5D2B4F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4634-8D68-4FF1-A9BF-C1A7A8B1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83DF9C-B1F6-4A24-8DE3-C2134726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4EE07D-B640-424C-92E4-0AB3FE27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48A315-DD0A-4A9F-8421-9033DF9F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0DA080-1A38-467F-8141-87825717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600A93-0809-41A3-B59F-30AEE694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B8D493-B7C3-47C7-A3DB-0F144FF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619221-981E-4BB4-B822-1313C70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E9B884-617D-4425-9403-CE69C40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171A31-2A82-4B2E-9A4E-01FAE22D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128510-E8D0-48A7-B1A9-F6116DAC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C0B-DA60-4B65-9676-8C67B864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EEE9-301A-4530-8FB3-5F1A9ED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E6D521-CD68-4F7F-82D0-F5807060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551769D-1C32-45F4-9026-291AD6A8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1E5DBEE-CBCC-4BE3-AEDB-A3CA56F0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9E3F55D-F39E-4270-955D-6D8DFAEC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7C5A85B-96BC-4246-9985-A77ED9F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8123998-D6CA-4E5E-898E-3487764D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F2E3F12-7F21-4B08-845F-8AEE607F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1CF84B3-96A3-4F3F-9F10-7DB33C4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124897-2F80-4926-BBD1-FEF7598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3AA9BB-6F9D-47A7-9E03-13AD752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C5F0-DAA5-4435-B56A-B7BD40D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F052162-ED8B-416D-A359-C6E80DFE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ADFE13-E8C9-47CD-971C-9C76C6B5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CB7A0C-4E98-4BE3-AA51-F1147D99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69B7-E074-41CD-9FC0-9F74A9D0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3B45-7573-4115-86D2-F86815D8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2951-6061-4C54-9A54-C3F1D990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D0A1-761C-422A-AB6C-633BD9E3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11A6-EE7F-4CC3-A69C-37B790C3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5897C-526B-42F5-AF65-D8081710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87C7-FE41-4BEF-9F4D-A3C097A8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596A-F35F-4CFD-AFD6-C428A885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614-D12D-48F5-A232-E1B96606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603F-A3F0-472D-9F8C-989E9E4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641E-1F3A-4C84-BC85-7C63B79A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BCFD-8551-4ECF-A4B0-82A3260C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4780-E09D-4386-9C63-F96D350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C39AA-C2BF-4E55-ACA6-8FE9867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BBBB-BB75-4EF3-9DAB-39F1348D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7751-DD51-4929-B220-2816030B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506C-03BA-4935-9777-AFAFCBB7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B7C6-95C7-4DBE-8547-9DBF39B0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6A546-F31B-42B6-BCF2-C878A8D0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879-9D43-4799-B7EB-5B5C8A0D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863F-7109-41BA-A77F-CFB106E9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E856D-A947-47A0-A97C-3ACD3F64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1CC2-8FD0-4703-B0FF-74982050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79C2-5116-4712-8779-658D5954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0F0E-8968-49D5-8D0E-A580C75B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88F1-DA13-4125-9D18-CB39B47E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473C-58C1-4699-8D08-469A85DB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A5FA0-6F19-4BA9-AF07-9EEA5146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CEC4-2AC8-44FA-A980-248AFA36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4934-161F-43FD-92FF-3FE6E950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49E-1D14-48D3-89A4-3D77EFB4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5E41A-E8A2-48B9-9110-B757EBB0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5779E-48A3-4FFF-8501-6A30DBF4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B9A1-B412-43E7-9373-75DE51F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F796-6024-4893-90AD-6FC36651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5DE14-7424-4683-8A70-9F54BEF0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D9239-E64A-4F11-9D46-F989DD4A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23D9-900E-4C8F-8EB3-BB0492BA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83DE-6C22-4893-A280-4F4CD480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B5687-3E72-4565-BF21-44D84C0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51565-7BED-4C7A-BEA2-0A73BC9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A25-4016-4D90-8453-C34B7AE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1C6C-CCD6-4EFF-BBAB-E7446108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BC92-C614-45F9-B7A3-8FB9EBA2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13065-916F-4884-BFC7-DBF37FA0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778FF-A0F6-4F1D-8FFA-B1CDAF4D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36972-8668-4E00-947A-DFA087EE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AFBC-C018-4DF1-8D7E-644EE28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FED43-F1FD-4D1B-B49E-DF0BCE81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C0AC7-FFDA-4529-BE55-5D142E77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BB601-1F0E-4528-860C-57FE9B12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BF3A-945B-4889-84AD-75B3C75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829-492E-4BA3-BE00-AA75A7A8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2972F-AF8D-4867-A03C-52D2AFB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D341-38DA-4FB9-9E43-21AF141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3E90-D06A-463B-8073-3E871990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8569-BED1-458E-B15A-72CD9DD0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B5353-C5C9-4628-882F-0763AD1F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2D210-ED57-4156-8ECD-4A7C22A9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1F3E-81C8-406E-B764-C6020722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8F24-FE88-4111-AA1B-3BC5762B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35958-05D4-4464-A7A8-258D4983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8F2F-05DE-4F2C-A039-42883AF3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3CB-C281-4678-AA88-9BF34E30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C84A-6018-495F-AF44-E9FB74FF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47685-0765-479B-85D2-5CA477D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1617-758E-4B09-A553-5CA123D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F34D2-A14A-4366-A58A-E3969D9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D988-49D2-4B24-8F32-1ACE33F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33883-59EA-4882-B393-A8C43652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20FC4-67F1-49BD-AFD6-A8A2A52D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AAF40-9744-400B-8FB2-BBD199E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A8B2E-468E-4149-8187-191F9F8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D7D23-6FF2-460B-BC96-64790FCA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7AC8-3BD5-4B45-A3D6-68CD245C872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1127-BD7B-43FA-B628-B781A5AD6A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C979-098D-4404-9594-D8C0276B32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A2E6-6220-4ECB-8C9B-7713316742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9D69-5328-4CD9-AA42-ED991D35B5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AAFE-3D0E-45AA-99CF-A7BB088C2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9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0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0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1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1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3EF-A660-44FB-A113-ED79CDD4E3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6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7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7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7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8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8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9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9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9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0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CF7F-31D6-4973-A584-D353BE1BE2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3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459-290D-4197-B849-288F26ED14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3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4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5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5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46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6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46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46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7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7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7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E9D8-B18B-4DD3-9A1F-28A9DF6AF3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2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3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3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4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4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55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5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5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6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0F8C-0244-4E83-93AD-86F793BBA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18D9-7392-4574-9FE8-949A791D9CB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1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2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2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2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3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3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4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4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4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4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65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E2B7-D00A-4333-AB0D-9CC51A4046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9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0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1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1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1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72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3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3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2850-6783-4911-80AD-7C49712F1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9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9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1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1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1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1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CF2E-21DB-49EE-9054-3FA1B037E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7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8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8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8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9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9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9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0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0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53C-5946-4AA8-A333-CCED9992F8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9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8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9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9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579-A6C8-49CB-BC01-31A8E0A97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4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5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5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6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6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6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7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7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7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07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7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8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308C-A7A2-47F6-8D65-AB741EE20F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3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4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14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5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5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5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5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6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6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6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6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17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 type="dt" idx="7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814A-23AA-462D-A7DA-0BFC240D57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 type="ftr" idx="7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681C-FBFF-4F78-80BB-98F23A35B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850F-310A-46EC-B739-3735B8E5A3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6D2-A4A4-41A1-8887-6DA81235F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07D0-37A8-40E4-B8E9-550A405424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EF5D-383E-43A6-9EF0-40262255A0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48C-C7DA-4309-A8AD-BC0C046641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600-3178-43F4-B69D-F8A7A42D5F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225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8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tržby,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Účtování provozních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Účtování výnosů – učtová sk. 6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55280" y="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1 – Tržby z prodeje dlouhodobého nehmotného a hmotného maje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prodáváme náš DHM a DNM, který prodáváme např. z důvodu nevyužití (pořídili jsme nové auto a staré prodám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podnik. vozidla – 3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stroje v hotovosti – 211/64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642 – Tržby z prodeje materiál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85800" y="1828800"/>
            <a:ext cx="769608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v případě prodeje materiálu (např. z důvodu nadměrného množství zásob materiálu, nebo v případě, že přecházíme na jinou výrobu a tento materiál se stává pro nás nepoužitelný atd.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Prodej materiálu – 3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PD – Prodej materiálu v hotovosti – 211/64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4 – Smluvní pokuty a úroky z prodlen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ento účet se používá tehdy, jestliže fakturujeme svým odběratelům smluvní pokutu a úroky z prodl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za nesplnění podmínek vyplývající z kupní smlouvy (např. neuhradili včas naši faktur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aV – Smluvní pokuta odběrateli – 311/6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6 – Výnosy z odepsaných pohledáve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í se zde úhrady pohledávek, které již byly odepsané (v minulosti jsme je již zaúčtovali do nákladů na účet 546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hrada od odběratele – 221/6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48 – Ostatní provozní výno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 tento účet účtujeme např. čerpání dotace na úhradu provozních nákladů (dotace na mzdu absolventa), výnosy z prodeje cenin, přebytky zásob při inventarizačních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 účtování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bytek na materiálu – 112/64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Dotace na mzdu absolventa – 346/648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Zaúčtuj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Smluvní pokuta odběrate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úD – Dotace na mzdu absolven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aV – Prodej vyřazeného au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PD – Prodej materiál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27Z</dcterms:modified>
  <cp:revision>24</cp:revision>
  <dc:subject/>
  <dc:title>Účtování výnosů</dc:title>
</cp:coreProperties>
</file>