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8FF-44EA-49F3-A111-10446A52D7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FE1-2BBA-48AA-B914-2173917213A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25B-9147-446A-808E-86FFF1F105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179B-11A0-48F7-86BD-63B3B2672B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7BA5-6B3F-4946-9EC9-CEEBDD520A8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1F9-4FC5-471A-8805-04DE078723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2FDE-2E79-4381-9411-32369DC454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F732-B5A3-446F-B812-C7E2419921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4972-9EAE-4D3F-8DA1-36F295CCE8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6766-CEF2-4FF9-A10A-E7676D590D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5A91-AD90-43ED-99F5-761E7932C7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09FD-8E97-4A36-A71F-FF75F3761E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F0E-D546-4C8B-B203-569AB4FB64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674-4ADC-4794-9035-A5FAA391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879-6A97-47D4-B93A-7CE63EAF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A95-37D9-4B49-9D1C-C987E83D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BC1-9BC7-428A-8FCD-B6157DCB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9D9-4BED-4714-92D3-0E62C4DF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5D5-B9F1-41CD-A9D6-6F9D2DA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506-0791-4B53-A871-4BE7054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880-4669-49D2-ACE7-CA3F1A6D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C37-54CB-4F76-B135-7E2B2A58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465-1F58-454D-8642-56793D9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842-CC23-4D2E-9838-69779B8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534-65DD-44A4-A245-B680710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2AB6-44F9-476D-B9DF-9F99F947423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8 – Ostatní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ek na stravování, který převyšuje 55 % z hodnoty stravné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– 528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zaměst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hrubé mzdy společ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Zákonné soc. a zdr.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do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íspěvek na stravování nad 5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hrubá mzda, sociální pojištění, sociální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1 – Mzdové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(zaměstnancům) ze závislé či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zaměstnanců – 521/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0033"/>
                </a:solidFill>
                <a:latin typeface="Times New Roman"/>
              </a:rPr>
              <a:t>522 – Příjmy společníků a členů družstva ze      závislé činnost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přiznanou hrubou mzdu ze závislé činnosti společníkům (pracující ve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hrubá mzda společníků – 522/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4 – Zákonné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zdravotní a sociální pojištění, které je povinen hradit zaměstnavatel za své zaměst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edpis soc. a zdrav. poj. – 524/3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soc. a zdrav. poj. – 33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5 – Ostatní sociální pojiště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apř. příspěvky na penzijní připojištění a zdravotní pojištění, které zaměstnavatel poskytuje svým zaměstnanc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330033"/>
                </a:solidFill>
                <a:latin typeface="Times New Roman"/>
              </a:rPr>
              <a:t>526 – Sociální náklady individuálního podnikate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í se zde náklady na zdravotní a sociální pojištění podnika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účet používá OSV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bú – odvod zdrav. poj. za OSVČ – 526/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27 – Zákonné sociální nákla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ento účet účtujeme náklady, které byly vynaloženy za účelem vytvoření pracovních a sociálních podmínek a péče o zdraví zaměstnanc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 se např. o příspěvek na stravování       (a to do výše 55 % z hodnoty strav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vydání stravenek zaměstnancům -  527/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55Z</dcterms:modified>
  <cp:revision>16</cp:revision>
  <dc:subject/>
  <dc:title>Účtování nákladů</dc:title>
</cp:coreProperties>
</file>