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889B-BB0A-438A-9E06-CE14A4326D6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4D33-CF44-4324-979C-DC84A0B0C96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D185-D821-47BF-9689-5D5A361E293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02E5-34EC-41CB-A062-F0B46DCBF7E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CDFF-D6BD-4388-84E2-98F7CB4ADBD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30DF-A709-4C7D-B219-97E7DB956AC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51B5-34CC-4DD6-8AD6-0042FE59253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9FE3-4142-4119-8ED4-27D8AE6E0B6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6BB8-4FAD-4E1A-AED5-92168600971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6A43-9FD8-4035-9F3D-DEAB74141FA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C149-C235-4DD9-8496-9D1D7D513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3D5C-9007-4650-9EFE-8191897F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471FBA-A634-47E1-A129-220927E8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168742-A62B-47C6-8289-1143BCD6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A66532-5ECE-45B4-80E7-F7AE1270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A40E54-744F-41BE-996F-8C259E79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91078A-EFB4-4FD3-9E91-E090575A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3F6997-610A-4B07-9BA3-C0E09EE0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B60C28-2D5E-47E7-AC83-6AFC55E8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CBD8E9-BDAB-4C61-8D88-9091C78F2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1A00D3-FBE6-4AF6-984C-9DE8836E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C8B702-DB26-4492-9462-DCC2834C0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D65F-1A59-4387-A6D0-EC7A6B603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378290-1EB6-45C5-8798-5E6B278B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97C9D-7A5A-431B-8066-F6594A6D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CBBFE-52C5-4852-B32D-A22798F1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D1F06-7ECC-445A-8FE0-ECE7C41F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22A87-DABF-405E-89D4-C534FC42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6394D-16F1-426C-B872-15C1D68C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48705C-B0BC-4A16-8E01-4C255286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AF552-22EC-48C6-B1A4-169D186B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A353D-F51C-414B-8320-C0CF5570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65AB3-9C6C-43AD-BE20-FA7CDCD6E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1CB3-61CF-4CC7-AB45-DDAE54AA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1EF64-2029-4338-84A9-4A00E1014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D4F1-586C-449C-9542-1CD14D22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DED1-1F15-4205-8976-A8343DF5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8F67-BC72-4777-88DB-8F8C929E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D19E-2162-44F7-8E2E-539E3168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AEB7-3D4F-4C3C-940E-0B943A8D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0AF0-2481-41DF-ACC2-F8C5F80D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6AAF-BD42-4AA6-A774-CD900427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D47A-6E60-487F-8494-B4C195AE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FD73-E9A6-4DBA-A5C3-830B5A06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520B-82E9-485E-A039-DCC07CE5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0EEB-17A3-4D05-A9F4-EBD0D96C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BF06-2CE1-4DE8-8C61-B2A9C7AB4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FC5E-482B-4ECD-BD2F-75E66FF06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316D5-E110-4D48-B7AD-3B443D28F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80A5D-B59B-4BC0-9E99-08007D17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85D74-8DF2-4923-A43A-D79C2316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E05F8-1D3F-4114-B293-1FF6DB68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9EB4A-B07B-4B84-9BFD-B926513F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2C52-AAF3-43BB-B6E9-8D85D294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BB92A-979D-4C0F-AC8F-AC0F13D2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95307-C9E6-4C5E-9413-045061B0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C8425-93A8-48EF-8864-C9F4DDD1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B9AA6-E382-41FA-82BE-5D2417C6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3984E-4A95-4DF8-9A16-C176BE98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93873-27E5-491E-B6EE-CCC80FC4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2E4F0-C4CE-428D-A548-68EA416B7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9CF15-A52F-4922-B6F2-FEB09E006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BAB88-F71E-4181-A6F2-F30F5E62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74838-35ED-4C9D-857D-77BF405F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0DE1-EE96-4519-944D-66697493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18D61-A221-4C65-9698-5879F9F9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8190A-E620-4F3D-A2CF-52CD03B1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43D60-275D-46FF-BC8A-3EC2E2AA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EA113-C139-4424-8307-60FCD24F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EA087-6E12-4EF5-AC97-133465C7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8C6FA-523D-4BBB-B9BE-93BED388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A7BE2-F863-461B-96BD-82D9978B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A097A-E8D2-4529-8B18-290EDFB5C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82119-837F-4B64-A85B-7BCAD4EFA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1B834-4ED0-4D0C-AEEE-26C813773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4B32-9384-4C07-A12D-7F4748DF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17EF1-406D-4D9A-95EB-541AB60A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D8C0A-ABA9-4AE1-A6A8-02B4BAE7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D3750-6820-4776-88EC-3FE4813D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5612E-724C-4C70-A3EC-34F21537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1BBBC-BB9A-4276-8D09-AB0F2C64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A7DAA-DD8E-4933-AD6B-E5ABC149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B4B8E-6D26-4113-9F41-7062CB00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060FA-A42D-4002-994D-C55E32DE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95C1E-0442-4D1F-A95B-B436D07A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6A3B2-247E-4393-BB9C-684C5C632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308D-F149-4C3C-8293-22EA6F33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0070C-7483-49A2-A36F-EB0CB63A0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58A0C-3470-41FC-A7DD-A90063B90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DDC81-A09E-437A-B969-99E48E35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17003-A882-4E91-8420-336E5CC6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9144C-C40F-4AE9-B39B-05D2FBAE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C9351-D13E-4C56-BCEA-7639F0D4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52942-CE54-4CE2-9340-E06D9B62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51A0C-1CF9-4B4B-A29E-01BD26C0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A056D-090C-4EC9-A177-702A8A21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A82C4-2B2E-40FF-8C47-09A0A1D5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5D6C-D937-4B67-B469-7B117EC7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0F21F-C1A8-488A-937E-43C23243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BB97D-49B6-4A28-915C-D06B3A81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A5C8E-EA35-42C2-B477-02A98E204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487966-EA86-4FF6-BADE-34805C7A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C4435D-FE96-4F70-A5D3-9E13FEE8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59D24D-988C-4898-B0AB-22D5ABF7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715847-67C0-4255-9C45-A85E6C26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AC85B7-5848-496F-8883-5F1EF4E1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914EF5-37CA-4148-9A1D-0663EC5A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8F76A5-9661-4B1B-A632-7384AE66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ACA0-6DE6-438F-8B05-19F2A095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BC84DD-ADE3-4F32-B6AF-508968AC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666BD2-1329-45CE-8646-E09EB531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4CC2BD-271E-4D25-A518-3E67A1B6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6C1B7B-B7EF-4E8B-A998-C3825053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56F2D4-17F5-4DD7-9248-D6798A22D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90F6F-A3B3-448A-B591-0A5BFA5F2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9030E-10F6-439E-AE44-3718BA2F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127AE-8B36-4917-A6FA-512E627C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22C19-EE36-4359-B687-9DADC6A2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12509-085E-478B-BDB3-F5E15C4A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FDB6-5FD2-4E60-BFE7-DC37709A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3287D-6BFD-4CD2-8B53-2594857E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D0A6C-ECAB-49E0-A72C-343B8BD8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B6F94-4FD2-46B2-9DF0-47C2180C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76717-3014-483D-896C-2E9ABAA9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B48AC-F9B5-43A8-A2B5-E6A5E3FB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DCF92-9B87-49F3-8869-E05AE9CA8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754EC-F979-4630-B9E3-39894B1DE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12A77A-641A-4B7E-B168-919B6330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DA690E-CD5E-497B-80DB-3203A760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35A64E-36CD-44B2-ACC3-8F0CA279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7247-2494-4E01-9ED4-3AD2C8125A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1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1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1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72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72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72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2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73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73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3019-BA10-4D02-BC6C-9E847C359D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C4AE-E72B-47FB-BC42-8020FC0254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79B1-EF40-4544-BF63-1C0748E165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8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9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9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0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0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0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1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1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1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1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1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2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C13E-47C6-47EC-9C3B-F98FCBA1D9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7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8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8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8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8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8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9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9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9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0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0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0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0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1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5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5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5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6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6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6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6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7C54-D43B-4012-839E-FAE7202074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3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14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17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18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9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0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1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2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423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24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7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28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9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0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2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33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BFBC-79BF-43FA-89A9-ABA8CE0C1A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8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8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9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9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9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9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9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50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0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0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1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1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1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1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2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2580-C19C-4EE1-A710-EA73E531D6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6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65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7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6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6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574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75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6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7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78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79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0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1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2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3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8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B30D-5E2B-4482-941F-3B355A619D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3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3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4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4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4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4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4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4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65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5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6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6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6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6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6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7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7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7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D9A6-8519-49DC-84DE-4804B22BF1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78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8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íjem, výn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omic Sans MS"/>
              </a:rPr>
              <a:t>Charakteristika výnos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omic Sans MS"/>
              </a:rPr>
              <a:t>Výnos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nosy představují výkony podnik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lavní složku výnosů tvoří tržby z prodeje výrobků, zboží či služe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Musíme rozlišovat výnosy a příjm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říjmy představují přírůstky peněžních prostředk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omic Sans MS"/>
              </a:rPr>
              <a:t>Pozor na záměnu pojmů výnos, tržba, příjem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75596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Může nastat situace, kdy všechny t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 pojmy splývají ve stejném okamžik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VPD -Tržba inkasovaná v hotovosti za služb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Zaúčtujeme:  211/60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Jedná se současně o výnos, příjem a taktéž tržb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Comic Sans MS"/>
              </a:rPr>
              <a:t>Pozor na záměnu pojmů výnos, tržba, příjem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Může ale nastat situace, kdy každý z těchto pojmů nastává v jiném časovém okamž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Comic Sans MS"/>
              </a:rPr>
              <a:t>vyrobením výrobku vzniká firmě výnos – 123/613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Comic Sans MS"/>
              </a:rPr>
              <a:t>tržba vzniká až v okamžiku prodeje – 311/60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Comic Sans MS"/>
              </a:rPr>
              <a:t>příjem vzniká v okamžiku platby od odběratele – 211/31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Vysvětlet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ujte výnos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Rozdíl mezi výnosy a příjm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 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6:10:22Z</dcterms:created>
  <dc:creator>mirek</dc:creator>
  <dc:description/>
  <dc:language>en-US</dc:language>
  <cp:lastModifiedBy>Igor</cp:lastModifiedBy>
  <dcterms:modified xsi:type="dcterms:W3CDTF">2014-09-13T15:47:47Z</dcterms:modified>
  <cp:revision>18</cp:revision>
  <dc:subject/>
  <dc:title>Výnosy</dc:title>
</cp:coreProperties>
</file>