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F160-9FA7-4CF0-ABA7-FDF3279867D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E56C-3463-41C6-A71E-62D47599A1A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9F15-0B67-4FD5-BEE6-D2CE10C495A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FA6D-FF55-44D1-B915-74F6BD44506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C08E-555A-498B-8DDB-4418F358189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9028-D0FC-46C2-81EA-D840648FC3E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F21C-43B6-4302-919E-5B2B331362E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322C-ED34-4B9D-BB94-EA2EFAE1798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B117-C94A-465F-A106-37DA390B7DBB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648F-0D8C-4850-BAE5-E1BDD83A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8CE5-D0FC-4154-8D5B-99E3F9F6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8C3B-7CCD-4DB0-A6BD-91C11D95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82C7-8C96-4A2B-B909-8728CC9B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6A04-28AF-4AD2-A593-69794C99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1772-62DE-48A8-A8E9-EBCDC087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AFB6-3DF1-4EE4-AD2C-C1BB3868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AB56-E0C8-44C8-90E9-66D114C5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6705-A47F-42A4-B140-B971CD3E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4800-FEA1-41B2-9EC6-A5760B17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C6B5-FA97-4321-9103-F7B120CC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AE2F-F7D3-484F-9999-5DE5A7B8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CBE8-14B6-47AD-BE98-B34EE7F2232B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ně silniční, z nemovitosti, z převodu nemovitosti, poplat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provozních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– účtová sk. 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31 – Silniční daň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silniční daň, kterou má povinnost platit účetní jednotka, pokud v podnikání používá motorová vozid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tní jednotka musí zaplatit silniční daň i za své zaměstnance, kteří využili pro služební cesty svá soukromá vozid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edpis silniční daně – 531/3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32 – Daň z nemovitost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ato daň se účtuje, jestli-že má účetní jednotka vlastní nemovitos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edpis daně z nemovitosti – 532/3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38 – Ostatní daně a poplatk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např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třeba kol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álniční znám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ň z převodu nemovit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ědická da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rovací daň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nákup dálničních známek – 538/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. VPD – Nákup kolků (spotřeb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 VúD – Předpis silniční da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. VPD – Úhrada daně z nemovit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4. VúD – Předpis daně z převodu nemovit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7:34:59Z</dcterms:created>
  <dc:creator>Ing. David Holzbauer</dc:creator>
  <dc:description/>
  <dc:language>en-US</dc:language>
  <cp:lastModifiedBy>Igor</cp:lastModifiedBy>
  <dcterms:modified xsi:type="dcterms:W3CDTF">2014-09-13T15:45:51Z</dcterms:modified>
  <cp:revision>18</cp:revision>
  <dc:subject/>
  <dc:title>Účtování nákladů</dc:title>
</cp:coreProperties>
</file>