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2771-1B86-4C0B-B64A-DFE57DC9774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A63F-10AC-48FD-BFC7-CD26B686FA1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34F4-DE70-4F3B-83AB-AFD490A64CD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43C6-653D-41EF-8353-803D6ACF1EA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6055-9092-4FCC-9DA1-568F9237D26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56FD-32C6-4A55-9E60-F0E1AE08DF8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2335-CFC2-47A0-91F7-F2F9415ED34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F4E9-7721-46C3-823E-8267D2CEC9F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3973-6938-44BE-A949-FBDE9DAEAB7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5516-FE82-402A-972F-EF4C00DA8A9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D37E-C2A9-4F9C-BD9A-2909AAC4C8D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57D8-2CA1-4787-BF37-DD6B61041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ABCB-46E6-40E2-9388-F397BCEE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793C-555C-4599-9C1F-E24F8F392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45A0-BC24-4C20-B6AF-C684EA510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BB8A-3DB0-46D0-A4EF-856933ED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C383-BD4E-49D4-9514-5C5D9CD4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AF48-13B8-46A7-AC02-4210CBB2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02C5-07F3-4549-968C-E17608CC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134A-A402-4CD7-A4D0-2C348055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72C7-7475-4C7C-9DDC-A5DF162E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D949-2274-4916-8172-92D65B32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4A5A-DD21-483F-A29B-915DAEF1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05CD-12FB-4582-A5E0-89F12DB494EA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, úroky, kurzová ztráta,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finančních nákladů</a:t>
            </a: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– účtová sk. 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330033"/>
                </a:solidFill>
                <a:latin typeface="Times New Roman"/>
              </a:rPr>
              <a:t>561 – Prodané cenné papíry a podíl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ento účet zaúčtujeme pořizovací cenu CP v případě jejich prode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úbytek CP v důsledku prodeje – 561/2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62 - Úrok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ná se o úroky, které účetní jednotka musí uhradit, například úroky z poskytnutého úvěru (pokud nejsou součásti pořizovací ceny D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bú – úroky z úvěru – 562/2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0033"/>
                </a:solidFill>
                <a:latin typeface="Times New Roman"/>
              </a:rPr>
              <a:t>563 – Kurzové ztrát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ujeme zde ztrátu, která nám vznikla v důsledku pohybu kurzů Kč k cizím měná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užíváme pokud máme valutovou pokladu a pohledávky či závazky v cizích měná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 valutové pokladně máme 100 Euro, při kurzu 1 Euro/25,70 Kč. K 31.12. kurz dle ČNB 1 Euro/25,6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díl zaúčtujeme následně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úD – kurzová ztráta ve valutové pokladně – 563/211.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68 – Ostatní finanční náklad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např. poplatky za vedení účtu, za jednotlivé transakce, poplatky za odeslání Vbú, za výběry v hotovosti z bankomatů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bú – bankovní poplatky – 568/2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0033"/>
                </a:solidFill>
                <a:latin typeface="Times New Roman"/>
              </a:rPr>
              <a:t>569 – Manka a škody na finančním majetku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např. pokladní schodek, který jsme zjistili při inventarizaci, či škody na finančním majet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okladní schodek – 569/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bú – Poplatek za odeslání výpi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bú – Úroky z úvě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okladní schod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rodané 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9:27:15Z</dcterms:created>
  <dc:creator>Ing. David Holzbauer</dc:creator>
  <dc:description/>
  <dc:language>en-US</dc:language>
  <cp:lastModifiedBy>Igor</cp:lastModifiedBy>
  <dcterms:modified xsi:type="dcterms:W3CDTF">2014-09-13T15:45:10Z</dcterms:modified>
  <cp:revision>15</cp:revision>
  <dc:subject/>
  <dc:title>Účtování nákladů</dc:title>
</cp:coreProperties>
</file>