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B1D1-16CA-4156-BBA6-B0B8E8F404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BEB-A73D-4B0B-A6AB-F2BDDB4FFF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E75-000E-4181-89CE-82AE3C442E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307D-87EA-4C77-869F-508A162644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5BE-F6F6-4A53-BD3E-8C25B18153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558-2160-4C05-9EED-8F1CABE730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169-CA4E-4A00-B414-C2992CB34D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018-132F-4BCE-9B06-35E052A23A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9B9-ED8E-435D-9A25-9CAC228B11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86F-D23F-418A-9AE0-9148E66490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207-95C5-4768-B59B-24B75E6917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5AC-2621-46DC-9AF9-D3382DDD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1DE-1EAD-4877-A981-74D1B35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03A-33F0-4D67-B8B7-1033B7CB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92D-20E9-46BA-BB4C-E476917F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486-EB34-4767-BDEF-565DBE3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A84-4F78-47D1-B5A7-2D3F315B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AE2-8E01-4004-9241-2486E9A5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7B6-7106-40D0-8542-1DB2CD3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149-2B47-4D9D-9740-6561520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839-F64F-4588-9E8A-7D3DE28C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822-7B7E-4AD4-A299-CA5464C9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B0A-9D02-4BFA-ACF3-DE356F2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EBF0-AE54-4F1B-9C0E-200E300C5D4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</p:pic>
      <p:graphicFrame>
        <p:nvGraphicFramePr>
          <p:cNvPr id="5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39640" y="4724280"/>
          <a:ext cx="7561440" cy="11908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Ing. Pavel Štohl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08160" y="365040"/>
            <a:ext cx="6404040" cy="8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otřeba, prodej, manko, přirozený úbyt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0033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Účtování provozních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5960" y="4352400"/>
            <a:ext cx="609264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 nákladů sk.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omto účtu účtujeme na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 spotřeba základ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né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ozního materiá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hradních dí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l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sk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ncelářských potře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obné nákupy za hot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kup odborných časopis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agační předměty, které jsou opatřeny obchodním jménem firmy, jejichž hodnota nepřesáhne 500,-- Kč bez DPH a nepodléhají spotřební dan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ý úbytek u materiálu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1 – Spotřeba materiálu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 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manko do normy u základního materiálu (přirozený úbytek) - 501/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 - 501/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33"/>
                </a:solidFill>
                <a:latin typeface="Times New Roman"/>
              </a:rPr>
              <a:t>502 – Spotřeba energi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ujeme zde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elektrické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u plynu, páry a vody, které jsou určeny k energetickým úč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Spotřebovaná elektrická energie - 502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330033"/>
                </a:solidFill>
                <a:latin typeface="Times New Roman"/>
              </a:rPr>
              <a:t>504 – Prodané zboží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tujeme zde úbytek prodaného zboží, a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ořizovacích ce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Manko do normy u zboží (přirozený úbyt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výdej zboží ze skladu   504/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aúčtujt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Spotřeba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P – Dodávk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řirozený úbytek u materi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D – Nákup kancelářských potř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úD – Prodané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7:34:59Z</dcterms:created>
  <dc:creator>Ing. David Holzbauer</dc:creator>
  <dc:description/>
  <dc:language>en-US</dc:language>
  <cp:lastModifiedBy>Igor</cp:lastModifiedBy>
  <dcterms:modified xsi:type="dcterms:W3CDTF">2014-09-13T15:46:30Z</dcterms:modified>
  <cp:revision>20</cp:revision>
  <dc:subject/>
  <dc:title>Účtování nákladů</dc:title>
</cp:coreProperties>
</file>