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F83-C14C-4BE1-805F-9F4A817A1A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14F-89E8-426A-B403-830D700BE5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B81E-B902-4940-8F0B-A39DE7CD814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C23B-9E1C-4EDA-82C2-33E934B1CF1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F546-9334-404C-91C5-7550AAF2171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EEA-4C87-4F48-8264-C987D2ADD5F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2871-13A9-4715-BA62-685AB56E97E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6EB-BE4C-4F75-A3DF-22033C1DBEE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C4AB-6D28-41A4-AE43-081AEDE16747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72F-DE54-4D36-8E17-D420467C4CA5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483F-7529-4C71-8382-49160AA91DF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318-3765-462C-BAA8-CCBE4290AA6C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2DB-FF92-4142-9663-A466D659505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571C-111E-474E-81A3-3DB1F356466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A16-3116-43EE-AA27-6A8D93B4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B9E-8630-47F8-ADDF-1A18ABC5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A7C50-72D1-405D-B563-A07ACC4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9703F-0286-4781-A5C0-FA9B689C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B11A2-9689-42E2-80A0-2E4E978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A1066-E26A-415E-9666-1C79B201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C2FEC-8848-4021-B2EB-5AD08139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D1090-A303-4D7C-B890-D40ACD3F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CDF8A-80F6-4D57-9FA4-C3E19026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B40E6-BDEA-452D-A082-9FE5BA6F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06AF6-C0DE-4ACD-A332-EF9C998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3CA9-0A7D-418F-85EF-6193F7C3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4A3-F02C-4E10-B34D-C2E99674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DDF5-4FFE-44FF-A1EA-EB6DAD6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0AF6-B243-468C-9DC8-108D7BCB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EDC50-92E2-4C13-AC61-FF76792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6D4B8-A574-4CBA-A095-740F3DD8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71E2C-7B7B-44F9-B0B3-49A9579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D9A07-83B7-49A7-AB92-4D4A1605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B05FF-BA57-4D3C-9526-0CA4F63C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1102A-C818-41CC-973E-C6DD872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02F78-D5A6-494A-9291-3BC76939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E1252-88D6-43DB-B6C4-6AF3C9B8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008-7920-4CA2-9046-79EB699F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D8DDD-291C-4AC3-89C2-9527CF54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EE326-B161-48FF-9735-AEB60AFC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A2AAB-85EF-4818-900A-59BA1FA4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57F1-933C-441B-8CF8-468871B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100B2-7B38-4DC0-A68A-06DF8F7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62D3-B5F8-46CE-8261-C5EB8F07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0F96-D0D7-4ED4-80A0-FE4A3E8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E945-C734-44EA-8718-9BE14A4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3B1FD-72DE-4D9A-82EA-77B0FF0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2EDC2-100A-48B3-AFB6-718E90CE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06BB-382F-4289-A7CA-67B008E8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0EE8-26C7-46E7-8AB1-E99A41BE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596C-8B37-46D2-B348-9458794E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1EBF-66FB-40F4-AEDD-DDE40CB6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38C1A-E00A-4D61-B627-1761BF3F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23522-DC2A-476F-BA16-FD021731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EEF54-8C96-48FB-88AE-698B864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A5736-9F28-42F2-A13C-E45163C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1C523-F628-44AB-9197-51E8014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B5BC3-0237-40D7-92BF-FB95B4CD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21085-014C-4724-86D4-9FB3C2C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AF15-C16D-4D5F-B5AE-2AE29272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150E2-F5B0-44EF-B143-5EB657E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130F1-B323-41BE-BE78-AB58A20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CD878-C257-43F1-95D0-E7E35D5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5129C-F6DA-440B-8B13-5D19FD37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10978-84B7-49E4-AB12-00BBEEE9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E4BA5-20D6-4320-9C29-F313BA47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E1F89-B9C1-4B5D-BCAD-9EEE84C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8AA92-DB0A-4630-9F0D-109D92D0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DFD74-0B1D-4C1C-8671-652F219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68558-858D-466A-B8BD-6832CC4E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4098-289C-4117-AFE3-A514972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B2993-F7AE-43DC-A259-036E716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BD701-F858-4509-ADA7-9CD4A002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19894-3300-49D4-9556-8994295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86E6A-8BAC-46A1-8EC2-8C00378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A8B30-4C14-4C3F-86A3-3D209EB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1BAEA-7D33-4C1F-A484-A8C14721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79A78-9B63-4D9B-A7C6-BA2FC428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031860-8CF0-4250-9ACE-5D6EA026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74BFCE-3332-4A4D-AED4-0ED3DF1A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7E3CFC-9197-4186-80AC-285F7D3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2742-E784-4B1C-BC1A-F8D0719F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E6F23F-B338-4FB9-B7BB-CAA80887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36D1D7-54A9-47DE-A21B-FD8CE685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733776-D62D-434E-AC7F-27F5FED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B9B64C-61D9-45D0-9961-14A8C6A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C13BB8-26C2-4ED6-A591-168042D9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DF3425-0835-4DD6-BDC0-4FCDACF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BFE739-9D39-40BF-864A-691440D0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7CD759-B09E-4D0B-9CB3-83637A88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96C455-2A75-44BC-A65A-F8E715BD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658D3-6CD9-4965-ABC7-7D74EDAF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B2A6-FC15-4CAD-B052-CFBDEEF2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A2CC7-D8B0-42C2-ADFC-86D68FF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48851-576D-4954-89A6-3CA32764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F13AF-702F-47F4-BF59-6D1E5C65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0EA21-E29F-4980-BCAE-FFC17F74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6F25E-5FDB-4F0C-98C4-69472BB4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9B389-A803-469D-A33C-753234CE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5C510-C3E0-40F9-AA32-E9F0361D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3FA4C-857B-43F5-8DF2-F72DC57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3AAE1-54B4-4A7A-B233-271C2C17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BC36E-9114-4DE3-8C1E-D3C34A0F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3EC0-E525-4C16-9A7D-BD45E11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74515-B9CA-47EB-B004-F99D3011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55C98-E0AF-4AE6-AC08-9A39AA90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DE424-F61C-4EEA-838F-95340F16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0F2DC-B0D7-48A9-9B21-4201D67C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4F2EF-033E-491D-A11E-2C69AC67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AEB59-8E69-4028-9AC7-70E1279A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A3009-45B5-4C76-98B1-BD02466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611B4-2F58-45B4-B044-1E381A5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21C6E-7483-43E8-99C6-9DF08F5F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63629-391A-4C93-A958-8759171F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D002-83A4-41FA-9354-04013759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B6908-80BE-44BF-AFE4-9B1BE49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E4730-6DC5-45B4-89BB-FFB6B560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B4C5F-FCAA-4BD2-9F2F-ACD93503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9A7E0-DAC3-4D64-BBA5-9D9231B7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820A0-E759-4845-BF0D-B6B43BA8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075EA-58E8-48A2-87A2-9137E468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8B639-09A1-4E4B-8A26-57F8DE4D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AA731-5EAD-4566-8630-2AB52EB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68770-EC3F-4D22-84D7-9F7905DC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87A1A-92DE-4D3B-91DC-B540C0C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3F7-3CE5-4F61-A396-E362BD64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4269-4D37-4524-ADC5-EA85C9A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97E39-71A1-40FE-8068-12E532F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2F8A6-4FCF-4EB1-AC44-843BD2E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5B63C-356C-49C2-9AA6-FF8CB9CC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ACA7F-DA1A-4BA7-81EB-26FEA26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96C48-4375-4C49-BA76-5BD0AE9A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27731-5319-411D-AF7F-E312AE51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66218-8925-4304-9469-C9B4889D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66BDC-0D1A-473C-A518-48E02B9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D3A0B-E257-45C1-8326-1E9E715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B7F7E-749A-4321-8444-EFB00E44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DB94-8D2E-48BD-9F1E-0554DB15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64A11-985D-4067-9AE6-27F791FE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9A448-10B4-46E3-B883-BBAC2BA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4A651-075E-42F3-AED9-4DDCF46C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E9280-8DBD-49C2-AEBE-5004E92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A6D92-364A-4A9E-B8D6-CB93CA9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3367C-C495-43D5-902D-23CA3504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55A50-830D-430C-B572-D56D2AA9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D9AA7-D090-4DFA-AB19-28890774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2CB6A-D867-4183-9EEC-EE73CA0B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ECBFC-FF86-4A56-98F1-A4C3FCEC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02D-F4D2-422B-8C49-787DC6D7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672A5-4658-4100-95A5-70A010A6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B8A89-8D08-47BA-93D6-C85B20C5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1D51B-20C4-4434-B627-0C6EA9AF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C5CF2-381B-4314-A8F9-68AA378D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DEECE-E821-4727-AE49-D77D71F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06EC9-A385-4A19-AC10-77F53D1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7E012-268F-430E-B87E-D4CB6B8F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288F66-83AB-4B2D-876B-108449CF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2C989-8309-48B4-9950-DAB6355F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2518D-6E85-4598-8C04-13C210CD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B5C-3181-405F-8C5C-6CA1F635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3CA12-5FC3-4566-ABDE-2D233CE9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6C0F5-FA68-42A6-899C-987A5053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8D738-4FB6-4E6A-92C9-2053514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79AD97-23FC-4EAC-A1F0-077FD32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BB72B-E939-43F5-8B31-C7D02245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D530B-3182-4462-8EBB-3A6F10C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4BE65-ABA4-4EF2-8531-1C33555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CC03A-D6D1-4582-B223-30EE89F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11FE0-DDBB-41B5-8BA7-E5EA6B3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177CB-6BFA-4D8B-9C8A-0CF57C28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6F6C-A058-468A-8B17-E06E1017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B7F35-99AE-4D2F-90E6-963ECF19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1D84F-1239-4FAC-8697-AE484982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A5C3C-67C7-45FB-896B-3F3DB98E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3DD9F-92BB-4FF0-84FF-A4CD978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59F63-CFCF-4D5C-8AF2-814559D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F68C60-D8FB-49C9-B926-97BE81C6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84D41-ECCE-4212-A6F6-32CFDF73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4D44C-C891-40DD-84F4-8D9EB55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3D23E-5711-495E-A3F2-674A79F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8AA16-FF35-4C75-BB90-E808743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DE87-2D9C-4C14-8628-F0A3170F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963E3-599B-453C-8C30-EBE1536D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88BF9-06FC-4A90-B157-BD0B38AB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57A6A-8463-4EF7-818E-722E24CB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C2FD3B-DB58-4208-9BB0-8F6CCE1B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BAD76-5260-43E8-A5DC-74D3F26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B662BA-3F09-48F0-9D05-A8BE0006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974D8-0A8A-42EE-B7F1-7540F24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9E0439-80BB-4A08-8971-461E6E2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D49CF7-5C48-493F-8371-1E0D0AF7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E1C9D3-D1ED-4B87-9F11-3F15400C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83CE-0421-4466-9FF8-AA2A1F76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B39123-4956-4E2C-94D4-9893F480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839D5B-5623-4253-BB6C-CF7AE29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9D8022-44EA-4061-9847-CDBED932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F595C1-2BBE-466F-8B13-1FC4786E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019FE5-B34C-4A92-B40B-E2750C2C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3AC44A-9F2D-4B18-88AD-C828DD9B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ECA16A-ECE4-48C5-BD51-1A6BB759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59190-1E11-4368-80F0-8BF92CF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6CC54A-5F82-4618-86E7-91D6774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045529-488A-4B08-92EA-95584E8D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0B49-9C77-4238-9D48-45751501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2827EB-1E68-4C2A-A899-A414C7B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062319-81A2-4CDA-803F-BEC9A74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921224-FAE7-408C-B2A6-3492CE9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022F1-5E24-42D0-B20C-FEF11E6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1F6556-25CC-46A4-A65E-B74EDE71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22A0D-0E02-4D8E-A5D7-BF3A03B6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F49405-CCE7-4ADD-B693-770ACF8E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9EB29-C745-4ACF-B6FD-9270C634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C19091-D968-4357-B708-7BFB08FA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83FEA6-2C8E-4EBB-ADF6-3FD3A11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F3F3-3022-437C-BD8D-ED8EDE1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4F7EFF-9043-499D-9E5D-1993D74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DDE0A4-5055-473B-ACDA-A2047E4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647D7-601F-4A29-A791-7EB1FE3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602890-D15E-4AC8-85AA-D0ED07B0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7697E6-3E81-4CB8-8094-EB90ADF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89A19-05F5-4462-9AFD-98DAF24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F8CCD0-6001-4574-B3E1-DFEBD681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04793-85A0-4B4C-A539-82C49AC3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E8127B-C272-497B-9DD4-A8B08E65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DB6A49-D29B-4E70-847C-CCB886C8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F24B-43C5-40AC-90A7-DCF674F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44655E-05D2-4FC4-8588-A53CA61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C6420-ACE4-4A07-9BE3-FC7CE622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32B19A-945D-4B4A-90E7-34F163A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03F30F-1F3E-4D61-B25E-FB313CC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5275FE-91AD-4949-BAEC-9A7A23D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CD9444-8B3F-456B-B5B9-CAB516A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5E1F09-45CA-4FD4-8425-0880C92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83EB2D-CA02-4343-86AB-707AE20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C7A7C3-EE29-4EDB-B154-44129C57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510A53-B978-4A98-ABC4-E00A7B73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AD6-91C6-4701-8E12-25BEC450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25BA-36C9-493A-97FA-68BE99ED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96620B-64E1-4F16-924D-221A3C21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4543B7-952D-458B-BC66-F9E9885F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350FD3F-BB5E-4187-B99A-B04A2F1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DE6C8E-D49E-40CB-8E69-DAB87AA3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5277B8-2518-41E9-BB3E-927B295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74E915-8EDE-4CC2-A75D-EC86FEF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BD9E482-1D96-43E5-9F40-AE159BD7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5011CC-40D6-4815-B517-35C2F9C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FB88B3-FEDD-402D-A11A-83F33B2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36BCFD7-F030-41D7-9D2C-71B145A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EABF-36CE-4BB2-9908-AAE14D18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969DDA-904E-4688-BFB8-4EB016C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A1FF16-98ED-4DC2-AC4C-B19C6F24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BA84F3E-2C6B-455D-A515-289E5F97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B06F-2D4A-4E28-9B6B-56B48BB1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4459-10B8-435F-9951-BE59C9B7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CCB5-4ED6-42E5-A320-7C24A25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26DC-6988-4EFF-AA74-C77DCEB2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27C6-B1AC-4EFB-BFD2-C7A5EA90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C28A-AE28-4391-A1F8-582E0788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46A6-6E40-48A4-9AC1-1D211464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90B7-0435-48A9-897E-346F7150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DCF-C401-48A5-B6E7-B244D4D8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3ACD-95E6-422B-B2DE-9DC38100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7665-BFC7-48F1-B70D-3222E0DC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7FEC-2ED2-409D-AD52-45B80B4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821A-9026-421B-A05F-6829BE67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D8C3-BD77-42A9-9F28-E4AB644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F592-A1E0-43A3-AF3B-98A59E0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BFC4-FA9B-48F8-A721-EC4F4888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1ED9-A7B3-4381-A310-6E00618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C27B-1747-461E-B562-6BA1AD04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2E801-A671-4C65-A7EA-AED30A40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F3D-2B04-4DC2-B624-4D4AF90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2B841-C152-47E6-B464-2C59601E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0F30-4F87-4AC9-9814-B766DCF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2AFC-B517-4465-9A34-1C32CD3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E546-4599-4A19-9DF3-B408F99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3DBA-7848-466A-9907-9AB748B4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CF6F-890F-416A-9AED-F3F90D39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5C22-73B5-456F-937A-272F30E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597D-D655-4851-8191-38B8D99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B3939-6C3C-4BC2-8C8D-7282727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B29C-F61F-4B23-A54E-3DD12713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A23-17F0-44D3-848A-FFC6A83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238C-D2BB-499C-91BB-B4445B8D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5FE24-1CE7-4D32-9280-0CA8A12E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70DC-57C6-4579-A17E-D2FE8A6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FFFB-ECFC-4F23-B3D4-441C9E40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E27C-56B1-4429-B1C9-E5D91E98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4DAA-3CC4-4776-AFE9-7FD35C26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D7AB-7537-42C0-B6DB-645DB20F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4EE6-E8D4-4583-AF6E-7C3A2D1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365D-B540-4FC2-B72B-988846A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F3622-B404-409B-8C3C-CDA4187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B94-27E8-42C6-8D29-D9B61F01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9437-454D-4321-B75B-782BBB75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C300-BAFF-407E-9CEB-A197D910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2584-8BA8-4783-A67D-FEA2AC2A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BFC8-5291-4D3D-8269-7B565854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BE2D-5A04-44F2-8C75-F55BDDFF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3620-F48C-4882-9DFB-2269E025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398DC-A910-44DB-A518-625C37E4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D22AF-B874-4B07-8DB8-1D19D380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E8E6A-4CC2-4AB2-B6E4-BA4D076C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5EA7-8E4C-4921-800E-0146B32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993-DB85-481F-973F-03D71E7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48380-1723-4F94-ABDE-0ACC0BD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0A3E-FA22-48C7-9ED0-8AD4E57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F0FED-9717-41F4-BE16-CC4B4583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AC8A5-A5BF-4F4F-B565-4E0D4F5F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A5D1-AA76-44DB-9F0A-D716427E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6203F-2F21-4ED3-9411-82D0D479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AA7F7-5C27-4BE2-863A-0958F845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A4EC-2E0E-4610-9621-69CCCD7B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F336-4897-4711-A40A-60B68DC9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15A41-4CC1-4FE3-8C2A-EE5616CC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C48-63AC-4BE9-A487-1AD29455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5000A-4032-463D-9354-29F3E704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B3DB1-65FA-4AE3-B472-1424B0F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7D2E3-784F-4960-9873-92E18860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E479-74E0-4847-BBA1-B71334A8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14F8-F67B-4649-A745-AFC978A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54E3F-5416-4BDD-AFE6-02C8428F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E3DD0-21F7-4D00-A8B3-B4CAF30D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5F0A0-35C4-4CEB-924D-B5BC8FF5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34557-A25C-4A84-8359-20F3F2E8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08D8-B1F3-459D-9FF2-D6B9B96D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1CC-D534-442F-88EE-01E55E88291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94B-43C5-4D98-A439-3178140EE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B206-DC67-4FC7-BEA0-68842B01B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9306-6E46-454A-A935-929DF39F6E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4CE8-82C4-4A99-94E1-7A4DD9601A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D3C-A3E2-4CDC-981F-BFFF757CC9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43B-1941-4B96-B3E2-D02E5562F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32E2-391E-43CF-B19B-D0BC4168A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7156-6CD1-4EAD-92D0-9BC9D2753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518B-DFF3-42C8-8528-083BAEBF00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96F-6B0A-4125-8BE3-CC0FDA30E5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D0C-A4C6-4C28-BB74-BB1E02B4DCE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C39-3841-47D4-9B44-3BBC619E3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0D39-63E8-44F3-A21F-DC397486DC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B4AC-229A-496D-AA0E-5F62878C9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EBD9-5136-4325-BFEF-9BC86BC6F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B48F-1219-4397-BCCD-73197EFCC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E5A9-143E-41E1-8073-CC2A2D71F7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AE1-4AF1-476C-ABFB-610E6C8C8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A36-AA9C-4042-A41C-43FFDF275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AB0-B5B0-4348-86A9-3AC9C77854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8A31-BE70-414F-99C8-C7ECE436A2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F110-9A64-4D9F-B5F0-25A11CCB9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FFF0-436D-4A5F-AC00-F9D0330A1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AC74-289D-456F-922B-DB5A339D29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6842-8120-4680-9BAB-10C36262F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8 – Ostatní 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32364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Tento účet se používá např. tehdy, pokud zaměstnanci předepíšeme k úhradě pokladní schode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k úhradě pokladního schodku - 335/66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88 – Ostatn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107640" y="1828800"/>
            <a:ext cx="856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omto účtu se účtuje např. nárok na náhradu škody (která byla zaúčtována do mimořádných nákladů), dále opravy výnosů minulých účetních období (pokud se jedná o nevýznamné částky)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řiznané náhrady od pojišťovny – 378/688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Prodej cenných papír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bú – Úroky z běžného účt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Předpis k úhradě pokladního          schod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Kurzový zisk ve valutové      pokladn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výnosy, úroky, kurzové rozdíly, přeceně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finančních a mimořádný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3356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6.-6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1 – Tržby z prodeje cenných papírů a podíl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cenné papíry (např. akcie, dluhopisy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akcií – 311 (378)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akcií v hotovosti – 211/66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2 – Úro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se účtují úroky z běžného účtu, z terminovaných vkladů, z poskytnutých půjček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běžného účtu – 22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úroků z poskytnuté půjč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íkov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– 355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můžeme použít tehdy, pokud máme devizov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vizové účty nebo valutovou pokladnu (obchodujeme se zahraničí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ledávky a závaz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které jsou vyjádřeny v cizích měnách se přepočítávají na českou korun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v den vystavení (přijetí) faktury dle kurzovního lístku ČNB. Pokud v době úhrady je kurz odlišný (pro nás výhodnější) vzniká nám kurzový zi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63 – Ku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vé rozdí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468360" y="1828800"/>
            <a:ext cx="791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rzový zisk může vzniknou taktéž na konci účetního období, kdy se pohledávky, závazky, valutová pokladna a devizový účet, přepočítává na českou měnu dle kurzu ČN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zboží do zahraničí  1 100,--  3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zahr.odběrat.   1 180,--  221/3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Kurzový rozdíl                       80,--  311/6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64 – Výnosy z přecenění cenných papír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4360" y="1484280"/>
            <a:ext cx="77040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při přeceňování cenných papírů na reálnou hodnotu (tržní hodnotu – dle burzy, nebo znalecký posudek) na konci účetního obdob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ceňování s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netýká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P držených do splatnosti, vlastních akcií či vlastních podílů a CP představující účast s rozhodujícím nebo podstatným vlivem (majetkové účasti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cenění akcií (k obchodování) – 251/6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5 – Výnosy z dlouhodobého finančního majet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66 – Výnosy z krátkodobého finančního majet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yto účty se účtují např. přijaté podíly na zisk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u a.s. dividendy). Podle toho, zda máme akcie k obchodování (krátkodobý majetek) nebo akcie v dlouhodobém majetku, zaúčtujeme dividendy na účet 665 nebo 666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podílů na zisku – 315/665 (66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Přijaté dividendy – 221/3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19Z</dcterms:modified>
  <cp:revision>36</cp:revision>
  <dc:subject/>
  <dc:title>Účtování výnosů</dc:title>
</cp:coreProperties>
</file>