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9A8D-AA94-4CDA-B697-E1A798344C7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7F91-36D7-4FBD-B853-2CAD5020C121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C9B0-A7D3-4C3F-A230-CF4E0CD63315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381F-6257-4CD1-8C4D-4FD7A6E22B65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3A51-62B6-4378-BC83-5D0517CCF171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ED35-A9AF-4FC9-8BBD-2139CE27477F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8417-564D-48D0-9A8B-D3A44BC74AEB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0ECE-EACF-4737-921C-A9D960197767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B566-4AB2-4ABD-A489-FB2BEEAE1B8D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7CFD-928C-4099-8AF4-CF20E093A6D5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D0F3-A892-465C-9628-63D3BF75331D}" type="slidenum">
              <a:rPr b="0" lang="cs-C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F28-CC3C-4B03-9B3D-6167375A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D7E-D379-4F40-B50B-F2E9C1A9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692-6163-43C0-9311-86DEEF71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F96-7092-47CC-B5CD-B74C0425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CEB6-A454-445A-9D7F-D66BD4A0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6FD1-A122-4310-A216-D6828716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A3DB-E211-4539-AF42-DFE452ED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FE4C-D00B-41FA-8A01-F724C28D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A20D-2C40-457D-B539-46C1CD06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E9FC-9659-4600-804E-4897685D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D2BF-B210-437F-983E-14BE211A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1AB-1316-4D07-8400-E72694D1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D1D9-7CDA-46AF-A1E0-C03DA59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5642-E5F6-4D27-A349-E91EAEEE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C4AA-6FC2-4C94-A743-9EF0EAE1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3861-3FAE-4B06-8AE4-EC342990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83D8-3879-4182-8BDF-E35D8BD3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B4AB5-F69A-4119-8DA1-35CB4CBA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02B6C-869B-4A82-9B76-6C3B4D0B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72C09-692A-4988-A46D-0955AFD0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829C9-66B3-4B0D-9F29-DDDA7DB2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3D9D4-A5DB-4485-9B19-26820773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86B-297D-4889-96EC-8D03B8FA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963F9-8E92-4EB3-A213-7499D9CA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F7A87-33F1-48B4-8BB4-362BE285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C76A9-77E9-43FE-AB6F-619035DD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1FC80-39D6-401D-98D2-6C601075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1C1DF-B493-4EBA-8BE0-27B4A856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D2101-9C64-4651-B40A-757C278C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3CC23-52FB-4EA8-860F-704206AB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D14-8745-4889-8D74-A0191528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946-93C1-47DB-B81D-720A2811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B12-FFE9-4556-8C1E-BA93DDB7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4B7-3B14-4F88-BC58-55E4C800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6E1-A630-4C8E-86AC-58F515B7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F43-EAF2-4CF1-A54D-1C9F32AD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0B84-F2DC-4C71-87DB-858FC75830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6E4F-59F4-465B-88D1-B1BEF69084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650A-7004-4207-BD65-30A5FD668D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é jsou zásady účtování výnosů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rčete nedaňové náklad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274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, daňově uznatelný a neuznatelný nákl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omic Sans MS"/>
              </a:rPr>
              <a:t>Zásady účtování náklad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6584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se účtují na účtech páté účtové tří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Přírůstek nákladů na nákladových účtech se účtuje na straně MD, snížení nákladů se účtuje na straně D, případně na straně MD s minusovým znaménk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3. Náklady se účtují do období s nímž věcně a časově souvisí (musíme rozlišovat náklady tohoto období a náklady příštího období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4. Na jednotlivých nákladových účtech účtujeme narůstajícím způsobem. Na nákladových účtech nejsou počáteční stav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8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. Při uzavírání účetních knih se zůstatky jednotlivých nákladových účtů převedou na 710 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čet zisků a ztrát, a to na stranu M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příklad převod účtů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01 - Spotřeba materiálů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02 - Spotřeba energie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0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511 – Opravy a udržování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710/5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6945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6. Do účtového rozvrhu (který si sestavuje účetní jednotka sama) si zařadíme pouze nákladové účty, které budeme v průběhu účetního období potřebovat a vytvoříme si k nim analytické úč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 – Spotřeba materiálu (syntetický úče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1 – Spotřeba základního materiál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2 – Spotřeba kancelářských potř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3 – Spotřeba pohonných hm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501/004 – Drobný hmotný majetek  at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U nákladových účtů se musí analytická evidence přizpůsobit ZD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apříklad na účet 538 – Ostatní daně a poplatky účtujeme mimo jiné spotřebu kolků (daňově uznatelný náklad), ale i daň dědickou, či darovací (daňově neuznatelný náklad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 účtového rozvrhu si zařadíme např. tyto analytické účty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1 – Spotřeba kolků  (daňově 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2 – Darovací a dědická daň (daňově ne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538/003 – Daň z převodu nemovitosti (pokud je tato daň zaplacena, tak jde o daňově uznatelný náklad, v opačném případě se jedná o neuznatelný nákla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omic Sans MS"/>
              </a:rPr>
              <a:t>Zásady účtování náklad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7. Do nákladů můžeme zahrnou pouze ty náklady, které se týkají účetní jednotk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d zaměstnavatel poskytne svému zaměstnanci služební telefon, může mu určit limit na volání např. 500,-- Kč (měsíčně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kud zaměstnanec tento limit překročí, musí částku (nad 500,--Kč) uhradit svému zaměstnavatel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ato částka pak není pro firmu nákl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6:23:26Z</dcterms:created>
  <dc:creator>Ing. David Holzbauer</dc:creator>
  <dc:description/>
  <dc:language>en-US</dc:language>
  <cp:lastModifiedBy>Igor</cp:lastModifiedBy>
  <dcterms:modified xsi:type="dcterms:W3CDTF">2014-09-13T15:47:08Z</dcterms:modified>
  <cp:revision>8</cp:revision>
  <dc:subject/>
  <dc:title>Zásady účtování nákladů</dc:title>
</cp:coreProperties>
</file>