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8C5B-2508-4F1E-B036-00546C85D61B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876A-8D79-4E54-B7A8-96C8DEA228B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E2B7-00FF-4CC1-9091-82574BF7FB6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FCEA-2B6E-490D-8885-512E8C6D5025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CA89-8749-4D31-80C4-9A0ED8FDA12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3CA5-25BB-4923-B8E4-979B122617BE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95EB-F843-4EE9-9E49-5CA6BB792F0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1A84-DE74-42E9-A7A4-59093112448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F0A-EF11-415F-9BC2-8E607E2C252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8C9-983F-4E2D-AC82-60979913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FBD-AEC4-4F63-A75D-99ED4117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E5A-B1CF-47AF-B610-1705EBD3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7B9-14F7-4BF6-BBEF-886778B4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6EE-8C6D-475B-A59A-132FE7AB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EF7-7935-4BC6-8125-BA9CCBD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DF5-94FC-4C30-832F-9DFA62FD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312-3603-4624-A4E2-54AA997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003-57EF-491E-B49F-D96B2FD4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2A1-92F7-4996-83FC-2FF3E3F9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DFF-4A8C-4F27-BF11-1EDD2F2A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BB2-0D99-4094-BFC4-9D04846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8CD1-C04B-4C77-9E25-69DCE0D74E0C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5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měna stav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čtování výnosů – učtová sk. 6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11 – Změna stavu nedokončené výroby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tomto účet evidujeme přírůstek a úbytek nedokončené výr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dokončená výroba – jedná se o rozpracované výrobky, které ještě neprošly všemi stupni výroby (nenachází se ve skladu odbytu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nedokončené výroby 121/6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nedokončené výroby 611/1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9900"/>
                </a:solidFill>
                <a:latin typeface="Garamond"/>
              </a:rPr>
              <a:t>612 – Změna stavu polotovarů vlastní výroby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polotovarů vlastní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podobně jako nedokončenou výrob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lotovary můžeme prod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polotovarů 122/6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polotovarů 612/1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13 – Změna stavu výrobků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se eviduje přírůstek a úbytek již hotových výrobk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přírůstek výrobků 123/6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úD – úbytek výrobků 613/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nedokončené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Přírůstek výrobků na skladě odby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úD – Úbytek polotovarů vlast. výro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9:12Z</dcterms:modified>
  <cp:revision>19</cp:revision>
  <dc:subject/>
  <dc:title>Účtování výnosů</dc:title>
</cp:coreProperties>
</file>