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CE1-BF42-4FCB-81A2-72D6D68E38FD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6ECF-6A13-46FB-8F8A-CCC7C866FBA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002-E029-4437-BB8B-9BEBE32CBB6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9864-CA34-4C06-8921-6E1B5E82E224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BF08-6012-4449-ABB1-15BCB4FC4161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EB8B-CC04-4482-BB32-16CD24CA4CCA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4A4-2E24-4B3A-850E-56B6916E5ED0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740-9033-477D-82D6-008CDEBE2E4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6986-D1F7-446E-B832-32823FF617B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D24-CDB8-4BA5-9D6F-3A744A65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40-4FAF-4471-B04C-BFDE83A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C6E-F46D-4716-BB69-EFB39B5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D74-64E9-4B53-A51E-461EFF9D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65FE-E1B6-45E4-AA00-47C8B0AD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8A6E-6575-408F-89E4-6E0CF1E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206A-2026-4008-A844-0E3324FB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15A3-B771-4471-A16A-251C2B5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D5F-9BA7-4BF7-B8CB-0EFF2FCA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C69A-B6EE-4592-9702-9BE846E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9001-8382-401C-96FA-C5F6E7F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158-DE62-4597-AB48-D18DB62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9F59-10A9-4041-9BCF-23467CE1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C20-E16E-44CC-8377-D7F4C3C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586-6F07-4771-9E51-CEF79453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1C51-19E1-4CB6-8005-A5DCFE2D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02C-12AA-4289-802B-3A1A26FE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573-5502-4C4B-8A64-AD59DAB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30B-0C3C-4817-AF49-398C926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EA9-C147-418B-8725-7B900739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BCF-4EFE-4B23-A651-8726DFC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145-4ED4-4CD2-96DB-78DC4CA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712-DC15-4DA1-9407-E2673B1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F73-7D2E-434D-A3F1-22804D5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968-60D3-4377-8C69-B006A2D96ACA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259-A7D9-4A0C-A276-3933BA6C53CE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</p:pic>
      <p:graphicFrame>
        <p:nvGraphicFramePr>
          <p:cNvPr id="9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22600" y="365040"/>
            <a:ext cx="6779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ž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66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999900"/>
                </a:solidFill>
                <a:latin typeface="Garamond"/>
              </a:rPr>
              <a:t>Účtování provozních výnosů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80600" y="4352400"/>
            <a:ext cx="645012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tování výnosů – učtová sk. 6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9900"/>
                </a:solidFill>
                <a:latin typeface="Garamond"/>
              </a:rPr>
              <a:t>601 – Tržby za vlastní výrobky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účtujeme prodej našich vlastních výrobk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dej se může uskutečnit v hotovosti, nebo můžeme výrobky vyfakturovat odběratelů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a výrobky – 2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výrobky – 311/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2 – Tržby z prodeje služe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 tomto účtu evidujeme námi poskytnuté služby např. poradenské služby, pronájem budov a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Poskytnuté poradenské služby (hrazené v hotovosti) –  2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budovy – 311/6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604 – Tržba za zboží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čtujeme zde prodej zboží (které jsme nakoupili a v nezměněném stavu prodávám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účtování: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 – 2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- Tržba za prodané zboží – 311/6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9900"/>
                </a:solidFill>
                <a:latin typeface="Garamond"/>
              </a:rPr>
              <a:t>Zaúčtujt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dej výrob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PD – Tržba z prodeje zbož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aV – Pronájem garáž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g. Pavel Štohl – Učebnice účetnictví  2. díl pro střední školy a veřejnost, vydavatel vzdělávací středisko          Ing. Pavel Štohl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8:22:54Z</dcterms:created>
  <dc:creator>Ing. David Holzbauer</dc:creator>
  <dc:description/>
  <dc:language>en-US</dc:language>
  <cp:lastModifiedBy>Igor</cp:lastModifiedBy>
  <dcterms:modified xsi:type="dcterms:W3CDTF">2014-09-13T15:48:59Z</dcterms:modified>
  <cp:revision>16</cp:revision>
  <dc:subject/>
  <dc:title>Účtování výnosů</dc:title>
</cp:coreProperties>
</file>