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488F-7606-483E-8879-8099B939BB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C95-E24C-4940-861E-D56F1188E8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63A8-5B8F-48D1-91CE-D207BAE9F7A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538C-AC0F-4453-8261-63A02081DA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DD96-DD46-4E3E-A895-9BC107AAB3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D0F-300D-4C40-98DA-3B54226A9D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C043-3421-40A2-94DE-CAD1A3898F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44F-3CE2-48E3-9B84-C70C71B66F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B79-A4E7-4AE0-A059-8EAF655167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4FC1-2EBC-4F9F-B693-055CC75AB5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233-AD1A-421E-857D-6972BC3B9B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331-1AAF-4083-938A-E81F2B80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A28-4953-4036-8F07-A2F512E2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078-9450-422D-AF06-D1A84F61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946-3371-4973-A612-E238C49A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A35-D7E8-4472-939F-FFD8AB43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273-3E4A-445D-BCF7-FBAEDBA4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869-034C-4302-A98E-3B8DADB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CE9-28A6-4E52-9339-55786BE4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3C9-246F-459F-BB7F-5EAA3B4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68C-A656-43EE-A515-144BBBDC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560-BE35-47A9-B819-D307BFE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C79-F161-48E9-8164-6F35A261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0732-55EF-4BD5-B34A-237C785CAC37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dpisy, rezervy, opravné polo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sk.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51 – Odpisy dlouhodobého HM a N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 zachyc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et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pisy DHM a DN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 – 551/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zřizovacích výdajů – 551/0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2 – Tvorba a zúčtování zákonný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tvorbu (zrušení) rezerv, a to např. na opravu DHM (od 2. odpisové skupiny), dle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na opravu střechy –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 (po opravě střechy)– 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4 – Tvorba a zúčtování ostatních rezerv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účet používáme pro tvorbu a čerpání rezerv, které nesplňují podmínky Z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opravu majetku, který se nachází v            1. odpisové skupině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na opravu počítače – 554/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čerpání rezervy – 459/5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8 – Tvorba a zúčtování zákonných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pohledávkám (viz. neuhrazené pohledávky), které 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opravné položky k pohledávce, která je 6. měsíců po splatnosti – 558/3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59 – Tvorba a zúčtování opravných položek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zachycení tvorby a zrušení opravných položek k zásobám, DM, pohledávkám, které nesplňují podmínky Z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opravné položky k materiálu – 559/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Tvorba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pravná položka k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výrobní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účetního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Čerpání zákonn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17Z</dcterms:modified>
  <cp:revision>18</cp:revision>
  <dc:subject/>
  <dc:title>Účtování nákladů</dc:title>
</cp:coreProperties>
</file>