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E0E7-E22A-458E-8DB4-BF9DB4CDCF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8426-38BD-48BD-890F-E78182A6ACF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BAE0-3E41-4B92-8176-507E905D92E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C8C3-F9DF-4461-8A99-855AA6B6762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03AA-10C1-42CB-8E0C-B5A643018B7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F09E-065A-4495-A3A3-E713D83A5CD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247F-BE38-4AD8-A9D6-5C29B654759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A9A1-0F88-485B-8426-7BF707AB6DF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0E6A-543F-4454-BE64-328A22BFAE1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2A3B-C992-4F1D-8922-F7696308B51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46AE-64A1-4E11-91AE-0122E5A7E1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B140-8F88-4D11-B737-A3712CDEAF9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C93E-0311-49DB-BC89-D9FD761A00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A5F1-F4C0-4219-A900-B965FB06D86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2002-B03B-4D11-808B-EB170E22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8F70-4D17-4366-B762-898B348D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5647-010E-4A3D-81D2-0E1CFE43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2F71-247A-4219-971E-24567B89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C103-CBAD-4272-8565-1D26C07E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1416-6524-4370-8256-70FE6358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037C-CDC7-4D4E-96D9-A368268A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DCA6-19DD-4DCD-BED1-BF9717FA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FAD6-5919-4C65-A5B1-C295A679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A059-355E-4D2F-9131-F50BB9E3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2F21-6EEF-42D9-B3C3-5A45664A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B72A-ACB2-44C7-BDDD-B2223831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053F-76E5-4B77-BC7D-2140562B3AE6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8 – Ostatní provozní náklad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chnické zhodnocení u DHM, jehož částka nepřesáhne Kč 40 000,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jištění odpovědnosti za šk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jištění majetku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Instalace klimatizace do služebního auta – (15 000,-- Kč) – 548/2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9 – Manka a škod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í se zde manka a škody u provozního majetku (dlouhodobý majetek, zásob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i inventarizaci bylo zjištěno manko u zboží – 549/1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Manko u zbož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Klimatizace do auta – 18 000,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Odpis pohledávky za odběrat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aP – Smluvní pokuta od dodav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ZC prodaného 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rodaný materi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zůstatková cena, dary, pokuty a pená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Times New Roman"/>
              </a:rPr>
              <a:t>541 – Zůstatková cena prodaného DHM a DNM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ZC prodávaného DHM a DNM. U odpisovaného majetku se zde účtuje rozdíl mezi vstupní cenou a jeho oprávka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ůstatková cena prodávaného stroje 541/0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U neodpisovaného majetku účtujeme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Prodaný pozemek 541/0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2 – Prodaný materiál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 se zde úbytek materiálu, který byl prodán. Úbytek se zaúčtuje (v případě nákupu materiálu) v pořizovacích cená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Prodaný přebytečný materiál – 542/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3 - Dary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dary, které účetní jednotka poskytla jinému subjek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ry mohou mít peněžní formu, ale může se jednat i o věcné dary, např. počítače , auto, zboží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Peněžní dar zdrav. zařízení – 543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44 – Smluvní pokuty a pená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í se zde smluvní pokuty a úroky z prodlení a penále, které vyplývají ze smluvních vztahů. Například musíme uhradit úroky z prodlení, pokud nezaplatíme dodavateli včas dlužnou část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úhrada smluvní pokuty – 544/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5 – Ostatní pokuty a penál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pokuty a penále, které nám udělili státní instituce, např. FÚ, zdravotní pojišťovny, správa sociálního zabezpečení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pokuty od FÚ za nedostatky v účetnictví – 545/3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46 – Odpis pohledávek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zaúčtujeme např. nedobytnou pohledáv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Odpis pohledávky za odběrateli – 546/3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6:04Z</dcterms:modified>
  <cp:revision>18</cp:revision>
  <dc:subject/>
  <dc:title>Účtování nákladů</dc:title>
</cp:coreProperties>
</file>