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DC7-CBE5-41E9-BB03-C8C2AB6F56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233-42C9-433F-AD56-1715E51573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F2B-F09A-4927-ADF8-F20F6811F7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0F8-2FA0-455C-9DDA-A223FF6E5E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BEB-AEF3-4992-B980-C9350848A9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FA51-CAD8-4EB5-9EDB-EC5E305F18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8812-7BBE-468D-85EA-81B2D318FF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C71-C6F9-4F94-B361-4767585A54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9BB-7B76-4607-9EF3-438174DEA7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043D-1073-48C1-963B-8B009FAB8F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C8D-E70B-4988-9C46-6518EF4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E54-6358-422C-93E2-9D26E83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7B4-11BC-4D69-B59E-7A0A1C4F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C45-D52F-4DAE-A4A0-382059C8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69E-3711-4F30-B4B3-D3E8B46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B85-BA24-4393-82FD-489C94C0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BCE-8468-451E-AFBA-C8A893E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C11-004D-4BAF-8253-6E7EAA7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C3D-7C3A-4919-A9EA-EB8C17D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C12-696C-4985-9B7D-2582E060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709-4958-4756-B843-62F17E6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F18-4B77-4130-9A50-02B2E08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6A8B-EA92-49DB-84EE-9CEA0A9EB1DA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, opravy, cestovné, služby, re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– účtová sk.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33"/>
                </a:solidFill>
                <a:latin typeface="Times New Roman"/>
              </a:rPr>
              <a:t>511- Opravy a udržování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veškeré opravy a udržování (například opravy DM, vymalování místností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počítače – 51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2 - Cestovn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náklady, které jsou spojeny s uskutečněním služební ce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tří zde např. jízdné, ubytování, stravné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yúčtování služební cesty 512/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 případě, že zaměstnanec obdrže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zálohu na služební ce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3 – Náklady na reprezent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výdaje za pohoštění (občerstven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uplatnit odpočet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Nákup občerstvení – 513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518 – Ostatní služb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oštovních zná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inz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fonn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k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obné technické zhodnocení u D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jem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i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PD – Úhrada nájemného – 518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Úhrada inz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Pronájem kancel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Oprava 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poštovních známek (spotře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- Občerst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42Z</dcterms:modified>
  <cp:revision>17</cp:revision>
  <dc:subject/>
  <dc:title>Účtování nákladů</dc:title>
</cp:coreProperties>
</file>