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5349-0A3F-4B0C-B6B0-562B1C0405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0D5A-0CDB-4E2E-8134-D0110613A71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7039-6F74-4DA5-9DD1-0B6E6DB874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7788-DA8B-4FF6-BE61-0F1F54331C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19B-7305-40C7-9D1F-550929AC1F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8AC-D423-4386-8510-B75CC2289D6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27EC-D45A-42E1-9379-6CC5B1A57D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D5EF-CBD3-4186-8E74-C7AEA585D7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7489-C18B-43AC-B399-10B6B02D71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9AC3-DEED-4425-8CE0-E0C1F8B7F84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5312-E14B-4081-AE85-CF1FEE16C2F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DDF1-FED1-4E59-89D1-C2AEB94A1F4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6333-C7E4-4411-A9B0-4E477F15B9F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A72-BE9C-4C6B-AA86-753E6CAB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983-9D4D-4FA5-BB7D-60216236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6FD-DF04-4E3D-8DA0-B4A29131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1C1-6583-4B8A-A2E4-AD0D319E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01CF-A84C-4F3A-8CEE-0F040481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3E64-840E-49CD-905B-C7E8CE43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1629-DE6A-4DD0-A48F-A94D6D45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8B50-1685-46E4-99C7-54B78303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F3C5-8F96-4DB5-A67A-C1739D36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F286-D18F-4AEF-96B7-8C23013A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59D8-495E-4885-A2FA-6F9B5F5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5C5-CEDC-4F65-AF79-1C597F20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3D25-6AD4-44A9-A946-A5632B2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F9B4-F9D0-46DA-9D9D-F1587DBA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5FC2-5DF7-410C-89BA-228B2316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9724-A3ED-447E-A7E1-A76CB40F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1A5B-9F1F-44F2-93A4-E01673C3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0A16-6F67-4027-A3BA-4D421EE9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8D1C6-6FFD-4B5D-B72E-2B7B2F45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D826-AA94-4159-943E-D3671ED6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8102-B53F-4483-A6B5-22932D02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71E4-B8A3-4AB6-BB4C-21E7C46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DA2-428E-41DA-B834-EA5F0AD0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E57D-E243-46A9-9925-4BDDD1F6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E717-3B1B-4D10-BB3D-BE4D6856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1254-19C5-4738-B5F8-9AA8D94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5265-EDF8-47C7-84B3-163D15D8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E4B0-31D3-4659-946A-C92EDD39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18A5A-9D18-4E93-9778-4E1E2124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3CE0-46D1-4D62-9E10-96FC17D0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B48F-85E0-4B7C-B193-5DC32FEA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926E-7266-436B-86F3-D9A3B10A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442D9-25E7-44A5-A5F2-9F616B74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16C-CA57-4A66-90CC-3647BC8F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65C1-90F1-443A-B23A-0489BF62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0190-2C48-4B1A-9833-8D9EB6D0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02B5-EB4C-408E-8AC7-D12A1228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3BC4-A502-4BB1-B17E-E5D3F4C6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116E-CD2D-40DE-B149-4596ACE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0C0BD-5B55-4998-AC4A-175F499E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0E5F4-D9A5-4707-A55C-48209447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9EAA-068E-4B94-AD77-824B8F2C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BDC7-E33C-4AAB-8E47-9E7C590E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38C0B-AE9A-4E1B-BB59-29B41DA7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C42-9687-4547-8DD3-B69B8244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C6AA3-59C7-4B47-8C23-F2663D7C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369DF-B19A-49D5-85C5-15B69CE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70BC6-183C-4CAA-9D42-D9A61364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A3AA0-BAD1-41B6-9DC1-B6D3F6CD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6C16C-7AC2-45C9-ABD5-0EFF95A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6C10B-FFF1-45EB-8BD0-FF2AA972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D97BA-191A-4C97-BF17-66A60B5A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24A06-9FBD-4B97-8D37-6B5250C2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DC9A2-BBC4-462B-A5B6-C1A8ACF6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1B1C5-9E38-4BDF-9E0F-1E4FDA4F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FA0-429A-4EC6-87F9-B8DFDD59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A8303-94D9-4341-BC54-030AEC9A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91D-57CB-4DDA-A31C-EDA96CFF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1C6-2AE8-4091-A5BB-BF266D8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A49-3C8C-4B53-A220-13D94544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7800-DB2C-4EC4-A18F-2BA87F0A55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BCAD-35BD-4639-8024-40FA6DCDD8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9F88-F29E-4407-B0C8-678869ED9D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F645-27C8-4B68-B96C-1244ABF080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1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3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3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3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3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CF1-C25E-46AC-8489-1060210553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39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3. Podle místa vz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 jedná se o členění výnosů podle hospodářských středis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to jsou 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o představují 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nosy provozní, finanční výnosy a mimořádné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nosy můžeme členit podle několika krité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1. Podle výnosových druhů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výnosů, dle účtové osno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dle směrné účtové osnovy si účetní jednotka sestaví účtový rozvrh, kde bude mít např. tyto skupi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092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 – Tržba za vlastní výkony 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1 – Tržba za vlastní výrobk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2 – Tržba z prodeje služ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04 – Tržba za zbož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 – Změna stavu zásob vlastní čin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1 – Změna stavu nedokončené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2 – Změna stavu polotov. vlastní výro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13 – Změna stavu výrobků at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2. Podle vykazování hospodářského      výsled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omic Sans MS"/>
              </a:rPr>
              <a:t>Provozní výnos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1992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z hlavní činnosti, např. prodejem výrobků, zboží, služeb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ých skupinách 60.-6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Prodej zboží – 211/6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Finanční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12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při pohybu peněz, např. přijaté úroky z vkladů, dividendy z akcií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bú – Úroky z vkladů – 211/66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Mimořádné 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6981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nikají nenadále, např. přijaté náhrady od pojišťovny ze šk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výnosy, které jsou uvedeny v účtové skupině 6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Předpis náhrady za škodu od pojišťovny – 378/68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34Z</dcterms:modified>
  <cp:revision>15</cp:revision>
  <dc:subject/>
  <dc:title>Výnosy</dc:title>
</cp:coreProperties>
</file>