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51D5-189A-41CA-ACC4-F37BA16B6E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019B-6D21-4F02-AC53-CD272368795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6020-942B-4EFC-B4BA-3A180EB9FC3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04B-3BDA-47CA-A708-F5D2EE2182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7B8B-E617-4F0F-A402-3764C87505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BE42-B5F9-46E2-8047-088970194C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E568-A2C3-4AA9-A93C-165F16D07E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B843-D184-4F26-B190-9BCF6BA1A1C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6A6-2159-47FE-B67F-4FE6103A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9F4-0EFE-4B17-A6D9-D63668C5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80F-F722-4A19-B777-1D7428C1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BDF-60F3-420A-B853-859DCC30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FBD-F49D-4FD9-9BE3-0836DC1B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51A-DDFC-4F57-95E4-31D41496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F95-F3CE-4393-BC23-6A35F772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2CE-0EFC-40C6-9902-A50DAF2E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650-1A29-493F-B22A-5034096E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03A-2599-490C-9BA5-38180DD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4E1-E8DA-4CB0-8BD9-CE6E2BB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4BA-0DB7-4CAA-92F6-6E39E4F0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3768-D9B4-4D2F-AFCB-2381B8CD5ED8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škody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mořádné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mimořádný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82 - Šk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škody, které nám vznikly v důsledku mimořádných situací. Například škody na majetku v důsledku živelných poh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Škoda na materiálu v důsledku záplav – 582/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88 – Ostatní mimořádné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opravy nákladů z minulých období (účtuje se pouze u významných částe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ě odhadneme částku spotřebované energie za minulý rok a skutečná spotřeba bude vyš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58/321 (3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Škoda na zboží v důsledku požá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škození stroje v důsledku zápl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troj nebyl zcela odeps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48:29Z</dcterms:created>
  <dc:creator>Ing. David Holzbauer</dc:creator>
  <dc:description/>
  <dc:language>en-US</dc:language>
  <cp:lastModifiedBy>Igor</cp:lastModifiedBy>
  <dcterms:modified xsi:type="dcterms:W3CDTF">2014-09-13T15:45:38Z</dcterms:modified>
  <cp:revision>17</cp:revision>
  <dc:subject/>
  <dc:title>Účtování nákladů</dc:title>
</cp:coreProperties>
</file>