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0182-3228-4A90-9319-F2005B74449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4AF3-421E-48AF-B581-59C67DB633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B09-9E6B-481A-A406-C2AD012A285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9E03-11E8-47D0-B12A-1C6E8BBFD7E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EB89-01A1-4EE8-BAD3-52F8365BD65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7E9A-B0FB-4316-B0B2-51C5F26A9C4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AF7F-F650-4DC6-B02C-0A9AFE4E823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CF1A-574A-4524-A0B3-02E60543089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E6E5-C7D7-4D29-9B57-58CA536B034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A329-06DE-4DB7-9C4C-DB23E6CF3CD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4AC9-EC62-484A-BD32-560E2864D52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0C37-6AA7-4888-8B53-C800E6DE25B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D081-2C62-4394-A41D-29C7F7C2B9E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44EF-8E8D-4098-929D-E6B6B85F7E4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3463-D792-45C4-9B50-C9C2526E379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D494-AC88-45DF-9511-0FB93D373D7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749A-270B-40F3-A1C6-39A4EDF6BF4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21C-FC0E-4FAA-B385-AAF272AB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928-44B7-4525-9FD5-588B311C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1FA-F121-4066-A78E-8D820C07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F71-1298-4A6C-8718-3C3624D8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AFC6-4894-4AFE-9FC0-DE3BC327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4003-6053-4AD5-BDDC-C11E39E8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FC77-0001-476C-859F-DC22B002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DE2B-A07B-4BFB-8F60-70837FE4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7589-F8AE-4D56-93D1-DD75D25F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9644-6869-412A-B470-B42B0EA7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81E7-0049-405B-AA77-3D7D231F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C43-DAC3-47B5-BCCC-8A036243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CA9B-88E5-4A56-BBFE-17DC3309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B2B7-BBE0-46B6-90EF-997A1D59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196F-B6ED-41FE-835C-F8B43C0A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3AEB-2179-4E7D-9D57-BCDCD858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8901-D05A-448B-9E1D-F852743C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CA349-647B-47FB-B34D-D34CC7CD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824EB-0AD2-440E-ACE8-539D2E09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32F65-EDEC-4F11-8183-1F413DBD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F1B4A-872D-42AF-9E2A-A347A2CA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7DAC5-F8A8-4D78-8AAE-771A7606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C10-7C77-4FAD-9328-189D2C7C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72F1C-F6EC-4CA0-89D2-054D300E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6D873-021E-4FC2-8FD1-FF1909FE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0945D-90E7-43BA-95F0-D83E9807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EF0DF-6827-4A35-BA08-533BBA97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C9835-846F-4711-A392-03D3F294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D1F38-2F6F-43A4-A0BD-7246A97D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BEBE2-8304-408A-9C70-C02C4280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317-F02F-4AC1-9C51-5446E9DA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72D-AFE2-4471-8890-0B0FE7CA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C4A-DA45-4613-B8D3-3AEA8727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722-17D0-4EAC-97A9-73F8F46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F4D-D2BB-458F-BFB2-FF5771C3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398-973A-44E2-B00B-01F22D17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054-D9A2-45F5-BFE2-C74FF57DED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8A3D-ABD3-4B6A-996C-23C0583B65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F846-BB89-4089-905E-158066D5ED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mic Sans MS"/>
              </a:rPr>
              <a:t>4. Podle kalkula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Přímé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lze přesně určit spotřebu na kalkulační jedni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u základního materiálu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kolová mzda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Nepřímé náklady (režijní)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- nelze přímo určit na jednici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energie (osvětlení)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5. Podle místa vzniku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edná se o členění nákladů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odle hospodářských středis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é středisko je relativně samostatně hospodařící vnitropodnikový útvar, který sleduje své náklady, výnosy a zjišťuje výsledek hospoda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 vnitropodnikových útvarů (HS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sprá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výro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doprav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ředisko odbytu 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 základě těchto informací se provádí hodnocení hospodárnosti a efektivnosti jednotlivých výkon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áklady hospodářského střediska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lze rozdělit n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prvotní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převzaté z finančního účetnictví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druhotné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náklady vznikající ze styků s ostatními středis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Daňově účinné náklad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jsou dle ZDP daňově uznatelné (slouží na dosažení a zajištění příjmů „výnosů“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a zaměstnanců  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21/3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1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2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8/3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hrada silniční daně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1/21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6. Z hlediska stanovení vyměřovacího základu, pro výpočet daně z příjm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daňově neúčinné nákla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ZDP neuznává jako daňově účinn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robněji budeme řešit pří výpočtu dan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kup občerstve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13/2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ta od FÚ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5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ovací daň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38/3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43/221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 členíme náklady podle vztahu k objemu výrob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aké máme náklady podle vykazování hospodářského výsledk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Členění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Členě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můžeme členit podle několika kritérií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1. Podle nákladových druh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- jde o rozdělení podle stejnorodých účtových skupin nákladů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dle účtové osno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. Na základě účtové osnovy si účetní jednotka sestaví účtový rozvr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622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ňatek z účtového  rozvr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 – Spotřebované nákup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1 – 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2 – Spotřeba energ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3 – Spotřeba ostatních neskladovatelných dodáve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04 – Prodané zbož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 –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2 – Cestovn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3 – Náklady na reprezentac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18 – Ostatní služ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910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2. Podle vykazování hospodářského výsledk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voz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é skupiny 50 až 5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atří zde náklady, které souvisí s běžnou podnikatelskou činností (souvisí se  zajištěním provozu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materiálu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energie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stov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dpisy DM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mzdové nákla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ištění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omic Sans MS"/>
              </a:rPr>
              <a:t>Finanční náklad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(účtová skupiny 56 až 5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jedná se o náklady, které se týkají finančního majet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třeba ceni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úroky z úvěrů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ankovní poplat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rzo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ztrát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ladní schod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řizovací ceny prodaných C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c) Mimořádné náklad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se o náklady, které jsou neočekávané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nepředvídateln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y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kody v důsledku živelných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hro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lady na změnu met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vorba mimořádných rezerv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3. Podle vztahu k objemu výrob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) fixní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neměnné) - nejsou závislé na objemu výkon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atří zde např.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aňové odpisy DM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ájemné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držba a správa budov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ilní náklady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(proměnlivé) - mění se s objemem výkonu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třeba materiál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mzdy výrobních dělní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oc. a zdrav. pojištění, které hradí firma za 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yto dělník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41Z</dcterms:modified>
  <cp:revision>26</cp:revision>
  <dc:subject/>
  <dc:title>Náklady</dc:title>
</cp:coreProperties>
</file>