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1118-B9C7-4AE1-9520-66D9564B14F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D9FB-EFA5-4248-860C-A9B64DFF51E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FB56-5416-4130-80B0-2A6AEFC9144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553C-F195-45F4-B836-EC2012104AF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518E-7F38-4ED0-AB3E-09DF0F328DE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E25B-E777-45D1-BC82-E40BC551862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55C2-A44E-4368-80C4-2C5703A71E3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8550-F0F1-4026-A526-CAFF6935E62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D015-3169-4614-BCA4-9BB83B02C72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B7A1-7F0F-49BB-86FF-C62C662522A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F327-0AD5-45A6-822A-EE474A06E5A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9A64-9369-4B64-945E-13E42D63B94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3342-93CD-4D88-A691-F279CEE6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D11-82D3-46B3-BBAB-263EF256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4265-FC81-4416-B101-DED4FC0E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179-B8AF-4ED7-8899-BD6C470A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83C0-1FA0-49A8-9966-B8D56909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35CB-ABF9-4269-85D5-AA68C18F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C7C1-BA20-4D3E-977D-D3618479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44AC-BC81-4439-A1AF-DD1B9D11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350E-A416-452D-A9AB-5528A2DB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EB8F-880F-401C-A399-C19A976B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1370-321C-4537-9651-891F2C55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90BC-92E4-4F4C-98D4-B8F0F33B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696F-A5A4-4B20-971D-D30E9840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BABF-F480-4F61-A569-D872A14E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6DCA-B931-491A-A862-0F667F88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449E-7BA3-48D8-8AEC-CE654094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CA73-2BDE-43F5-8677-E069BBE3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DF281-B090-4D0C-9889-AE7B967D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1A0C4D-5159-4517-A55F-DBE2A84F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AD445-A303-42F8-91A4-DB8135E3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FD36C-538C-462B-8C46-B4D97195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A79D2-BCAD-4B12-9147-6C7BACD2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025E-A9A7-4A8C-A871-06C9A361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B4B8E-FA78-466C-942C-694B3C68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0BFD3D-05CE-4333-96B5-627AAAA3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45132-94C1-4A97-8B99-4362D049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0BC3B-A1FE-466E-8C2D-5A31DBA7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41F329-9063-4C72-8600-F93C48F5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0854C-B4F2-4CB4-8B45-DB51948B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52066F-FD13-4BBB-9124-0957E5FD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5FA-3833-40BC-BDA5-5703A8DC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1B7-6E68-4D4E-B0CB-B450489F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000A-B442-4FA5-844E-F97A91EF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7FD4-0A04-4988-BCFD-7210F5AB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D38-666B-4CBA-BD76-EB9C3EF8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EF8-E98A-4D2A-A15F-5F115C24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EBEF-5757-4A84-AC21-222AA5E135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5888-495D-4987-A789-74651ECD95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3E6D-E9AF-4185-8BA3-E0DE48BAE7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</p:pic>
      <p:graphicFrame>
        <p:nvGraphicFramePr>
          <p:cNvPr id="24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Vysvětlet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ujte náklad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Rozdíl mezi náklady a výdaji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g. Pavel Štohl – Učebnice účetnictví 2. díl pro střední školy a veřejnost, vydavatel vzdělávací středisk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       Ing. Pavel Štohl, 20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 a vý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áklady, výdaje, spotře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Comic Sans MS"/>
              </a:rPr>
              <a:t>Charakteristika náklad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Nákla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áklady představují peněžní vyjádření spotřeby živé a zvěcnělé práce, která byla vynaložena v souvislosti s činností účetní jednotk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mic Sans MS"/>
              </a:rPr>
              <a:t>Na základě nákladů a výnosů zjišťujeme hospodářský výsledek účetní jednot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omic Sans MS"/>
              </a:rPr>
              <a:t>Náklady je třeba odlišovat od výdaj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daje jsou úbytkem peněžních prostředků bez vazby na konkrétní výkony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ýdaje se přeměňují v náklady jen tehdy, jestliže vynaložený majetek vstupuje bezprostředně do tvorby výrobku, práce či služb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kup materiálu v hotovosti představuje výdaj peněžních prostředků, ale nákladem bude až samotná spotřeba materiálu (je zde časový nesoulad mezi výdajem a nákladem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čtujeme následovně (způsob A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1. VPD - nákup materiálu (bez vedlejších výdajů)     112/2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2. Výdejka – spotřeba materiálu 501/1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kud b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tní jednotka nakoupila materiál, který bude ihned spotřebová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ak se jedná současně 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ýdaj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nákla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četní jednotka nakoupila za hotové kancelářské potřeby, které byly ihned použ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účtujeme násled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PD – nákup kancelářských potřeb 501/2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76584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mic Sans MS"/>
              </a:rPr>
              <a:t>Další příklad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kup kolků v hotovosti, které nebyly použity, zaúčtujeme, jako úbytek peněžních prostředk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PD – nákup kolků 213/2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(protože zatím nebyly použity, nejedná se o náklad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mile tyto kolky použijeme, tak se jedná o náklad a zaúčtujem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ÚD – spotřeba kolků 538/2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kud bychom nakoupily kolky, které ihned použijeme, tak se jedn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 výdaj a souběžně i nákl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Zaúčtujem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PD – nákup kolků – 538/2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4:22:20Z</dcterms:created>
  <dc:creator>mirek</dc:creator>
  <dc:description/>
  <dc:language>en-US</dc:language>
  <cp:lastModifiedBy>Igor</cp:lastModifiedBy>
  <dcterms:modified xsi:type="dcterms:W3CDTF">2014-09-13T15:44:57Z</dcterms:modified>
  <cp:revision>30</cp:revision>
  <dc:subject/>
  <dc:title>Náklady</dc:title>
</cp:coreProperties>
</file>