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4436-A7D8-44B6-89B8-918AA6186139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05D9-F7E7-4E48-AE6A-C2DF7D176E4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75E3-87FC-41DC-B69C-B3A4443C5E05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53F9-C3B2-4E00-AFCA-D5A99879D5D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5AB1-AF19-43D8-BCDA-B4C8598B24F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9555-FC1C-40DD-AF7F-5320452A43DF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85A0-000E-4FE0-B056-F4E732EB94D3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0AD5-58A5-41AD-8C78-1EF5BB181727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854B-562F-4C6B-BF91-B3EAF553E8CD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C9E0-9E18-4FE7-8608-FBBBDF952ABF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B898-FC4D-4BE3-94CB-3E4A472BD7C9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D0F3-E59F-42E3-9E15-A26AD2B1C944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2A49-2E71-4FF5-8E38-CA884DEC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9008-7FDB-459E-BA01-4D04EE71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3F35-4A17-49CE-A128-DB5AAFD9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07BF-B95B-446D-938B-A0A19496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E2E1-83A7-48AF-A691-0256F1F0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F1F6-995C-4A95-841A-4A862AFC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4384-33A2-4297-BD72-825B42CB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1CAD-49BE-4418-B7C3-5D43598E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961E-8955-41EF-918E-C853F6D0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A9E0-E4F9-4F09-92FB-D5D8C598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720B-8CAE-479F-9B71-1E7DA2EE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A53E-B26F-4A1F-B21A-1D215FF2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0F93-F582-4E03-8002-0A72A78D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5C89-C375-47DF-A464-989D825F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5564-3542-4E92-B475-D6A85F8C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E1CC-7ED1-4E3A-BD92-CDF604E8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B05B-FB95-4786-B581-78EF4B1C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7467-90F9-4EBC-901F-8DAF0B5C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EA6B-7D59-4161-AFCE-A474C08A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1063-60CA-4CC7-93AF-5FE8E6BB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1624-9854-4789-9D84-B7A7909F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2873-9350-4C2E-99D0-ADE274B6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505F-84CD-459B-8907-A17B2CA7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84BD-AF2B-442F-B1DC-075B7CC2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EDC7-FAE0-4AC4-8BE5-9FD1B7D3C80A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156F-BAC9-4542-B9A2-05022E3CD2ED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Výukový materiál zpracován v rámci projektu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EU peníze školá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Registrační číslo projektu: CZ.1.07/1.5.00/34.020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</p:pic>
      <p:graphicFrame>
        <p:nvGraphicFramePr>
          <p:cNvPr id="9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Zaúčtujt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Přeprava zboží vlastním au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Aktivace stroje ve vl. náklade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Přírůstek obalů na sklad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ng. Pavel Štohl – Učebnice účetnictví  2. díl pro střední školy a veřejnost, vydavatel vzdělávací středisko          Ing. Pavel Štohl, 2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720800" y="365040"/>
            <a:ext cx="6781680" cy="81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ktiv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800" spc="-1" strike="noStrike">
                <a:solidFill>
                  <a:srgbClr val="999900"/>
                </a:solidFill>
                <a:latin typeface="Garamond"/>
              </a:rPr>
              <a:t>Účtování provozních výnosů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80600" y="4350960"/>
            <a:ext cx="645012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Účtování výnosů – učtová sk. 62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Účtová sk. 62 – Aktivac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135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ktivace představuje přírůstek majetku             (tj. zvýšení stavu aktiv) v důsledku vlastní činnost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ktivace se účtuje ve vlastních nákladech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dle toho, který druh majetku aktivací vzniká, používáme tyto účt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621 – Aktivace materiálu a zbož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622 – Aktivace vnitropodnikových služ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623 – Aktivace dlouhodobého nehmotného majetk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624 – Aktivace dlouhodobého hmotného majetk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9900"/>
                </a:solidFill>
                <a:latin typeface="Garamond"/>
              </a:rPr>
              <a:t>621 – Aktivace materiálu a zboží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ento účet se využívá v případě, ž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firma vyrábí obaly pro své výrobky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účtování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- Přírůstek vlastních obalů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12/6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9900"/>
                </a:solidFill>
                <a:latin typeface="Garamond"/>
              </a:rPr>
              <a:t>621 – Aktivace materiálu a zboží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vé výrobky prodává ve vlastních (podnikových) prodejnách. Předáním do prodejen, se mění (majetková složka) výrobky na zboží. Musí být zaúčtován úbytek výrobků a přírůstek zboží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Verdana"/>
              </a:rPr>
              <a:t>účtování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Úbytek výrobků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613/12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Převodky na vyrobené a předané zboží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31/6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Předání zboží na prodejnu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32/13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9900"/>
                </a:solidFill>
                <a:latin typeface="Garamond"/>
              </a:rPr>
              <a:t>622 – Aktivace vnitropodnikových služeb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ento účet se používá např. tehdy, jestliže má firma vlastní dopravní prostředky, kterými si sama přepravuje materiál, zboží atd. Jedná se    o tzv. vnitropodnikovou službu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účtování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Doprava mater. vl. podnikovými aut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111/62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62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9900"/>
                </a:solidFill>
                <a:latin typeface="Garamond"/>
              </a:rPr>
              <a:t>623 – Aktivace dlouhodobého nehmotného majetku</a:t>
            </a: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002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Účet 623 – Aktivace dlouhodobého nehmotného majetku se používá tehdy, jestliže si sami vytvoříme tento majete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apř. pokud se jedná o účetní program zaúčtujem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Aktivace účet. programu ve vl. nákl.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041/62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úD – Zařazení do užívání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013/04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9900"/>
                </a:solidFill>
                <a:latin typeface="Garamond"/>
              </a:rPr>
              <a:t>624 – Aktivace dlouhodobého hmotného majetku</a:t>
            </a:r>
            <a:br>
              <a:rPr sz="3200"/>
            </a:b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Účet 624 – Aktivace dlouhodobého hmotného majetku použijeme, jestliže si sami vyrobíme (postavíme) stroje, přístroje, budovy at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 případě, že jsme si sami postavili garáž zaúčtujem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úD – Aktivace garáže ve vl. nákladech 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042/62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úD – Zařazení garáže do užívání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021/04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8:22:54Z</dcterms:created>
  <dc:creator>Ing. David Holzbauer</dc:creator>
  <dc:description/>
  <dc:language>en-US</dc:language>
  <cp:lastModifiedBy>Igor</cp:lastModifiedBy>
  <dcterms:modified xsi:type="dcterms:W3CDTF">2014-09-13T15:48:46Z</dcterms:modified>
  <cp:revision>22</cp:revision>
  <dc:subject/>
  <dc:title>Účtování výnosů</dc:title>
</cp:coreProperties>
</file>