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A717-ED55-4660-8B0A-8CE518A8863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D5FA-9265-4378-9ACA-91F0EC2F287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FF7B-E3F4-42AC-8765-ABF0331A004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3E9B-F507-43A6-A0E6-3B3A660BFA3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8137-DE0A-467D-B103-8DFF28FB3D2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5012-0629-49B1-B4A5-DBB9D80C46A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6D53-4F32-49A8-AA34-2D41C5C9DED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76BF-25F1-43EE-92AA-DB51CA42943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E679-6F95-4D61-84A1-05F34C3CC08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B532-A833-44F0-8DEF-A9E141831BD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6F71-7009-449C-A041-E15DB42F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5150-59D2-475D-B999-56289A2E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B0F3-FF9D-4A35-8EC1-52FFF738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B11F-5BF8-4739-8B40-5CF7DD92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D463-4067-4323-A2EA-0715CA82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0F2D-6025-4085-BCEA-0FB2A1D1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555C-DACD-45E6-999A-60986251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8F98-D8B2-4A86-98F2-FBB680C4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7E95-0655-458D-A81E-66698856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B081-519D-454E-B2B3-A77BF443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6134-B2A1-4158-AF98-B55435D5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3B64-75D1-4A62-9B23-D3568C50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1CE4-5892-4563-9381-B6BBA9DA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DD1F-774B-4CD8-8AC2-B5C19E5E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9103-F51E-46C7-BFA3-52126F62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89A0-9C99-4C4A-96CE-7DEA05E2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7F6C-1739-42EE-B860-86FF4784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05E5A7-977A-4C96-B64A-117AB8B0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24D74F-2D74-493A-97E1-29920173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D33CD1-B874-44CB-8A3F-BF7FC03A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4B3E3E-F023-4355-886A-7C6E2473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332D60-43D2-4BC3-A40F-C2D5090F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094E-F233-4227-AB35-784E8065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D15298-6102-4C5A-A4F1-ECB8F698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D26C2-D773-4722-BD4F-8564A9AD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45D7E2-384F-48F1-8B05-2AFDEEC9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DDC893-709A-4FDC-9AC8-2F402568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E4CF1-19CA-4C31-A56B-B9511A38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18176F-72FA-412C-8DCE-D5A768F5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D1F7B5-B7CB-41A9-9F8E-0CBDAA7B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D19F-45B1-4A15-A0F7-6CF783D4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3FC7-C7AE-42CB-92F0-D35144AA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ED19-F8BB-44A4-A0CA-8F13A68B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1B36-8DF7-42F3-9F62-A4AE58B9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66F2-A3BC-40F0-9BFE-4D54903C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2B51-68DB-4278-AF41-35107EDD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34AB-5D37-445F-9B2E-9B9DB05F13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B620-1706-4DAA-97A7-00D7053B74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2E12-AFE0-4912-91A9-0F078FE886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yřa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vod do osobního uží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63700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Vyřazení dlouhodobého majetku do osobního užívání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yřazení dlouhodobého majetku do osobního užív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200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účetní jednotka (podnikatel) vyřadí dlouhodobý majetek z podnikání do osobního užívání musí zaúčtovat zůstatkovou cenu na účet 491 – Účet individuálního podnikatel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26920" y="1197000"/>
            <a:ext cx="6553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 (plátce) musí odvést DPH z vyřazeného majetku, a to i v případě, že je majetek již zcela odepsá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1916280"/>
            <a:ext cx="726912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 vyřadil z podnikání do osobního užívání automobil jehož VC činila 390 000 Kč, dosavadní oprávky činily 150 000 Kč, a odpis za část tohoto roku činil 32 000 Kč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95280" y="1989000"/>
            <a:ext cx="791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Odpis za část roku   32 000 Kč  55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Zůstatková cena     208 000 Kč  49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PH 21%   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43 680 Kč  491/34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Vyřazení z evidence 390 000 Kč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 vyřadil z podnikání do osobního užívání počítač jehož VC činila 42 000 Kč, dosavadní oprávky činily 30 000 Kč, a odpis za část tohoto roku činil 6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aúčtujte odpis za část roku, zůstatkovou cenu, a vyřazení počítače z evidenc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0:09Z</dcterms:modified>
  <cp:revision>56</cp:revision>
  <dc:subject/>
  <dc:title>Náklady</dc:title>
</cp:coreProperties>
</file>