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8651-09CB-44E6-AA0B-1A71745041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894-5D90-457E-AB6F-28E3374724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040-F391-4687-B3DB-CFE43CD1463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9BB-A043-49E9-A79C-0329122C58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B6F0-9690-4057-A316-50C100C247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F01-B2B4-4F64-8491-CD5BA7C7D3D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F2A-589E-4C05-84A3-FDA56F294A5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B11A-96FC-4CFE-9274-A78F10195C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A178-621E-4A11-88D9-8A7932D9A9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159F-A924-43E4-8A35-0031DF7012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0BDE-0275-460E-BBC4-700212677D0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E17-83E2-468E-B728-00179784F5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78D-9F05-4E23-8822-13804FD9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3C5-106E-4C7C-9195-D52E85A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BEB-1C48-41F9-B469-9CB38EAF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EB2-3C5D-4472-B869-BCF7AAFA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08B-8485-4ADF-893B-7B6BC0DD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B44-91B4-4173-B6BA-9CA83743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EB35-C398-479B-B088-C818AC4A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8A39-D5E3-4DF6-A908-6BFA624F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F2BE-C1ED-4D13-B3C3-6E2AE9E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A60-77C5-4EDD-B465-EBD48E22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CABB-995E-4F04-B24E-9560C685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864-79F4-4B83-A7FB-56A70276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F300-508C-43D9-A577-A7C73D16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DB70-F5EF-453F-B1A3-D463067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AAE-D2C3-4713-91D4-145E602D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E8B-FE50-4FFD-93C9-1C4D952B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BDD8-BBF5-4DE4-B055-AD708065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486D4-B9C3-4218-BDCD-4EA0822B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C2B58-0AB0-451C-9451-6875FC3A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710CB-787A-46F7-90EC-4D76C7F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892A6-598A-4B7D-BDA6-4EFACFB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11EAE-C2A7-4A8D-A6C2-901D8046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727-03A0-4364-86DA-B69C01C4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EE134-7B8E-4B1A-BF48-63EA0267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812F6-89DC-4C3C-8510-1C6E1AC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965CC-D326-4872-B6A6-CAEF43E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20DC6-A352-4232-95F7-35DB000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48A87-294E-42B0-858A-0F67BCBB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C4325-B78C-46AD-91F7-BF40711B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C867D-C079-4EAA-809C-8B6A2EB1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3F1-3A99-425C-9BA7-0D9D9410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6EB-AECE-46B9-A772-BDDE01F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959-9C5A-4107-BFE7-21F8EBE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B30-02FF-4313-9E37-1B4FA756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FA5-ED4A-43E3-BA27-D5D9D072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6E5-3FF1-4846-A3DD-38AB663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B767-99FC-49A7-B39B-E566B4873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873E-DF8D-442B-960C-972DAAA9A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A285-4C17-40A5-8BA6-4E0477033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ama postavila garáž. Při výstavbě ji vznikly tyto náklad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potřeba materiál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85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zdy stavebních dělníků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0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Režijní náklady (odpisy strojů, spotřeba elektřiny atd.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0 000,-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lastní náklady činí 185 000,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ceňová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izovací cena, vlastní náklady, reprodukční pořizovací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čeňová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Oceňování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M oceňujeme tzv. vstupní cenou, ta může mít tři podob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omic Sans MS"/>
              </a:rPr>
              <a:t>pořizovací cena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- cena za kterou byl majetek pořízen, včetně vedlejších nákladů (doprava, pojištění přepravy, provize, clo atd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lastní náklad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vyrobíme-li si majetek sami, např. nábytek, výrobní halu at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odukční pořizovací cena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neznáme-li cenu, např. při darování, pak se určí odhadem soudního znalce (znalecký posudek) nebo podle ceny obvyklé na trhu v době, kdy jsme majetek poříd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ořizovací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ládá se z ceny pořízení a z vedlejších nákladů, a to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ontá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ůzkumné, geologické a projektové práce (u stave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0920" y="1197000"/>
            <a:ext cx="74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související s uvedením předmětu do užívání (opravy), kolaudační poplat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a zabezpečení pořizovaného majetku (správní poplatky, poradenské služb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stranění stávajících staveb v důsledku nové výstav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učástí pořizovací ceny mohu být i úroky z úvěru na pořízení DM, ale pouze do kolaud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koupila v zahraničí (mimo EU) výrobní stroj. Cena pořízení stroje činila 150 000 Kč. Dále ji vznikly tyto náklady související s pořízení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 - 30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 stroje – 7 8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tění přepravy – 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izovací cena činí – 188 9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lastní 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13000"/>
            <a:ext cx="7696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sou to přímé náklady (materiál, mzdy, ostatní přímé náklady) a nepřímé náklady (výrobní režie)  související s vytvořením majetku vlastní činnost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23Z</dcterms:modified>
  <cp:revision>43</cp:revision>
  <dc:subject/>
  <dc:title>Náklady</dc:title>
</cp:coreProperties>
</file>