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AEAB-C1F9-4CEF-8427-967ABA19A0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C16D-B9E1-41BD-88A6-9BE303034FF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6E83-EDF1-4A2C-88BF-2F3D0D4AED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ADB2-7896-44FC-B4A9-48522778243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B4E3-F4D0-414A-AAC1-632A17BE142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1D2E-F014-455C-9F17-2E29E07330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DDDD-CE41-4E84-B12E-FA93F3A6DA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D39-9EC1-428A-8ADD-12E257B341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F7B3-E8C3-4675-ADCF-F66559778A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447-FE3F-40B3-B0F1-D7A44CD1B7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F71-4AFA-49E1-B069-C181A45C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DE6-D2C9-46B9-B6B0-B084914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156-7006-4F5E-B802-CA2940BF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251-5A03-4E28-AF29-03BD2551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CFF-264D-4B9E-9FF6-C37F0BBF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4A32-724D-44D6-801C-6E3069B8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A8B-B8BA-4910-A642-8A18EDAC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399B-D0E2-4B9B-906A-C5D448D2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CA7-9D90-4C20-BB26-2F02D713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9482-6875-4C45-9E93-E47EB70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2447-F206-4C84-9E4E-553D323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944-733D-4364-87EE-204C936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71A3-530C-4978-9F41-DAC9DDE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F1BD-8151-4720-908C-F7B8B26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8DD6-8012-4FB6-AE3E-B07F4B59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ED7C-58C0-4D41-B5D2-87466AB1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3A90-3792-4951-AB70-E1F4A5F0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33AC2-99D3-43B9-9223-0BBB008B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BA911-6FE6-4F31-97A0-5AC7C2A9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104C6-C9A3-4FEA-A5B5-544A2C79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08029-2A18-44C2-8157-AEB5DB82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D113B-A4D4-4261-81CA-2DC6BF81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2E2-F83D-4391-8841-EE76089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258FA-BA3B-4E6B-AFC3-85982878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4E809-C537-46CA-B496-3544D33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40539-C567-4ECC-A047-0F6BC77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23CB8-E497-4F63-8470-595EA1E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6CFC4-112B-4AD2-8B48-0CD52920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4F997-84CC-46FA-A91D-E5051CB3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3EAB0-08DE-428B-9F78-FC12D755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897-B2EC-40D9-B903-548FC04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C11-9908-4232-9F79-657DD09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B81-AF63-421C-ABD7-051064E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6D5-8089-4F2A-B1DE-067ED495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90E-7A42-4B4B-BC36-8B74842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38E-9DFE-4CD3-B625-F8E2819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AAD7-297A-4E21-861F-0C3AA851A7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D51-5BE9-4503-ADA6-EBD58D837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235-CEBA-4258-BDAE-9C6637153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finanční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finanční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o dlouhodobého finančního majetku firma investuje, chce-li uložit své volné finanční prostředk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Do dlouhodobého finančního majetku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é cenné papíry, které podnik nakupuje na dobu delší než jeden rok (akcie, obligace, vkla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ůjčky poskytnuté podnikům na dobu delší než jeden r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movitosti, umělecké předměty z cenných kovů pořízené podnikem za účelem obchodování s ni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bor movitých a nemovitých věcí pronajímajících se jako cel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6 – DF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1 – Podíly v ovládaných a řízených osobá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2 – Podíly v účetních jednotkách pod podstatných vliv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3 – Ostatní cenné papíry a po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5 – Dlouhodobé cenné papíry držené do splat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6 – Půjčky a úvěry – ovládající a řídící osoba, podstatný v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7 – Ostatní půjč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9 – Jiný dlouhodobý finanční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2:58Z</dcterms:modified>
  <cp:revision>37</cp:revision>
  <dc:subject/>
  <dc:title>Náklady</dc:title>
</cp:coreProperties>
</file>