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DD16-A3F3-4568-80DD-1EF59D2534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4B5E-9AB3-4E2A-A855-70D58DAF345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08B0-9117-45D5-88A2-6515DF6EF2B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508F-6163-49F2-B2F7-85C5BED5610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2FAE-6D4D-4DA5-A86A-FD4F942B498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7E4C-0D8D-458D-AA56-81FB8BBB533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7FDF-3CEB-48F8-B275-71BE30AFFCD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BE4F-FF2B-4B90-A486-CC58EB1F2AB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65D6-6CA8-4F78-97D3-39E0C2C5F2F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A189-FA0D-4919-ADBD-8FB58B25F90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8B55-0883-45D2-A08F-DECA9B6BF3A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52F0-D330-4541-8A3D-5B18C683DD9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CEDC-0A05-4EB6-97E0-7A3A9677561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2A5F-370A-4F26-B706-300969DE68C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E50A-C6C5-4269-9EDF-7FB9136A049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8A03-12BA-45A3-9F06-E6F21401FD1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91CE-43C1-4A64-8394-9620966685E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4A92-E6FB-4A27-BF1B-7F4992CF9D9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7D16-D0E6-4BCF-B577-E6035365AED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53E-028F-4619-BBA9-940DE38A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A5D-654F-483B-BA76-8B548BD1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644-5896-4BE3-B6A2-60C7C832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A4E-DFC7-4D6C-B846-58512A17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C807-B6C2-4FEC-AB75-FC5889DE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27BF-A72B-4F32-B6CD-1A8E2987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112C-5073-4CFF-84D3-8C9604ED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AA46-2CD0-4EE3-AD80-6906F907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BD02-1A2F-4AFD-B2A0-0CB12BA0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EB2B-49C0-4A0F-B874-55747D86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22FE-BCD8-4655-AC9A-103A2348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BF6-F884-46E7-870D-45B0447E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3242-E9E2-4C48-A82E-6E99E765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2393-EB12-4CFF-B271-EBD0568C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C217-0129-4F01-B443-E120583B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5E4B-5941-4D26-A78D-54E8659E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652D-049A-4378-BE71-030326CC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E81A5-D44F-4F79-8776-42C1F43E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4A771-3669-4DDE-BBDB-748316D0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DAC7F-F70C-407F-9C94-A742EE0D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74639-6801-4CFE-A445-EE08D117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8E63B-DD0D-4C97-95F2-0A0450F5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9D6-6C0B-4B93-810A-3EDAD91F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3F10D-EAAC-4EAC-828F-6E1164CB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37844-4180-4931-9E6C-DFBD2C48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31658-E1AC-47A6-904B-B126B19B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5520B-003E-4CA4-8D7A-FEA011C2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D1E4F-FDE8-4B4F-B65C-7E33EAB2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38F54-3EDD-4D76-BC30-3EA79B25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2ABA9-AC14-4959-83F0-8B2748C6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0A9-90B2-4153-9EE2-A80560E3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874-CB54-4D7D-B3C6-FFB73706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CFF-A22E-4B1A-9D64-0ED8F2C2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7B7-B5B1-48DE-BEA0-A0C2900C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381-72D1-442B-9087-16225E49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314-1223-4661-AD08-65B06A4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3988-8764-4E84-BD50-FA2DF201CE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7BCB-6F7C-423C-88FB-0CD96CA68C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7B3C-1B39-4EAF-B5EA-ADD791C22B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Rovnoměrné odpisování (lineární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zoreče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pis     =    Vstupní cena x sazba (v 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3276720" y="4005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476360" y="1125360"/>
          <a:ext cx="6335640" cy="390708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2560"/>
              </a:tblGrid>
              <a:tr h="3589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 odpisová saz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vním roce 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dalších letech 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2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ýšenou vstupní c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Příklad: rovnoměrné od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pořídila v roce 2009 osobní auto Škoda Octavia za 48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le zákona o dani z příjmů osobní auto patří do odpisové skupiny 2 (doba odpisování 5 let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to rovnoměrné odpiso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042920" y="1916280"/>
          <a:ext cx="6577200" cy="3786120"/>
        </p:xfrm>
        <a:graphic>
          <a:graphicData uri="http://schemas.openxmlformats.org/drawingml/2006/table">
            <a:tbl>
              <a:tblPr/>
              <a:tblGrid>
                <a:gridCol w="1644840"/>
                <a:gridCol w="1644480"/>
                <a:gridCol w="1643040"/>
                <a:gridCol w="1644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ůstatková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Inventární karta   odpisový pl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rychlené odpisování (degresivní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zoreče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prvním roce        odpis =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stupní ce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koefici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dalších letech     odpis =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2 x Zůstatková ce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 – n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počet let odpisu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4572000" y="335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427640" y="479736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187280" y="1125360"/>
          <a:ext cx="6193080" cy="3818160"/>
        </p:xfrm>
        <a:graphic>
          <a:graphicData uri="http://schemas.openxmlformats.org/drawingml/2006/table">
            <a:tbl>
              <a:tblPr/>
              <a:tblGrid>
                <a:gridCol w="2529000"/>
                <a:gridCol w="1220760"/>
                <a:gridCol w="1222560"/>
                <a:gridCol w="1220760"/>
              </a:tblGrid>
              <a:tr h="357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eficient pro zrychlené ode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v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další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ýšen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ůstat,. c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Příklad: zrychleného od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pořídila v roce 2009 osobní auto Škoda Octavia za 48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le zákona o dani z příjmů osobní auto patří do odpisové skupiny 2 (doba odpisování 5 let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to zrychlené odpiso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042920" y="1916280"/>
          <a:ext cx="6577200" cy="3786120"/>
        </p:xfrm>
        <a:graphic>
          <a:graphicData uri="http://schemas.openxmlformats.org/drawingml/2006/table">
            <a:tbl>
              <a:tblPr/>
              <a:tblGrid>
                <a:gridCol w="1644840"/>
                <a:gridCol w="1644480"/>
                <a:gridCol w="1643040"/>
                <a:gridCol w="1644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ůstatková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Inventární karta   odpisový pl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6560" y="7461000"/>
            <a:ext cx="7696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aňovým odpi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ňový odpis, 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ýpočet daňových odpis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aňové odp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 je musí brát v úvahu při výpočtu daňové povinnosti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o daních z příjmů (příloha 1) stanovuje pro každý majetek dobu, po kterou bude odepisová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řazuje jednotlivé druhy majetku do odpisových skupi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při pořízení dlouhodobého hmotného majetku zvolí jednu ze dvou meto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ovnoměrné odepisován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rychlené odepisován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volenou metodu musí dodržet do konce odepisování (v průběhu let odepisování změna není možná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umožňuje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odepisování přerušit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 pokračovat až podle rozhodnutí podnikatel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 případě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technického zhodnocení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louhodobého majetku (přístavba, rekonstrukce, generální oprava stroje, zabudování klimatizace do auta apod. dražší než 40.000,- v jednom roce) se zvyšuje hodnota dlouhodobého majetku a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odpisy se provádí ze zvýšené ceny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dpisové skupin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louhodobý hmotný majetek se rozděluje do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 odpisových skupin,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 to podle předpokládané doby životnost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68360" y="836640"/>
          <a:ext cx="7488360" cy="4397400"/>
        </p:xfrm>
        <a:graphic>
          <a:graphicData uri="http://schemas.openxmlformats.org/drawingml/2006/table">
            <a:tbl>
              <a:tblPr/>
              <a:tblGrid>
                <a:gridCol w="1008000"/>
                <a:gridCol w="1224000"/>
                <a:gridCol w="5256360"/>
              </a:tblGrid>
              <a:tr h="76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ro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vězí dobytek plemenný, kancelářské a školní potřeby plastové, kancelářské stroje, ruční mechanizované nářadí a nást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ě, koberce, cisterny, čerpadla, transportní zařízení, prodejní automaty, traktory, stroje, letadla a kosmické lodě, kolotoče a poutové atrakce, lešení, trolejbusy, nákladní a osobní auta. 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abrikované prostorové buňky z betonu, trezory, dekorativní sochy kovové, turbíny, výtahy, lodě, železniční lokomotivy, tramvaje, vozy metra, skleníky,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y a budovy ze dřeva a plastů, tribuny stadiónů ze dřeva a plastů, bazény ze dřeva a plastů, průmyslové komíny, vodovody a kanalizace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y, tunely, budovy, stavby, dráhy letišť, studny, dálnice, ulice, silnice, tribuny stadiónů kromě dřevěných a plastových a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ovy hotelů, obchodních domů, muzea, školy a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Metody odepisován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vnoměrné odpisování (lineární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rychlené odpisování (degresivní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1:54Z</dcterms:modified>
  <cp:revision>50</cp:revision>
  <dc:subject/>
  <dc:title>Náklady</dc:title>
</cp:coreProperties>
</file>