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AA89-1F5E-439E-984D-F20592A432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45B0-8919-45A9-BF10-9DB93D64EF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1CBC-2484-458A-9037-231656BC2B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26CF-2190-41F5-ACB4-16DA5B60B8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84C-6CFC-4D02-9DB0-EDA57B53D1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10DF-D4F2-470B-BFC6-F0B6626542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EDB0-CD40-4A61-ADBC-19FE05CE411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6D7F-2C53-4163-AD5D-F8D96DC247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9B2E-0DF0-4874-9BB1-5FAC3CAFBA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F456-6BA3-43F0-8496-E76262FF34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4731-D091-43EC-BF58-F7CEA59954A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A19-76D1-4FE1-B2A3-C91EACEA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574-8BFD-476B-B7E2-3B86EC22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733-3CA4-4141-8CA0-0790E392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AD3-582A-45B4-B715-AC832537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A206-34D0-4623-9F27-AD6D5922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D937-E9B5-4134-9906-E0174273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D6D6-658F-4DE0-ADDF-44D06940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9436-A951-465F-9EFC-9E3763D6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252D-FF6A-43E3-8C24-D9C5682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1E18-9941-44A5-822C-2755F91A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DDF3-CE31-401D-99B9-1C87289A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D6F-18C9-40A8-8834-63DE15AF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4906-7E6E-4FEB-B8FC-37C245AF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3DD3-0215-4B8F-97AB-25284E0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0746-EE57-474B-81EB-B3CB94E6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9D54-2DC8-4D51-AF43-9481CFF9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E0A4-B192-40A3-8B62-646E6C2B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F7E3A-C5AD-4A2A-B281-7A9B3A8D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FB32C-7DFF-4C5F-9FFC-722840AB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5BBB9-6372-4229-B7B1-45B520CC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A2B1A-CCC4-414D-90A9-659EC23F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8875F-F858-45E9-8F6E-7DF1C1D7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2DE-77E2-4E0B-91CF-2CE0BC5E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A9D07-5C17-4AD9-BABA-8EEC6FF0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D7637-C378-4B75-8EDC-083A037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005F1-3881-41C5-9501-FC835D7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A269B-BAD3-4316-A3D5-898ACCE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BB02A-4F09-49B3-96BD-2E420ED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7E4D7-042A-48BA-8DD6-409EA00C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8FDD3-E4EB-4060-B9BB-9C26C77E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7A3-26F0-4AC7-B6C2-03CC54D5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F0A-B7B5-49C7-B7C8-9EFEB393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A05-620E-46F3-A33A-E33BD2C9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DF1-8FA3-422E-950C-1900E78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128-5FA2-448B-963D-64A7551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3FA-A8F1-403E-B54E-C88ECAC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9287-9E38-4D46-A871-A4DE75495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D9DE-262E-4598-8C17-68D8F29DCC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8480-DA63-4F3A-9131-3E7DA4DFED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dej, trž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rodej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rodej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prodává svůj dlouhodobý majetek (který není ještě zcela odepsán) musí zaúčtovat zůstatkovou cenu na účet 541 – Zůstatková cena prodaného DHM a DNM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4360" y="62064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 z prodeje se zaúčtuje na účet 641 – Tržba z prodeje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stup při vyřazení v důsledku prode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řádný odpis za část roku (poloviční odpi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ou cena (VC – oprávk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majetku z evidence (V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auto jehož VC – 300 000 Kč, oprávky činily 160 000 Kč, a odpis za část tohoto roku činí 30 000 Kč. Auto prodala odběrateli za 13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110 000 Kč  54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0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130 000 Kč  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84360" y="98100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prodává neodpisovaný dlouhodobý majetek (např. pozemek) 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    541/03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budovu jejíž VC – 2 000 000 Kč, oprávky činily 950 000 Kč, a odpis za část tohoto roku činí 50 000 Kč. Budovu prodala za 1 29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ále prodala obraz, jehož                VC – 80 000 Kč, prodejní cena činila 1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56Z</dcterms:modified>
  <cp:revision>50</cp:revision>
  <dc:subject/>
  <dc:title>Náklady</dc:title>
</cp:coreProperties>
</file>