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2677-412A-4DCA-8CB5-E49C7A9AA7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D01D-CB4C-4CDA-8B68-5BD3A900279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7943-E6BB-4E8C-97D6-BE1630C2FEF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925F-DA6F-413C-9CAE-D18F59C4015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4C62-A6F3-46B4-A529-6D4F3359791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16B7-EF2D-4D54-A62A-6A7716893D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E27C-42C4-4A84-9C4F-2D966406193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D155-02CA-40BC-A686-98BF2D30716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6A8-FBCD-4F9B-B465-E73BC020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7A6-FB91-4A45-A61A-87904A93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C9C-B7D6-43C7-AC97-3B55DB47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886-F01F-43F1-A05B-5A55F351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A3B1-7173-4066-BC08-4F17FCF9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B978-AB97-45EC-97F1-9A1AC2B9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68EB-643A-48CF-87B8-5A03C46F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19EF-D2C6-4B3F-AD18-5CB2C925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E04B-5854-4E85-95CB-BE97C94A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1800-8086-4BB7-A61D-B912FE63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0F33-C9B3-4E71-8FDF-B3EFF3D6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67A-C1E7-43E2-946E-14B59AC3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617A-6FC2-4D88-A146-8051C4CF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911D-01CF-4E61-8F92-8110007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2CF9-7A12-46B9-B6DC-6F22224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0B8D-7376-4BEC-9DA0-3E51F787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FC76-D065-4B09-A749-B664F700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C1028-2521-4B43-8C2E-F692E60F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A0CC4-1597-450B-BC54-C9B9477F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86240-22D1-4A9F-B7F3-4B62B24F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7316A-F709-49B3-973D-3563A56E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CD830-5E83-4408-98BC-0D47087B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5DF-55F0-4C21-86F3-E5321798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CDF0B-E2E9-466A-900C-4DA6AB6E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CE0A5-C20E-4A57-B54C-CAD3A46C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0D8E4-85B9-4B4B-8C3D-DDEDEC0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C64B4-9056-4741-AE18-9F37CB2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E6397-6CDC-45F7-A977-590EB8C4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E2793-17FD-42E4-B4AA-A717F6EB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25907-1D54-40B1-A83B-C21EDF65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102-D3BF-42FA-8B4D-4897BA0F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143-0E07-4D6E-BDCD-E43810AE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307-16E1-4828-B20F-6371BC4E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0A7-E0C8-463A-B752-AE6C3FAF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98A-ABE3-406B-B034-29598199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273-BFC0-4A0D-B17A-4E5CE10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5FB9-95A0-42FA-A0BF-704B8DA2B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2DEC-C489-4CA9-B866-E9BF36C081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B29D-8AC6-439D-8EFF-EB391E8F9D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ne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ne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ne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nehmotný majete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ehmotný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představuje majetek dlouhodobé povahy, jehož cena je vyšší než 60 000 Kč v každém jednotlivém případě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Mezi nehmotný dlouhodobý majetek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ftware (počítačové program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cenitelná práva (know-how, patenty, licence, autorská práva, goodwil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ehmotné výsledky výzkumné a vývojové činnosti (recepty, technologické postupy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1 –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1 – Zřizovací výd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2 – Nehmotné výsledky výzkumu a vývo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 – Soft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4 – Ocenitelná prá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5 – Goodw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9 – Jiný dlouhodobý ne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26Z</dcterms:modified>
  <cp:revision>37</cp:revision>
  <dc:subject/>
  <dc:title>Náklady</dc:title>
</cp:coreProperties>
</file>