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3E1-19C1-4095-A311-420C26410B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B83-C445-4B99-B206-D424A927B5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9403-1109-4693-8ABF-073DF54780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53D-82C1-4F14-80EA-5433E1896AF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EF69-A3C0-4BE6-B4F6-25C7EE3B5B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BD5-E6A1-4643-8B4F-E68BA1FC086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A059-9C28-4A1E-95F9-1DCBD058CB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0841-73E7-4CE9-B410-48AB8E4EBC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273-24F0-448A-AA31-B6942792CF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9B6-AE9C-423E-BF01-AEDA1D2B380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48D0-91C9-4DDB-9646-956FDB77797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8E92-63A9-4420-B83E-EDCE037833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ACD1-6153-4063-905A-3B76097B42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0B1-EC61-4CCC-9768-FD1B7EBD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112-129B-4483-9DEE-708AF80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FAC-B2B9-4083-8C57-904490C4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6BA-451C-4236-9BEF-EED89834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E995-AE51-4B54-8E95-E5D21837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9EA2-BC6E-487C-B444-26D8A0F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4064-FFFA-4D80-99B2-8FD134A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BB9-EDA4-4E86-B234-9A6ED24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217-3BC3-49AA-8ACE-CC2FF982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2C3-E4ED-4A1F-B4E5-6F6F29B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1940-1C35-437F-94D3-9E96EE5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1FA-D906-46FF-BCB1-64D4055F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37B-7470-4023-860A-B96572C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447B-0BD9-4615-8DEF-729C8F78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3B68-92E1-4356-97E2-20A89FFB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176-F633-44B8-A4FB-9D153BAF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095-3E74-40C5-A563-F77457A7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700E1-5C91-4B00-8AFE-44FFFE3A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A09C3-4E79-49DE-92F2-3FEA3216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0E37F-487D-4E2F-96E8-47A72196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F9C3D-6947-4DBE-BC55-91581823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91469-E8C9-4D68-98A4-438AEFA6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78E-AF26-4064-99A4-591E943A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963FD-B8FE-4570-AF1A-0D40D15E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5F5E4-ED8B-4E32-A714-08EBE3B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E6823-444B-4B7E-BE56-E12A05B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78A9D-93A4-4880-AA72-7A7B3BA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4DAA6-A9B2-4EEA-A65B-549DFFD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58431-8D94-4307-ADC9-2DE5E431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36C58-E987-421C-9EF6-1C6CEE1E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695-69A1-449C-91DC-B3C0BBCC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FEF-9243-4420-9671-C96091A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AD0-523A-4935-A3D4-3219D54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152-FC66-40A3-B162-16E78DDE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9F3-6960-4EE5-B46C-5B664B69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0EF-A5B9-4320-82BD-3DC5876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A29-FCA6-4AAF-81E4-FD2E71AC6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BFF7-D57A-4312-9FF9-D0D1C678F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2CC-23E9-4390-A2DB-2CF173B569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polečník vložil do společnosti dodatečné věcné vklady, a to pozemek v hodnotě 500 000 Kč (který zvýší hodnotu ZK) a auto v hodnotě 250 000 Kč (nezvýší hodnotu ZK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pozem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0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31/4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a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5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, leasing, převod z osobního užívání, vklady společ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statní způsoby 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 můžeme pořídit tak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916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rování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83628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ar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darováním zaúčtujeme na příslušný majetkový účet a na účet 413 – Ostatní kapitálové fo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au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pozem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ekonomický         progr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765000"/>
            <a:ext cx="769608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  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kud podnikatel převede dlouhodobý majetek do podnikání zaúčtujeme na příslušný majetkový účet a na účet       491 – Účet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atel převedl do podnikání své a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účtujeme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9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vkladem od svých společníků, zaúčtujeme na příslušný majetkový účet a na úče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1 – Základní kapitál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ři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9 – Změny základního kapitálu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3 – Ostatní kapitálové fon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kud vklad ne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44Z</dcterms:modified>
  <cp:revision>53</cp:revision>
  <dc:subject/>
  <dc:title>Náklady</dc:title>
</cp:coreProperties>
</file>