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1218-4CC5-4874-AECA-FA8B96D13B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70F9-64CC-4917-B946-3787FA7BBB8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6C48-DCE9-4416-BFCD-2C0F0300C21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7DBE-2854-404D-A63E-31787BF6630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52B6-C2B1-49AC-ACB9-3CA026FB796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0138-1D9D-4A4E-97B3-FDFF0192D08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1B1E-4515-4621-B37E-31EA9EED8F5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F471-92B8-4534-9708-45C68020FEE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01A6-CE26-452A-A08B-5B6D65605E4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0471-E802-491F-93AF-8BC5967C41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AFF8-5148-4255-8428-FB6FFB23994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B6A-8BED-45C4-921E-ACC1A0A0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538-2AFC-4281-9A53-AD7302CE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C5B-CC4B-485C-8A56-10CECC42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FD4-2C65-4AE2-82A5-743BC7B1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5FFF-C11B-43F4-AF2E-6D173E91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7E28-031E-4853-BC00-56559A38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8A6F-2C79-487D-95B8-8B0A5E30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2CD6-F840-4B47-A234-AF5FBA8A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AA7C-D7B5-4BE9-ACCE-8CC9AD87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A006-7DDD-4559-BD5E-C8060F62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AF3A-869B-4FCB-9D86-76E9A218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13A-A986-445D-A996-623411B7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869A-9AC3-4E99-BA5E-03AD798F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0C00-3E13-44F1-B0D0-1BDE8DE9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A368-FDE3-4755-91B4-D9810412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3519-CD70-437F-90A1-BE80984E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36D4-33AB-4CE9-8070-C35DA10E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A4A7A-7F9B-4DEE-84A6-C46D1E88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813B3-6734-49A3-BB8C-DD4A3AF6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2A4B8-39E2-45EF-A2B9-0CF85E99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C8804-22CE-49CE-82FE-BCDF5C32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155A4-4FE0-4A04-B214-97FA8B7C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5B8-A204-4F18-BB4B-58F9C21F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15F27-A952-439F-B843-9690B130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C0EDA-41E7-4D94-8074-CF252344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BE86E-F88E-4E37-B482-834329FD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C2CEB-4FDD-4647-A02F-20123976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7CE22-DD94-413B-8D2C-A49C01F0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A1E7A-6EBA-4230-AFB2-9760DAC1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51295-EAB2-40E7-9E9E-0FD5CB71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831-7EC7-4D22-B7F2-EE396113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DF2-F49B-423A-887A-8201CECA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969-C363-46DB-B78D-18CDC503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009-1B18-42A4-A37A-D86518B2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622-1299-4269-A3B3-F58BE754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C51-5E5E-40B5-ADE5-F05CC463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C902-CF83-40A3-B3C8-C20CE4F402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11C3-EB1A-41AB-8563-C7120E32D5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33D-1140-4436-855E-EA76210922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álohami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Účtování záloh u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 záloh u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pořízení dlouhodobého majetku dodavatelé často požadují zálohu po odběratelí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ato záloha představuje pro odběratele pohledávku vůči dodavateli, která zaniká po dodání dlouhodobého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vyúčtování dodávky se poskytnutá záloha zaúčtuje jako snížení závazku vůči dodavateli, takže odběratel bude platit dodavateli rozdíl mezi částkou faktury a poskytnutou záloh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íváme tyto úč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1 – Poskytnuté zálohy na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2 – Poskytnuté zálohy na DH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48428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troje ve výši 50 000 Kč. Dodavatel uskutečnil dodávku, kdy vyfakturovaná částka za stroj činí 12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68706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9280" y="1484280"/>
            <a:ext cx="827424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Poskytnutá záloha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50 000 Kč 052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P – Dodávka stroje     120 000 Kč  042/3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účtování zálohy    50 000 Kč 321/05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Doplatek faktury    70 000 Kč 321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343080"/>
            <a:ext cx="68706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oftwaru, a to ve výši 30 000 Kč. Dodavatel dodal softwaru v hodnotě 7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50Z</dcterms:modified>
  <cp:revision>62</cp:revision>
  <dc:subject/>
  <dc:title>Náklady</dc:title>
</cp:coreProperties>
</file>