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DF3D3-E280-491D-90A5-7E67DA115BC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AAC75-C502-4056-959F-CDACCC944F4A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89567-6B78-45C6-84F3-86661807571E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0D9E5-327B-426D-90C2-F6A87DFCE4E7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9EA37-4B1A-48D6-A5B6-1E56DEFE4464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A939B-2FFB-4726-8DA6-6F682ECA1679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6DE49-080D-4DD1-9316-6DE6DC2D13EE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EF3A5-4C63-434C-903E-F3A570EB2FF9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F4EB2-00E4-4FBD-BF93-1427F291E2D0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033E1-5C07-416E-B6AA-429E43ACDDF3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D19E-7BE4-4807-BCF3-B3759FDF0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D8D3-E317-43E5-A454-4508E907E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ED5B-93C8-43B2-8632-D0CDC3086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F162-7459-41A2-96CE-555D53B3F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4EA6A-CD2F-4CBF-9D28-EC48FF825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9CA58-0C6B-4BC1-9F9D-DE342AE4D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BF60E-96D0-4EF8-818F-7FD7C8718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80433-BA80-4BF4-8C9D-FD5123C2D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CA84C-9D87-4B07-BD0C-D5AFDE08D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3E417-702A-4093-B1B9-B19AF9FDA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FEAC6-549C-4B15-88D1-116DA3BD5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AA94-5F8A-45E8-9051-224ABE7B8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928BF-AF31-4434-B900-575C076A5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FCA26-982F-47E8-83B5-C75B9AC83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DA792-180A-470C-9CD1-67DD6B302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537B6-7696-4EAD-9C86-7A8D9F1C1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50359-89ED-482C-9D79-7E9AE9682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A5FAA7-685F-4DAA-B2A4-529F900CD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CDD6A0-1B69-42A5-9593-AFB3B6652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660D43-406A-41FA-AA6E-D1866AE4A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251DC0-D281-4C62-9CAF-D1ADA250E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3B35DE-0D9F-497F-AD9F-193E354BE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F0A0-9095-4C23-AC5C-62F0992DF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D7B0C4-6EE6-4EE7-BC9E-AF5049AD5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C85838-EAD9-4AD3-BD9D-8DCABA8F4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150F43-485F-4CFD-941D-BD614B484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93C1EE-D443-44FF-9F83-581F10884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DA0F59-74DC-4B08-A153-1574789A3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B8C903-3C2D-4B4F-A6FC-74CD22E6C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F4DBC3-2A0F-4365-8B4E-0B4F49271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39A0-E116-4993-9856-444838125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374C-DF0C-4AB6-BB2B-12E29C84C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721C-18FC-487F-AFA0-AE55883EE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A34B-964F-432B-A1F0-D8463CD32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5598-D0D3-4D1D-82F3-037CAB8C5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E993-B114-4510-AB28-1AD02DC0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FB3E5-645C-40E5-9DE4-C30E1E27D56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487A2-8D16-47A0-AB31-2A3C5EF26A1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8157A-8518-4DD6-9C15-297CF2858A8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</p:pic>
      <p:graphicFrame>
        <p:nvGraphicFramePr>
          <p:cNvPr id="247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2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0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14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louhodobý majet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vyřazením dlouhodobého majet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řaz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, praktický příkl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619280" y="2707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Garamond"/>
              </a:rPr>
              <a:t>Vyřazení dlouhodobého majetku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4000" y="475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Vyřazení dlouhodobého majetku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71640" y="1700280"/>
            <a:ext cx="7416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Dlouhodobý majetek můžeme vyřadit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Prodej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Likvidací v důsledku opotřebení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V důsledku škody nebo mank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Přeřazením z podnikání do osobního užívání u individuálního podnikate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9280" y="162864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Bezúplatným převodem (darováním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kladem do základního kapitálu jiného subjekt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468360" y="549360"/>
            <a:ext cx="76960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omic Sans MS"/>
              </a:rPr>
              <a:t>Vyřazení odpisovaného dlouhodobého majetku můžeme rozdělit na dvě varianty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Dlouhodobý majetek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, který je zcela 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odepsán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, tzn. že vstupní cena je rovna oprávkám. V tomto případě se zaúčtuje např.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VúD – Vyřazení stroje z majetku účetní jednotky        082/02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684360" y="1125000"/>
            <a:ext cx="76960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2.Dlouhodobý majetek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, který 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není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cela 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odepsán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, tzn. že vstupní cena je vyšší než opráv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omic Sans MS"/>
              </a:rPr>
              <a:t>V tomto případě musíme zaúčtovat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Řádný odpis za část ro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Doúčtovat zůstatkovou cen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yřazení majetku z eviden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Příklad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85800" y="1483920"/>
            <a:ext cx="769608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irma letos vyřadila z majetku stroj jehož VC – 100 000 Kč, oprávky činily 70 000 Kč, a odpis za část tohoto roku činí 10 000 Kč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Odpis za část roku    10 000 Kč  551/08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Zůstatková cena        20 000 Kč  5xx/08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Vyřazení z evidence 100 000 Kč  082/02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g. Pavel Štohl – Učebnice účetnictví 2. díl pro střední školy a veřejnost, vydavatel vzdělávací středisk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      Ing. Pavel Štohl, 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4:22:20Z</dcterms:created>
  <dc:creator>mirek</dc:creator>
  <dc:description/>
  <dc:language>en-US</dc:language>
  <cp:lastModifiedBy>Igor</cp:lastModifiedBy>
  <dcterms:modified xsi:type="dcterms:W3CDTF">2014-09-13T15:40:23Z</dcterms:modified>
  <cp:revision>47</cp:revision>
  <dc:subject/>
  <dc:title>Náklady</dc:title>
</cp:coreProperties>
</file>