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CE1F-19A5-42A2-B8ED-D65CA728CEF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8602-ADB3-4A1E-9E9D-BAFDC1B46D0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69A6-B1EF-47FE-B9AD-2249D32C1E0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3FBF-0A34-4421-838F-47E32FB4B0C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97BB-4244-4352-8F17-D98D0262027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0E8E-1925-464B-B3FF-3A36F5B7722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D6A8-9B7C-4D46-9C54-B6A261565D5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60C1-FF8E-4E69-B19C-4A2F0C5E142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8E7A-096C-47C6-8783-0B59E4B344D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7E0A-06C7-42D9-A48C-CDE93EBE89B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8484-881C-43B6-957C-9B8F2742AA9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0284-6907-4EF3-BB87-01399229CD1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AB33-AD5B-4F5F-91C0-4C9976B56D4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BB4C-91B5-4941-A0B5-20D1D3024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B22A-5808-49E5-B3CA-A245BF67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BA5E-9701-4D8D-AF61-556E3066B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96E3-73C1-41B8-A999-35F6E1FEC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834D-466C-41D0-B672-348BA25ED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2129-46F3-4901-972D-31258027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F30F-915F-4EF6-BE40-B27D81E2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D45C-F02D-4500-9073-3783DE28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57B9-AAE7-4035-92FA-E2AAE373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1D09-4503-468C-ABCE-013C05A2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98DC-F3B6-4509-871B-44A223D3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B694-4D9D-496C-BD00-49F1AFE2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E7DC-5796-43A2-AA40-AD816055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34B4-6F72-4E7D-A12D-BE1B8342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CCEA-F390-4EAF-8C02-0EAB5FDA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3B6A-7208-477E-8663-9AAF0124D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1286-AB04-4CBD-BC0A-AC9955964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42F907-EF87-4AC8-84C6-37F76481E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8655FD-766B-4792-9937-16AAF345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68370A-9AFE-4647-8D27-52913538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93F2BC-562B-4163-A922-DA12DB51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02F2E5-6DF2-4B60-8BF2-0410CF7B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E79D-C2EA-4ACE-8C95-49B2BF2F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2CB76E-3C37-479F-A58F-533392BA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3CDC1B-AA6B-49AB-9CC0-D62DB78E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1BEC16-4F2F-4927-8765-CB41ED22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51AD4D-74DD-44F6-BBAE-C2AB6BA5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30B486-92A5-4D57-836A-B284A54D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96035A-FE94-4A97-B03F-DBC7506AF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E8474D-0CC4-41CF-8CF2-9301D7B6E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F725-0F8C-4520-BFB3-099768FD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BC77-D9D2-4028-A8C4-AF1A57D4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F03D-06B9-4E61-BDF4-2FA819B1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C276-E8B3-470C-9C8F-80CFF865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03DB-8D8D-484C-8C39-C9E483AF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6177-B236-4D0E-825B-68AC403D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6478-180F-4D23-9A16-09B64422CC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BB4F-5D24-4424-92E9-52AB5E4C6C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E840-667F-42AF-92F5-ADA2D61D38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koupila auto za 300 000 Kč. U tohoto auta stanovila rozvrhovou základu na předpokládaný počet ujetých km, a to na 200 000 k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 roce 2012 bylo najeto 12 000 km, v roce 2013 - 35 000 k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1483920"/>
            <a:ext cx="769608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dpis na 1 k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300 000 Kč/200 000 km = 1,50 Kč/k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dpis 201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12 000 x 1,50 = 18 0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dpis 201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35 000 x 1,50 = 52 5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288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účetními odpi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odp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360" y="1916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Výpočet účetních odpisů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687096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Účetní odpis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si sestaví tzv.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odpisový plán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, podle kterého postupuje při výpočtu odpis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si stanovuje účetní odpisy pro jednotlivý majetek např. podle předpokládané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doby použitelnosti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nebo podle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objemu výkonů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1. Výpočet odpisů podle předpokládané doby použitelnosti majetk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Účetní jednotka si sama stanoví životnost majetku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stanoví si počet měsíců po které bude tento majetek odepisovat, a to rovnoměrn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tyto odpisy se zpravidla počítají s až od prvního dne následujícího měsíce, kdy byl majetek pořízen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11280" y="1700280"/>
            <a:ext cx="769608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koupila dne 5.8.2012 stroj za 240 000 Kč u kterého stanovila životnost 48 měsíců. Odpisy zahájí od následujícího měsíce, kdy byl stroj poříz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826560" y="1628280"/>
            <a:ext cx="769644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ýpočet měsíčního odpisu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240 000 : 48 = 5 000 K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ýpočet odpisů za rok 2012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5 000 x 4 = 20 000 K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Úko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11280" y="1413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koupila dne 10.5.2012 výrobní stroj za 135 000 Kč u kterého stanovila životnost 54 měsíců. Odpisy zahájí od následujícího měsíce, kdy byl stroj poříz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počítejte výši účetních odpisů za rok 2012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2. Výpočet odpisů podle výkon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826560" y="14130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chází se z předem stanovených výkonů (např. u auta z celkového počtu předpokládaných ujetých km za dobu životnosti auta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dpisy se vypočítají tak, že skutečný počet ujetých kilometrů se násobí podílem pořizovací ceny na předpokládaný počet km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42:14Z</dcterms:modified>
  <cp:revision>49</cp:revision>
  <dc:subject/>
  <dc:title>Náklady</dc:title>
</cp:coreProperties>
</file>