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E3E7-929D-4BE9-BF42-AB1929F2CB7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674C-E453-4316-9ACC-4D4D0FBF289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066D-7646-4E3F-852A-57E9C1E6092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4A75-EBD6-46BC-8B7C-E7869C4BA64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0CC6-066A-4AE6-B0DF-E698EC0EB28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2145-D6F6-448F-B9DF-192CC4BD62C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DCF1-DFC9-4D08-ABF5-044962FB76F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1F0B-1948-440A-919E-81102D1CA7E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02F0-528D-4BD9-B464-07A7B3E2604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D8AA-6DEC-4D93-B832-F4943244D67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08F-8D82-4CF7-907F-45076CC5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E39-2D6A-44BE-B9AD-0357D1A6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6447-73A4-4FE2-AF57-036F1F77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985E-B921-4ECE-8CE1-51382A38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4386-E0F7-4732-AA34-A22FB4C2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C8C7-854A-41A5-B16F-65D97C67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4602-7D10-4A4D-B1E9-A37CCB28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AA6E-C371-4B10-8C00-4A1B1948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FBEC-9910-4606-867C-AE3F2FDF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2438-DFC7-481B-B0B0-D537FBB7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E0C9-ABB1-4F4E-9AEE-C72163E6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EC8-ED2E-4BB5-B1E5-47A857A0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C31F-1A9A-4222-9EAF-80D8E3F8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0C02-CA9C-4583-BA46-6E04A288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9A3D-EA9D-4618-8F41-21331EE7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9EE6-DF04-4684-A7AE-245451E2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4CF8-41E5-4F08-ACC7-0EE088EE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78018-0231-4B27-B312-483DAE06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15BCE-B89E-4A37-A2EF-058C368E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7D140-56E5-4944-B0B1-D6737B8F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553B3-4FD3-401E-816E-F45BF09F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82FEA-E855-4408-B7BC-5F4F1271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61DD-9098-456E-AFC0-ADCCD36A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A2529-E4A3-488E-AECB-3FF7EDF2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73DC3-9A72-4A8E-A5E2-6A32EF3D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A1569-BFA0-4A57-B711-A125CBC1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BD680-F97E-42FA-A91B-8F4D30D8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A43E5-3C94-4CF4-87EB-AF540204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22AF7-15DB-466B-B791-95EDC685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C728B6-119A-47D3-B47C-27EFB181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3A2-AA49-459E-860C-F44870B4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15C-3583-4CEA-AC69-30A57846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DF7-3CBC-4696-906B-317B1AE1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D90E-D9F9-4D29-A12E-BB937B89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34C-594C-4F10-9C4E-2B8A14D0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B8A-357E-4CA8-8F8D-07061451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025E-51CB-4B86-BA41-8DAB4F8C5F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5405-7E46-4F0F-A2C2-7FD1728A9E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0A7F-EAA3-463B-9130-3F954A3E62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63700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yřazení dlouhodobého majetku v důsledku darování 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yřazení dlouhodobého majetku v důsledku darování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okud účetní jednotka daruje svůj dlouhodobý majetek (který není zcela odepsán) musí zaúčtovat zůstatkovou cenu na účet 543 – Dary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26560" y="1197000"/>
            <a:ext cx="7270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 případě, že dárce je plátcem DPH, musí odvést DPH ze zůstatkové ceny darovaného majetku finančnímu úřad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PH se odvádí na základě daňového dokladu a účtuje se na účet           543 - D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(plátce DPH) darovala škole počítač, jehož VC činila 45 000 Kč, dosavadní oprávky činily 33 000 Kč, a odpis za část tohoto roku činil 7 000 Kč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5280" y="1989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 7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  5 000 Kč  543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PH 21%   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1 050 Kč  543/34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45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11280" y="141264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(plátce DPH) darovala nemocnici dodávku, jejíž VC činila 445 000 Kč, dosavadní oprávky činily 305 000 Kč, a odpis za část tohoto roku činil 25 000 Kč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te odpis za část roku, zůstatkovou cenu a vyřazení z evid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27Z</dcterms:modified>
  <cp:revision>53</cp:revision>
  <dc:subject/>
  <dc:title>Náklady</dc:title>
</cp:coreProperties>
</file>