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1469-D676-4FB0-8D81-921471DCEE5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A401-1C20-4387-BA7D-8438761613F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8AFC-0BD6-48D3-AC57-4D7F9BCEAD4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E968-2543-424C-920A-72BBD6BD55D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CF77-F98B-43CD-8647-5CB222069CA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4423-C2A0-4075-877A-EC940D0A260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088E-C810-4386-836D-2AB277ECDD5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85EF-E7D2-4E6A-9BA5-DDFA889713A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3D74-4814-4318-A70E-75D1C112322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63EA-8E16-4E8E-9190-C1F4AFA5C8B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1935-CA26-4CCB-AD3A-248117FA525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8430-78EF-4716-BC51-41FB2B0E620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3EAE-0E96-4F34-9008-F0326D3D5D0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2E5-A148-456A-A8D5-91260EAB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9E6-DD33-418E-A43D-DE179BF5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6CE-BD07-46BE-921E-CFFFD850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BCD-6A9F-4C5B-9AAA-E7351A3A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7B61-229B-4A27-A1BC-06135544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8C26-DBDD-4903-B415-04018FF2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968D-4673-468E-B63E-BF6542A1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B89F-42C7-48D0-90F0-B4617F6C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9D8E-01FB-490C-A077-9FC34FC9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6D8A-A8D5-410D-87C5-5075A630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09B2-3517-4A03-A059-48EC4C78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D56-6EBC-4B11-B03C-BE37EA5A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23AD-7D79-4346-B69B-A7C8E871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3724-0283-4211-9044-DF7FC30B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AC18-FAF3-4969-B0BC-D71555BB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3596-3F8E-48F7-96C5-78508123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98E3-BA9D-41C7-9A92-4484CFE3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BC571-6BFE-4630-9FAF-144AB466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03670-9477-417C-AFB5-12379C3C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C4F9F-A415-4B6E-926B-26441431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AED50-AB60-4DE7-BE8E-1B82DD5C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68FFC-8673-4F7A-9398-1189418A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2C7-E940-4B3A-8D8A-69AC3F25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EEC9B-7FDD-4291-8EFF-817F5DC3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E04CF-2BC9-4EB5-89D1-F503C7DA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FEF76-3C86-4E6A-B5A1-B105ECC5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B12D0-F8B9-413C-9324-EBC03DBB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F2382-3599-44E9-9DA2-2F8DE90E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2EC55-DF22-464F-A443-BB2A7998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C8DD5-CAF1-4885-9560-898D1801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98C-1426-4076-9294-5B354B8F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6D3-3F97-4F33-ABDD-29BE31AA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C23-C4A9-4DB0-A55B-FCC2B7D7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162-E2FF-4E55-8982-09F09160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5BA-B303-4D13-B28F-74C977E6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BE8-AA0B-44CE-B72E-35B62DEA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79EE-2DF0-4683-8A6A-C966EEDF41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FBC3-9554-4E6D-B667-1EED4ED35C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5BBB-0ECF-48D0-877D-6FB11FC9A7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Odpis za část roku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5 000 Kč  551/0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Zůstatková cena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35 000 Kč  582/0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Vyřazení z evidenc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70 000 Kč 082/0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 Předpis náhrady 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n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40 000 Kč  378/68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vyřadila v důsledku krádeže stroj jehož VC – 175 000 Kč, oprávky činily 90 000 Kč, a odpis za část tohoto roku činí 18 000 Kč. Předepsaná náhrada od pojišťovny činila 62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kody, manka, živelná pohr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Garamond"/>
              </a:rPr>
              <a:t>Vyřazení dlouhodobého majetku v důsledku škod a man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Vyřazení dlouhodobého majetku v důsledku škod a man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129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vyřazuje svůj dlouhodobý majetek (který není ještě zcela odepsán) v důsledku manka či škody musí zaúčtovat zůstatkovou cenu na účet 549 – Zůstatková cena prodaného DHM a DNM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4920" y="836640"/>
            <a:ext cx="79916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i vyřazení v důsledku škod se předepsané náhrady zaúčtují do výnosů na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48 – Ostatní provozní výnosy,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se souvztažným zápisem na vrub účtu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78 – Jiné pohledávk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náhrady od pojišťovny). U manka použijeme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35 – Pohledávky za zaměstnan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95280" y="76464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by se jednalo o vyřazení v důsledku živelných škod (záplavy, povodně, požáry atd.) použijeme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582 – Mimořádné škod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edepsané náhrady zaúčtují do výnosů na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88 – Ostatní provozní výnosy,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se souvztažným zápisem na vrub účtu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78 – Jiné pohledávk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náhrady od pojišťovn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 vyřadila z majetku odcizené auto jehož VC – 350 000 Kč, oprávky činily 200 000 Kč, a odpis za část tohoto roku činí 30 000 Kč. Předepsaná náhrada od pojišťovny činila 10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413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3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120 000 Kč  549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5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 Předpis náhrady 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jišťovny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100 000 Kč  378/64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 (živelná pohroma)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 vyřadila z majetku stroj, který byl zničen v důsledku záplav.           VC – 70 000 Kč, oprávky činily        30 000 Kč, a odpis za část tohoto roku činí 5 000 Kč. Předepsaná náhrada od pojišťovny činila 4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42Z</dcterms:modified>
  <cp:revision>53</cp:revision>
  <dc:subject/>
  <dc:title>Náklady</dc:title>
</cp:coreProperties>
</file>