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40FB-A781-4260-AEFC-8C5B9A1FC0A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E0AD-50F9-4BE4-ABF5-E336F402F0A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2454-BD27-4554-99CD-BA8160224D6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C3B1-2FFA-4B1A-AB88-7969A3DEDBE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819E-97DF-4B87-BD24-0981AF21D04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2D40-11CE-498A-9901-81A442D087D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E5F1-9049-4772-AB5F-9ACAB0560F2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65BB-EBA6-430B-B678-9861574C6F9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ED32-8A05-41F7-B401-948A37E8DAF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F254-1B61-49B1-9B71-5181C101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3FB1-1E3D-49C7-9840-2E0404B8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4E95-9530-41CB-A731-A94B527D6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257F-876C-4615-83FF-8E09F25AC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A0A7-FF08-4299-823B-FA65E1692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0A25-1665-4679-A2B9-12B63ACC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F1B1-1C2D-49B5-84AA-EA01FF25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8E0A3-D956-45A7-99BE-3B09F470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A870-D05A-4DA6-BD10-9C1E88F7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EBA8-6BE8-41C3-BC5B-8F7E1412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04A5-4527-4A18-A2F4-8A2184D8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4627-09D5-4D65-89D0-57F2E6C1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D2AB-9C6A-4CB9-AE3D-97912932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B70A-104A-464C-AEA4-59D35FBA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DF47-6433-4DE7-89A4-251BB00E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181F-8CB9-49A3-B5F8-DBB8C17D6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9141-EFFB-4654-807F-EB85092EA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A4D196-1BFD-41A3-A32C-9464FF800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9F5912-90B8-4D3C-B6EF-26FF46E0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222CB5-90CF-44D8-B3BF-8274D3CB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635965-71A0-4447-8A8B-DF8613A1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000926-1B6D-4913-AF31-FDFC2EF2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67D1-F50B-4D96-BCCE-F4E29127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1CA7C9-9072-45FB-BD8A-6F00DCC4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17A130-1C60-40E8-A5B1-4AFBB18F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F9C22E-745B-444A-BE1C-6696A147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FF0D4F-7AE3-4116-BB41-6F10E2C8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6C085B-1E64-4298-8C0F-A01FE420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FD8292-F367-45F5-A82C-A717059DC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2E96A2-64D6-4697-BF50-40728034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3EF5-D8F4-456A-A921-B8AECFDE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4C58-3A2A-4CD5-AA1E-44C9690A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D028-A820-458C-91B1-06F43109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BB25-EE54-4D5E-83D2-8B462AD2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AD97-317E-4440-9A7A-E21ABA58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1976-8715-40A9-BD57-6C849AD4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DCA2-A7F6-4F21-A770-D371EDB0D0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6810-772C-47BA-8343-C30237F764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338C-AEFC-4B4F-86F1-8652EFC423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opotřebe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Opotřebení, fyzické, morál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Opotřebení dlouhodobého majetku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omic Sans MS"/>
              </a:rPr>
              <a:t>Opotřebení dlouhodobého majetk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Dlouhodobý majetek se postupně opotřebovává (morálně i fyzicky), po celou dobu své životnosti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opotřebení vyjadřujeme odpisy (daňové odpisy se počítají za rok, účetní odpisy měsíčně)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11280" y="1052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dpis v Kč udává velikost opotřebení majetku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oučet odpisů označujeme jako oprávky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dpisy jsou pro podnik nákladem, které účtujeme na účet 551 – odpisy dlouhodobého nehmotného a hmotného majetku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Rozlišujeme opotřeb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55640" y="2276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fyzické opotřebení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- které bývá způsobeno jak vlastním používáním, tak i vlivem prostředí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morální opotřebení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- prostředky (zejména stroje) ztrácejí svou hodnotu v důsledku výroby stále dokonalejších a výkonnějších prostředků (strojů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6:05Z</dcterms:modified>
  <cp:revision>41</cp:revision>
  <dc:subject/>
  <dc:title>Náklady</dc:title>
</cp:coreProperties>
</file>