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1E57-4360-4BDD-8A5C-E33567F749C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334B-3C27-4B04-8E68-B2EDB81E8C1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2F9D-C9CC-4618-8410-AF3E44310CF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4840-C559-4EC3-B90F-ABA79B1D000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99E3-11E5-45E5-8071-2460FB57CE6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082F-172B-4E24-BA56-C59601A7178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5C69-E315-4512-851D-C78A995DFF9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709E-6004-480C-8F78-3AC4377CFAD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F28A-5B01-40C8-B802-40E7BEB8165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B9B-DDB3-4C92-A726-389886D5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476-B203-4737-BBF5-C94A8DAB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2BD-71C7-410F-B5DE-2B751CE6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28BB-3EBA-4790-859F-DB26EB1D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61A7-5399-469F-BEA3-2C6B156D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5781-A4E2-44B7-AF56-B605264C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3A77-14DF-4D66-8CC1-90E5F233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59FE-4FAD-4490-A66B-75AC855B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2A12-1BDF-4DD2-AA27-6C438103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EA6B-F793-4E1E-8C55-035E9094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77DD-1A98-45AE-AA54-8074F6FE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104-129D-49BA-964B-550CC406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B68D-16D3-4BC8-988B-F26825B6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C616-5678-4A01-B02C-4D869C5D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97FD-FE0D-4FA5-95F1-56BAB38C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05EB-D066-4610-9054-BBC2496C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27E9-B59C-401B-8897-284C5588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A3B1C-3893-428C-933F-6AB1D925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CFFEC-031D-4155-9D55-55002E56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2DFA7-294E-451E-A1AE-94409878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7C082-7E37-4F49-B224-87F2827D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DFE8F-277C-4847-B6D5-73545228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3A8-0924-43A6-8A5D-C2AA3C77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79334-F2BF-4FB7-A62B-8DC1783C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DA7E2-F649-43DF-99AF-231606A5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673DF-0124-4CA5-B2A2-503E37A0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2A1C3-9D61-450D-81CC-819DFA21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DCD81-8126-4E9C-BB98-23C66794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41BBE-B9B6-4C42-9303-0B6541AA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72904-6786-4055-9B33-36561CDA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2C6-5DC1-4F84-BA98-237A757D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7A5-1817-46F2-A7AF-B1A2D4DC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238-DABE-4CAF-92B7-29A05E43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9D3-05B2-4DE9-B2B2-F9E7D773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AB0-F10A-4F76-A01B-AD9B4AF8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637-EDBE-4AF1-AA0F-9703F433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9261-FC3C-4423-BE28-B4C5420470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34AD-178E-41D6-B120-2D4C2704B4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320F-6D5D-4173-8403-C084B074EC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hmotný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hmotn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hmotný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Dlouhodobý hmotný majet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DHM zahrnuje: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zemky, budovy, stavby (bez ohledu na pořizovací cenu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amostatné movité věci, jejichž vstupní cena je vyšší než 40 000 Kč a doba použitelnosti delší než jeden rok (např. stroje, dopravní prostředky, inventář atd.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ěstitelské celky trvalých porostů (lesy, louky, sady, vinice, chmelnice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ákladní stádo: užitková zvířata (stáda krav, kozy, ovce) tažná zvířata (koně, voli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2 - DHM odpisovan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1 – Stav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 – Samostatné movité věci a soubory movitých věc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5 – Pěstitelské celky trvalých porost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6 - Dospělá zvířata a jejich skupi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9 - Jiný dlouhodobý hmotný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436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3 - DHM neodpisovan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1 – Pozem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2 – Umělecká díla a sbír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3:12Z</dcterms:modified>
  <cp:revision>36</cp:revision>
  <dc:subject/>
  <dc:title>Náklady</dc:title>
</cp:coreProperties>
</file>