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0CA-EA9F-4A6A-AE75-D17EDCBF79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F94E-3A50-4235-9948-21DD71BB15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F926-CC59-440E-83AA-64151411796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BBAE-5088-455C-99E8-B3D5B01D32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B221-4F0B-4528-8F2C-E662A69028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72C-45E3-42B9-83BF-D440741063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2D56-4866-4DA7-810E-3BCAFDF786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036F-9A22-41B6-AEA0-A1B22BD493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BAC8-EB58-4F8B-8C8F-5CEC430574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CC5-A676-4084-AD0A-D98374AB3C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DFF-44A0-460B-A0B5-74FD4C6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4D5-49D7-4CC4-AB9A-3BCE836D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0B8-038D-479D-9FAF-916F1144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7B7-03F1-49BA-898B-2EBF4E17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EED4-4B2E-4F48-9056-406EB9FB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8BB-D78F-4C10-B35D-EAD85B8E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E8AE-1964-46D3-96AF-93E0F92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969D-7FE3-4B7A-AA94-ECC4D5EB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B7F6-03B6-4BCB-BF5D-D76BFE54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B3EC-0F6B-49B9-A94F-A6A82C18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AF87-9E43-4F1E-AA03-FA84C3B6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874-B7AC-4DEA-8FCE-D7E2EF0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784B-D78F-4580-9D7A-6146432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1B25-A4DD-4B5D-ADB5-04A1377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198D-A069-4E79-B47D-605BA42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180C-17C2-45F9-BA48-3FB89CD1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ECF6-D019-4C55-9DB6-A09DBB09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0A206-C79E-4C5F-9B57-AF2F5CFA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C7635-3D9A-4087-A83F-D3FF08A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7B8D2-07AC-462E-9E3B-876FF789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7323C-94A8-4DB3-9C07-CFDD03EC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A177D-A0A4-4402-B46F-50C29BAB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EF8-836A-4B50-90CF-6673F5A8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E1438-E862-4B87-B25B-FF3FB8C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FD77F-56C6-4FF3-A7D3-0BB13DA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8D323-A475-4EFF-9A39-A004A3C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50D83-63F5-4D86-AD16-3B850ADF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C2801-476C-4BE5-94CB-9DBFA19C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E1B0A-AC9B-4B2F-94F1-A799DB5E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EDA40-DCD1-4FDB-A8A6-B574C87A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DBE-D06A-4E38-AEF6-2DB9E1C3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F3A-03B6-44C5-8B78-3A61E2C0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B1E-5385-4FB8-9616-6DBC649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A12-7207-4EC5-B60D-A592C409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816-564F-4D1F-8C0B-F984F9D7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4CD-CBD8-4E13-8F14-6DA614F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4D76-D1C9-411F-AC37-D32E64715FE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E3FC-4FE6-490E-A3F8-7CB1E6212BA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794-573F-4B08-A4C2-BAB9CE667F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trola, účetní a skutečný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349360"/>
            <a:ext cx="74278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on o účetnictví ukládá účetním jednotkám povinnost inventarizovat majetek a závazky a stanoví pravidla pro provádění inventariz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kolem inventarizace je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ěcné správnosti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štění zda skutečný stav majetku a závaz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povídá účetnímu 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reálnosti ocenění majetku a závaz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musí vzít do úvahy všech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vídatelná rizika, které se týkají majetku a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azků a jsou známy ke dni účetní závě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le toho, kdy se provádí rozlišuje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Řádné inventar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eriodick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na konc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ho období (ke dni sestaven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postupně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hu celého účetního období (termín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žné inventarizace si stanov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tka sa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dle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Úpln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– týká se vše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ílč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týká se pouze některý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Inventarizace zahrnuje tyto etapy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ovnání skutečného stavu se stavem účet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čísle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asnění příčin a vypořádá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43Z</dcterms:modified>
  <cp:revision>21</cp:revision>
  <dc:subject/>
  <dc:title>Dohadné položky</dc:title>
</cp:coreProperties>
</file>