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6001-D440-4DEF-B92F-8B60962726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D465-77BD-4921-ABE3-98125544891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CB28-BBCA-46AF-8FCB-0A78C2E9FE2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6A85-674F-4F8D-B320-BE1DD7D138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E449-DDAC-46E8-8946-C0BA51A0F3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41EA-340E-4531-840A-3B21085BBE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C334-95F7-42CB-BC44-C0275EFB92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51D2-5867-4ABB-B8FF-3563BA0614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A5A5-0A33-4EFD-AF0E-DDB345AE4D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17CC-360B-45E5-BB0F-0E05B2EB83C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20E9-2F41-4B54-9793-758C8F2C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6E69-186A-4F28-ADA2-8D8BF4A6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77E6C-951D-495E-B37A-405F6DC9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698DC-A343-43E5-9E56-942ED055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06F1A-29DD-46E5-8E13-A284AC4A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A389E-991D-4828-A6D7-CB3E222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5F3B1-D627-4CD3-AC2D-DB57270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E538C-3347-4931-9941-CA38619A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3BF50-420A-427C-8039-054B12BE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00FBE-51E8-410C-88D9-96D14DF4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55CC9-60D0-4DF9-9D37-72F65B2A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7D155-D724-4F5E-A611-BE18EA22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D289-009A-4524-BCAA-FCC86CFC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2AB78-E314-4E2B-98B4-6A99CBBB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45F91-29BE-4CFE-B558-3D4CD183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C8C98-487C-47C6-AB90-E1A1CE6B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63388-6154-41DA-862C-774869A3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50160-5417-49A0-BF26-FA95E6A9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23DE8-A6E3-4129-96A3-E5586AC3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C42AA-BD51-4AE4-9463-758E817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8909B-7FEF-4507-97FA-CA03BBC7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F5483-7E1D-429F-B3E2-FC980720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C6324-E138-498C-89D2-F90E9325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F900-2965-4E4E-8ADB-B3FF69F6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7269C-A011-4B70-A8DC-F83B690B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AC463-8303-4311-9073-548793F2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5CA23-D496-4A03-B6E5-6984EFFF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B69B-0447-4C47-AE42-7D83EC40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7D907-37CB-45B2-88C3-7AA9873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B4AF8-A4A1-4B6F-883A-2FF88F2B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F3C91-84F2-43ED-BBC5-3B1D6183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13192-C810-4A8C-8AE2-4C66B32B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7D983-321E-46FB-B938-075727FE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1A0D2-D543-47C5-A085-9438165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7A33-ED37-4394-971C-57289C18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AB4C9-F728-4704-9845-CE39AB3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29860-BE00-4A11-A33B-BA106452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E77D2-EBEE-4668-AA77-C616422D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614CB-2C73-439B-A60F-14206199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FFE61-6D6F-441B-95B6-371BD4CB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43921-7E43-4527-8B54-32665A9D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D5774-06C0-484A-BF16-8A53AFEA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E9EBC-2B47-4ED9-A1E7-CF6D1BE1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D42DD-7D7E-4165-8310-44AF7CC2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734C3-47E6-4CAB-9E88-5B04C3F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791D-BC24-457F-A958-3D438B60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2CC2C-380A-4726-960C-92485F6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5472C-A1A6-4E1A-8C2B-49686079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0ABCF-61F2-4658-A462-76F78416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6B8A9-40B1-440C-9329-B8B1F907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E13A9-FAFC-405B-AE74-65DC70B4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2FE45-6751-4E00-8C09-3788AC36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4EEA2-4236-4B96-B8FE-19606EB6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0653A-7C42-4A5D-9748-B9C1D745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D72F3-E8F2-4EE8-BA13-D0F81933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69D2F-5E38-422E-9B1A-96FF1A2E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C56D-B1D4-4E8F-98F4-ED31B4E1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D761B-0841-467E-9201-DBD1E297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54E6C-B250-40F4-8A6A-629A07C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91657-2F86-4C8A-83D0-A81F2897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06529-D074-4117-A1F0-B550083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373A3-43BC-4161-9FC1-E9AFDF9B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39587-5752-46C8-9E80-4EB955F9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1AC81-8318-42A4-920E-13575ACC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3F1FA-24E6-4DA0-BAC7-3FC0C92E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1289E-B88A-4C8B-9B4F-352CC963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54841-5558-4DC4-BBEB-4A6379D8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8736-056A-41B6-B837-6F6BB258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9B17B-2668-4EC8-91D6-84A154D3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77B47-6321-466C-9536-48CF279A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38B7D-240F-4BD3-8B3D-E30756F0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41220-7796-4A6C-B899-4727B256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E3081-8854-410D-97C4-D7D3DF95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D8934-944B-4186-9B68-22D0B7A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A4EBD-B94F-4E41-8BB8-BABA560A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E49F2-EDB6-4FA8-A36C-7C88C65D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FF212-C6CF-483A-B769-87AE85EA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7ED39-97F2-4A31-ADD3-8CB8655A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8214-D0E3-4797-A88E-BDBE7493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71B8F-79C1-4657-A888-4742B87A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071BE-296A-44A1-88BC-BB2CF86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CE7BF-035F-42B4-B428-3CBB8F9F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ED63D-4393-4671-A8FE-CBC0FEA4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C172ED-0E88-4CCD-94A8-B843B55A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38FD1-7DB0-49A3-8457-4375C652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C6B0B-695D-4464-83C9-FB103FF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07223-E094-4300-B83A-50BF050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AA2C1-D9F5-4B7D-84E3-1D5335C9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42AFB-4682-4381-8FBA-1D262CBC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5162-00F0-4CD7-A63C-E60C9AF7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154E1-D120-4CAB-A9E0-7969D1A8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91387B-10EE-4EE8-B997-FBFD9916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E38B3B-C863-4CFB-9FBA-266D2473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23A839-6C4B-4943-B32D-E08CA1F2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A5ADD3-490F-4134-8255-1B65B4A4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F0CCD2-CE31-4266-84E4-504BAE2B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50AEB0-E53C-4CAB-B30F-58A09BA1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617F48-29E1-483C-8FCB-FF7261D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A3AD81-856C-470E-BD01-108F2E5D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6B0796-972F-4D09-881A-7CD5922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76CA-3940-41A5-9EC2-D6AD3E30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25C6B9-3A6F-4127-ABA3-3696AD99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479754-2181-46E4-91C0-232F4941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C9E889-FA45-49A4-ABF1-9389EB8D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735FF-E9F5-4D23-B580-90F84076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E2819-AA9A-4032-828D-5AE16A03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A20E4-9A59-4C30-A8E5-74A8DE40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13FF7-1124-4099-BDBB-3002EF20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FD6CE-D450-4A4D-856F-BE02199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4A964-3145-42E5-BAA0-E6270545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76EA3-6E62-486B-8582-E7CE33ED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96C4-6114-4B2A-B07E-FE415B3F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CBB8-6CE8-4529-9ACC-5201B9D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1B942-988D-4F1B-B918-7CD56879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5D1488-EE2D-46C3-96DA-008ECC7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D06CB-C349-470D-BB9C-4C9F44F8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65FEC-2D69-4A6D-B460-99AA3EE9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5FE41-3C4F-4769-8801-844D5C2A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76D8-ED98-4636-95E3-5184FB4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584F-F254-4E09-8A15-BF2F3A8E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84BF-DE9A-4BD3-B7AB-0FD94855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0D00-485B-415F-B6AF-EB19C009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19CF8-C3FD-4490-8E4E-C855BD35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03739-D337-4D8C-B618-575E26F2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02CDD-A9FE-415A-ADE9-08D01E4D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BCA8F-CF65-4130-B8B3-573DB029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78978-7693-40AD-8CA0-D921DD86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B98B-53F8-44A4-AFD1-96AB2567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D574E-7761-4DEA-9202-C171BEF5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29324-4307-44E5-A946-6DA70739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1B164-B02A-4FB4-B8F6-6603369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8B44E-C11F-4486-89F2-E304E28D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28756-B15C-48B6-BF35-22635842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49874-727E-48C3-B6A6-D6FD44B9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C38AA-B9BE-43C5-AAC9-AE08168E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03206-C55A-4783-B56A-8D408E1E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9FEF-AA8B-467D-AC2D-E5A38EFB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46FC1-41D7-4B46-B7B7-CDE00824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649F-88DB-450D-8194-C0723DA8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6EC1-78F1-47CC-AC1C-C58F0C59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CE37-254B-40B4-B96F-D5AA90C2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B053-ECBD-4526-9015-C159CEC5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26F8-713D-4153-A052-46DB05A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E889-31B6-4FC3-9977-231F1122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B74D9-05CC-4576-B2AC-4F17FA3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81CE-F358-4254-8E67-29AD1B7C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CC1D-BFBF-4096-B0AC-0FAA5A3F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39FF-75C2-4D84-B6A8-F9D90180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55736-F3C6-4292-8604-BDD6B761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9665-CBC8-4FAD-9022-F663E93A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1FB9B-8CE4-4773-BDEE-E6BCC16E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DB64-1AA6-4CEF-B501-3AF4882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C16F-0DCD-40B8-B09E-BC05031B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A3341-F5CD-4314-BD7B-6015CE3B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F9852-519D-48A9-A5C0-9835723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EB22E-8F2E-45CE-BF91-19BF1ED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50FE-6F4F-42ED-906D-30DBB3FC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0F947-1809-4D7E-8790-7C342DBD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7A36B-D488-45B9-BA2B-1DA4B1D4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1FAE-5C6B-4D87-B6A2-FF01C3D0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0F1E-B2B7-4562-ACE3-D098B29B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48A47-E9C7-44EA-8B32-8DC2851C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6E77-BD06-499D-942F-2A49ECE1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E0CC6-DBCE-41BC-967B-DF65358B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00DB1-29FC-40FF-B6C2-9D86470D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E9C84-1666-424D-8B84-F6D83E20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A63E0-E383-4A03-9CC9-6327F08E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C48FF-CA0D-4120-8AA9-B515C14A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C7E32-84F6-4286-9CAC-BD0F627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58930-F8CF-4F15-A8C8-EF7FCC1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D098-1723-4A16-8E2B-5ED190CD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6648-E17F-44A8-B7E1-DCE07CA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0B366-61A8-423E-A00E-92339713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D6110-086B-4C79-86E3-44585AB3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86A15-43B4-4294-8D2A-49D1F2F4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7D5BE-9508-4FFF-BEB2-3880C279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C809-B168-45BB-877D-71EA1840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ADE7F-19BB-44EB-9960-30A46F27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D266A-C47B-4FB0-B91B-032126B9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73951-727C-4FF6-B0ED-04FAD4FD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630F-343B-4A39-90DA-4C8E1810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4F135-9657-46F8-B062-3B259AA7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3DF3-F611-41BA-96E6-9ECE4AB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F296-6866-4504-A0AB-2E8A441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D7BB9-62AC-4250-8393-F280EF1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C71F8-F4C7-4C49-9747-07AB3D1D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F5F38-BE82-4B96-BE9F-F09CE517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B5A01-1127-4E7A-8164-CBD05C88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B9A07-AC51-460D-9B83-719E084D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762F8-1F6E-4D8E-850B-1C937E7E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28AC7-7DA6-428B-9815-6AA611C3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7B3D0-EA9B-4AB7-B875-AD6674DE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79325-046E-4B54-97FB-26842F32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05B5-FF65-4C6D-B62A-37CA0AB8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15A7-11FF-4DC6-BA12-8665F784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2E195-32E9-414F-BA8E-50B3DF4A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6F67F-A874-4AD3-994B-AAEB0F9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0B1E1-B6C6-412C-AA14-42B4E82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13F96-F8F0-40BF-A1B1-056ACFFA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B6F53-0045-4F38-AF7A-27A00E2C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80391-65A9-4181-8939-2FE11E0A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ECE53-4188-47BC-87BB-7FD922FC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A76A2-D69D-4D66-BEE6-01122F1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132ED-0668-4845-A48B-88AE15FC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58B7-EA4F-4259-B2A0-49E22043C26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1D4E-2C45-49BE-AEB7-F61058BB756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9AB9-6E75-42FC-BF2E-AAB2A70E742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7435-49B8-4982-9117-92F83CCC4A0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B7C3-01D9-4A00-972E-05D84DABD49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3DF7-4A97-4835-B648-FCAB5F2DA1C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BFFB-8204-48D2-A4D5-5D62971513B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8516-1C6F-493A-9D22-F6241B4FE22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7E39-1D79-4441-BB7B-36610A9AC50D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1DBF-F6E5-4444-87B2-4F7544ABE45E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AE5-3D93-4DD7-8441-B05A3F62DD9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152D-C709-45E1-A00E-8F4DA6A5D0F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01C5-BF40-48A9-BC89-06442AFF49C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F464-798F-43C9-A7D9-84F2A891E3A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21B4-C5EC-49DD-8958-6C8788CF067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A4C-FC03-4997-99D0-49AED7543DF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3D92-3FE4-43F3-9C4A-F41B27DF073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 výnosů a příjm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nosy, příj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Výnosy a příjmy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, jestliže jsme dopředu obdrželi peníze za službu, kterou poskytneme v příštích let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řijat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jatou částku zaúčtujeme např. na 221 – Bankovní účty, ale protože službu poskytneme až v příštím období, nemůžeme tuto službu zaúčtovat do výnosů tohoto období, ale musíme zaúčtovat na účet 384 – Výnos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po poskytnutí služby přeúčtujeme na účet 602 – Tržby za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přijala v prosinci 2012 nájemné za pronájem garáže v roce 2013, a to ve výši Kč 60 000,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2 (31.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příjem nájemného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221 / 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rozpuštění časového rozli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ýnosů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384 / 6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5 - Příjm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tento účet účtujeme tehdy jestliže jsme poskytli službu v tomto účetním období, která nebyla inkasována ani zúčtována přímo na účtech pohledáv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jemné, které nám bude hrazeno poza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rovedené a dosud nevyúčtované práce, výnosové provize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žbu, kterou poskytneme v tomto účetním období zaúčtujeme na účet 602 – Tržby za služby, ale jelikož se nejedná o příjem v tomto roce, tak musíme zaúčtovat na účet  385 – Příjmy příštích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štím období, po přijetí částky přeúčtujeme např. na úč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1 – Bankovní úč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tní jednotka v tomto roce pronajala budovu. Nájemné ve    výši Kč 60 000,- ji bude uhrazeno až v příštím roce ( v tomto  roce nebylo vyfakturováno ani inkasován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ÚD, předpis nájemného za tento rok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385 / 6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BÚ, příjem nájemného za minul. ro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221 / 3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te kdy účtuje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jm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aje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nos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41:34Z</dcterms:modified>
  <cp:revision>16</cp:revision>
  <dc:subject/>
  <dc:title>Časové rozlišení nákladů a výnosů</dc:title>
</cp:coreProperties>
</file>