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D722-9C8A-4C54-8798-4FE6CC6C897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E29B-6491-4606-B3CA-4934C7DDCA3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889E-FCC1-41F0-8599-26DD5315292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43C2-EB93-4ACB-82A9-28E08F587BB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C8E1-09C1-4AC5-9653-8C6E618DB18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6213-1523-41CA-8087-DFCABB9A4D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0276-7F88-41C9-B5A3-1E08809964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F4D9-5FC2-4A93-BAFA-0D5E04056E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654E-32EB-4C55-A9DB-3C7EDFB6F7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168A-A82F-4C4C-B755-038B29B78C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638B-05D3-4494-A608-B08CB5E5BD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B1F0-6229-4721-89E4-CA957DF67D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6B0-FA58-41FC-9FC3-ACB6E519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497-0E34-4952-9FFD-DBC190CA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E53-E6F6-4417-A540-C6C3485E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E8C-BD07-4B99-812D-7583F3E0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095B-DA55-47E6-AF8F-86F5362C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3BF9-27F9-4BA3-A966-3005A0B9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E3AF-B0C9-4F4E-A25E-6D44BF7A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D42D-4264-4B19-9D3D-4C3156A7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3099-7FA3-4061-84BE-E355214F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5ADD-A35E-4E0B-9A17-920A61BB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3A06-18ED-461C-BDA1-C1FABA5F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20C-954E-42AF-B809-C569436B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51DE-A27B-47EE-837F-5AC7B7BE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9CE2-2E83-4A7B-9A66-50120195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BB34-96FD-4293-90A9-ADC32F06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8EFA-0B0E-40D3-90D2-7F4651BE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67DA-82A8-479E-BDAF-754AB3BA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9E19C-6B83-4791-845E-8D8C6130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A8DC3-47DF-42B7-9057-767E661D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338D6-CAC6-486A-932C-F8EBAF46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EBFA4-26BF-4E96-854E-E4E0433D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D755B-5832-47FE-A7AF-EA705E82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8FB-A249-44C1-9BA4-C35A9268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7F45C-39C1-4E7A-B5D7-B791137B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52803-B314-4CCE-AACA-636D31E0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275D5-2AB4-46CE-AC15-B38DBD9D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E8D20-EDCA-42EA-B940-70CB8478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86448-C8AB-422E-9BF7-BD9AEBE8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B1F44-EC6C-4125-9630-AEE59B51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FEDF3-BB3C-490E-B668-8AB79C7F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161-F76A-4692-82B0-A06AB865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C4E-F78B-4874-8278-7663688A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56E-9455-46F6-876D-DDC2790D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BDD-8F1D-4D8A-AAED-31499632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6DB-3F44-47ED-BE49-FCFEE3FB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A18-4467-4FD9-983E-51B5854F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8F4B-79E2-4350-82FA-96CBB15B30F5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6B40-4B85-43A7-8812-0F9959EFE09C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6DE9-4A03-4F71-8EE5-69ABEF2E8A8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afbf39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1. VÚD - Nevyfakturovaná dodávka plynu 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     57 000,-     502 / 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- Faktura za dodávku plynu – cena bez DPH    55 000,-     389 / 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 21%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11 550,-     343 / 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2 000,-     389 / 5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- Úhrada dodavatelské faktury                           66 550,-     321 / 2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ohadnými úč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evyfakturované dod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Dohadné položky pasivní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účty pasiv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389 - Dohadné účty pas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tento účet se účtují například nevyfakturované dodávky (např. materiál již byl dodaný ale nemáme k němu fakturu), nákladové úroky, které nebyly zahrnuty do bankovního vyúčtování za běžné účetní období at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218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rma ke konci roku obdržela dodávku materiálu, ke kterému však do konce roku neobdržela fakturu. Předpokládaná hodnota faktury činí 28 900,- Kč. V novém účetním období jsme obdrželi fakturu od dodavatele na částku 30 000,- Kč + 21% DPH 6 300,-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Nevyfakturovaná dodávk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8 900,- 111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– Dodávka materiálu – cena bez DP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 000,-  389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21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6 300,-  343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1 100,-  112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kol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účtujte v případě, že hodnota faktury bude 28 000,- Kč   + 21% DPH 5 880,-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Nevyfakturovaná dodávk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8 900,- 111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– Dodávka materiálu – cena bez DP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……………….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21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Nevyfakturovaná dodávk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8 900,- 111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– Dodávka materiálu – cena bez DP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8 000,-  389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21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5 880,-  343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900,-  389/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rma neobdržela do konce účetního období fakturu za dodávku plynu. Odhadovaný výše spotřeby plynu činila 57 000,- Kč. V novém účetním období firma obdržela fakturu za spotřebovaný plyna na částku 58 300,- Kč + 21% DPH 12 243,- Kč. Zaúčtujte nevyfakturovanou dodávku plynu, fakturu přijatou a její následné uhrazení z B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1. VÚD - Nevyfakturovaná dodávka plynu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57 000,-     502 / 38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2. FAP - Faktura za dodávku plynu – cena bez DPH    58 300,-     389 / 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DPH  21%                                                   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12 243,-     343 / 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1 300,-     502 / 389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4.VBÚ - Úhrada dodavatelské faktury                           70 543,-     321 / 2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kol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účtujte v případě, že hodnota faktury bude 55 000,- Kč   + 21% DPH 11 55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afbf39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1. VÚD - Nevyfakturovaná dodávka plynu 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     57 000,-     502 / 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- Faktura za dodávku plynu – cena bez DPH     …………………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 21%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- Úhrada dodavatelské faktury                            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3:39Z</dcterms:modified>
  <cp:revision>11</cp:revision>
  <dc:subject/>
  <dc:title>Dohadné položky</dc:title>
</cp:coreProperties>
</file>