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F35-55FE-4E08-8CD7-05CB69C545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E030-BA07-4745-A9F7-79391736D3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3C4-BCD3-46CA-943D-D99CD445513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C61B-6E8F-4762-A9C2-B97E6354E4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E021-3C89-4FCB-A80F-485DF2C905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E9D1-573B-4A66-8638-E7E2A53115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5E3-B80B-4975-ACE7-B6F3877CD3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54F-3AF3-4DDD-952C-FB82DF7C49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C037-ABF7-42B0-8149-C49D2407C0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E16E-A71D-42D0-A85A-87ABBF8830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1F4-D101-4BD0-8C6E-48C8D996C6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319-1339-435A-A2F8-91122B30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912-A24B-4CFB-9CD2-C8B57B67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3DB-C8DD-4357-A37C-076B9413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64B-366E-4A10-B9B4-439ABA90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8E53-4C34-4445-B65E-FDC753B5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F639-DC4F-466A-BFCE-08B4500B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0DE0-9CA0-41C5-8459-E3C8A01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42C4-ADBA-4021-BDAA-D2D80894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9079-9824-4BDF-8892-754027C7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6E27-0345-4EF1-B7B0-67571D33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FAA7-AA9D-4DC0-B504-8726ECB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37C-76FF-406F-9578-E0855AF7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0091-73D1-49A0-814B-AC128071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B647-B18B-47AE-AE13-4D571F6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5AC5-B569-40CF-8B48-CDC18FCF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4645-6EA8-4265-94D3-0D9B6B08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7ED2-6023-4F81-80EB-6C6C7A68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0050D-5A27-4361-986A-95B9D891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25792-B642-4228-952F-ECFF2F94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964DD-EAF2-4ED1-BF4B-D29700FA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AC3E7-EAAC-443F-A2B5-03936244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FFA74-9BED-4BD1-BBD3-B646D025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D0C-13E8-4AF9-9510-3B5A5A0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B4085-7296-4D18-903F-FD3691A3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6CE3C-0379-4D74-88E0-8FAB29F8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9386C-A0BB-425C-873B-212EC6E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5D673-7057-4A55-9A9E-297BE76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70155-5189-4276-A21D-D3569AAA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3355C-3036-49C2-8D83-FBD7AD53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5B6B5-445B-4367-818E-FB5551B4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A8E-FD57-48E3-B869-1365F42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757-E267-4F9B-ABB7-CB1428C7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E87-4C65-4D91-A1DF-D2FF3CC1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212-E397-4DF0-8D49-EC47480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96E-F09D-43A6-BFA0-A756CE58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7D6-6771-4CC7-BEE9-45217BD8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3D4A-D2E9-4E3F-9DA0-9C10BC5A1D9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5E9-C0A8-49E3-97F8-FC2C4F16902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56EB-E770-440E-B90F-C69E29BED6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ě účinný a neúčinn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y odepisují pohledávky, které jsou tzv. nedobytné (tzn. že se jedná o trvalé snížení hodnoty pohledáv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odpisování pohledávek musíme rozlišovat zda tento odpis je daňově účinný či naopak daňově neúčinn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rázově lze (dle zákona o dani z příjmů) zahrnou do daňových nákladů hodnotu pohledávky za dlužníkem v těchto případe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ud zrušil konkurz z důvodu nedostatku majetku dluž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je v úpadku nebo mu úpadek hrozí na základě výsledků insolventního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zemřel a pohledávka nemohla být uspokojena ani vymáháním na jeho dědicí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ávnická osoba zanikla bez právního nást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ne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se může rozhodnout odepsat pohledávku, a to např. v případě, kdy je zřejmé, že náklady na vymáhání přesáhnou výtěžek z této pohledávk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pis této pohledávky bude daňově neúčinný a bude zvyšovat vyměřovací základ pro výpočet daně z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 účtová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měla pohledávku po splatnosti za odběratelem, a to ve výši 575,-- Kč. Účetní jednotka se rozhodla, že tuto pohledávku jednorázově odepíše a nebude vymáhat tuto částku soudní cest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aV – Prodej zbož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11/6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úD – Odpis pohledávk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dlužník tuto částku dodatečně uhradí zaúčtujem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bú – Úhrada odepsan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5:50Z</dcterms:modified>
  <cp:revision>15</cp:revision>
  <dc:subject/>
  <dc:title>Dohadné položky</dc:title>
</cp:coreProperties>
</file>