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717C-D08A-49A4-BC2A-71BA48F8469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768E-44B9-4FCB-8911-596A848CB22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2A25-7948-4B2D-AB6F-DAC3B4AAC6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35D5-3A95-4083-A4D3-091D718295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3656-B420-4A68-B07B-EFF3962AC73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1359-52F2-49AD-A2CB-8EE5FD7CC4C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F4CD-2D71-4E4B-813B-75BD814B9A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45A9-4576-453A-BDFB-2D3D52E345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8BE3-E15D-47F7-80F7-E7B3CD35C2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2894-BCA1-40C6-97A8-DA4DDB5A57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B527-C88F-43A9-8118-E68E9C3074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F551-2EC4-42ED-AC29-5AB1B1AE5D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F01B-2837-486E-9BA3-E87670BB1B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47E-C6E7-47CE-93D0-DB4997B3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767-B457-4A74-BD4B-A3C29214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7B0-4F45-4917-8908-C0A976B6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B55-E173-44A4-BF03-5F305718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B2F2-905D-4863-A7FE-9C0B1478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4A10-0090-47A0-AE06-5CC442D2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E32A-D8F0-4C7C-97B3-F45A36AA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F7B4-0338-4114-8ECB-5A52E301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8D88-9A67-4510-A130-00DA0032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67FC-2579-427D-9665-A36E622E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34D1-0AB0-4011-8851-E3027330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2E8-8617-4BDA-8D3D-06B46A57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51B3-F6EB-4A74-AD21-809D7621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3553-4CFA-4BD2-968A-EF23A541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F9ED-9A6E-4EB0-8F36-268B5077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24B0-37D4-4D01-878C-ACA13270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0824-044A-4715-A566-F69E0FD9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58CD1-0F76-45C7-A2D9-3B0B9675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67AD7-B000-420E-8A68-3AB545DB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4EB94-A9E7-47CB-928B-08010F2D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DBAA9-969F-4671-A670-4ADD8514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49937-53F0-4D1F-A294-939EE070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CE7-290D-4CDC-99C3-7C8CAFA0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9AE31-0224-4BC8-A831-1D2A7006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626EE-03CE-4D03-9064-5A075F5C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4DC20-3999-4128-A9B4-AD458D17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EB935-5F25-4A44-A3FB-1505E0F3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D984A-C9B0-401F-A4E2-B0FD49B8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EB358-B52A-436A-9C46-3AFF5C19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5465F-811C-4E4B-B53C-CD9959CF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1AF-821C-4428-B696-3639B2D9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204-8140-474D-9100-F80F1471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7D5-0EF2-49FA-AF91-7C7CF742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4DA-C687-4190-8F88-B5593757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8AB-3398-4432-B125-67A65CC2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5EA-F81A-4D75-B4E4-9BF0C689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C877-0FA7-430D-B8C6-ED3ADCD74D4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457C-DE8D-4245-846C-658918F093A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7754-680F-4743-BF7C-9155BAAF70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prosinci vznikla firmě škoda na havarovaném automobilu. Do konce účetního období firma neobdržela předpis od pojišťovny o náhradě této škody. Odhadovaná výše náhrady činí 89 000,- Kč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novém účetním období pojišťovna přiznala náhradu ve výši   87 000,- Kč, kterou následně uhradila. Zaúčtujte odhadovanou výši plnění v tomto roce a předpis a přijatou náhradu od pojišťovny v příštím ro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VÚD - odhadovaná výše ško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VÚD - předpis pojistné náhrady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VÚD - odhadovaná výše ško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9 000,-    388 / 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VÚD - předpis pojistné náhrady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7 000,-    378 / 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2 000,-    648 / 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7 000,-    221 / 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ohadnými úč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hadné polo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Dohadné položk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hadné položky představují nepotvrzené pohledávky či závazky, u kterých je znám účel a období do kterého pohledávka či závazek patří, ale není známa přesná částka (nemáme fakturu, výp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zlišuje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Dohadné účty akt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Dohadné účty pas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 aktiv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388 - Dohadné účty aktiv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dná se především o pohledávky, které věcně patří do běžného období, ale u kterých neznáme přesnou částku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okud nám vznikla škoda na majetku, který jsme měli pojištěný a pojišťovna nám do konce účetního období nevyúčtovala náhradu plnění (za vzniklou škodu na majetku), zaúčtujeme pohledávku, u které neznáme přesnou výši (nemáme doklad) na účet 388 – Dohadné účty aktivní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Příklad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důsledku havárie nám vznikla škoda na materiálu, a to ve výši 59 000,- Kč. Pojišťovna nám do konce účetního období nepřiznala náhradu. Předpokládaná výše náhrady činí 57 000,- Kč. V novém účetním období nám pojišťovna přiznala náhradu ve výši 56 500,- Kč, kterou nám následně uhradil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Účtování v tomto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. VúD – Škoda na materiálu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9 000,- 549/1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 VúD – Dohadná pohledávka (k 31.12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7 000,- 388/64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Účtování v novém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6 500,- 378/38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4. VúD - Doúčtování rozdílu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500,- 648/38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6 500,- 221/37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účtujte v případě, že pojišťovna poskytne plnění ve výši 57 500,- Kč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Škoda n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9 000,- 54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VúD – Dohadná pohledávka (k 31.12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0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– Škoda na materiálu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59 000,- 54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2. VúD – Dohadná pohledávka (k 31.12)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57 0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378/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5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221/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000,- 378/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500,- 37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221/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3:56Z</dcterms:modified>
  <cp:revision>12</cp:revision>
  <dc:subject/>
  <dc:title>Dohadné položky</dc:title>
</cp:coreProperties>
</file>