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6606-FA5F-4B92-A2B0-20CDBF46B0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62CE-75A6-45D7-AD59-4FD7C6D0C01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9C1F-4C34-427F-AA4B-43A340ED74B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21A9-4B20-41CF-BA17-7EB37D9343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1B94-CD6A-4FCD-A71E-D4173DD532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F979-0C53-45C7-88C3-669438B7B5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1D02-0BBA-455D-9BD1-14796B11EA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6551-6CCB-4F48-B8E2-2CB35D3A88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4BE9-3E6D-4E0C-BC4A-C673B77303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1642-A7C3-436B-AB10-77524086FE1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A58-0E5A-42C1-8285-12F20767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D12-73EF-4862-9515-50E64B04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972-BAC1-43A9-83CD-4BDA5689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33A-007D-400F-B154-B2BDD1CA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756A-055E-45FA-8633-F6D8DF5F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9507-D9CC-4826-94A4-6F184268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8200-2070-41CF-A10F-4A238339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57B7-156D-4ED2-B67D-252B02E5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14CB-7CFC-4AA7-A41B-08508CF6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FA1D-1E56-47F8-B851-DDFEFE82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F57D-581C-4032-90CB-031E45E0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B18-60D1-4E8C-9E8F-DBB861C6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E784-BC1F-4861-ACCA-B6569250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4617-64F9-4F8D-A55B-0701563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FAC5-02E0-489D-836E-89869217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7CD8-32F7-462C-8273-FFE101F0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2D45-E3AB-4657-A7AC-12FA7318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34352-8B46-4D63-AE23-133D7493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0184B-2DFE-4BA1-BA60-D02FD6D3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6713A-CDEC-4598-A952-0E641D57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61CC6-B912-4A47-89C5-18A00F72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CB645-E767-4E6F-A576-B303B282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B59-D5BF-4CC6-8B00-181543C9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EA7EB-8AB6-44A2-8DE3-4EB51766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0A37A-AB46-4F60-9E46-D01C28E8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D9A56-B0B5-47F9-80BB-1FAE0C33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C4077-8B66-4D14-ABC2-C98B4B6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F964A-2B3D-441E-A316-6FB197DA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EA645-623E-45BA-96B3-C1AD8FF6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C6334-9A8F-46B7-9BE5-7D254148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02A-B2E0-400D-9DE0-375057F5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E40-2285-49C5-9FCD-3C174939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2C2-91BD-4F95-BDD1-CA957F0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A38-F628-4B93-9122-D4B67F7C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A0A-A3B0-43C3-B897-C252C29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9FF-8831-4ADF-9061-78625A1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A6D0-20AF-45D7-B034-13540928FBD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C3D9-2C60-46CA-AC4D-B8C23C74C55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308-8EC2-4C91-B0B9-89B8544E5A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ostatní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statní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ostatní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ostatních rezerv se účtuje do nákladů, a to na účet 554 – Tvorba a zaúčtování ostatních rezerv (na stranu 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iúčtem je účet 459 – Ostatní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počítače (1. odpis. skupina). Oprava bude provedena v roce 2012. Rozpočet opravy 80 000 Kč. Tato oprava byla v plánovaném roce provedena dodavatelem. Fakturovaná částka činí 99 22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počítače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2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7 22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8:31Z</dcterms:modified>
  <cp:revision>17</cp:revision>
  <dc:subject/>
  <dc:title>Dohadné položky</dc:title>
</cp:coreProperties>
</file>