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6687-E01B-4582-B9CD-0C05F374520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FCD2-D2E3-4A4F-8961-3C8D2383E85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6E9F-5C8E-4FB1-A355-70C26D2D4E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4B10-079C-404D-B7C0-6728EBC1A6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AF3C-DDB5-4ADF-BAA5-F5EB837910F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03D8-471F-477E-94A6-EC262D1FDDE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EAA5-346D-4932-BB6A-B26A5AF3543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1194-599F-439F-9DB3-0FD4A89815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AB4C-ADD9-45E5-8FD0-AB1BEE86A1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DB00-819E-417D-9565-B181FDEAC11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DD81-53CB-4F87-AF2D-C952BCC869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4EA9-60C9-42D5-9AFB-BA37805C176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90F2-3813-4F55-B8B4-4B11F72D8B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10A9-E6A8-46AA-92DD-620AF3B119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F77E-21C3-439B-927D-1FACCCB8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AA1-5D09-49FA-A77D-F464A5C4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88FE-996B-4803-9D07-AAA4EF3D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04A-64EF-4702-A109-DC541730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EFFC-36F7-451B-8DF7-953DD0A0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BE3D-EF94-4096-8058-B36669AA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A4AB-8737-4948-A94D-8CC0842B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E521-D85D-4C38-BBCA-C5C9B951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A7F3-09B8-456F-9EFB-57B0A2CE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A16B-7F52-4D48-A4F8-CF026F85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F0E2-BDF2-4064-8922-49E91093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57C-2DA1-4595-87C5-3294FDF3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0694-3747-44AE-8A3F-82225E7F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17D6-9F50-471F-84BD-98EBCB15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2939-EE50-4256-A23F-06788F3D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227C-208D-44BA-8AA1-F809998D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DB8A-5C40-4AC3-8E97-CE6D80F6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C45BF-BBD9-400D-8FAF-73A8FDA2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A3FE2-4EAD-4F1C-8166-437B6D5D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BCDF0-6309-4309-9DC4-F9A919F3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07A17-73BD-43B9-9455-D3386F10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1A0F1-0581-4C74-8E53-B42FB05D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751-8CDB-4B83-922B-35F3E3C7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4F8B6-4676-4DF3-B14E-C77D8A61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6BFCA-30ED-4E56-A4DF-E64EDB44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09C21-BD73-44FC-8A95-783286F9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090A9-4F77-4324-BC7F-C4741593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7E5B5-607B-4799-BC61-A2B3758E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A02A6-6D33-4963-A4E3-A18659AC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CFC8B-BE8E-49C3-8C5C-FAEB3FDB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7CC-F640-47B3-9958-85B779A8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137-F876-4095-98FB-0BED7B17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E75-C304-4CC8-9F5B-D942BCF4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ADF-7548-4C73-87E6-29BA28DB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5EF-D03F-41E1-B16C-AD5B3F8D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617-EBB3-4263-B699-26895A3E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547A-5907-4EA6-8CCB-7647E3346537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F871-7895-4BA8-B5E9-345CCD53E9A3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373A-15D0-488F-A785-D8C8BDE5806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Arial"/>
              </a:rPr>
              <a:t>Tvorba rezervy dle Zo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1. Minimální doba tvorby rezervy – musí být tvořena minimálně na dvě zdaňovací období (rok předpokládané opravy nesmí být započítá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apříkla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irma se v roce 2013 rozhodla tvořit rezervu na opravu D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u musí tvořit v roce 2013 a v roce 2014. Předpokládaná oprava DM bude nejdříve v roce 201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Tvorba rezervy dle Z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Maximální doba tvorby rezervy – je dána podle jednotlivých odpisových skup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odpisová skupina – 3 zdaňovací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odpisová skupina – 6 zdaňovacích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odpisová skupina – 8 zdaňovacích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.-6. odpis. skupina – 10 zdaňovacích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Inventarizace rezer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konci účetního období se v rámci inventarizace posuzu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důvodněnost rezerv – zda stále trvá důvod pro provedení opra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ýše rezervy – např. při výrazném nárůstu cen vstupů můžeme zvýšit částku rezer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rezerv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izí zdroj, tvorba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Rezerv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y jsou cizí zdroj, protože představují budoucí závazek (např. rezerva na budoucí opravu budovy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tvorbě rezervy známe jejich účel, ale hodnotová výše a období se pouze odhadu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Druhy rezer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y se člení n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 zákonné rezerv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ostatní rezerv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Zákonné rezerv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y vytváří účetní jednotka na rizika, ztráty, ztráty, předpokládané výdaje v případech stanovených Zákonem o rezervách pro zjištění základu daně z příjmů, které tvorbu rezervy považují za výdaj na dosažení, zajištění a udržení příjm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a je daňově uznatelným náklad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Arial"/>
              </a:rPr>
              <a:t>Účetní jednotka může tvořit zákonnou rezervu na opravy HM za těchto podmínek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usí být vlastníkem dlouhodobého majet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smí být tvořena na technické zhodnocení  nebo na údržbu hmotného majet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u lze tvořit pouze na majetek, u kterého je stanovená doba odpisování více než 5 let (od 2. odpisové skupin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Arial"/>
              </a:rPr>
              <a:t>Rezervu nesmíme vytvářet na opravu HM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opravu majetku, který je určen k likvid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opravu důsledku škod a nepředvídatelných či nahodilých udál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každoročně pravidelně se opakující opr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Arial"/>
              </a:rPr>
              <a:t>Tvorba rezervy dle Zo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še rezervy na opravy hmotného majetku se vypočítá jako podíl rozpočtových nákladů na opravy a počtu let, které uplynou od zahájení tvorby rezervy do předpokládaného termínu zahájení oprav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okládaný rok zahájení opravy nesmí být do počtu let započít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2:33Z</dcterms:modified>
  <cp:revision>13</cp:revision>
  <dc:subject/>
  <dc:title>Dohadné položky</dc:title>
</cp:coreProperties>
</file>