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F268-75D7-4F8C-BEB5-2E3AC3A8BCC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857B-488F-4E9C-B85F-82E7E892797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0A0E-AE54-49F9-BB41-57817A03E30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020B-F62C-46C7-8859-96448AD8B6A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A421-490E-47AD-8E0B-84DF8C9D48C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01F2-92E9-4A3D-88E5-D97661170FA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6642-932A-48CB-82BD-829AD5F6CAD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23D4-655E-45CB-9992-E7991F706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480E-D57E-43A1-8CE3-46C59262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944C-CECA-4289-AC05-9D237FE73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2555-F964-4534-8BEE-34060B80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7A72-DF3C-4CBB-AD09-46BAB6054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CAF8-9E52-455D-BDA8-65BAB671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7278-992A-4A4E-B8DA-E96060E5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74FC-DBE1-4735-B065-FA1BEB56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7063-745F-479D-A8EA-2E6F53BA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37E5-8E04-4E58-B6B4-37F455F8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A3D3-C3C4-42DF-A50D-FFB11E9A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F690-6A74-4C2E-A8FB-AB53C0AC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2D28-9692-44E4-BCB9-FC560E7E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A0C1-2A36-4EB4-A4F5-A6833336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2867-F470-4753-84DD-1A436EA0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5DDD-3AEE-4A4A-9BA7-0ADF2706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978A-BDBD-4B32-9547-09E422C1E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77C5A8-71DC-4D80-9458-212E00A97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0864B2-54F9-46D7-B475-E063A2EB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4C7045-CB4D-42AD-A49B-CE2A2069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C51DBA-94C3-48C6-BF0D-987453A4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99F799-7C3D-4661-871B-4C3AB1F3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CAC6-7FB5-49EC-B7F0-0F9D1007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FF882A-5687-46FE-B02E-486D83E6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E871C1-CFBE-41FF-92B4-89650F8C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784103-C50D-498F-AD58-689EE28B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A0187F-267B-4259-9B94-B6F53C84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D5E6B2-1ECB-40CD-B5A9-A783B9DD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5619A7-2824-4391-8FF0-6B154970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9F98F2-D174-46A9-918F-CFAD1696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A732-15F4-4E39-8327-64E71F99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FBEE-021B-4E74-9E93-EDBD16F4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DB42-FE96-4B8E-8EB5-B8C3DA76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7512-7E9E-4209-9DAA-5A7C87B6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1204-4580-483E-B570-828B0C63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B0EF-87E9-461E-B392-907F7A4A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E173-44B9-4B1B-AD5F-3A1EEC2C6A48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23F6-3939-4F3F-94F5-4E6E4F1A928A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623F-3423-4735-B14B-369077707EC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účetní uzávěr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onec účetního obdob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6364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Garamond"/>
              </a:rPr>
              <a:t>Charakteristika účetní uzávěrk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6633"/>
                </a:solidFill>
                <a:latin typeface="Garamond"/>
              </a:rPr>
              <a:t>Účetní uzávěrka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416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tní uzávěrka se provádí na konci účetního období (předchází účetní závěrc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onci účetního období se musí uzavřít účetní kni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d uzavřením účetních knih se musí prové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ventar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účtování účetních operací na konci účetních obdob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33"/>
                </a:solidFill>
                <a:latin typeface="Garamond"/>
              </a:rPr>
              <a:t>Účetní uzávěrka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ále následu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jištění hospodářského výsled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počet základu daně z příjmů a zaúčtování daňové povinnos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zavření všech účtů a převedení konečných zůstatků na uzávěrkové účty 702 – Konečný účet rozvážný a 710 – Účet zisků a ztrá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4:29Z</dcterms:modified>
  <cp:revision>16</cp:revision>
  <dc:subject/>
  <dc:title>Dohadné položky</dc:title>
</cp:coreProperties>
</file>