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510D-3001-43B1-8C95-E2697ED3A5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C775-283B-48AB-B6BF-AE6BC86FAB9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B793-0AA0-4C70-A4D9-D43C490B169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B84-9B94-40E4-BD59-14BD2C4ED8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D870-8F7B-4F29-8C04-8E30C58111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1B8C-66E6-4BA4-91E2-FF66F04925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A3DA-3B38-4F9D-9B93-EFBC094F82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9C6D-BB04-4D9B-A38B-DE6BA8F8133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142-6A9C-474A-B4E6-8CB7C524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59D-E130-4478-9751-599F6BE9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988-9E65-4CFD-8A8C-A9E19F94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900-5D0D-4DAE-BBD0-FDBF191C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89F1-9E28-48ED-BC7E-38338D67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C5D0-0577-4F0A-893E-7F43E4DA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62D9-8609-47F9-BC6D-ADBA41B2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87B9-AAE4-44CA-B3CB-3DFFC324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15E7-EC21-4655-A735-9DEAD1BB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4123-7C9E-42F4-A5CF-8D2AC417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6D39-B7D7-4510-BCA4-361291A1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51F-BD56-45AF-B8DE-1B19822B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23DD-0140-4CA3-9A1E-D874244D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7221-69AE-47D1-93A5-09798A12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E13E-A87C-49BE-8165-60F868A5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8499-94B2-47E9-9F73-904E1535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35B3-334F-4888-AACB-7A6F3A68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CACA3-9B4A-4F68-87E4-11916009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A8292-9CA8-44E3-B6F4-84D31A09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7B336-404A-49BF-B80B-8339BFD5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6F78F-94B0-4968-9583-13EFBECF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9939E-47E8-4044-A17B-FEF6F8CE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BCB-DF0A-480B-9501-C8595742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DBAB5-5780-4783-8E74-59F1BF4F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587C7-CBE6-44B2-AD81-ADD6ACB2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9B129-9D3D-4B3D-B415-C02E1D7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392DC-1B4E-4830-A57F-DAC90E2C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161CF-9189-4050-A366-B5AA89BE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69C81-014E-4EA5-9DA9-4B6EA963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4B443-D03C-4788-A7C4-39B086F6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065-BF15-4BDF-8C18-8254F216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62B-17C1-4D38-8400-88DB3D36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ABE-A9CC-4CC0-962F-EFB28F19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6BA-F552-4DFB-B5E6-03227C09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F1B-E26A-4C73-8A0D-73D7055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047-030B-4561-8575-FF2885F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DA69-C269-400F-A7ED-E01F31BF7CB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82EA-D9BD-47DC-B9CF-60B2FAD4F04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4269-26F1-422D-95DA-AED53C6ECC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lohy na tvorbu a čerpání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vorba, oprava, čerp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- ú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Úlohy -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Určete, zda a jakou rezervu může firma vytvořit (účetní období 2013)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čítač, předpokládaná oprava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ůdní vestavba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sobní auto, instalace klimatizace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loh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7499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se v roce 2013 rozhodla tvořit rezervu na opravu budovy. Plánovaná oprava bude provedena v roce 2016. Rozpočet opravy 600 000 Kč. Oprava byla provedena dodavatelem v roce 2016, částka 786 500 K00 Kč, včetně 21% D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0 000,--  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36 500,--  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00 000,--  451/55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1:04Z</dcterms:modified>
  <cp:revision>16</cp:revision>
  <dc:subject/>
  <dc:title>Dohadné položky</dc:title>
</cp:coreProperties>
</file>