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4F14-7B6A-4460-9556-93119ED45E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AD75-A342-4FF2-9A51-684F0FE15B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A693-458E-4228-B564-1CA5C7ED67C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13A7-A8B7-4038-9794-486959855C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B5FF-CA41-4150-A170-081792CB4D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B4C1-B196-41F3-A303-301E6D33C2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33CD-F83E-4CE9-BFB0-67FF9A3E4C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FFDF-A688-4679-8DE1-5557916A59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3FC-DA3E-40B2-A560-91E6DF041F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47A2-B1E9-467F-AFE8-F018BA9A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15F4-3360-481E-85B3-394875E1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2C971-387D-4AF1-B835-A16386F3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A56A0-3CA3-4CD3-8C5D-BDC938EF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BE92A-7179-4B39-9747-C0C0271B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B121B-E2AC-48C9-A37C-DCD880B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C5E76-DA31-4DBA-B681-67AD556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2DD8-AC84-40DA-B453-EA9D28D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D4857-0DB3-454E-98F6-201850D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FDCEF-1AAD-4E2C-8ADA-E840B2F2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A16F6-5EED-4B5D-95A0-0D454B84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77FFD-0D63-4CE5-A53A-8DE13AFA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3727-27BE-4542-AE4F-7739D14B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097D7-BDA0-4763-9D08-6DA4DB14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7809E-0FCA-49DD-A684-12924131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B773D-04F5-4140-9F6E-3EF5A616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92DF1-1C43-4E42-BE43-30FF812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9ED16-D4F7-44BA-8DA0-2CC5DD75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B46ED-8935-4719-8A52-F4068BA4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34DE2-DCF2-4028-848A-7C72332F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F656D-C389-4031-8CAC-38403CD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315E4-28F0-482E-B9A7-F1E77F63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F730A-5236-4F4E-B263-7FDB92A2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BB70-57FE-4FFE-8A71-3FF84B9F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C3FFE-2D27-4ED3-914F-7F76D0FE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CC67A-6D02-4337-81DF-D9348DEE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983CF-E95F-4C7F-9BAD-1A08B076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4A71C-92CD-4636-A671-5550FE1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26906-203F-4BC4-98F7-E8AE86B1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D3DF2-BA80-45E2-AFB8-5A3FBBC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287DA-50A6-470E-9618-41E4B515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5B387-DBB4-45FC-9F3B-8A7CC16F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D0BC7-BC43-4A50-8BE6-570752C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47387-AA73-4FEA-AA88-C57AAEC5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87F4-056F-4232-A69F-907D6AC1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389F9-28D4-4556-BF5A-B7E53654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C3E01-EFA0-416A-8042-CD6F7542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C8987-B59B-438A-8FD5-CF1440C2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CC950-E908-416F-BB83-622972A2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995DE-04FE-4369-94E1-5038A683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6BBFC-C82A-409C-A5DE-B7D32B23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040A0-92F6-4901-B448-F7E457C7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47B4A-EF8D-480A-B6F6-0D9C5F9B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F9221-3F4E-4E82-88A1-1CC632FB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C4F30-EA67-4603-A371-73258344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DBC6-5F5C-49D1-8CF6-073949A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0F135-C031-4B8D-A8DD-2BD3D178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E250D-7F83-41D2-A248-9B01AB4C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E457A-AFB5-41DC-9992-D6B7CE35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71324-5D2A-4798-819A-7D3F5F06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81E66-ADBD-4DDC-AB4E-7F4AF78C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D16E7-4965-4BBE-8F9E-CD45ACF4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90502-A3FC-44C8-94BC-C13060FE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81680-3274-4707-AC1D-9A511B4F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68387-3B03-4E3F-ABEF-25403F98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B1068-1E6B-4883-BDB8-C5A19B46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F844-55A0-4FBE-A663-BF88754C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78E05-1395-4301-821E-81BB5376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89380-5555-44FA-B043-B213FAC2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194EE-AD2F-47CF-9AE2-0F3A76CF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0AE3E-0F82-4AB1-9583-B3D161F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D3EA3-5892-4E8B-A236-A50BAE2C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9FD89-232E-467F-8D4B-CE66B887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263CD-5194-48C4-8257-0C2DAAED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0810B-32E4-4664-AE8B-F58008B5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A17B8-7C68-4C97-B4D8-289B95C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DF647-CE76-49BD-BE4F-B3FB39AE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F985-C0D4-4BD0-849D-64A3A789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A3A9F-B4B9-4EC9-ADDB-23079C4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C4B40-2B31-4959-9BC3-315E6EC3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1928B-2A56-4770-AEC6-831D72D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199C5-EDB9-4BC8-830E-C7F590A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10926-DF91-4EC2-AA0F-0182FA05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ADEDA-A292-45C8-908C-19698C0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38388-574E-4FA9-8DF0-B38E7331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CC5C4-52C4-4D4C-93D7-3A2C77B1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9D7B3-A785-4E09-942C-B37C755E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3F0AA-A51B-40E0-A67C-F1D188FC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DB4B-CA50-47E2-BFF4-FA18A925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08443-D8CF-4E89-9BBD-4B3C7900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8E3DD-0B76-43E4-AF53-AA3FAD81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F7028-EA5F-4A38-81DD-0FC0D8CF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9146F-4F73-40AC-95CC-7009DE54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6CB2A-A23C-4598-95C5-36A867FC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F8CCB-A6E2-4366-904E-6110B83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3D801-3A97-46A3-9904-D4A17E1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67109C-9EF3-4FAD-A376-0B4BAE4B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98249-AE18-44CA-A1F6-B9B33E32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FA5A6-BE64-4484-9CA3-D0F2C22A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574A-3573-4F05-AA04-DB8AD24F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65931-538D-4844-B289-8FCE4648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0B893A-717E-43E7-9F8E-A276A4A4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EE92D9-0055-46FC-81FA-C09173A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A85025-608A-4331-B821-B4BA6678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5B3598-05D6-4F8F-A6C3-937DFE58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84F6CF-C4EC-4DBA-B796-364CB4A9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2B71A4-4036-440D-A643-29B3122E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C31C26-587A-47DB-9F0B-848A4C4B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B44AB6-4416-4A0A-8821-34131386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286140-48A1-41C9-B0FE-C1EF4F1D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4E73-6188-4599-9496-2B474219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2F457E-5D47-4713-8F9E-82B07D23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434B9D-362A-4EBD-A0B8-9F3E46AE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CB5AED-B39A-4A8C-B8DA-EFC50F00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ACA86-8977-4CD8-81DB-2FEC6627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3FFC0-DDC7-4230-8159-AAD0973B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74DBB-6E64-4967-AAE8-C32BF8D5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58C09-8243-4AA2-80C9-507899AF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2803B-68FF-487C-AF0C-B38E75F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7A003-F61D-4D54-AAC1-51619784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D2E1F-570B-4F6A-9C0C-EF8F83FF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224C-745F-40EE-9873-551110BB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4F56-79A8-4E92-85CA-53F8AFE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51F467-DEF0-4F7A-9CA3-4C83F0C8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B5147-3C27-4A02-A950-2CFE95A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B4A4D-3EEC-49B2-8825-E0004F96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CCF97-0283-469D-9869-E1ABDBFD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4B571-9815-4326-A9B2-5A1AB864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A306-A719-42CC-A143-276B2A2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E3D7-CAD2-403F-B58A-6DC6DA2C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FC1D-21EE-4EE4-976C-DB5AC45E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ED69-6E8D-4CDE-A979-96E62599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91F1D-608C-4915-A373-94615AE9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DBBE1-2946-4528-BB20-B6AABA24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31F75-8DBF-4107-A36E-25D1EE31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6718E-7E05-4699-AB96-7F29D09C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68EC9-BA99-4649-8A69-8E36B71E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4F8C-B8D6-4389-9496-A4089A92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5DA3C-EF48-4C6D-A176-A58EB377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E6026-565B-4E35-9398-64FD7790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424EE-0879-4351-8130-C3B255FA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B163C-7406-4091-9E4A-B96BF96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E2C59-DE80-407A-868B-A33FAEC3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6D5B4-5975-4A71-96ED-7D413F75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EE8E6-5556-464C-B52A-7DE05085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AF0F5-AF0C-4036-8D8D-02FD1C9A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58B74-086F-4861-8070-DFE5836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6853-4A50-4099-82F8-750F3652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7A1D-EAAB-4756-9E04-95B3EAEB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9C77F-D0C2-4440-9965-C25B2B7F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209B-BDC5-4A7E-98CB-37AC3AC3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0BC95-1F27-41A5-892E-0669AB69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9E713-867D-42E2-BAD8-91B2852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A7506-6F1D-4E0E-A033-FE000B27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846D-6CB5-45EF-9A38-C25D833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AA7D-348D-4828-926D-CCF417D3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B3B1-757C-42E8-934B-B0A3C21C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0DA7-4718-408E-B8BA-CF5E65D1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8629B-6CD9-4BFC-9DB3-57CDE683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1A02-4F06-4195-8E5C-43AA966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DCFF4-03D4-41AA-AAEB-B5E8A91D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C9A4-A48A-45E5-A502-7F5C30D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1AD7-1EDB-4AE5-961E-D55089AD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36C98-52A8-4870-8948-D116ACA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F897-9015-4E2E-9FA2-A836C3C3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F73BF-90FD-4480-AE1F-296CF270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7BD8-E711-47A2-8831-6823D8F9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62D3D-69FD-4EF1-B0EE-B4B35536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A87DD-E995-4200-8479-2CC334C5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C364F-0829-4709-BC13-926F8143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7595-4C80-439E-9684-CAF0C92D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F970-6511-40AD-AF20-FD86F63F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A277C-7F69-4BA7-A8E1-2DA90502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24614-AFA7-47D0-9D67-C26AE638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96FCA-0A55-4CC4-BDE7-7124E391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BB986-A87C-49AA-B042-F8264C92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E78ED-B187-4EBB-8077-77E09E02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374F7-0471-4595-9AFF-6B888DAD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AF26A-F9B2-45CA-99F6-9211AEE2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B7BC6-737F-46CB-9B0B-0245C4F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12680-E1FE-4369-BD4C-DE3064B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09B2-9241-4E6C-B765-99AA9522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9003-30F5-4011-827C-EC64D45B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5548D-6D9B-4D8A-ADFD-C6739B0E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57211-BFA7-417A-AEB2-16ECED52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FD430-D0E5-4189-B6B3-126630DB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CE6F-C249-49E4-B9EA-86ED1418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9F980-B6C9-4054-ABAC-6BCD5418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D23E9-A58D-40F6-937C-6D5018FB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30D7-7639-4570-92EC-3D88E38B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C0523-EB8D-4E44-B035-9D2899D4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3196-1AD9-4BDD-AAE9-A254D7EE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15F2-3C0F-4B18-AB3E-300433F6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5880-6885-4CDF-BA0B-E4AE4F38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439CA-CC93-4F66-846C-5E813B6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B7DCD-073F-4784-8B2D-D32F8959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1B21F-9FB8-4835-8BAD-8D690559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49E20-80DD-466E-A020-E62B70B6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3B897-C7BF-4289-8EC5-7CCB08D6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1F742-4070-4537-B685-4B17B8F1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08E7-A4FC-46D9-A3A2-C687EFE2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E69EC-CE59-4105-8F81-8546A395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300E6-072E-4FA5-B036-2FFC4958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CF8F-8FEF-4D05-AAAC-44346143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7EE54-0E75-4957-B823-9332E21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19A0F-FF5A-471B-AF33-33675D25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25291-5E98-4500-89CB-0AD55A24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261F-7569-40E8-8CF5-E5F00BF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96487-4D77-4C37-AEF0-56208614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7B845-B2B3-4209-BBBD-49B530AF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0C9E-7E7D-4D4E-8070-2FCBC3BC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A815B-41FE-4EE9-890D-127D0004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FA365-9FA8-4642-9EC7-71A969EB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57985-AA31-46BD-8957-7429A374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5EAE-F843-48D9-8396-162035AFC51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0327-6554-4CC1-9645-0D8DD44149B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0BA8-FA78-4FB9-AC86-B495278D09E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09F3-10F2-4D1B-A4FE-8B88DE7129B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99FE-F8BE-4D22-B274-94662203E77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3600-B163-449D-A2BB-E105DD2FDF2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624-5D85-4054-8A90-889DB3444D9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4B42-8E9C-4E6C-8317-4A4EEC43C60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8510-CAEC-4762-8761-92310730671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D17C-1B27-47D3-86A9-45A6630F447F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5EC-052F-4870-9DCA-52ECAF30E0D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6328-8178-49C4-95D8-8FAC52A451D1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9B77-3740-43E7-BFF1-08C32A6858F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9B94-4AE9-4A0E-8F1F-C9F7ACBDB1F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7E38-BD72-463A-B017-0B06755E779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3167-5320-4C8F-B405-5BCB42036F1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9421-C369-40CB-A38B-A2D463EE73C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 nákladů a výdaj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y, výd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Náklady a výdaje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1 – 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stavují částky zaplacené účetní jednotkou v běžném účetním období (výdaj), které však zčásti nebo zcela patří do následujícího účetního obdob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lacen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za příští ro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likož se nejedná o náklad tohoto období, nemůžeme nájemné zaúčtovat do nákladů na účet – 518 – Ostatní služby, ale musíme ho zaúčtovat na účet 381 – Náklad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toto nájemné přeúčtujeme z účtu 381 – Náklady příštích období na účet 518 – Ostatní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oce 2012 jsme uhradili nájemné za pronájem budovy, a to za období   1/2013-6/2014. Celková výše nájemného činí Kč 180 000,- Měsíční nájemné  činí Kč 10 000,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0 000,-     381 / 2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3 (12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4 (6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3 – Výdaje příštích obdob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 jestliže nám vznikl náklad, který s běžným účetním obdobím souvisí, avšak výdaj na něj nebyl dosud uskutečně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hrazené poza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že se jedná o náklad tohoto období zaúčtujeme toto nájemné do nákladů na účet  518 – Ostatní služby, jelikož to bude uhrazeno až v příštím roce musíme použít účet 383 - Výdaje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(po úhradě) přeúčtujeme na účet 221 - Bankovní účty nebo 211 - Poklad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 dni účetní uzávěrky nebylo uhrazeno nájemné za 4. čtvrtletí tohoto roku, a to ve výši Kč 30 000,-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jemné bylo uhrazeno v lednu příštího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zúčtování výdajů příštích období        30 000,-   518 / 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30 000,-   383 / 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5:10Z</dcterms:modified>
  <cp:revision>16</cp:revision>
  <dc:subject/>
  <dc:title>Časové rozlišení nákladů a výnosů</dc:title>
</cp:coreProperties>
</file>