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4A96-01AE-44DA-A765-D37E401C847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E30E-1944-4244-9A60-FC202334E98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569D-E4C1-4DC0-9838-2D567922223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FF6D-B6F6-4B8C-BEE0-B6B186ADBE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FBE6-0A88-49E7-AC6A-30B9994937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2D63-A80D-4F59-9AB3-58BBEC7A78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C953-E4D5-40AE-BC8F-83FC8B3D06C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6610-56C4-4CB6-8E9E-B2D74F7BB3E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B8E0-5B9B-40AB-B4BC-948BC9E486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68CD-0C43-4627-BA3E-6289BE1F258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4815-117C-44FB-A181-950F8C4B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5C4-1085-4BE2-85C1-F9983AB3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3927-DF25-4596-996B-DB43CCA2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8D99-B1C9-416C-808C-1CD20564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9511-74CA-4DA4-BBB0-BC7C6D78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BF5F-AD47-42A4-9097-A5636032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BEF6-C359-4AA6-86B2-ED56D2A9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029C-D81A-4806-8D11-61ABA266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FE97-639B-4121-AAE3-C24F587E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F14D-5C02-4E7A-8344-28D5DFB9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5CAF-161E-46D7-9B5B-68A79CD0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1319-5D1F-4BC7-BF6D-A8B4F097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1B49-5F6A-436C-9C50-CD5742B2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8B86-8898-4100-862A-37C1B003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4499-DA53-49D9-8191-8A85BB3C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A80E-16A6-45C2-8E21-A21A9CCC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1CB8-256D-4595-B276-10E0708E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B563F8-D719-4419-B7CE-B7A101A3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6C7FE0-16BA-4F37-B569-FD4905AE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2DC44-A1E3-4A9B-81D7-F6DDFE8C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49468-7B16-4A19-8432-A934B435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11A29-347B-4A14-8330-8F8CCF2B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BB2-2672-49BC-B697-9836FEAF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BB2A9-7A50-41CC-A54D-3B7F8CE8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72270-6DDC-48AB-8631-04AD4391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EE41E3-C74A-4689-9335-59CCB98A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717BC-3F46-4AD6-8F6D-B538014F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98088-A53F-4E89-82D8-5BF62573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4D2C21-FDF5-41F1-887C-177C7564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284CC0-C03E-4A92-9033-D1ECEBEA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5F14-BE84-4651-BC44-29DA9F58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4B25-A8B9-4162-94A4-2C10593E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EDE0-1AA4-4466-BD39-EA6B3FA7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050-C78F-4AC8-8D12-81B37D4C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5DEE-9776-4751-819C-CBAF6E4D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B2E-AFD6-430A-BEFF-C6BD29F6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0491-02FF-4800-BBF4-0DD24BD27F88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EBF1-123B-4D05-B095-0BEE6412F307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FCA6-EBC4-4F46-BF77-F6993E051E2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účtováním zákonných rezer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Zákonné rez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500"/>
            </a:b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7416720" cy="37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vorba zákonných rezerv se účtuje do nákladů, a to na účet 552 – Tvorba a zaúčtování zákonných rezerv podle zvláštních právních předpisů (na stranu MD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erpání (rozpuštění) zákonné rezervy se zaúčtuje na stejném účtu na straně 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tiúčtem je účet 451 – Rezervy podle zvláštních právních předpis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 účtován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zákonné rezerv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52/45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rušení zákonné rezerv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51/55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Úloh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jednotka se v roce 2010 rozhodla tvořit rezervu na opravu výrobního stroje. Oprava bude provedena v roce 2013. Rozpočet opravy 300 000 Kč. Tato oprava byla v plánovaném roce provedena dodavatelem. Fakturovaná částka činí 387 200 Kč, včetně 21% D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te tvorbu rezerv (za jednotlivé roky), fakturu od dodavatele a zrušení rezerv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Úloh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budovy 20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budovy 20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2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11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7 2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43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51/5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40:36Z</dcterms:modified>
  <cp:revision>17</cp:revision>
  <dc:subject/>
  <dc:title>Dohadné položky</dc:title>
</cp:coreProperties>
</file>