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6FFE-1CD2-4C29-86B2-192CD6342C9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529A-819A-420F-A4C2-5A792653E4A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8533-B553-491B-AC24-CC26E347F1E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BDEA-20F7-4D3E-9659-48527FBD0A3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F041-75D3-4187-BE24-3FED636670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92D1-ADF4-4A91-A247-FD632F8F05E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586F-6888-4B37-A668-BE141881D2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C386-441F-4154-9077-91362E27C45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0655-E8CD-4754-977A-09C30E6741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83E7-E365-44A7-B90E-02CA7EA3338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8C6-D7AB-4F62-BA4F-7BDCC706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F18-48CB-41AA-A822-DCC8E060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414C-9AE6-4D48-BD63-C78D9473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5A4-B352-46B1-BD2C-5745418F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B76A-EA78-4B37-A007-A9289867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4A00-1AB8-43B9-B782-237A3F6F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19BF-8A74-47D6-AD6F-6685C0E6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48F3-8071-4D7B-99EF-1ADE856C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3EC8-8C39-4554-9750-09722303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2304-442D-470C-8DA5-2C1E90E9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A125-231D-44EF-AE2D-1EA98F14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4D9D-963B-408C-8345-42C10516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13CE-298A-4DA3-92C4-4809A465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46D2-CD40-4E89-8844-B0E6A5C5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D02A-66A2-49C7-9326-DCA762E2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EB5C-F6B7-4D60-B1FB-37D4A8F1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3C68-4EEF-48F4-AB4A-1B993FBB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E50F2-D10D-4705-B69A-B0A248E9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9E4A6-7287-44F3-9456-43A6F406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F03FA-E0CB-4ACF-8848-E6D4113B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0F9970-B43A-4C2A-9B00-9861B65E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E0E4B-C993-4E77-99E3-945AD3F4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CBF-CDE8-4F9A-ACCE-3191A90D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000F9-A43D-436A-A3DA-4ECB856C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C8143-47EB-4A97-BF1F-0CBBF93F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838AA-66BC-4C76-8500-1736FDD1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EBE8C-DF46-45DE-99A0-6DDBAA80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B7A23-CF93-4A58-BEB1-B6F717AD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6E699-D01F-47CF-9CC2-5B87BEBB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C2A9D8-D72E-47F5-92B7-60C439EB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E831-A7A0-4CF3-8BF0-DBB9641B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73A3-B637-4AE1-88C3-5539ABE0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343F-52B8-42D6-978D-FAE7BF3C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4B92-3B83-482A-B6D9-6495EF1D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843-C452-4351-B52D-9CE1E954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F5F6-3F32-4D4F-B59D-BDB9616A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76DE-41ED-4F95-AAEA-9C23D7A51F9D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5F0A-41E5-4A99-B67D-0A2A77DE5FC2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5550-EA3F-40D7-AFD0-7C76F93C388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inventarizačními rozdí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bytek, mank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Inventarizační rozdíl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Garamond"/>
              </a:rPr>
              <a:t>Inventarizační rozdíly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773360"/>
            <a:ext cx="74278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porovnávání skutečného stavu se stavem účetním mohou být zjištěny tyto inventarizační rozdí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n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účetní stav je vyšší než skutečný stav (rozdíl mezi skutečným a účetním stavem nelze doložit účetním dokladem, nebo prokázat jiným způsobem stanoveným záko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a manko se nepovažuje tzv. norma přirozeného úbytku (u zásob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ormu přirozeného úbytku si stanovuje účetní jednotka sama (musí být uvedena ve vnitropodnikové směrnic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 stanovení její výše vychází ze zkušeností z minulých 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orma přirozeného úbytku se stanoví např.  u takového materiálu u kterého dochází k vypařování, vysýchání at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 zboží se stanovuje např. v důsledku ztratného v obchod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Inventarizační rozdíl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5280" y="162864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Přebytky – účetní stav je nižší než skutečný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sta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4360" y="1196640"/>
            <a:ext cx="801360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anka a přebytky nelze vzájemně kompenzovat. Výjimkou jsou pouze případy, kdy došlo k chybné záměně podobných druhů zásob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tomto případě se zjištěná manka a přebytky vzájemně převedou (případný rozdíl je pak přebytkem či mankem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4:56Z</dcterms:modified>
  <cp:revision>25</cp:revision>
  <dc:subject/>
  <dc:title>Dohadné položky</dc:title>
</cp:coreProperties>
</file>