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7E03A-B87E-4AA4-8FE0-3B40085404F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EF845-69C1-4DB3-9E3C-E03CAAA8CC3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D755-4AEA-42A9-B628-4D721D0392C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364EA-B956-4ED9-8148-E3A1A24B40EB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BE3D5-C651-4D2D-AA01-7A4B3A21BBC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05C7A-9720-401D-A619-3EC181040CD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18FB9-3330-4C41-BD90-D9D832D1A4C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AE475-6457-4446-BC6B-24E28C09932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63205-7B21-43C5-BBC9-71CBDDABC0B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1C1CF-0D57-41A4-B693-DFF601DF228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009C1-182D-4EF4-928B-F9F91BEAFAD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92BF6-B14A-4AA3-BA04-C855D1ACA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473FD-A033-428C-88EE-8AF5C6CB5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D37A61-55F8-4E45-AFD6-AB23054C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7B43BF-E59D-4860-BE8E-0420F3ED0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DE6017-DE09-455C-A359-12E45B6BE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F49BDA-6BFC-4287-9695-A1089068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5FFC30-EECF-4BA0-A3B7-5BC46E2A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B40E91-C578-4A0B-8F41-ACD33319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643B3B-2492-466A-AC3A-0EFE74D7D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41E20D-3F28-4E6D-A620-8751E3AAB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19100F-F5D9-421C-9DE1-9CA112EB7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6E3415-BCF2-4C2F-9CE8-CB84D134F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071CF-D621-40F1-BF96-D16C3A987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535904-61B0-488D-A69C-7989CB96A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83DB15-4FDB-4EE6-AF87-64E12E66B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A9065A-C2F2-4189-97AA-4CD747BAD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81A61B-4D87-4E2E-A078-EE18599BC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8448BC-030B-44B2-95B8-2052A5E7D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63E291-D638-437C-BA56-BECFF9EB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6252BF-2B6A-4AA9-93B8-FC94E025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AFA357-1F6C-43A6-B826-8379F50C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1B2E4B-5522-4B0B-9E50-EA9F14DCC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40785C-E16C-4D4C-85E1-6356A037C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C8EC1-1A07-44CB-BDF7-33A20B772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3AAF9B-8B6C-440B-94FD-2BD8E4792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11BF23-14D2-4696-8198-9DED7B6F3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003084-9CF6-4604-A92C-95D8D168F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5BC91E-A2E0-4FBA-B91C-C854A8647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CF7843-E8DD-43E3-884D-BD91BF13A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7CD388-8A62-45F3-B2D4-2E9A4F315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EE6535-9821-467E-849E-63AB3C2CF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AF6F3F-426C-4EB7-8621-3065092E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5BC2DF-9E59-4188-86DB-F4C5F263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193794-15F4-41A6-BDB4-A2D1887E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06954-359C-484F-8B6B-A397746B5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6AF058-C682-476B-8FFF-146F1EAAA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5F8742-98DE-4CF7-B9E7-A07B8E979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C8638D-FB0F-4B19-AD7F-D85701084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BEA8DD-219C-4886-AD5D-7CCB5408C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2EC2F3-33FD-4D6A-ACFB-DD1541340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BAAAD3-EB87-4CD4-8EC0-91C520FD2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A88156-8B1F-41A5-963E-C4F09C5C1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2A71E5-2D6B-4F4C-948D-9272236AF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5C94B6-0FF3-4EBD-BF36-C6A420C28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469813-764A-4675-B792-BDA8510D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22D89-5EE7-4EA3-B2A3-0439E57C3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C31789-D5CE-48D0-8CAF-1974A229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09A475-942D-46BB-A77F-3C2ACA793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83435A-491C-44AA-A66D-95A2413DB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C9828E-8448-4C00-ABC2-FD1464CC1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C6C686-7FE5-4CF2-8452-AC9A898D4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E0D4A4-6BF7-4CF6-8DE1-16687E5F3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051385-52E2-4496-8A13-FD5C2710C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B7A066-569A-454A-9BF4-65AB33A9C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434660-A15F-4246-A602-02177EC74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B1D5A5-D86A-405B-81C5-53BB99E54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9FC58-21F6-4273-92EA-7659EB962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A3146D-3EB1-4FC4-B01D-661EB3CD3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A54CFC-D158-4B45-9A21-047748B5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FFF629-4133-4B29-8023-6388470C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E0D4DD-35FA-48E3-BDDD-174E0973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CAE559-9DE3-4784-87E3-A919CA3CC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1E3268-D008-4409-98C0-D2F0064A4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2D5C40-ED55-4C53-93D3-D5E86DB3E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BC5CDF-4E22-4974-BF34-7EAC2BB54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185734-42BA-4A10-B63B-EB6E4357E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D86254-A595-46B6-942E-E87FE900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1AE86-C023-43EA-BDA6-4154EE734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F49490-79AE-4477-A84A-A3ECEA4E4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7CC763-F6B6-4189-AEBF-D20B1793B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234F18-CD65-449B-B465-2884C896C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2B43A2-FFDC-4589-BF0C-65B37098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0075E1-3E15-4A51-8822-4516A8A3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FD0F1A-278A-4739-B0F0-AF02751E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BF838C-1CF4-4F55-989E-D2BAF1ECA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EA34E9-4E95-4773-BC19-8A3360666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7AD847-6852-49FC-B667-34652CE21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8220B4-146B-4821-B35F-FD7749922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E69F8-B202-466F-9EEA-42673F763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CE31D8-670B-401F-927A-EFE806F7C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8242C1-0C1B-4914-B382-6EFAFEAC8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B88FA8-5736-418C-8BA9-CD36F682A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E841DA-F870-467D-BA58-B1264014C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AFDB00-3E73-4736-9046-9D4379388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311B17-2F16-4A52-BC19-55D88467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B269F9-B08B-47AE-A092-D7A27C17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E3409F-B181-4DB7-AF6E-156B96A0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E4BAFC-8D64-4670-90F4-DA9CC5DBF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A9EA21-8420-47EE-8339-16BA9FE87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DFDC2-5171-410F-AFEF-2F3A913B9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96EC4E-FC6B-46B1-969C-1D94BA021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B5F6BEB-0C51-42D9-ABA1-9A68507AA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0FF95AA-4586-41D3-82E2-5D5BC0770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2880D3C-8910-4F51-9E79-07A9B8C5F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1ACE1DC-8F37-4926-88CE-9DF2A4EEA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2E858C2-7DA7-4628-B863-55282A687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BD9CA33-4222-4921-B92A-0803DD871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AA1FED0-1181-4938-9309-DC6172A0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D0D0943-B759-4161-BBB8-1C284AD3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AA3BC5D-E289-42F2-8D5E-8E74AC57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9963A-4F26-4E48-B1CA-A58B59F9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93F845F-3CF8-42EF-8411-E217DA77A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5AB971E-9568-4952-8465-DF3540F3D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814F9F9-1E21-4532-9AB2-43C4C9799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EF7DA7-8130-4F88-A4DF-375FC9511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7D5478-0319-4D91-8B6F-652C2E8F7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080BDD-F35E-4A3B-9231-218DF5DD9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3EAADD-4248-4D4A-A643-CD277DA86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C57144-784D-4164-B48E-15987701A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95B3FD-B11C-42C6-A3C7-CAC91207E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34C8CF-ECB3-4775-B302-61189C8F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2470A-05C1-4415-BC1E-8BFD10727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2E40C-B5CF-40D6-B895-3A88FC8D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5EE9CB-C1B1-462C-B0EB-142B9EFC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2CA21A-1D5B-48F6-9E49-859A3009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F3F928-E7FB-4EED-8FF1-3BC3572CF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775494-135B-4869-8A3A-8600FEEF3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8CA5D8-8181-405D-BFC1-8E44C4F1E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83054-7A11-4474-ACB4-F6B38C18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0E0F0-D1B1-4823-B5F4-3CAB70BD8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97E25-92FF-42A2-8ADE-1AC132A54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F01A2-94D9-47A5-927A-B75F83A35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447915-E999-441E-B3F1-5EEEF13A1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5018B7-D01E-4565-8CF2-A7B8387EF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B4898D-190C-4EF7-BEB8-3EF1E18C0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F7429F-30D9-4B9B-82F0-853851A9F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A675F9-B5D7-4955-B983-16019E6C6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A1911-7949-40FF-8EDD-E2EECF632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45B095-9E25-4B2C-B418-9B5FF2C16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48CED0-B537-41F3-8E54-904347F5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D95FAE-FFCA-4371-860F-FBBB3C53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A3387E-F01A-4DD2-A0E1-712E6ABA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25E9B2-9B1C-4B91-8F56-B962142B3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A4139D-FF96-4C31-93B1-5411E9ED1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CA2674-0D81-4F13-806B-33D6A99BF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8BAA2-709E-4E16-99B0-3AF138DDE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A6CEE-06D1-4DAF-ABA5-995DE8FA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6D861-088F-4418-BB95-E31B1AD0B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D9365-5D1C-4A94-9FF8-AAEA62350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84D77-AEE7-4F19-B36E-9DB6B5B8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7A091-5E6A-46A5-9C71-452324B1B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E6330-9A47-4690-82D0-5E4BA0F89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4A8DF-FC62-4E6B-B8C8-78264945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CB51D-0F6A-440B-AE8F-892AAAB7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B5D76-F9F2-4E34-9FE2-FD3AA90E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1F6CC-9D3E-4D7F-9D91-D79FE2AE4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0CD8A-2108-4484-8415-01C8FC284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CFC20-6A19-448E-8CE8-D594AB5EC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5E23E-A504-47E2-B15B-1D07A72E3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6207D-339A-4CA1-8D73-62BCAF9F5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BDD9D-6792-4966-99BA-BE1218B72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5F142-5C6F-4758-AE10-89FEE1A2D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258A9-ABBA-4436-AAA5-5F6DAF396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4F10C-7860-444A-8877-80698C27C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5036F-535E-4E75-8FCF-FF8C07B0A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8330B-4406-417D-B303-FABD8156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4C3D3-2BFF-45A5-83DF-506C8E1A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BF294-1079-4CE8-9AF4-DA20C6D4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6671D-794C-4A09-81CF-91E8906BA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2C6C7-C708-4500-82EA-6CACD9107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ABC29-A85D-4593-881F-8C84FC674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269CD-43B9-4A44-A7C1-83D2AA7D8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81122-5061-4E69-8442-45007A7B0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D2AFB-7372-4F13-94A4-F7008F8CC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E6261-7AA4-4BC4-A567-F71A701C8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1CD703-74AE-419D-A8F4-B6D67F44B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2FA99-20B6-4DCD-9BA7-FBF24CB37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1A12DC-56C5-471F-9E2C-498345135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488AD-0BB9-4F96-9E8D-07B8B308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C53E4-ECB0-4488-A904-9E964A47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43BE3-2DA9-4DE4-877F-07552F1E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73A12-F719-4E8B-A630-53E93F27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A25A7-D28E-46A8-9139-77BA0F870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5CE2E-AA52-45B3-AC62-D6A70872B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C6917-6C07-42FA-945A-75C62229B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71E465-4D75-438F-94E5-31C2AD641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6F311-CAE7-47CB-A518-4DD62264C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00CD8-3CFF-4EEB-8D4F-F31A77765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0E4280-728D-4539-9A7A-550CEFA94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EE0349-AC5C-4847-B95B-72C126BB6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320CAF-02B6-4540-A607-66B94A46D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ADB06D-7891-4CE2-A9AB-904CC207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8549A-5835-44F1-9108-AFD994C2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A1425-0567-4527-8118-750D1512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9281F9-D1C1-43C9-A860-CA7052B3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CDF78A-5C02-437F-BC28-E0115A70F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78E7E-AE2D-4594-BE2B-D92A9C72D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94DD22-69F9-479C-9CF2-349A7339E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669BD6-B1D9-4603-9F16-DC375843D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1BF10A-8754-4CE8-B146-41C3BB411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DD97F-9286-499E-A3E0-BCD6D4E44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A64FAD-E808-48A7-AA42-39E29C3EE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75E30-3203-4692-B8FC-6C9470420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D770C-6957-444B-871A-3C277404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B4810F-D809-4398-AD3A-5EA741763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61246D-09DE-4945-BCEB-08A46144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2CC161-8B54-4B0F-9DD1-109BEA76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219C10-D139-4C3E-A56B-4E959DEA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A82B1E-1CCF-447C-890D-862DC6C08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F16A4D-0C0A-4849-A9AB-B2E05B501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1EF657-4FCA-46EE-85C3-B90CA46A8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CA6661-B626-4647-8F38-9C7961474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01E633-048B-439D-BB90-E47E9442F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74DEE5-1AFE-4712-A968-E65F03E59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77718-45D7-4EFC-A1A7-FDA6E64154C9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6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7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7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7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8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68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69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69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69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0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28874-EDDD-4008-AB8D-8D0502DE0F19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6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747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6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757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758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1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4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65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73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4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6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777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778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9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780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88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FDC68-DFEA-4220-B991-3133069D6B39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3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834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3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844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845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8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1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852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3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7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8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9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0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61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3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64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65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6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67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8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9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2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3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4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5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98073-ACEF-42FB-B365-23D9136CC7E7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2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93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93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93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94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0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951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95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3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954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8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9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3223D-FDE1-4E42-80EC-D7461D0C0AEC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7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08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7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18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19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0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1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5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26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9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0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1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2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3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4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035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7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038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039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0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041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2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4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5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6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7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9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 type="dt" idx="4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 type="ftr" idx="4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 type="sldNum" idx="4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FBE48-C84A-4931-AE81-A81EE77E11A8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9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10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10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1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2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2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12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12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12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 type="dt" idx="4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 type="ftr" idx="4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5"/>
          <p:cNvSpPr>
            <a:spLocks noGrp="1"/>
          </p:cNvSpPr>
          <p:nvPr>
            <p:ph type="sldNum" idx="4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B9DCA-F654-46AC-89CD-099D97BD664C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18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19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19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20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0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1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12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1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4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21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7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9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0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 type="dt" idx="4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 type="sldNum" idx="4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A459C-9319-4D07-AF02-760491867397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5"/>
          <p:cNvSpPr>
            <a:spLocks noGrp="1"/>
          </p:cNvSpPr>
          <p:nvPr>
            <p:ph type="ftr" idx="4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6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BAE29-AA9E-4C1B-B71A-6C733136DEC9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952F3-6BD4-48BD-8896-501547008E47}" type="slidenum">
              <a:rPr b="0" lang="cs-CZ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7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7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9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9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9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208E3-B0B0-4A30-B563-D368559F9E9B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90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93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78565-F89D-44CB-BE31-30B044A5C385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4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5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5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56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60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831F4-8CCB-460D-92A9-538BAC4025A4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1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2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2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3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3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42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34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4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34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96E67-F95E-4D0F-AD81-A4CB1903EAC5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9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0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1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1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2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2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42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3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3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777FC-883B-4820-A903-ACD5670CF102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8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9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9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0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1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1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516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51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8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519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93228-18F5-46BA-B19E-4E9E4B86BB06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7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58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58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9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9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60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603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60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5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60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1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B9D6D-DE49-4A48-8554-8DE9FA36C99F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8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8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29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Y_32_INOVACE_2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30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          Ing. Pavel Štohl,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2" name=""/>
          <p:cNvGraphicFramePr/>
          <p:nvPr/>
        </p:nvGraphicFramePr>
        <p:xfrm>
          <a:off x="468360" y="1413000"/>
          <a:ext cx="7991280" cy="4167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Účetní uzávěr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Prezentace k seznámení studentů s časovým rozlišení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Náklad, výnos, příjem, výda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Charakteristika časového rozlišení nákladů a výnosů</a:t>
            </a:r>
            <a:br>
              <a:rPr sz="4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asové rozlišení nákladů a výnosů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7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průběhu účetního období dochází k časovému nesouladu mezi výdaji a náklady a mezi příjmy a výnos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 hospodářského výsledku účetní jednotky se musí zaúčtovat pouze náklady a výnosy, které souvisí (časově a věcně) s daným účetním období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asové rozlišení nákladů a výnosů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asový nesoulad mezi výdajem a nákladem, či mezi výnosem a příjmem (např. výdaj v tomto roce, ale nákladem to bude až v příštím roce) se řeší pomocí přechodných účtů (účtů časového rozlišení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asové rozlišení nákladů a výnosů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asové rozlišení se provádí na konci účetního období při uzavírání účetních knih za pomocí těchto přechodných účt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381 - náklady příštích obdob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383 - výdaje příštích obdob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384 - výnosy příštích obdob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385 - příjmy příštích obdob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rozvaze zařadíme tyto účty následovně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539640" y="2491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Aktiva                        ROZVAHA                          Pas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381 – Náklady příštích období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383 – Výdaje příštích období 385 – Příjmy příštích obdob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384 – Výnosy příštích obdob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Účty časového rozlišení používáme v případech, kdy přesně znám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.účel vynaložení – věcné vymezení, čeho se daná operace přesně tý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. částku v K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3. období, ke kterému se částka vztahuje, kdy příslušná operace nastala nebo nast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Účty časového rozlišení se nemusí používat v případech, kdy jde o nevýznamné částky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řípadech, kdy jde o nevýznamné částk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příklad předplatné periodik, nákup kalendářů, diářů apod. na příští rok, a je zřejmé, že tím účetní jednotka nesleduje záměrné upravování výsledku hospodaření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bo pokud jde o pravidelně se opakující příjmy, (např. úhrada činnosti auditorů, daňových poradců vztahující se k předcházejícímu období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8T08:07:38Z</dcterms:created>
  <dc:creator>Ing. David Holzbauer</dc:creator>
  <dc:description/>
  <dc:language>en-US</dc:language>
  <cp:lastModifiedBy>Igor</cp:lastModifiedBy>
  <dcterms:modified xsi:type="dcterms:W3CDTF">2014-09-13T15:34:11Z</dcterms:modified>
  <cp:revision>17</cp:revision>
  <dc:subject/>
  <dc:title>Časové rozlišení nákladů a výnosů</dc:title>
</cp:coreProperties>
</file>