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246CB-3EE5-4708-95C6-EC7A3455286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7B275-40C5-42DC-AABF-FD83E63AA628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26609-65D8-4550-BE8E-EF6866690EC2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F3127-412D-4B49-9770-AB3FC85B7E1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DD578-E50B-4A7F-926C-E4B45D2F6C9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40C10-BDA5-4DCC-906F-CDB094BC1C6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33E87-9401-4981-BE83-969133CB806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1FF3-D8F9-4EDD-AE2A-3CA929C63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6649-1307-436F-BDFF-AF329228F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60FF-C600-4EF8-AD71-388FB1DA9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B867-C618-45F8-9781-F47C9BB61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76902-643F-48B9-9C89-2A97BCD22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E3B46-DD67-4A3A-B8C2-E4FF29FA3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1A587-348D-4C71-B4F5-EEEFA5003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133EF-7127-4EA4-9AE0-DBFE24C74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805CA-49E8-4C70-BD2D-CD214EDCB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6099F-4C7A-45C8-9002-564F75A1F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F7C05-4420-413F-858D-5F3A398E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357E-46C6-4E05-8053-B0253E179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72B72-6CF8-4477-BDCA-DBAAA887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750AC-B314-4EFD-B5B3-D350F328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20B1C-9CA1-477B-BAE5-BE3D8E4DD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19003-34F3-44A1-88A7-39885EACD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79C97-00B7-43D6-B2AF-8BA3043CC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92DE60-B56A-4378-B1A0-68BBEEEB4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D99DD9-1490-4671-8D71-200B29E5D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CF19A8-3DFB-4E5D-B6A1-8E7BB0E50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10CC80-A719-40BF-A328-C1AA7682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74D702-3B7B-4E46-92B1-C8F30AB3A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FEE3-3966-4CF6-A901-4439900FD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87F8F1-31D7-487E-A49B-D56A02234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E80236-F24C-4E6F-B982-AB3726C5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3A364C-86E6-4C63-BED1-979390D4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749653-7A8D-430B-846A-72AEB94E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31BC24-0CBD-48D0-8046-37B9F693A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83F648-3D8B-4C17-AD1A-1F8AEC08A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860862-8E05-4EBC-BEA2-A0C0B4BC7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A1E6-39C9-4341-A673-D0CB526AD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358F-5EB1-4CA0-BCE6-A58D856D5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F0EE-7025-4CE0-B788-F4B54A8EA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443A-140E-48ED-94BA-6C6B13CF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3706-374F-4EA5-9228-D87D87CA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D64D-EA8B-4028-AFD0-D9D07F46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CFB2E-AA7F-47B6-BE60-57EB9DD345F7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A9BD0-4380-46AB-AB43-42B9CC532755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50322-F002-4E53-9218-0599FE5ECE9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í uzávěr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rezervam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izí zdroj, tvorba rezerv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08000" y="278136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06633"/>
                </a:solidFill>
                <a:latin typeface="Arial"/>
              </a:rPr>
              <a:t>Ostatní rezervy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06633"/>
                </a:solidFill>
                <a:latin typeface="Arial"/>
              </a:rPr>
              <a:t>Ostatní rezervy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741672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vorba ostatních rezerv je upravena vnitropodnikovou směrnicí účetní jednotk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Jejich tvorba není daňově uznatelným náklade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Mezi ostatní rezervy patří napříkla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Rezerva na splatnou daň z příjm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Rezerva na záruční oprav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Rezerva na opravu DM, který nesplňuje  podmínky ZoR (majetek v první odpisové  skupině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      Ing. Pavel Štohl,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8:08:18Z</dcterms:created>
  <dc:creator>Ing. David Holzbauer</dc:creator>
  <dc:description/>
  <dc:language>en-US</dc:language>
  <cp:lastModifiedBy>Igor</cp:lastModifiedBy>
  <dcterms:modified xsi:type="dcterms:W3CDTF">2014-09-13T15:36:33Z</dcterms:modified>
  <cp:revision>15</cp:revision>
  <dc:subject/>
  <dc:title>Dohadné položky</dc:title>
</cp:coreProperties>
</file>