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054B-1488-4C75-A99C-B355EA6174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8622-18FF-4F82-95C4-5716485530F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43EC-1411-401A-A3A2-D4440CE500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35D4-BCE6-4BB0-81F1-0EEB18A2AA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C3E7-C110-451E-9286-4A500D3E26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6D57-EAEC-461E-8B65-AE6FF3C2FA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FB76-8108-4B7D-B1F6-A7813DA81FC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7655-531B-4D00-B3E8-FBA01E5B1FA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60F3-D9C7-4A4B-95E4-611BDFAD60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CD3B-4248-49FC-AB44-5A15B5F496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58B0-54EE-4141-B6B1-0307E1E3E3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9051-3091-4C67-8E78-FC4F6B0992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0DC2-63CC-4FD2-81B3-9933D04502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B362-FF9C-4E1A-A5A2-14FD941CE4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D32C-F3F0-44DF-B52F-7328EFA5E9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08C-77EC-4EAD-B7B3-05756230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A7E-60BD-4DB1-9DDD-B50E6BC1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390-0272-4FBB-B0A2-85360959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E17-B986-4348-B7F0-951CFA64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62B8-5B15-42FB-B1DA-CDDE8C3B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C427-E205-4437-995C-2A7883AB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E93C-F5DF-4A41-8896-BDE84B33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1715-68F2-4389-AEF2-C3DFF13D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655B-35B1-4D9F-9749-5D3224B8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D4D7-979E-418A-952A-5F9A32A0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E064-B09A-435B-985D-B910A66D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FBE-BA5A-4C1B-862A-EFBC61CD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8136-9137-41FD-940E-B0130355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E3CA-BED5-4EAD-94A6-37A80744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6AC8-B6FC-42B3-AE5B-2E049871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8AD2-F800-4280-B58A-BA7D8749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4313-D0C8-4472-ADEA-96E472E5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D6D93-D389-4080-AC5C-2F246017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AB3FD-F8E2-4F31-9D4C-FF0B29C5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489D0-1E25-457A-9E94-B7602390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BC616-008B-455C-A4C5-20FC51C4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789DD-01CD-498A-9C45-8CEA947B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67A-2C23-4F23-B271-88B870A0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B1B4E-2DA9-490E-BB72-32A9317D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9C261-655B-4363-BE0A-BFA7605A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090BF-8C23-462A-AE8C-97C5CD7D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979AF-CD72-4A1C-B9FF-4B48FC03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2145F-F297-422E-8F3D-39356C29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F3252-5BB0-453A-936B-A9952641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1933D-538C-482A-866A-B510500F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250-69B7-47E4-95DB-628CCBE1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0EA-4CC0-4A57-B6C6-4B97CA82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FD6-F3EA-4880-954C-6EA8A401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FA7-F4FB-4B19-AC18-0F66D251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D67-8AAF-41A7-B1A0-C32CB0B4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318F-46C2-4F00-9991-E620C5B1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E143-7BC2-479C-802F-F0413543CF77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7237-124A-4245-9C97-1C71B5D5B027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38E7-99A9-4634-8BDD-F4BCE25C171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kud rozvahová hodnota pohledávky 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kamžiku jejího vzniku nepřesáhn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00 000 Kč, může být po 6. měsících                      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řena opravná položka do výše 20 %,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 to i bez návrhu na zahájení řízení prot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ov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 nevýznamných pohledávek lze vytvořit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ou položku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ž do výše 100 %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j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uhrazené rozvahové hodnoty, pokud od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once sjednané lhůty splatnosti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uplynulo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ejméně 12 měsíc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významnými pohledávkami se rozum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promlčené pohledávky, jejichž celková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odnota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epřesahuje 30 000 Kč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ůč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už dlužníkov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ě, že se jedná o pohledávku z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em v insolventním řízení 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hledávka byla u soudu řádně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hlášena, může se vytvořit rovnou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00% opravná polož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čtování opravných polož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ma měla k 31.12. 2013 neuhrazenou pohledávku vůči odběrateli, a to ve výši 70 000 Kč, která je 6 měsíců po splatnost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nejedná se o pohledávku za dlužníkem v insolventním říz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Dále firma dočasně snížila hodnotu jiné pohledávky o 21 000 Kč, která je 4 měsíce po splat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e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Tvorba opravné položky 20%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Tvorba opravné polož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21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9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pravnou položkou u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časné snížení hodnoty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99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Opravné položky u pohledávek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Opravné položky u pohledávek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é položky u pohledávek použijeme v případě, že pohledávky jsou již po splatnosti, u kterých však předpokládáme, že nám budou uhrazen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ou položkou dočasně snížíme hodnotu pohledáve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 uhrazení pohledávky se vytvořené opravné položky zruš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U pohledávek můžeme tvořit tyto opravné položky: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11280" y="2420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ě účinné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účtujeme  558/39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ě neúčinné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účtujeme  559/39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ou účinnost opravných položek řeší zákon o rezervách pro zjištění ZD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i opravných položek závisí na době, která uplynula od konce sjednané lhůty splatnosti,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ech, kdy věřitelé podali návrh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zahájení řízení proti dlužníkovi podl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isů o rozhodčím řízení nebo soudu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 příslušné řízení bylo zahájeno, lz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řit opravnou položku v závislosti n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bě, která uplynula od sjednané lhůty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latnos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více než 6. měsíců – až do výše 2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více než 12. měsíců – až do výše 33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více než 18. měsíců – až do výše 5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 více než 24. měsíců – až do výše 66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) více než 30. měsíců – až do výše 8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) více než 36. měsíců – až do výše 10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6:18Z</dcterms:modified>
  <cp:revision>22</cp:revision>
  <dc:subject/>
  <dc:title>Dohadné položky</dc:title>
</cp:coreProperties>
</file>