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F539-5204-4D51-9934-E8240B3B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07D7-25CF-4DE8-BF54-43C8F9B1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BC5F-6E34-40C9-9009-8DAB5144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2900-2E55-4F46-B5C2-E2EF1DA6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60FF-36B4-40D6-AC13-03377E58E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9827-CA1F-4F4C-A5E0-0EEF607A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6B3D-CC6C-4952-ACE3-87ED7402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3374-E92F-43CE-8B56-4AB3720A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35B3-1BE0-48D3-BFBC-F0DC743F8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9465-8902-4F6B-9616-7F55E852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AEE02-4F72-4F83-BB0C-45C0A5F9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6828-8B0A-435C-8B90-E3F05DB2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9361-0105-4287-BDB2-3BCB8812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FEAF-3E81-483C-8A82-FB4F65A7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36D08-905F-4FCD-9D77-0779EFCA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FFA8-4731-4273-A142-987FA5BF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F221-609A-4AC3-B071-914E0319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56BE5-48BF-47EE-ABD9-FA615CBF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57D91-CCD1-4891-97DE-575ECC9B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93E56-717E-49D0-8750-7EB50865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45DF8-0DFF-4FD0-84F6-CAA3B197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D2448-E574-4E56-B61E-2FE9AA5D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9D3B-7BF4-4467-8D49-A5E9BB12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17CE8-F66A-49E1-9A40-45012272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7E668-23B7-4E7B-943A-4EF9C53C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3A12A-CCFA-4B07-9F8E-CABEF7FD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374ED-CA94-4D57-82D0-D68522FD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2A857-557A-4DC4-92E8-14B17938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28328-46E1-4E6B-BD8D-5B814F73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E62DA-AD7A-45C5-B8E8-7CAFD2C5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B3E7-33E8-44F4-B2B4-4316ADF9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3CC9-8FC5-4CB0-8937-412FE7D5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D35C-DFB1-40CF-BD9F-5D89854B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4A50-DBF3-41F1-B4C2-0F4748A0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FC87-8843-47AD-A51C-03EC418B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3C81-14C8-4A09-A2E9-A7E72157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B91E-7D48-4B48-91BD-F517F46577A3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3AF4-5064-4B98-8A0D-BFDC79147D8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4272E-81C2-4977-9A67-EC32E2621334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5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539640" y="4292640"/>
          <a:ext cx="7561440" cy="159048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7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inflace podle kvantitativního hledis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ádivá inflace (cválající, dvojciferná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udký růst c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ůst cen  převyšuje růst výro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eníze ztrácejí kupní sí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idé se zbavují peně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inflace podle kvantitativního hledis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Hyperinf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xtré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růst cen ve stovkách, tisících %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lísání mez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eníze ztratily význ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ástečný bar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erný obch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inflace podle projev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zjevná inflace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ůst cen odpovídá naměřené infla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otlačená (blokovaná) inflace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inflace blokovaná státem</a:t>
            </a:r>
            <a:br>
              <a:rPr sz="3600"/>
            </a:b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inflace podle projev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skrytá infla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lký podíl stínové ekonomiky nebo   rostou ceny výrobků a služeb nezahrnutých ve spotřebním koši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říčiny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ptávková inf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árůst mez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úměrná produktivita prá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nížení da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evné úvě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říčiny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bídková (nákladová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dokonalá konkuren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výšení mez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litické událost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éně kvalitní zdroje surov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539640" y="1844640"/>
            <a:ext cx="184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ůsledky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řerozdělovací efek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kles reálných mez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fixní důchody se nemění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kles hodnoty vkladů u b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kles hodnoty úvěrů a půjče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ůsledky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sociální dopad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zaměstnan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ociální nepokoj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abov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konomická emigr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ůsledky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působení na rovnováhu ekonomi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ění strukturu spotřeb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ění strukturu výro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írná inflace působí motivačně pro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ýrobu i zaměstnan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rotiinflační politi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loha centrální banky (cenová stabilita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hyblivá úroková míra u b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mezování růstu mez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mezení růstu poptáv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8" name=""/>
          <p:cNvGraphicFramePr/>
          <p:nvPr/>
        </p:nvGraphicFramePr>
        <p:xfrm>
          <a:off x="395280" y="1700280"/>
          <a:ext cx="8229600" cy="3816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l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světlení pojmu inflace, členění a projevy inflace, způsoby měření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lace, cenové indexy, členění a projevy infl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o je to inflac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o je to spotřební koš a co obsahuj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ak často se mění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 čemu se používá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ledujte vývoj inflace v ČR za posledních 10 le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 Která instituce měří inflac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7. Inflace podle kvantitativního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lediska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8. Inflace podle projev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9. Příčiny infl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0. Důsledky infla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1. Protiinflační politik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Použitá literatu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ŠVARCOVÁ, Jena.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Ekonomie – stručný přehled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Zlín: Nakladatelství a vydavatelství 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ng.  Jena Švarcová , Ph. D., CEED, pro rok 2012/2013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SBN: 978-80-87301-16-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ff"/>
                </a:solidFill>
                <a:latin typeface="Arial"/>
              </a:rPr>
              <a:t>Inflac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jev ekonomické nerovnováh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ůst cenové hladiny (úroveň ce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nehodnocení (pokles) měn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pakem je defl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nové indexy k měření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ndex spotřebitelských cen CP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 výpočtu slouží průměrné ceny výrobků a služeb zařazených do spotřebního koš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edná se spotřebu průměrné domácnost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nové indexy k měření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ndex spotřebitelských cen CP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ždá položka svou váhu určenou podílem výdajů na daný výrobek nebo služb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ový spotřební koš po 5 letech z důvodu změny potřeb domácnost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nové indexy k měření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ndex cen výrobců (PPI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 různá odvětví a obor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še obsahují výrobky a služby pro výrob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ždá položka má v koši svou váh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incip stejný jako u CP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enové indexy k měření infl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Deflátor HDP (HNP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šem jsou všechny spotřebované výrobky a služby v daném obdob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ždý rok se koš mě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áhou je podíl výrobků nebo služby v produktu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Členění inflace podle kvantitativního hledisk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írná inflace (plíživá, jednociferná)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ijatelná pro stát i obča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eny rostou poma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eny nepřekračují tempo růstu výrob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lidé se nezbavují peně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86d1ec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21:41:27Z</dcterms:created>
  <dc:creator>Marek</dc:creator>
  <dc:description/>
  <dc:language>en-US</dc:language>
  <cp:lastModifiedBy>Igor</cp:lastModifiedBy>
  <dcterms:modified xsi:type="dcterms:W3CDTF">2014-09-13T14:47:00Z</dcterms:modified>
  <cp:revision>35</cp:revision>
  <dc:subject/>
  <dc:title>Inflace</dc:title>
</cp:coreProperties>
</file>