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983-26CB-407F-9C21-9EFA74E4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C57E-E75E-4B84-A7DC-B6A30244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73A-E6E2-4400-B4E6-E066B8BE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F2DD-B80F-4CD4-90CE-863288C1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B6E9-5022-47E9-8AC5-4D22779C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4958-21C9-49D4-B21D-FD257DA6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5BD4-F789-48DD-8639-8D09EF5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1CD1-1963-494B-B625-6B50385D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CC84-9CE9-42EF-BCF5-9EFFEB8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16D3-A6EF-4062-BFC3-C586D9D9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8F9B-DBD0-4F50-81B9-FE5D2F92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EA8E-63C3-40A9-B2A7-74B8D6C1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C2C-E94C-4D69-95DE-5201D9C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41F0-4493-47E7-8A4C-70E28C7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B9DF-2473-4580-840D-FCE6E632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708A-2967-4908-98BE-35474606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415-4FF3-42B0-8ABD-21B09A391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1DE8-AD30-4D37-B8D8-5AFEC612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876CA-F299-4D70-BAD0-111E4854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09C6F-F6B0-4DF1-9F1C-C13F74D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05FAB-47E2-4029-B571-058B0304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4BC36-8495-482D-9FD3-4CAF85B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254E-419D-46B6-BB5E-895373F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16C89-1BFB-4FF9-879F-9283780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650B-7DAA-4BA7-BCD7-D336935A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C34C2-F574-4EFB-ACC1-8235FDAC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5A23-CF47-47AD-A0E4-4139A31A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EF11-DD43-4FBB-97BD-8C9AEB61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A9745-7ECD-48CE-8A9F-CF951D59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464C-10AE-410B-B366-80826B593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AA1A8-161D-40D5-8931-701A8E26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BC619-FDED-425E-92DD-B27F6991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B91A4-C3AF-46FF-B8BE-81A39D3E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670-F455-4E2F-ADEC-3461C2E4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1E6CC-0EBC-4DD9-9BBF-2DA91FDF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758D-F696-4C36-875F-D309E6BE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63B91-50C0-4B22-99A2-20F46C75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C597E-756E-4028-965E-5887900F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A21CF-7A82-48FC-959A-B434F168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1F3E1-604A-4AC5-BDB2-9EE57591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D7DAD-7E37-4DAB-8CA3-5D5508DF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34372-BD30-40DD-8A24-47BDEE549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A0290-BF7E-41A6-9A11-3DD121AF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769B8-9F24-4F8A-92FB-02789FD7C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F47-939B-46CD-AB97-30CC1857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7DCE-910E-403A-BC03-D890935E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464B-8B60-41CE-A54D-77A3829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0B474-4F6F-4707-BD27-878EE7D2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D2FD-CEB4-4F52-BCEC-EA87181D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9A4BE-DED6-443E-8163-2CE3D2B6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4ED70-7AD0-473B-ACCD-E46AA34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DF283-8016-4455-96A4-6CDF01B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E27AB-2A8A-49A1-A056-7EA6E1DE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00E66-858F-4CFC-A325-0B41F49A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98E9F-7E6A-4DCA-B366-226F628A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6CF-3AA4-40EC-A72F-221A0317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80171-0543-4181-8FAD-DED51842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C71D-8DDC-4BB0-B778-B70FDAA2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5CAEE-C7FB-4A30-A559-ED2B81B3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F0C96-BF3B-437C-A0B2-84DAD131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AA8ED-CD7E-4459-A113-9C3AAEF1E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86F7-7B3D-4B3D-B5E2-EABF9AF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5FEA6-ECFE-42E6-BE1D-B0A45173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683DC-C114-4D0D-A406-3DA6F3E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361B-8B78-437A-99F7-074C8796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8B362-A39F-489D-A43B-052934A3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8FC-7731-4BCE-B934-6D204607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51687-CFBB-4613-9DEA-1F9ACE2B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C627D-61DE-431D-9EDA-A26AA7A4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2D3DA-C751-4C34-A54B-C6FABBBFE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10A78-D497-4539-8B89-30C64C88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08A79-E3A2-4F16-8296-7D8111B1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CD0D5-008C-4D7C-9ED6-69DE3FF6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7004C-0B87-4E19-A7BD-57BEBCE8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FDC08-03F8-43B5-B790-11C21A0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ED1E-5E4F-4F81-ABFF-251A9010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7525E-B97D-4716-A26E-C0F941FF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C35-3F91-4752-B352-98CF1334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88DB0-D63A-4A57-9BC3-D434CB5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C96F9-E825-4F42-A2CB-9EC2C30A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9875-B197-41D4-BC7A-EBB66299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B28AF-52C7-491D-94A5-16484F0A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8F2BE-8F3F-4D8C-BAA4-51ACABDD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6F7E2-DB5C-4FAE-9265-050660A02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2F681-BBDD-44C3-9661-FF48060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AE3E9-98DC-4C7F-9B92-78169BA8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F9581-8B10-4BA2-B021-0DE23061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E65F3-BBC5-4137-935A-FDE9959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45C-5C55-48E9-BDD5-ADD6878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2DFA6-22E7-487D-9263-7A144B7A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79A2E-9431-443A-9B32-AA4CFEB9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EA8C6-6557-4699-BA58-56A65017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F5C11-E16E-4E89-B166-63E20712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F9B6D-A3E9-455D-A65F-BE881B72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182AF-C9A4-4548-A169-E55836EC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54AA9-4BE9-4061-97A1-E3687CAB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F4B3-71F7-4441-AD45-0F55016775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AFAC-53B5-4FA6-937C-417B47649DF6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DC7B-2FE0-44BA-AAD8-98557540649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969C-E2D0-49F4-84A9-A3DDB0A6737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A0A-9E76-46AB-BD2A-B29690D4EE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D466-2264-4E6F-9104-351399D1AC72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6B66-C9D8-4FC4-953D-538BB722DCD8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3604-E23B-44F6-AF1A-25B01D8115C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http://remix.nicm.cz/wp-content/uploads/2010/11/POuk%C3%A1zka-C.jpg"/>
          <p:cNvPicPr/>
          <p:nvPr/>
        </p:nvPicPr>
        <p:blipFill>
          <a:blip r:embed="rId2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Igor</cp:lastModifiedBy>
  <dcterms:modified xsi:type="dcterms:W3CDTF">2014-09-13T14:44:22Z</dcterms:modified>
  <cp:revision>34</cp:revision>
  <dc:subject/>
  <dc:title>Poštovní poukázky (složenky)</dc:title>
</cp:coreProperties>
</file>