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57B9E-3D0A-423B-B069-D242D7F2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E997-D2B8-4197-BDA3-5858B492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10B7B-A26E-499C-BB3A-C6F4B8A5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D9A9C-93F7-43EF-8272-25FDF1DE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2083-5535-4713-97D4-A1F4321E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A0CC-B318-4C49-B27E-2C2D735BF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5519-CB82-4375-9EA5-575748C4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F995-61E6-43A9-A7D0-282C770D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FCAB-9E18-489C-80F8-2DD1AFE8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4A2E-AEFB-4115-B96E-CEC19545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643D-6D4D-403D-87D9-387C7D5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A3364-75FF-4014-8A31-78A4691E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D619-CE2F-437F-AF61-4893C9D5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091F-9B2A-4450-9CF2-A5ABED5F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9A2E-F0E2-47F5-A7A8-C605F6028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7847-ABAD-4067-B2E4-F6A05F1B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5414-2A0A-4BFE-A4AA-9F269862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C97B-664F-4C21-BD32-315F3BA0D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53CC5-C0AB-4C35-90D1-F0DE67BE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767BC-177F-4FC0-975F-A685FB2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33286-36A9-4585-858A-4365048F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4A9D-F903-48A2-8F4F-19D3DEA0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90010-146D-4158-926E-49B16B4B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A45B-4FAA-4D96-956A-5CDAC6D7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FC38B-CC03-474D-B2CC-1F20607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A9F68-F3BB-4969-819F-B8DA97A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80062-E52C-4081-871E-F450DE3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A03A-CCC7-46D4-A10C-B6649D5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4BCE7-B2DE-49AC-B065-CA427EC49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9242F-DAE7-4243-B75D-42545605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6295-1225-4ED3-85BE-2C8BB2AF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E8CBF-9645-44E4-835A-11F8022A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5E75A-4345-4941-8CBD-CEC2FA67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CFEE6-18FC-4A9F-ACD6-CEC4412D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5338C-E257-479F-BA61-89D4EFB6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64447-68B8-469F-BB26-E5BEF375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05870-D507-4827-B16F-DCC09891BB0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43F7-960C-40A6-8C16-118CFEDE42BE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28F3-4EE4-4CC9-9284-488304BBE2D4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3573360"/>
          <a:ext cx="7561440" cy="73656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3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39640" y="4581360"/>
          <a:ext cx="7561440" cy="1517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1/20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šová měna odvozená ze čtyř světových mě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vláštní práva čerpání SD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větová banka ( World Bank Group) je zastřešující organizací pěti institu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ním orgánem skupiny Rada guvernérů, zastoupeny všechny členské stá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kupina světové banky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, předsedou prezident SB, vždy Američ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 nejvýznamnější publikace  patří každoročně vydávaná Zpráva o rozvoji světa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Washingto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banka pro obnovu a rozvoj  IBR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nstituce WB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    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ůjčuje peníze zemím středně rozvinutým a rozvojovým za podmínek výhodnějších než na komerčních trz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1. Mezinárodní banka pro obnovu a rozvoj  IBR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 oblasti, na které se zaměřuje, jsou rozvoj hospodářské infrastruktury, jako například silnice, doly, továrny či elektrárny a přehra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finanční korporace IFC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spolupráci se soukromým sektorem a poskytuje levné úvěry na komerční projekty (většinou nadnárodním společnoste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asociace pro rozvoj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DA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ezúročné půjčky vládám těch nejchudších zemí na odstraňování chudoby či programy udržitelného rozvoj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539640" y="1700280"/>
          <a:ext cx="8229600" cy="422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finanční instituce a jejich význa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inárodní měnový fond, Skupina Světové banky, další mezinárodní ban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ultilaterální agentura pro garanci investic MIGA</a:t>
            </a:r>
            <a:r>
              <a:rPr b="0" lang="cs-CZ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á na starosti vytváření příznivých podmínek pro zahraniční investice v rozvojových zem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4. Multilaterální agentura pro garanci investic M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nekomerční pojištění firmám, které podnikají v rozvojových zemích a mají strach z politických a jiných faktorů, které by mohly ovlivnit návratnost jejich investi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centrum pro urovnávaní investičních sporů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CSID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ěnuje se řešení sporů vzniklých v oblasti investic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pro mezinárodní platby - B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organizace pro podporu mezinárodní měnové a finanční spoluprác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pro centrální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Basilej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investiční banka EI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louhodobých půjček na kapitálové investice subjektům ze soukromého i veřejného sektoru, včetně ban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zce spolupracuje s orgány E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Lucembursk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zemí eurozó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 1. 1.  1999  odpovídá za provádění měnové politiky v eurozó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centrální banka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C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ve Frankfurtu nad Mohan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cenová stabili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CB je nezávislá na ostatních institucí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vropská banka pro obnovu a rozvoj - EBR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 roce 1991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Londýn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máhá zemím střední a východní Evropy při budování tržního hospodářství a demokraci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Rozvojová banka Rady Evropy - CE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řispívá na rozvoj sociálních investičních program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 půjčky členským zemím nebo finančním institucím schváleným vládam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í v  Paříž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18920" y="40428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banka hospodářské spolupráce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63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devět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ffff"/>
                </a:solidFill>
                <a:latin typeface="Arial"/>
              </a:rPr>
              <a:t>Mezinárodní finanční instituce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investiční banka - MIB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ložena vládami členských států RVHP v roce 1970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oučasnými vlastníky banky je osm bývalých socialistických stát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nes v útlum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 Jaký význam má MMF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Jaký význam má Světová banka pro Č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 ČR  je členem mezinárodních finančních institucí. O jaké se jedná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 Jaká je úloha mezinárodních finančních institucí v hospodářské krizi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Zdroj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Mezin%C3%A1rodn%C3%AD_m%C4%9Bnov%C3%BD_f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Sv%C4%9Btov%C3%A1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Banka_pro_mezin%C3%A1rodn%C3%AD_plat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investi%C4%8D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centr%C3%A1ln%C3%AD_ban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cs.wikipedia.org/wiki/Evropsk%C3%A1_banka_pro_obnovu_a_rozvo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ceb.html http://www.mfcr.cz/cps/rde/xchg/mfcr/xsl/mfo_mb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mfcr.cz/cps/rde/xchg/mfcr/xsl/mfo_mib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r>
              <a:rPr b="0" lang="cs-CZ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fond – IMF (International Monetary Fund)  začal finanční činnost v březnu 1947 a stal se přidruženou organizací OS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Mezinárodní měnový fond  </a:t>
            </a:r>
            <a:br>
              <a:rPr sz="4000"/>
            </a:b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znikl na základě potřeby vytvořit poválečný světový ekonomický systém - podpora vzájemného obchodu, směnitelnost měn a rozvoj válkou zničených ekono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Jsou základní listinou  a zahrnují tyto cíl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u měnové kooperace prostřednictvím spolupráce a konzultac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Stanovy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tupné odstraňování devizových omeze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ování devizových úvěrů k vyrovnání dočasných obtíží členských zem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Hlavní orgány IMF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guvernér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Rada výkonných ředitelů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ezinárodní měnový a finanční výbo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daje o IMF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ídlo IMF ve Washington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aždý člen přispívá do společné pokladny  finančním obnos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5 % příspěvku ve své vlastní měně a zbytek  v podobě SD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09:28:10Z</dcterms:created>
  <dc:creator>Marek</dc:creator>
  <dc:description/>
  <dc:language>en-US</dc:language>
  <cp:lastModifiedBy>Igor</cp:lastModifiedBy>
  <dcterms:modified xsi:type="dcterms:W3CDTF">2014-09-13T14:45:03Z</dcterms:modified>
  <cp:revision>26</cp:revision>
  <dc:subject/>
  <dc:title>Mezinárodní finanční instituce</dc:title>
</cp:coreProperties>
</file>