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.jpeg" ContentType="image/jpeg"/>
  <Override PartName="/ppt/media/image26.png" ContentType="image/png"/>
  <Override PartName="/ppt/media/image14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292C-26E6-406E-9FFA-236601D51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8567-8E6D-4CDD-9074-085E9AF8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BDE4-DCF1-498E-BC8B-85122A76B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4197-A58F-4148-9CE8-C48B35204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28AE-EE64-457B-813D-F148EF62D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D14A-57C3-4FFD-8F1A-9FF61FAE5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C314-BF51-4FE8-93AB-7350BDAD1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296E-970D-4A92-A774-FB8DA34C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BF05-525E-4C37-BEA2-EBF4C067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F06E9-C856-4DC2-BCF1-C51A6F6A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FE7DF-97E9-40EB-A4ED-F61D67FC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1954-AB9C-4FE7-B27F-30637E90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13EB-B691-449C-8CCF-31669A20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E28C7-77AE-4335-B616-5C028989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E496F-4A57-450C-B8E9-D826531F7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4E16C-9D4F-4056-B9E9-69F45F95C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13F5-FF21-4FF6-AB9A-E5EE501E3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B8BA5-3B7D-4F9E-A66A-AD6696581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EF2C6-6128-4DD3-9050-6CCB1200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30605-0D84-4CC2-B3B7-A8473C33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76D48-6496-4D48-891E-89949315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4ED46-98CE-485C-AE4C-4A895A23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372E-3BFC-4E79-BDDD-07F6A5FF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3249F-5B15-4563-AF10-EF7C1F82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97BE5-2BF6-4ED0-B06A-FBCE753A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FE1DC-2EE3-44DB-98BB-98264EE0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5DDB3-A3D9-463E-8518-8B3D9018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1E448-F5AD-4FEB-AD9A-1E8ECEC2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FCD01-6F66-4DC9-85EC-6099D7673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3F622-967F-4B23-9CAC-01E64A954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1FEB2-D349-4097-B229-9FA80D466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2231C-4FCD-46FB-AFBD-94D8E170F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59ADE-6BB2-4BDF-85C8-647CBA7B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D3B2-1924-40C2-81C7-494A646F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80EE8-E63C-46FA-99E0-0BD95ADF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3F185-19E6-41B5-AB49-02A4CC4F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4EB00-0347-44DC-A463-27C4BC37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3A86C-A2C0-4B1B-BFEC-AA880540F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2A014-C73A-442F-9480-FAE48CF7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EDE9F-6F9D-443E-91EA-2CF19FE6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84365-10ED-4461-B6FD-E565B8DA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1EC49-5B12-47C3-BB18-B3998BCB2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022A8-7E79-46A2-92BF-5D84764D2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53225-436A-49F2-B7A5-5A0E83354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32E2-6401-4A1A-A3C6-76828881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C829A-6047-45A1-AF45-D462262D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35A50-8192-45CD-B1DE-D819707F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CD95D-6538-4D01-B71D-7DBC3803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A9026-9CB9-4783-AC3D-868BC25C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6692F-FF07-459A-9DA9-AD887747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8F710-A146-47E6-887C-6273FC90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AF147-9C85-47D5-A6A2-B5B79212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44604-7EC1-4283-9B70-491D28E3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E7B7E-64FA-47B5-BCA0-684A8074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73BC6-8F64-43FE-814B-A9986DED1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BE91-18C5-43C8-BD63-66B9EEAF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BFB0A-CFD0-49EF-A976-3A7556DD5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37375-6BD4-4BDD-BD6D-95D9C26EA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75C05-4146-44EA-B4FB-4BDD3B09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031F0-64EB-41E8-B419-940F4E70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1873A-974C-4C4A-8FB4-717F9FC3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695D1C-66B7-422D-B1D2-806091B7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CAA8C-5F71-41E8-9C9C-BF4960DB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DB8A3-C7A0-4B9D-9F79-D57D9357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A2036-F85F-4151-BED2-80E95CE6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2AF47-6292-404C-8A4B-F71E64E9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FB03-173C-4FDE-A55C-8B6E82F0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A13A8-D47B-4C98-8EA4-751861118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B1443-B556-45DA-8FAD-0D777A4D2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5715B-6113-47BC-9DA2-04C548EEF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E465FB-C6D0-40D9-94B0-2084582C9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BE043-2B00-49BD-8D06-DA36080D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818BF-E070-4740-BC9E-D048819E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8A851-CBA1-43F3-AE6C-1EE26529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33745-2BAD-4939-B476-69800A50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A8623-DC32-472E-8297-F0A67B99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3222E-292F-4FF0-92AE-C9F3F133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0209-6929-4682-8D9A-EC1CE27F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28221-5C56-41A3-A54A-D64850C5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123FD-E63F-47D1-A1B8-E5952A58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AF6A4-AA71-44BD-9546-D569174F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D8DE0-10FC-43D4-90D3-9B7B59EB1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A148E-E387-41FC-BA41-9A8C70088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59A8B-F2B8-402C-A9E8-4109DF6DD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1A113-C4A5-4BF6-9A37-E564626E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2AD30-1961-439A-8E5B-533B9A53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C2568-AD41-496C-92B3-8B5D4C91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84127-D2D8-4FF4-926E-C087BE4D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A58E-A664-47FC-A80B-AF201373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D9421-741F-4DD3-9B5E-BAE63861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6E397-5569-4EC5-A66F-EA541D38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6A06E-39F2-4082-B651-1BB7D484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18C97-9B4C-490F-B654-F6A360F1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11813-3433-492F-B38C-379866AE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BFA11-2901-49A1-B4DD-008E52567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8C294-38A9-47B4-B8D5-B7E733A84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avoúhlý trojúhelní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římá spojnice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římá spojnice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D349-3066-4F3E-AE71-25B0A41D0D2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ravoúhlý trojúhelní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římá spojnice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římá spojnice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Rovnoramenný trojúhelník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792C2-8EC6-4861-A07B-E987C6689E24}" type="slidenum">
              <a:rPr b="0" lang="cs-CZ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ravoúhlý trojúhelní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římá spojnice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římá spojnice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9919-DD75-4F28-A12F-570675E45F9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ravoúhlý trojúhelník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Rovnoramenný trojúhelník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římá spojnice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římá spojnice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1427-6767-4AD8-B94D-ABF29D6C6DC6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2166-F609-4A77-B35A-D689021A153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954A-B8E8-4B16-9449-9A5F2898CF87}" type="slidenum"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E8D2-AC4E-4A35-A8B5-1A571705ECB9}" type="slidenum">
              <a:rPr b="0" lang="cs-CZ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ravoúhlý trojúhelník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římá spojnice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římá spojnice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9CE1-D474-4336-BBA7-F104669B6938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ceskaposta.cz/cz/sluzby/penezni-sluzby/cr/postovni-poukazka-a-id254/" TargetMode="External"/><Relationship Id="rId2" Type="http://schemas.openxmlformats.org/officeDocument/2006/relationships/hyperlink" Target="http://www.ceskaposta.cz/cz/sluzby/penezni-sluzby/cr/postovni-poukazka-b-id256/" TargetMode="Externa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Rectangle 2" descr=""/>
          <p:cNvPicPr/>
          <p:nvPr/>
        </p:nvPicPr>
        <p:blipFill>
          <a:blip r:embed="rId1"/>
          <a:stretch/>
        </p:blipFill>
        <p:spPr>
          <a:xfrm>
            <a:off x="0" y="2011320"/>
            <a:ext cx="9283680" cy="44449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"/>
          <p:cNvPicPr/>
          <p:nvPr/>
        </p:nvPicPr>
        <p:blipFill>
          <a:blip r:embed="rId2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7" name=""/>
          <p:cNvGraphicFramePr/>
          <p:nvPr/>
        </p:nvGraphicFramePr>
        <p:xfrm>
          <a:off x="539640" y="3573360"/>
          <a:ext cx="7561440" cy="50328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539640" y="4365720"/>
          <a:ext cx="7561440" cy="1662120"/>
        </p:xfrm>
        <a:graphic>
          <a:graphicData uri="http://schemas.openxmlformats.org/drawingml/2006/table">
            <a:tbl>
              <a:tblPr/>
              <a:tblGrid>
                <a:gridCol w="3456000"/>
                <a:gridCol w="410544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/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Nadpis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8828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Century Gothic"/>
              </a:rPr>
              <a:t>V. (variabilní) symbol</a:t>
            </a:r>
            <a:br>
              <a:rPr sz="3600"/>
            </a:br>
            <a:r>
              <a:rPr b="1" lang="cs-CZ" sz="3600" spc="-1" strike="noStrike">
                <a:solidFill>
                  <a:srgbClr val="ffffff"/>
                </a:solidFill>
                <a:latin typeface="Century Gothic"/>
              </a:rPr>
              <a:t>S. (specifický) symbol</a:t>
            </a:r>
            <a:br>
              <a:rPr sz="3600"/>
            </a:br>
            <a:r>
              <a:rPr b="1" lang="cs-CZ" sz="3600" spc="-1" strike="noStrike">
                <a:solidFill>
                  <a:srgbClr val="ffffff"/>
                </a:solidFill>
                <a:latin typeface="Century Gothic"/>
              </a:rPr>
              <a:t>K. (konstantní) symbol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okud uváděny, vyplňují se zprava. Prázdná okénka  možno doplnit nulami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úhrada poukázané částky 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- bezhotovostně z bankovního účtu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výplata poukázané částky - 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 hotovosti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úhrada poukázané částky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- 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 hotovosti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výplata poukázané částky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- 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 hotovosti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457200" y="188280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2" descr="http://remix.nicm.cz/wp-content/uploads/2010/11/POuk%C3%A1zka-C.jpg"/>
          <p:cNvPicPr/>
          <p:nvPr/>
        </p:nvPicPr>
        <p:blipFill>
          <a:blip r:embed="rId3"/>
          <a:stretch/>
        </p:blipFill>
        <p:spPr>
          <a:xfrm>
            <a:off x="1187280" y="2781360"/>
            <a:ext cx="6651720" cy="29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Century Gothic"/>
              </a:rPr>
              <a:t>úhrada poukázané částky </a:t>
            </a: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-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v hotovosti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Century Gothic"/>
              </a:rPr>
              <a:t>výplata poukázané částky - 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v hotovosti ve lhůtě jednoho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racovního dne ode dne podání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soustředěné inkaso plateb obyvatelstv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inkasování plateb obyvatelstva ve prospěch PO a dalších osob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ředtištěný platební doklad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každý plátce – osobní spojovací číslo (žádost na poště)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nájemné, energie, TV, rozhlas apod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varianta i pro podniky a banky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hotově na poště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hotově u poštovního doručovatel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jednorázovým příkazem k úhradě z účt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trvalým příkazem k úhradě z účt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rychlá  hotovostní platb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ro zákazníky e – shopů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zákazník  předá obsluze vygenerovaný čárový kód a částku platby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obdrží  potvrzení o zaplacení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nástroj zahraničního platebního styk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řevod hotovostních peněz na účet v zahraničí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0" name=""/>
          <p:cNvGraphicFramePr/>
          <p:nvPr/>
        </p:nvGraphicFramePr>
        <p:xfrm>
          <a:off x="457200" y="1905120"/>
          <a:ext cx="8229600" cy="4152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íze a mě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štovní peněžní služb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ientace v poštovních peněžních službách, vyplnění poukáze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štovní poukázka, variabilní, specifické a konstantní symboly, SIPO, super CASH, Western Union, EUROGIR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nástroj zahraničního platebního styk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úhrada poukázané částky hotově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výplata poukázané částky hotově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expresní zasílání peněz v hotovosti po celém světě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říjem a výplata peněz v ČR v Kč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příjem a výplata peněz v zahraničí v místní měně, příp. USD, EUR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služba Poštovní spořitelny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nástroj zahraničního platebního styk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úhrada poukázané částky hotově nebo bezhotovostně pro majitele běžného účt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úhrada vyplacené částky hotově nebo bezhotovostně pro majitele běžného účtu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Variabilní symbol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– identifikace plátce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číslo faktury, rodné číslo fyzické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osoby, IČO právnické osoby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Specifický symbol </a:t>
            </a:r>
            <a:r>
              <a:rPr b="0" lang="cs-CZ" sz="3000" spc="-1" strike="noStrike">
                <a:solidFill>
                  <a:srgbClr val="ffffff"/>
                </a:solidFill>
                <a:latin typeface="Century Gothic"/>
              </a:rPr>
              <a:t>–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dodatečný symbol identifikující např. jednotlivé měsíce u plateb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Konstantní symbol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–určuje charakter služby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1. Vyplňte podle návodu poštovní poukázku typu A a C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2</a:t>
            </a: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.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Jakým typem poštovní poukázky zaplatíte např. zálohy na elektřinu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3. Jakým typem naopak dostanete přeplatek za elektřinu?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4. Zjistěte, jaký  konstantní symbol se používá pro platby služeb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5. Jaký je rozdíl mezi platbami zahraničními poštovními poukázkami a platbou přes Western Union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6. Jaký je rozdíl mezi platbou prostřednictvím zahraničních poštovních poukázek a službou EUROGIRO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7. Jaké jsou výhody platby přes superCASH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63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8. Kde kromě pošty můžete zaplatit v systému superCASH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Nadpis 1" descr=""/>
          <p:cNvPicPr/>
          <p:nvPr/>
        </p:nvPicPr>
        <p:blipFill>
          <a:blip r:embed="rId1"/>
          <a:stretch/>
        </p:blipFill>
        <p:spPr>
          <a:xfrm>
            <a:off x="542880" y="774720"/>
            <a:ext cx="8058240" cy="17604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541440" y="2249640"/>
            <a:ext cx="80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9. Jak si zařídíte SIPO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Century Gothic"/>
              </a:rPr>
              <a:t>10. Jak zařídíte platbu SIPO trvale z účtu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entury Gothic"/>
              </a:rPr>
              <a:t>Zdroje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17bbfd"/>
                </a:solidFill>
                <a:uFillTx/>
                <a:latin typeface="Century Gothic"/>
                <a:hlinkClick r:id="rId1"/>
              </a:rPr>
              <a:t>http://www.ceskaposta.cz/cz/sluzby/penezni-sluzby/cr/postovni-poukazka-a-id254</a:t>
            </a: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17bbfd"/>
                </a:solidFill>
                <a:uFillTx/>
                <a:latin typeface="Century Gothic"/>
                <a:hlinkClick r:id="rId2"/>
              </a:rPr>
              <a:t>http://www.ceskaposta.cz/cz/sluzby/penezni-sluzby/cr/postovni-poukazka-b-id256</a:t>
            </a: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cr/postovni-poukazka-c-id257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cr/postovni-poukazka-d-id258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cr/sipo-id259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zahranici/postovni-poukazka-z-a-id260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zahranici/postovni-poukazka-z-a-id260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zahranici/western-union-id262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Century Gothic"/>
              </a:rPr>
              <a:t>http://www.ceskaposta.cz/cz/sluzby/penezni-sluzby/zahranici/eurogiro-id263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úhrada poukázané částky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 -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hotově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výplata poukázané částky 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-bezhotovostně bance  na účet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Nadpis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539640" y="2173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7" name="Picture 4" descr="http://www.optys.cz/data/foto/-3/999-3_l.jpg"/>
          <p:cNvPicPr/>
          <p:nvPr/>
        </p:nvPicPr>
        <p:blipFill>
          <a:blip r:embed="rId2"/>
          <a:stretch/>
        </p:blipFill>
        <p:spPr>
          <a:xfrm>
            <a:off x="755640" y="2349360"/>
            <a:ext cx="762012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Nadpis 1" descr=""/>
          <p:cNvPicPr/>
          <p:nvPr/>
        </p:nvPicPr>
        <p:blipFill>
          <a:blip r:embed="rId1"/>
          <a:stretch/>
        </p:blipFill>
        <p:spPr>
          <a:xfrm>
            <a:off x="457200" y="49320"/>
            <a:ext cx="8229600" cy="1882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Částka Kč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yplňuje se zprava, prázdné místo před částkou se proškrtne dvojitou vodorovnou čarou.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 údaji "haléře"  dvě nuly, příp.  zamezovky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Nadpis 1" descr=""/>
          <p:cNvPicPr/>
          <p:nvPr/>
        </p:nvPicPr>
        <p:blipFill>
          <a:blip r:embed="rId1"/>
          <a:stretch/>
        </p:blipFill>
        <p:spPr>
          <a:xfrm>
            <a:off x="457200" y="49320"/>
            <a:ext cx="8229600" cy="18828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Ve prospěch účtu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yplňuje se zprava. Číslo účtu se může skládat z předčíslí a hlavního čísla účtu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Nadpis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8828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Kód banky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Vyplňuje se zprava.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Musí být vždy vyplněn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Nadpis 1" descr=""/>
          <p:cNvPicPr/>
          <p:nvPr/>
        </p:nvPicPr>
        <p:blipFill>
          <a:blip r:embed="rId1"/>
          <a:stretch/>
        </p:blipFill>
        <p:spPr>
          <a:xfrm>
            <a:off x="457200" y="92160"/>
            <a:ext cx="8229600" cy="18889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Odesílatel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a </a:t>
            </a:r>
            <a:r>
              <a:rPr b="1" lang="cs-CZ" sz="4000" spc="-1" strike="noStrike">
                <a:solidFill>
                  <a:srgbClr val="ffffff"/>
                </a:solidFill>
                <a:latin typeface="Century Gothic"/>
              </a:rPr>
              <a:t>Zpráva pro příjemce</a:t>
            </a:r>
            <a:r>
              <a:rPr b="0" lang="cs-CZ" sz="4000" spc="-1" strike="noStrike">
                <a:solidFill>
                  <a:srgbClr val="ffffff"/>
                </a:solidFill>
                <a:latin typeface="Century Gothic"/>
              </a:rPr>
              <a:t>  hůlkovým písmem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gor</dc:creator>
  <dc:description/>
  <dc:language>en-US</dc:language>
  <cp:lastModifiedBy>Igor</cp:lastModifiedBy>
  <dcterms:modified xsi:type="dcterms:W3CDTF">2014-09-13T14:44:01Z</dcterms:modified>
  <cp:revision>34</cp:revision>
  <dc:subject/>
  <dc:title>Poštovní poukázky (složenky)</dc:title>
</cp:coreProperties>
</file>