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A421-2EBC-47EA-B2D1-44AF528C5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D6A4-F5B1-4348-8C40-19B0BEED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941E-EDD2-450A-A944-F9BD9010D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4B75-8D44-41BB-98DB-8745032F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B34C-5C27-436E-BFF1-6AC562F6B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DE4D-12D2-47CB-A443-9AAC2B05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AD2B-0DD7-4A6C-801F-8A32BF98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5437-89AB-4119-828B-DDC10738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41DE-7840-4D98-9429-18801155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294A-355B-4D18-BD72-5E404413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327E-7D7E-4337-A32C-E66DA3D9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C504-56EE-453F-8638-7C422D0C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0642-3EC3-4A93-B931-43AAAC12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D6223-ECF1-49DD-8140-750C2910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D376-5A6E-43B2-A1BE-2CE5C0C4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1DBC-8996-4953-A109-E68745E91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7927-36D4-4EA6-9606-EE8C04885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BB32-5EE1-4267-9BBB-7210B2AB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2D21-0BCE-4A31-92A7-24291C4B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E548-3A50-42D3-B776-05BBE9919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F4A4-0C07-4921-8585-44AE5882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8A07-A6ED-4210-AB05-BA472812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8C2-2E7A-438D-9ABF-DF16E1F3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809C-B442-4A4F-97DF-38E11BD6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8F93-4CA8-4B94-AE9B-D77E252D8E0B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E286-3837-4B39-97DF-B74133448BC8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3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221000"/>
          <a:ext cx="7561440" cy="1590840"/>
        </p:xfrm>
        <a:graphic>
          <a:graphicData uri="http://schemas.openxmlformats.org/drawingml/2006/table">
            <a:tbl>
              <a:tblPr/>
              <a:tblGrid>
                <a:gridCol w="3311640"/>
                <a:gridCol w="42498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ovní líste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evalvace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pokles (znehodnocení) kurzu domácí mě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Revalvace -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výšení kurzu mě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 jakého hlediska je sestaven kurzovní lístek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aký je rozdíl mezi valutou a devizou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 pomoci kurzovního lístku vypočítejte přímý a nepřímý kurz Kč k EUR, USD a GBP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tázky: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počítejte křížový kurz zahraničních měn z minulé otázk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5. Jak ovlivňuje Česká národní banka plovoucí kurz české korun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droje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asopis Ekon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905120"/>
          <a:ext cx="8229600" cy="3686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4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rzy mě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cvik práce s kurzovním </a:t>
                      </a: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ístk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urzovní lístek, deviza, valuta, typy kurz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fffcc"/>
                </a:solidFill>
                <a:latin typeface="Tahoma"/>
              </a:rPr>
              <a:t>Kurzy měn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 měn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ímý kurz – počet peněžních jednotek měny domácí k jednotce měny zahraniční Př. 1 EUR = 26,- Kč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přímý kurz - počet peněžních jednotek měny zahraniční k jednotce měny domácí Př. 1 Kč = 0, 038 EU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 měn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řížový kurz  - kurz dvou zahraničních měn k sobě navzájem vypočítaný z kurzu třetí měny, např. kurz EUR k USD a naopak vypočítaný z kurzovního lístku Kč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ovoucí kurz (floating) – kurz měnící se v závislosti na nabídce a poptáv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 měn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36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evný kurz (fixní) – kurz pevně stanov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ficiální kurz – kurz stanoven centrální bankou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eoficiální (černý) kurz – kurz u překupní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ovní líste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deviza nákup - příjem cizí měny na úče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deviza prodej – nákup cizí mě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 účt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ovní líste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valuta nákup – prodej valut směnár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valuta prodej - nákup valut ve směnár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urz střed – aritmetický průměr kurzu nákup a kurzu prodej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Kurzovní lístek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obrazuje aktuální kurzy komerčních bank (směnáren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rodejní i nákupní kurz je uvažován vždy z hlediska banky (směnárn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hraniční peníze v hotovosti – valu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hraniční peníze bezhotovostní - deviz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07:20Z</dcterms:created>
  <dc:creator>kabek</dc:creator>
  <dc:description/>
  <dc:language>en-US</dc:language>
  <cp:lastModifiedBy>Igor</cp:lastModifiedBy>
  <dcterms:modified xsi:type="dcterms:W3CDTF">2014-09-13T14:45:15Z</dcterms:modified>
  <cp:revision>30</cp:revision>
  <dc:subject/>
  <dc:title>Peníze a měna</dc:title>
</cp:coreProperties>
</file>