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13D5-2331-427F-9252-5C6DBBD87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189-B189-49E6-8DE8-58B7850C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5D29-FDD9-4015-9C1B-822F6BF8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E5D8-108C-41FC-BA46-7333537B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1DF2-567D-4808-951D-BDD56B3A8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50B5-B784-443A-9A7B-6A9BF2AAB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C2AD-70C3-49B4-9AB8-97D554310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C4AA-3321-4707-A6D1-D4041F1F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7BE9D-C59E-4CD5-B41E-C08258608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5158-22B4-4E6E-A7B0-FA3A918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761B-D4A7-4CF2-9A02-E33458F0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6C6B-AB82-408A-B794-B70702E5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DE59-9790-47FA-820B-ABAE6E43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1C7-A1A5-46ED-9B42-5BD11512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52E4-40E2-4C71-8E5C-B989B018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5E5E-1016-493A-8742-BCEEC1F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A036-9A47-4D70-A93F-47D4001E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0073-B59C-4FFF-B6CE-AABFBEA0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8452F-BAE7-438E-93D1-4823327FA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CFC14-F48F-41F6-82EF-7BB0A0BB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05DB0-0609-437E-B1BA-A0A4CE402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E9C5-C0E0-4648-9F06-28D36DF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58027-00A3-490A-912B-C8B02EA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D4B61-7893-4076-88D9-657CF5FC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519D-2F38-4165-A7F5-F7C704CE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712F0-D19A-4F11-80E5-50470DDB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996A-08B8-453B-8923-5392007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6DBD6-13E2-405F-86CB-421CC7E3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E85D3-AB22-4B18-86CB-372DE252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12B9-4152-4647-8455-571CFC86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0BCF2-5065-4955-B581-2A974C40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7FA67-DFD4-4277-ACFC-66859FAD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240-A866-4844-9389-0D915816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99D-6404-45F0-8B7D-02AEB0E9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651B-CEBB-4FE8-89FC-645957E1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E407-BF1C-4D81-B4FB-BC8B4226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BAB-E71C-41C2-8A11-4E7EF129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D50F-CE1E-403C-9D11-32D8E5AF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D52A-990D-4DE4-AB64-5FBEAE579ADE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4D11-5D97-4AD3-B685-2FE7C283E6CC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4A50-86A6-4E81-96AD-9E136145A9D6}" type="slidenum">
              <a:rPr b="0" lang="cs-CZ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cnb.cz/cs/platidla/ochranne_prvky/ochranne_prvky_5000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Výukový materiál zpracován v rámci projektu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EU peníze školá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98989"/>
                </a:solidFill>
                <a:latin typeface="Century Gothic"/>
              </a:rPr>
              <a:t>Registrační číslo projektu: CZ.1.07/1.5.00/34.0208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539640" y="3573360"/>
          <a:ext cx="7561440" cy="43200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Y_32_INOVACE_12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539640" y="4221000"/>
          <a:ext cx="7561440" cy="166212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3-41-M/02  Obchodní akadem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2" name="Zástupný symbol pro obsah 3" descr="Soutisková značka CR"/>
          <p:cNvPicPr/>
          <p:nvPr/>
        </p:nvPicPr>
        <p:blipFill>
          <a:blip r:embed="rId1"/>
          <a:stretch/>
        </p:blipFill>
        <p:spPr>
          <a:xfrm>
            <a:off x="1692360" y="1700280"/>
            <a:ext cx="5616360" cy="2305080"/>
          </a:xfrm>
          <a:prstGeom prst="rect">
            <a:avLst/>
          </a:prstGeom>
          <a:ln w="0">
            <a:noFill/>
          </a:ln>
        </p:spPr>
      </p:pic>
      <p:sp>
        <p:nvSpPr>
          <p:cNvPr id="163" name="Obdélník 4"/>
          <p:cNvSpPr/>
          <p:nvPr/>
        </p:nvSpPr>
        <p:spPr>
          <a:xfrm>
            <a:off x="1258920" y="4365720"/>
            <a:ext cx="67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 rub                     prů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4. Soutisková značk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 jedné strany bankovky je viditelná pouze jedna část značky, z druhé strany část zbývající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růhledu proti světlu je značka vidět celá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soutisková značka je kruhová a tvoří ji písmena "ČR"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67" name="Zástupný symbol pro obsah 3" descr="Skrytý obrazec"/>
          <p:cNvPicPr/>
          <p:nvPr/>
        </p:nvPicPr>
        <p:blipFill>
          <a:blip r:embed="rId1"/>
          <a:stretch/>
        </p:blipFill>
        <p:spPr>
          <a:xfrm>
            <a:off x="1908000" y="1700280"/>
            <a:ext cx="5400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5. Skrytý obrazec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iditelným tehdy, sklopíme-li bankovku ve výši očí do vodorovné polohy proti zdroji světla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voří ho vždy číslo označující nominální hodnotu bankovky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je umístěn na lícní straně bankovky v ornamentu na rameni portrétu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entury Gothic"/>
              </a:rPr>
              <a:t> 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1" name="Zástupný symbol pro obsah 3" descr="Proměnlivá barva"/>
          <p:cNvPicPr/>
          <p:nvPr/>
        </p:nvPicPr>
        <p:blipFill>
          <a:blip r:embed="rId1"/>
          <a:stretch/>
        </p:blipFill>
        <p:spPr>
          <a:xfrm>
            <a:off x="2195640" y="1773360"/>
            <a:ext cx="475272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6. Proměnlivá barv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založeno na optickém efekt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šestiúhelník s hlavou českého lva vytištěný speciální tiskovou barvou mění své zbarvení v závislosti na tom, v jakém úhlu se bankovka sklopí proti dopadajícímu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5" name="Zástupný symbol pro obsah 3" descr="Iridiscentní pruh"/>
          <p:cNvPicPr/>
          <p:nvPr/>
        </p:nvPicPr>
        <p:blipFill>
          <a:blip r:embed="rId1"/>
          <a:stretch/>
        </p:blipFill>
        <p:spPr>
          <a:xfrm>
            <a:off x="2843280" y="1557360"/>
            <a:ext cx="360036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7. Iridiscentní pruh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duhově lesklý pruh o šířce cca 20 mm na lícní straně blíže pravému okraji bankovky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běžném pohledu průhledný, proti světlu barevný nádech zlaté a fialové barvy s kovovým odleskem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vpravo negativně (světlé) vyznačené číslice 5000 a čtveřice lipových listů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7f7f7f"/>
                </a:solidFill>
                <a:latin typeface="Century Gothic"/>
              </a:rPr>
              <a:t>při sklopení  tyto číslice a symboly  tmavé</a:t>
            </a: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79" name="Zástupný symbol pro obsah 3" descr="Mikrotext - líc"/>
          <p:cNvPicPr/>
          <p:nvPr/>
        </p:nvPicPr>
        <p:blipFill>
          <a:blip r:embed="rId1"/>
          <a:stretch/>
        </p:blipFill>
        <p:spPr>
          <a:xfrm>
            <a:off x="1979640" y="1557360"/>
            <a:ext cx="2305080" cy="3024000"/>
          </a:xfrm>
          <a:prstGeom prst="rect">
            <a:avLst/>
          </a:prstGeom>
          <a:ln w="0">
            <a:noFill/>
          </a:ln>
        </p:spPr>
      </p:pic>
      <p:pic>
        <p:nvPicPr>
          <p:cNvPr id="180" name="Obrázek 4" descr="Mikrotext - rub"/>
          <p:cNvPicPr/>
          <p:nvPr/>
        </p:nvPicPr>
        <p:blipFill>
          <a:blip r:embed="rId2"/>
          <a:stretch/>
        </p:blipFill>
        <p:spPr>
          <a:xfrm>
            <a:off x="4788000" y="1557360"/>
            <a:ext cx="2232000" cy="3024000"/>
          </a:xfrm>
          <a:prstGeom prst="rect">
            <a:avLst/>
          </a:prstGeom>
          <a:ln w="0">
            <a:noFill/>
          </a:ln>
        </p:spPr>
      </p:pic>
      <p:sp>
        <p:nvSpPr>
          <p:cNvPr id="181" name="Obdélník 5"/>
          <p:cNvSpPr/>
          <p:nvPr/>
        </p:nvSpPr>
        <p:spPr>
          <a:xfrm>
            <a:off x="1187280" y="4797360"/>
            <a:ext cx="73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 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íc                                               ru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tištěn jak tiskem z hloubky, tak tiskem z ploch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na lícní straně tvoří konturu velkého hodnotového čísla, vnitřní šrafuru paprsků pod šestiúhelníkem se lví hlavou a pruhu základní barvy vybíhajícího od portrétu do pravého bílého okraje mikrotext číselně označující hodnotu bankovky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7200" y="1461960"/>
          <a:ext cx="8229600" cy="4916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8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hranné prvky bankov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známení s ochrannými prvky českých bankovek a praktická ukáz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doznak, okénkový proužek s mikrotextem, barevná vlákna, soutisková značka, skrytý obrazec, proměnlivá barva, iridiscentní pruh, mikrot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8. Mikrotext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šrafuru dvoubarevné stuhy tvoří mikrotext ve formě iniciál „TGM“ a její konturu v pravé části mikrotext ve formě zkratky „ČNB“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7f7f7f"/>
                </a:solidFill>
                <a:latin typeface="Century Gothic"/>
              </a:rPr>
              <a:t>na rubové straně v pruhu základní barvy mezi státním znakem a pravým okrajem skryt mikrotext slovně označující hodnotu bankovky a v obou spodních rozích mikrotext PRAHA</a:t>
            </a:r>
            <a:endParaRPr b="0" lang="en-US" sz="3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1. Praktické cvičení – poznejte ochranné prvky na skutečných bankovkách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2. Na některých bankovkách nejsou všechny ochranné prvky. O bankovky jakých hodnot se jedná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3. Co je to chybotisk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4. Jaké ochranné prvky navíc má euro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5. Jak se u nás člení paděl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2f5897"/>
                </a:solidFill>
                <a:latin typeface="Palatino Linotype"/>
              </a:rPr>
              <a:t>Úkoly: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7f7f7f"/>
                </a:solidFill>
                <a:latin typeface="Century Gothic"/>
              </a:rPr>
              <a:t>6</a:t>
            </a: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. Kde se tisknou české bankovky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7. Jsou české bankovky kryty zlat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8. Jsou napodobeniny peněz padělkem?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Zdroj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3399ff"/>
                </a:solidFill>
                <a:uFillTx/>
                <a:latin typeface="Century Gothic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7f7f7f"/>
                </a:solidFill>
                <a:uFillTx/>
                <a:latin typeface="Century Gothic"/>
              </a:rPr>
              <a:t>www.cnb.cz/cs/platidla/ochranne_prvky/ochranne_prvky_5000.html </a:t>
            </a:r>
            <a:r>
              <a:rPr b="0" lang="cs-CZ" sz="2400" spc="-1" strike="noStrike">
                <a:solidFill>
                  <a:srgbClr val="7f7f7f"/>
                </a:solidFill>
                <a:latin typeface="Century Gothic"/>
              </a:rPr>
              <a:t>(zkráceno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2f5897"/>
                </a:solidFill>
                <a:latin typeface="Palatino Linotype"/>
              </a:rPr>
              <a:t>Ochranné prvky českých bankovek</a:t>
            </a:r>
            <a:br>
              <a:rPr sz="8000"/>
            </a:br>
            <a:endParaRPr b="0" lang="en-US" sz="80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47" name="Zástupný symbol pro obsah 3" descr="Vodoznak"/>
          <p:cNvPicPr/>
          <p:nvPr/>
        </p:nvPicPr>
        <p:blipFill>
          <a:blip r:embed="rId1"/>
          <a:stretch/>
        </p:blipFill>
        <p:spPr>
          <a:xfrm>
            <a:off x="2340000" y="1341360"/>
            <a:ext cx="4392720" cy="312912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4"/>
          <p:cNvSpPr/>
          <p:nvPr/>
        </p:nvSpPr>
        <p:spPr>
          <a:xfrm>
            <a:off x="1332000" y="4797360"/>
            <a:ext cx="76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hled z líce               průhled z rub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1. Vodoznak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iditelný, jestliže se na bankovku podíváme proti  světl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při pohledu z lícní strany je stranově obrácený oproti portrétu vytištěnému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br>
              <a:rPr sz="4900"/>
            </a:br>
            <a:r>
              <a:rPr b="1" lang="cs-CZ" sz="4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4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2" name="Zástupný symbol pro obsah 3" descr="Okénkový proužek s mikrotextem"/>
          <p:cNvPicPr/>
          <p:nvPr/>
        </p:nvPicPr>
        <p:blipFill>
          <a:blip r:embed="rId1"/>
          <a:stretch/>
        </p:blipFill>
        <p:spPr>
          <a:xfrm>
            <a:off x="2771640" y="1844640"/>
            <a:ext cx="3600720" cy="3240000"/>
          </a:xfrm>
          <a:prstGeom prst="rect">
            <a:avLst/>
          </a:prstGeom>
          <a:ln w="0">
            <a:noFill/>
          </a:ln>
        </p:spPr>
      </p:pic>
      <p:sp>
        <p:nvSpPr>
          <p:cNvPr id="153" name="Obdélník 4"/>
          <p:cNvSpPr/>
          <p:nvPr/>
        </p:nvSpPr>
        <p:spPr>
          <a:xfrm>
            <a:off x="1835280" y="5157720"/>
            <a:ext cx="71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ohled z líce        průhled z lí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2f5897"/>
                </a:solidFill>
                <a:latin typeface="Palatino Linotype"/>
              </a:rPr>
              <a:t>2. Okénkový proužek s mikrotextem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roužek z umělé metalizované hmoty zapuštěný do papíru, široký 3 mm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při pohledu proti světlu je  vidět z obou stran jako souvislá tmavá linka s prosvítajícím  mikrotextem ČNB 5000 Kč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7f7f7f"/>
                </a:solidFill>
                <a:latin typeface="Century Gothic"/>
              </a:rPr>
              <a:t>vystupující části mění svoji kovově lesklou barvu v závislosti na úhlu dopadu světla </a:t>
            </a: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6" name="Obdélník 3"/>
          <p:cNvSpPr/>
          <p:nvPr/>
        </p:nvSpPr>
        <p:spPr>
          <a:xfrm>
            <a:off x="2286000" y="17208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158" name="Zástupný symbol pro obsah 3" descr="Barevná vlákna"/>
          <p:cNvPicPr/>
          <p:nvPr/>
        </p:nvPicPr>
        <p:blipFill>
          <a:blip r:embed="rId1"/>
          <a:stretch/>
        </p:blipFill>
        <p:spPr>
          <a:xfrm>
            <a:off x="2411280" y="1700280"/>
            <a:ext cx="4392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cs-CZ" sz="4900" spc="-1" strike="noStrike">
                <a:solidFill>
                  <a:srgbClr val="2f5897"/>
                </a:solidFill>
                <a:latin typeface="Palatino Linotype"/>
              </a:rPr>
              <a:t>3. Barevná vlákna</a:t>
            </a:r>
            <a:br>
              <a:rPr sz="4900"/>
            </a:br>
            <a:endParaRPr b="0" lang="en-US" sz="49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v papíru zapuštěná okem viditelná vlákna oranžové barvy v délce 6 mm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7f7f7f"/>
                </a:solidFill>
                <a:latin typeface="Century Gothic"/>
              </a:rPr>
              <a:t>nejlépe zřetelná jsou na bílých okrajích bankovky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9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gor</dc:creator>
  <dc:description/>
  <dc:language>en-US</dc:language>
  <cp:lastModifiedBy>Igor</cp:lastModifiedBy>
  <dcterms:modified xsi:type="dcterms:W3CDTF">2014-09-13T14:43:39Z</dcterms:modified>
  <cp:revision>20</cp:revision>
  <dc:subject/>
  <dc:title>Ochranné prvky českých bankovek</dc:title>
</cp:coreProperties>
</file>