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CD1B-37AA-4891-A773-36E4E2FB1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BF939-A3FD-410E-A592-52FF26FE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B18E-390A-473E-B5BE-C5BC516C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EF9F4-D227-46AA-B335-F3A53B6E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AB90-D805-4521-A42C-03066278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945A-FE0F-43C2-812D-9B466425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939AB-7978-461E-86EF-D953919C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D42D4-7737-4429-A12D-7AD84B6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07B4-4FCF-4124-AA02-D9C652AC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3F93-9749-474B-A2EF-CBA33693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B166-D7D4-4D21-B054-7F0EA1C9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EF47-435D-4492-B402-7BDE3C17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3799-2E16-4FC3-BA1A-2830AA0D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1FED-4F12-4D06-AB21-382DC7F6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8DD3-80DF-4173-8F66-FCC72144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90BF-C2F3-4419-8A67-A26BD26E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EA3D-0E1D-421D-9780-7B470A4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DDC2-9059-4FFE-A63C-8038A9F91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0882E-6B86-42B5-98B5-69EFF656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65F5-8FEA-48FC-B9B5-398BD970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7FB05-7273-4CE1-9F1A-6C2310F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9BB5D-ECD9-439F-8C27-2C67E6A6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690E-17A4-43B7-9328-D685B6F9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9DA3-4F3F-406B-91CC-D9156E6B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D2093-5D7F-4F36-AD20-646C2E7D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30B55-86F9-48B1-9A94-DB30AF74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7332B-6301-4F04-B8B3-1439116A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DA9EC-8949-4DFC-8124-13AFE338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38BC-7C32-487C-B54E-2604D889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7C45-81CB-41A3-A5A2-C5882BE1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EB0C-B05A-4F84-99A6-540BEB80F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E33D7-F382-44F8-B8DE-D4126E0D5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32297-9682-43E0-A62F-A17D7753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69865-C342-404D-9860-E054C2C2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B796C-EB76-4FF3-94E5-BA3537DA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3371-D2C4-4D5F-84DF-7AA404C1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92A4-340B-47E1-AF04-8B5969926EFC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F6B3-D092-44EB-9F0A-02E23EBE9272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1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EA75-D15F-4A47-B49F-53A6946CA320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533680" y="457200"/>
            <a:ext cx="5295960" cy="12952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ýukový materiál zpracován v rámci projektu EU peníze školá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Registrační číslo projektu: CZ.1.07/1.5.00/34.02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11280" y="3860640"/>
          <a:ext cx="7561080" cy="425520"/>
        </p:xfrm>
        <a:graphic>
          <a:graphicData uri="http://schemas.openxmlformats.org/drawingml/2006/table">
            <a:tbl>
              <a:tblPr/>
              <a:tblGrid>
                <a:gridCol w="1584360"/>
                <a:gridCol w="1511280"/>
                <a:gridCol w="1584360"/>
                <a:gridCol w="2881080"/>
              </a:tblGrid>
              <a:tr h="78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Šablon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II/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. materiál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Y_32_INOVACE_12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611280" y="4500720"/>
          <a:ext cx="7561080" cy="1554120"/>
        </p:xfrm>
        <a:graphic>
          <a:graphicData uri="http://schemas.openxmlformats.org/drawingml/2006/table">
            <a:tbl>
              <a:tblPr/>
              <a:tblGrid>
                <a:gridCol w="3456000"/>
                <a:gridCol w="4105080"/>
              </a:tblGrid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méno autora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g. Yvona Špílová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řída/ročník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ročník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-41-M/02 Obchodní akademi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um vytvoření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/20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volném trhu –repooprace, od bank přebytečné peníze, za ně cenné papíry (kolaterál), po uplynutí dohodnuté doby odkoupí ČNB cenné papíry zpět i s úrokem, 2 T reposazb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Automatické facelity 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pozitní facilita -  možnost bank uložit přes noc u ČNB  svou přebytečnou likviditu Minimum 10 mil. Kč, depozita úročená diskontní sazbou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 Marginální zápůjční facilita  - možnost bankám vypůjčit si přes noc od ČNB formou repo operace likviditu. Minimální objem je 10 mil. Kč, úročeno lombardní sazbou ( nevyužívá s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Nástroje měnové politik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vinné minimální  rezervy – banky mají  uloženy u ČNB 2 % (ze závazků kratších než 2 roky, tj. z vkladů klientů), slouží pro plynulý bankovní sty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bankovním sektorem, kapitálovým trhem, pojišťovnictvím a penzijním připojištěním, družstevními záložnami, směnárnami a dohled nad institucemi elektronických peněz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uděluje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stranění nedostatk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ýměna osob ve vedení a dozorčí rad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mezení nebo zákaz některých činnost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699920"/>
            <a:ext cx="7010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atření k nápr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imořádný aud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kuta až 50 mil. K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nížení základního kapitál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ucená sprá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nětí lic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NB stanoví pravidla, která chrání stabilitu celého finančního trh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tegrace dohledu do jedné instituce (ČNB) od 1. 4. 2006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řeší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ídá dodržování zákazu nekalých obchodních praktik, zákazu diskriminace spotřebitele a dohled nad řádným informováním o cená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741320" y="274680"/>
            <a:ext cx="566136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68360" y="1916280"/>
          <a:ext cx="8229600" cy="4168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zdělávací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inance, daně, finanční tr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ématická oblas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níze a mě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ředmět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ankovnictví a fina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zev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stižný popis způsobu využití, případně metodické pokyny: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ýznam ČNB, její funkce a úkol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líčová slova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Česká národní banka, měnová politika, dohled nad finančním trhem, emise oběživa a peněžní oběh, devizový dohled, banka státu, platební styk a zúčtování ban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uh učebního materiálu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zenta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dbor ochrany spotřebite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může rozhodnout o náhradě, zrušení smlouv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ůže rozhodnout o porušení zákona (sankce pro finanční instituci), což je pro klienta důkaz pro sou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centrální registr úvěrů – úvěrové závazky podnikatelů (fyzických a právnických osob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účastníkem všechny tuzemské banky a pobočky zahraničních bank na území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onopolní právo vydávat bankovky a mince včetně mincí pamětníc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bá o plynulý a hospodárný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avuje zásoby peně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huje z oběhu a ničí opotřebované peníze a poškozené vyměňuje za nov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jišťuje technickou a uměleckou přípravu platidel, jejich výrobu a dodáv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ílí se na přípravě právní a technické ochrany platidel proti padělání a na její realizaci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uzuje a eviduje všechny peníze zadržené pro podezření z padělání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práva devizových rezerv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operace na devizovém trhu (devizové intervenc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regulac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akupuje a prodává cizí měnu, tím ovlivňuje její kur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r>
              <a:rPr b="0" lang="cs-CZ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stanoví pravidla provádění platebního styk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avidla pro vydávání a užívání elektronických platebních prostředků  a pro bezpečné fungování platebních systém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Platební styk a zúčtování ban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ozuje systém mezibankovního platebního styku CERTIS (zúčtovací = clearingové centrum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a poskytuje služby platebního styku zejména státu a banká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skytuje bankovní služby pro stát a veřejný sek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ede účty organizacím napojeným na státní rozpočet (ČSSZ, ÚP, celní úřady, státní fondy) a rozpočet Evropských společenství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Banka státu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rovádí operace spojené se státními cennými papí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 oblasti měnové politiky reprezentantem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astupuje stát na jednání MMF a Světové ban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Česká národní banka</a:t>
            </a:r>
            <a:r>
              <a:rPr b="0" lang="cs-CZ" sz="4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ladní údaje o b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0078f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evizová činno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900" spc="-1" strike="noStrike">
                <a:solidFill>
                  <a:srgbClr val="ffffff"/>
                </a:solidFill>
                <a:latin typeface="Arial"/>
              </a:rPr>
              <a:t>Úkoly: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6. Platební styk a zúčtování ban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7. Banka stát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8. Stížnosti na finanční instit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9. Zjistěte aktuální úrokové sazba stanovené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Zdroj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o_cnb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menova_politik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stabilit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idla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platebni_sty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financni_trhy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ttp://www.cnb.cz/cs/dohled_financni_trh/vykon_dohledu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centrální bankou Č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Zákon o ČN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litická nezávislost ČNB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xistence zakotvena v ústav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jvyšším řídícím orgánem  bankovní rada, v čele guverné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členy bankovní rady  jmenuje a odvolává prezident republik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bankovní rada předkládá poslanecké sněmovně Zprávu o inflaci (4 x ročně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informuje veřejnost o své činnosti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Arial"/>
              </a:rPr>
              <a:t>veřejnoprávní subjekt se sídlem v Praz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bočky: Praha, Ústí nad Labem, Plzeň, České Budějovice, Hradec Králové, Brno, Ostrav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Základní údaje o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kompetence správního úřadu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aří samostatně s majetkem svěřeným stá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 její činnosti lze zasahovat pouze na základě záko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nesmí přijímat pokyny od vlád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Cíle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lavním cílem je péče o cenovou stabilitu k vytváření podmínek pro udržitelný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hospodářský rů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podpora obecné hospodářské politiky vlády, pokud není v rozporu  s cílem hlavní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ffff"/>
                </a:solidFill>
                <a:latin typeface="Arial"/>
              </a:rPr>
              <a:t>Úkoly ČN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V souladu s hlavním cílem tyto úkol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Měnová politik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Dohled nad finančním trh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Arial"/>
              </a:rPr>
              <a:t>Emise oběživa a peněžní obě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17:55:44Z</dcterms:created>
  <dc:creator>Marek</dc:creator>
  <dc:description/>
  <dc:language>en-US</dc:language>
  <cp:lastModifiedBy>Igor</cp:lastModifiedBy>
  <dcterms:modified xsi:type="dcterms:W3CDTF">2014-09-13T14:42:14Z</dcterms:modified>
  <cp:revision>34</cp:revision>
  <dc:subject/>
  <dc:title>Česká národní banka</dc:title>
</cp:coreProperties>
</file>