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9EC0-98D8-4259-81A6-F90F36EB2285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D178-CDC3-4FFD-9CE9-697A3758B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D84-E957-4190-8081-89045700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9576-2DEA-454C-B3F4-7D153EA8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2314-4F92-4DEC-BDEA-28BEE48F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2C152-F9E4-421E-8F2A-C66DD2D1A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81694-0CFD-4303-823F-5D0A6C34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67EA-AEB4-4814-B60C-4638977B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49DF0-C569-4720-A970-89ADCD4D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63E2-1D0E-4EE1-925D-02A0B553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D72A-4819-455B-9DE0-F5928282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6F67-45CE-4B99-907C-8C956A48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CCC-BD8F-4C8A-97B4-198C98C4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3A677-E010-49A4-BBBF-25B2B04F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FC25-FA19-4DDD-9FE5-211ED0BF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FC42-8CC5-4151-875F-E83ECCD0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C63FC-EF8F-4E61-ACA2-A2CC386D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6DB2-3512-468F-8C0E-4D78CA91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38C-E371-42CA-960E-16B26C62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8E90-BE99-4A34-BEAA-AD5219F2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8E7-C0BB-4DF5-850F-A2BB2FF3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BC04-9ABD-4E14-AA53-6A62CBB6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612D-24CF-44BC-A8AB-0A4CFB61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E07-ECB4-40B8-AD71-9E72EE59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D91-2B73-4672-BCA0-0096A943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B5B9-0FEE-4A16-9B96-21DD4762EF9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0586-22E2-4B80-A1B5-AF4FCFD59A9B}" type="slidenum">
              <a:rPr b="0" lang="cs-CZ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s.wikipedia.org/wiki/Ryzost" TargetMode="External"/><Relationship Id="rId2" Type="http://schemas.openxmlformats.org/officeDocument/2006/relationships/hyperlink" Target="http://www.puncovniurad.cz/cz/znacky.aspx" TargetMode="External"/><Relationship Id="rId3" Type="http://schemas.openxmlformats.org/officeDocument/2006/relationships/hyperlink" Target="http://cs.wikipedia.org/wiki/Investi&#269;n&#237;_zlato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Výukový materiál zpracován v rámci projekt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EU peníze škol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ahoma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258920" y="333360"/>
            <a:ext cx="6083280" cy="148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539640" y="3573360"/>
          <a:ext cx="7561440" cy="50328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44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3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39640" y="4365720"/>
          <a:ext cx="7561440" cy="1625400"/>
        </p:xfrm>
        <a:graphic>
          <a:graphicData uri="http://schemas.openxmlformats.org/drawingml/2006/table">
            <a:tbl>
              <a:tblPr/>
              <a:tblGrid>
                <a:gridCol w="3527640"/>
                <a:gridCol w="403380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7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 Obchodní akadem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Vývoj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lato a stříbro, minc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mince ze zlata a stříbra (opotřebovávaly se), později z obecných kov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eníze papírové –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elký objem a váha mincí,  proto vznik papírových peněz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lat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hemická značka Au (aurum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měkký kujný kov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odpradávna používán pro výrobu šperků a mincí jako platidl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loužil jako měnová záruka pro bankovky = zlatý standard (bankovky kryty zlatem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lato  v současnost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elektronic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počítačovém průmyslu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šperkařs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ubní lékařstv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zla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Zlato  v současnosti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omodita obchodovatelná na světových burzách, z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ákladní a nejznámější burza Londýn, zveřejňuje průběžně výsledky obchodování tzv. London FIX a London SPO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světová cena zlata udávaná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dolarech za trojskou unci (USD/oz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yzost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karátech (zastaralé), 1 karát = 1/24 zlata ve slitině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tisícinách, 585/1000 je 585 g zlata ve slitině (= 14 kt zlat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astarale  i v %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Ryzost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žívané zlato u ná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4 kt = 585/1000, ryzostní číslo 4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18 kt = 750/1000, ryzostní číslo 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2 kt = 900/1000, ryzostní číslo 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ukátové zlato = 986/1000, ryzostní číslo 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24 kt (ryzí) = 999/ 1000, ryzostní č. 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značení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ozdobných předmětech a špercích z drahých kovů musí být ryzost vyznačena a potvrzena značkou státní zkušebny (puncem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ČR tuto povinnost ukládá a vymezuje Puncovní zákon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značení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ykonává Puncovní úřad, jako orgán státní správy na úseku puncovnictví a zkoušení drahých kov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uncovní značk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6" descr="http://www.puncovniurad.cz/znacky/CeskeSamotne.jpg"/>
          <p:cNvPicPr/>
          <p:nvPr/>
        </p:nvPicPr>
        <p:blipFill>
          <a:blip r:embed="rId1"/>
          <a:stretch/>
        </p:blipFill>
        <p:spPr>
          <a:xfrm>
            <a:off x="395280" y="1773360"/>
            <a:ext cx="85726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značení zlata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výrobku kromě  puncovní značky i označení pobočky písmene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obočky: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-Praha, J-Jablonec nad Nisou, B-Brno, O-Ostrava, T-Turnov, R-Tábor, Z-Plzeň, L-Olomouc, H-Hradec Králové, K-Červený Kostele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457200" y="1905120"/>
          <a:ext cx="8229600" cy="4848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známení s funkcemi, významem a vývojem peněz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, funkce, barter, všeobecný ekvival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Investiční zlato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ákup zlata pro uložení dočasně volných finančních prostřed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zlaté min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investiční zlaté slitky (cihl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ryzost 900/1000, 999/100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zlaté certifikáty, zlaté fondy – investice bez fyzického dodání zlat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Co jsou to peníz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unkce peněz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Formy peněz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ývoj peněz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Které měny plní funkci světových peněz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Otázky: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6. Zjistěte, jaké ryzosti zlata se u nás používají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7. Co je to investiční zlato a v jaké podobě se s ním můžeme setkat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8. Je stále aktuální barter? Uveďte příklad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droj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ŠVARCOVÁ, Jena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Ekonomie – stručný přehle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Zlín: Nakladatelství a vydavatelství 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ng.  Jena Švarcová , Ph. D., CEED, pro rok 2012/2013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978-80-87301-16-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HARTLOVÁ, Věra  a kol. </a:t>
            </a:r>
            <a:r>
              <a:rPr b="0" i="1" lang="cs-CZ" sz="2000" spc="-1" strike="noStrike">
                <a:solidFill>
                  <a:srgbClr val="ffffff"/>
                </a:solidFill>
                <a:latin typeface="Tahoma"/>
              </a:rPr>
              <a:t>Učebnice bankovnictví pro střední školy a  veřejnos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, Praha: Nakladatelství FORTUNA , 2004. 1. vydání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ISBN:  80-7168- 990-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cs.wikipedia.org/wiki/Ryzo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http://www.puncovniurad.cz/cz/znacky.asp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http://cs.wikipedia.org/wiki/Investi%C4%8Dn%C3%AD_zla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cc"/>
                </a:solidFill>
                <a:latin typeface="Tahoma"/>
              </a:rPr>
              <a:t>Peníze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Peníz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eníze jsou takový statek, který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v určité společnosti slouží jako všeobecně přijímaný prostředek směny (platidlo)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unkce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prostředek směn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používány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při placení za zboží a služby (platidl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zúčtovací jednotka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k vyjádření hodnoty zboží či služe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unkce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uchovatel hodnoty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 uchovávají svoji kupní sílu (úspory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světové peníz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–vybrané měny a  zla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Formy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bankovky a mince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 - základní form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depozit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- bezhotovostní peníz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na účtech v bankách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cenné papíry  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Vývoj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zv. samozásobitelská ekonomika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– spotřeba pouze vlastních výrobk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tzv. naturální směna -  barter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, výměna zboží za zboží, problém v různých hodnotách vyměňovaného zboží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cc"/>
                </a:solidFill>
                <a:latin typeface="Tahoma"/>
              </a:rPr>
              <a:t>Vývoj peněz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komoditní (zbožové) peníz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všeobecný ekvivalent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druh zboží žádán všemi, slouží jako platidlo (plátno, dobytek, koření, sůl, jantar, kovy), problém ve špatné dělitelnosti, nízké trvanlivo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8:07:20Z</dcterms:created>
  <dc:creator>kabek</dc:creator>
  <dc:description/>
  <dc:language>en-US</dc:language>
  <cp:lastModifiedBy>Igor</cp:lastModifiedBy>
  <dcterms:modified xsi:type="dcterms:W3CDTF">2014-09-13T14:42:45Z</dcterms:modified>
  <cp:revision>33</cp:revision>
  <dc:subject/>
  <dc:title>Peníze a měna</dc:title>
</cp:coreProperties>
</file>