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6C091-27A8-4179-AE06-B412F1C49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93E72-6AF3-4DC7-88E9-DFC04A0A9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D6922-9790-4A3B-94E8-076368800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80CA4-3483-464F-B1A8-0E2D7E6D9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49546-A065-4DA4-AA26-057132B2A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4ED70-C5AA-4778-BF8D-80D4A0E10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09C50-774F-481E-A612-A3E158603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9B9DC-97B0-43CF-B862-7717D209B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2EBD2-9851-4BC1-B586-834606E91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5842F-0E31-4532-A6FA-24704793A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0BB2B-B014-4569-9960-1D0FACACC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EA20C-AA5B-47CA-9B69-73C81FC22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E2CF8-29AC-4BB0-9B01-D29D12458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75F58-A3F7-4ED6-82DE-EA15BED8B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C2E59-513C-4C72-AC24-4ECF28D4E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5FC1A-2F22-4C67-A35A-95D293FBE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08D7C-F4DC-4860-AEA6-FA2244734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24B2F-94F8-431C-BA10-E06162468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1FD63-9205-4DDA-8CBD-49819F454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687DB-A545-4628-8EBE-408D069A2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B58B9-F30A-4B80-83E4-FCBEEBE5E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CD97A-9499-4C66-B016-6FCB7D4F3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92C2D-6A7A-42E0-AEB6-A14DA9AA6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55B06-2B5F-4789-8C16-19F6F2CDE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57E06-EF2F-4B81-9A06-E6108F3171AB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0BA81-7906-4227-B4E9-63B1E3232D22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cs.wikipedia.org/wiki/Konvertibilita_m&#283;ny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ahoma"/>
              </a:rPr>
              <a:t>Výukový materiál zpracován v rámci projektu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ahoma"/>
              </a:rPr>
              <a:t>EU peníze školá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ahoma"/>
              </a:rPr>
              <a:t>Registrační číslo projektu: CZ.1.07/1.5.00/34.0208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9" name="Picture 3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083280" cy="1487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0" name=""/>
          <p:cNvGraphicFramePr/>
          <p:nvPr/>
        </p:nvGraphicFramePr>
        <p:xfrm>
          <a:off x="539640" y="3573360"/>
          <a:ext cx="7561440" cy="503280"/>
        </p:xfrm>
        <a:graphic>
          <a:graphicData uri="http://schemas.openxmlformats.org/drawingml/2006/table">
            <a:tbl>
              <a:tblPr/>
              <a:tblGrid>
                <a:gridCol w="1584360"/>
                <a:gridCol w="1511280"/>
                <a:gridCol w="1584360"/>
                <a:gridCol w="2881440"/>
              </a:tblGrid>
              <a:tr h="7866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Y_32_INOVACE_128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1" name=""/>
          <p:cNvGraphicFramePr/>
          <p:nvPr/>
        </p:nvGraphicFramePr>
        <p:xfrm>
          <a:off x="539640" y="4365720"/>
          <a:ext cx="7561440" cy="1589040"/>
        </p:xfrm>
        <a:graphic>
          <a:graphicData uri="http://schemas.openxmlformats.org/drawingml/2006/table">
            <a:tbl>
              <a:tblPr/>
              <a:tblGrid>
                <a:gridCol w="3456000"/>
                <a:gridCol w="4105440"/>
              </a:tblGrid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g. Yvona Špílová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49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. ročník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3-41-M/02  Obchodní akademi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1/201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cc"/>
                </a:solidFill>
                <a:latin typeface="Tahoma"/>
              </a:rPr>
              <a:t>Členění mě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Nekonvertibilní měna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–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měna platná  pouze na území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daného státu,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její kurz je dán státní institucí, nesmí  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se vyvážet ze země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Zvláštní práva čerpání</a:t>
            </a:r>
            <a:br>
              <a:rPr sz="4000"/>
            </a:b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SDR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měnová a účetní jednotka Mezinárodního měnového fondu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umělá měn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košová měna odvozená  od průměrné hodnoty měn USA, Německa, Japonska, Francie a Velké Británie (EUR, USD, GBP, JPY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Zvláštní práva čerpání</a:t>
            </a:r>
            <a:br>
              <a:rPr sz="4000"/>
            </a:b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SDR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kód XD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slouží jako rezervní hotovostní fond, ze kterého mohou země čerpat v případě krize platební bilanc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Zvláštní práva čerpání</a:t>
            </a:r>
            <a:br>
              <a:rPr sz="4000"/>
            </a:b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SDR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čím větší jsou příspěvky jednotlivých zemí, tím více si pak v období tísně mohou půjčov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objem  poplatků se pro každý stát určuje na základě ekonomických ukazatelů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cc"/>
                </a:solidFill>
                <a:latin typeface="Tahoma"/>
              </a:rPr>
              <a:t>Otázky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Co je to likvidita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Charakterizujte jednotlivé měnové agregáty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Uveďte příklady konvertibilní a nekonvertibilní měn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Kdo používá SDR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Z čeho vychází kurz SDR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Zdroje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ŠVARCOVÁ, Jena. </a:t>
            </a:r>
            <a:r>
              <a:rPr b="0" i="1" lang="cs-CZ" sz="2000" spc="-1" strike="noStrike">
                <a:solidFill>
                  <a:srgbClr val="ffffff"/>
                </a:solidFill>
                <a:latin typeface="Tahoma"/>
              </a:rPr>
              <a:t>Ekonomie – stručný přehled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, Zlín: Nakladatelství a vydavatelství  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Ing.  Jena Švarcová , Ph. D., CEED, pro rok 2012/2013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ISBN: 978-80-87301-16-6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HARTLOVÁ, Věra  a kol. </a:t>
            </a:r>
            <a:r>
              <a:rPr b="0" i="1" lang="cs-CZ" sz="2000" spc="-1" strike="noStrike">
                <a:solidFill>
                  <a:srgbClr val="ffffff"/>
                </a:solidFill>
                <a:latin typeface="Tahoma"/>
              </a:rPr>
              <a:t>Učebnice bankovnictví pro střední školy a  veřejnost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, Praha: Nakladatelství FORTUNA , 2004. 1. vydání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ISBN:  80-7168- 990-9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ffcc66"/>
                </a:solidFill>
                <a:uFillTx/>
                <a:latin typeface="Tahoma"/>
                <a:hlinkClick r:id="rId1"/>
              </a:rPr>
              <a:t>http://cs.wikipedia.org/wiki/Konvertibilita_m%C4%9Bn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http://cs.wikipedia.org/wiki/Zvláštní_práva_čerpání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Rectangle 5"/>
          <p:cNvSpPr/>
          <p:nvPr/>
        </p:nvSpPr>
        <p:spPr>
          <a:xfrm>
            <a:off x="7560" y="-72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Rectangle 6"/>
          <p:cNvSpPr/>
          <p:nvPr/>
        </p:nvSpPr>
        <p:spPr>
          <a:xfrm>
            <a:off x="7560" y="-72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Rectangle 7"/>
          <p:cNvSpPr/>
          <p:nvPr/>
        </p:nvSpPr>
        <p:spPr>
          <a:xfrm>
            <a:off x="7560" y="-72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Rectangle 8"/>
          <p:cNvSpPr/>
          <p:nvPr/>
        </p:nvSpPr>
        <p:spPr>
          <a:xfrm>
            <a:off x="7560" y="-72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Rectangle 9"/>
          <p:cNvSpPr/>
          <p:nvPr/>
        </p:nvSpPr>
        <p:spPr>
          <a:xfrm>
            <a:off x="7560" y="-72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1741320" y="274680"/>
            <a:ext cx="566136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3" name=""/>
          <p:cNvGraphicFramePr/>
          <p:nvPr/>
        </p:nvGraphicFramePr>
        <p:xfrm>
          <a:off x="457200" y="1905120"/>
          <a:ext cx="8229600" cy="38624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4438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inance, daně, finanční trh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ématická oblas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eníze a měn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1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ankovnictví a finan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ázev učebního materiálu: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ěn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19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ýstižný popis způsobu využití, případně metodické pokyny: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harakteristika měny a základní členění měn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ěna, měnový agregát, nadnárodní a národní měna, zvláštní práva čerpání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ffffcc"/>
                </a:solidFill>
                <a:latin typeface="Tahoma"/>
              </a:rPr>
              <a:t>Měna</a:t>
            </a:r>
            <a:r>
              <a:rPr b="0" lang="cs-CZ" sz="5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Měna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Konkrétní peněžní jednotka daného státu se označuje měna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Měnové agregáty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určité formy peněz mají určitou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likviditu (jak rychle lze použít k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platbě)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podle likvidity se obecně dělí na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skupiny měnových agregátů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Měnové agregáty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M1= hotovostní oběživo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M2 = M1 + vklady na běžných účtech v bankách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M3= M2+ vklady v zahraničních měnách v domácích bankách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Měnové agregáty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M4= M3 + vklady v nebankovních institucích v domácí měně + krátkodobé cenné papíry v domácí měně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M5 = M4 +ostatní cenné papíry v domácí měně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cc"/>
                </a:solidFill>
                <a:latin typeface="Tahoma"/>
              </a:rPr>
              <a:t>Členění mě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cs-CZ" sz="4000" spc="-1" strike="noStrike">
                <a:solidFill>
                  <a:srgbClr val="ffffff"/>
                </a:solidFill>
                <a:latin typeface="Tahoma"/>
              </a:rPr>
              <a:t>Konvertibilní měna</a:t>
            </a:r>
            <a:r>
              <a:rPr b="0" lang="cs-CZ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cs-CZ" sz="4000" spc="-1" strike="noStrike">
                <a:solidFill>
                  <a:srgbClr val="ffffff"/>
                </a:solidFill>
                <a:latin typeface="Tahoma"/>
              </a:rPr>
              <a:t>měna směnitelná s ostatními měnami v určitém kurzu, kurz je dán poptávkou a nabídkou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cc"/>
                </a:solidFill>
                <a:latin typeface="Tahoma"/>
              </a:rPr>
              <a:t>Členění mě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a) plně směnitelná (konvertibilní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5850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měna směnitelná všude na světě, nejsou překážky výměny (konverze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5850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b) </a:t>
            </a: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částečně směnitelná (vnitřně směnitelná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5850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stát stanoví omezující pravidla výměny své měn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2T08:07:20Z</dcterms:created>
  <dc:creator>kabek</dc:creator>
  <dc:description/>
  <dc:language>en-US</dc:language>
  <cp:lastModifiedBy>Igor</cp:lastModifiedBy>
  <dcterms:modified xsi:type="dcterms:W3CDTF">2014-09-13T14:44:34Z</dcterms:modified>
  <cp:revision>23</cp:revision>
  <dc:subject/>
  <dc:title>Peníze a měna</dc:title>
</cp:coreProperties>
</file>