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6356-9260-4474-972A-EAAC64EA787F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D5EE-1457-4086-AB04-E6394B3042FA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347-350C-4619-AB15-AB075330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B259-DE27-4BAE-90E7-9CD0111B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226-1479-460D-842D-22B59DE5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B18-5D67-4ACA-92C2-BA388DA0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D3C8-8B6F-4115-86BC-385BC751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CAF0-D2F3-4DC8-901E-8F124842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A9A8-300C-4969-A11C-AE953E98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61F1-E4BB-4ACC-BF3E-3FA7DA57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8115-8531-40D3-A4E7-30C1FFD0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8B36-CF56-47C5-809E-F235C15B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7261-F5A1-4F4D-BB16-801EF82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2E3E-8851-4BE1-8969-077F11B7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A4E8-2E06-4893-B0CA-01B83AE5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6E4-5D48-4165-AFD8-E76C4117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581C-D954-4EB0-BE5D-7CE4713C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89A3-0362-4445-BFB5-938449390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2A11-F9EF-4909-BBA3-34066D2E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A03-F9F3-4564-9510-67C7FE6C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DBA-0FE7-46D2-BFB4-A6041E25B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9E5-30B5-4290-BF50-728F1C74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D34-F7C5-4C6B-9D06-F1177E8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CA9-A15A-412D-97E0-490E36E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97B-307C-488D-AC04-E6979E1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862-6AEE-423E-A6DA-B80DA643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184A-A563-4CD9-80B3-BFCD4E9454BE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6278-7017-4F8C-98DC-E1F3F06E2163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csas.cz/banka/nav/podnikatele-firmy-a-instituce/podnikatele-a-male-firmy/dokumentarni-inkaso/o-produktu-d00010045" TargetMode="External"/><Relationship Id="rId2" Type="http://schemas.openxmlformats.org/officeDocument/2006/relationships/hyperlink" Target="http://www.finance.cz/zpravy/finance/214007-bankovni-zaruky-aneb-jak-snizit-podnikatelska-rizika-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3357720"/>
          <a:ext cx="7561080" cy="5029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11280" y="4149720"/>
          <a:ext cx="7561080" cy="1836720"/>
        </p:xfrm>
        <a:graphic>
          <a:graphicData uri="http://schemas.openxmlformats.org/drawingml/2006/table">
            <a:tbl>
              <a:tblPr/>
              <a:tblGrid>
                <a:gridCol w="3600360"/>
                <a:gridCol w="396072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5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Účastníci platb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davatel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dodav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odběratel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běrat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kasní podmínk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zaplacení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akceptaci  smě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dání dokumentů proti otevření bankovní záruky ap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1.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zavření obchodní smlouvy mezi dodavatelem a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zřízení dokumentárního inkasa u banky dodavatele a předání dokumentů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mezi bankou dodavatele a odběratele předání inkasních příkazů a příslušných dokumen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dlužník je informován o přijmu dokumentů a o inkasních podmínkách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příslušný  inkasní úkon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předání dokumentů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inkasní plnění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vyzvednutí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ávazku je dlužník (odběratel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 mezi vývozcem  a dovozcem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uzavření kupní smlouv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 dovozce požádá sv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banku  o otevření akreditivu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 vývozce odešle zboží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vývozce  prostřednictvím své banky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ešle doklady bance dovozce,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á je v případě splněn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mínek předá dovoz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banka dovozce  proplatí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akreditiv vývozci z účtu dovoz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iziko nezaplacení nese ban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akreditiv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směřuje k elektronickému akreditiv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řetí osobou elektronická tržišt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radiční papírová podoba pro složitější případy a rozvojové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osament – v námořní doprav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říční nálož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elez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ilniční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alší platební nástroj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ké právo (dispoziční)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etecký ná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ložní (nákladní)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emědělský skladní lis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šířená forma ručení v mezinárodním obchod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 závazkové úvě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neposkytují žádné finanční prostředky, ale zaručují se za svého klienta, že provede svůj závaz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278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zahraniční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ahraniční platební styk, hladká platba, dokumentární platba (inkaso, akreditiv), IBAN, cenné píry osvědčující vlastnictv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kladní typ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. záruky platební - banky se zaručují za provedení peněžního plnění odběr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záruky neplatební – banky se  zaručují za kvalitu provedených prací dodavatel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faktu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splacení úvěr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leasingových spláte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potřební da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zaplacení smě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žádost, kterou banka posoud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věří bonitu žadate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ozhodne, zda se za klienta zaručí či nikol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 kladném vyřízení banka s klientem sjednává smlouvu o poskytnutí bankovní záru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áruky neplatební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předloženou nabídku do veřejné soutěže (záruka v tendru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vrácení platby předem (záruka za vrácení akontac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áruka za náležité provedení kontraktu (kauční záruka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Sjednání bankovní záruk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a vystaví záruční listinu obsahující písemné prohlášení banky, že uspokojí věřitele do výše sjednané finanční částky, pokud klient nedostojí svému závaz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škeré náklady spojené s bankovní zárukou obvykle hradí klient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Úkol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IBAN a jak je konstruová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jděte ho na výpisu z účtu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ho inkaso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enné papíry osvědčující vlastnictv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záru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csas.cz/banka/nav/podnikatele-firmy-a-instituce/podnikatele-a-male-firmy/dokumentarni-inkaso/o-produktu-d000100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finance.cz/zpravy/finance/214007-bankovni-zaruky-aneb-jak-snizit-podnikatelska-rizika-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prostřednictvím směnárenské činnosti a oblasti cestovního ruch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(nedokumentár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Zahraniční platební styk bezhotovostní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WIFT – společnost pro celosvětovou finanční telekomunikac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BAN – mezinárodní číslo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IC kód – mezinárodní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platb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inkas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kumentární akrediti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Dokumentární inkas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ezhotovostní bezzávazkový systém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praven mezinárodními pravidl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y pracují s dokumenty nikoliv se zboží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37:48Z</dcterms:modified>
  <cp:revision>36</cp:revision>
  <dc:subject/>
  <dc:title>Platební styk tuzemský a zahraniční</dc:title>
</cp:coreProperties>
</file>