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233-F544-43BD-BEDB-5C4AF142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557-6DFE-4D2A-A3DC-ED4CE938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690A-9295-444B-A8B1-5ED9E85C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6A82-78DA-4289-A65A-A0A58607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2C63-D9B7-4F79-85F2-66ABBCD8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42EB-CFE4-4BD8-85DC-AD918D7E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D8D8-FBC9-4E75-90AD-AD86816B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5275-CE44-45FA-94B2-18DDDF44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3529-2FB1-446D-AF97-4082C5AA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C524-92C5-417D-AF85-0F255A9A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A847-BF26-452E-B331-2F1EB83E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D1E-5428-4DEA-B65E-AD2B2013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1C37-AFDE-4EDE-92F1-08661D17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56B9-514F-4D40-ABAD-4E872637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F488-7DF1-46FA-8EDA-14863F07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9604-F0E0-437C-865D-66E30A87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7EDC-4F6A-4776-B15E-C278416D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D01-2D8F-487F-9817-AB0D365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9BD-A2F2-42AD-9AEE-3C8467E6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1A50-45F1-4925-8902-BFDB5828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69D-A954-4A24-A025-9D32663F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FBF5-D358-41AA-85AA-3632E21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824-54EF-4C6F-BF33-9DBA7A0C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A56-7745-40C7-ACC1-407DC8BD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C3A-BEC7-428C-96B9-FDB3C77C19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7438-33CC-4FF3-AF6B-1627E9656E3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64764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00536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řízení majetku bez nutnosti mít cel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átkový kalendář – rozpis splátek po dobu trvání leasing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erativ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nedochází ke změně vlastnických vztah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běžný náj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ou krátkodob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prodá bance majet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zavře s bankou smlouvu, že tento majetek bude užívat po sjednanou dobu za jednorázovou platbu nebo na splá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acto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orfait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dstata leasing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Finanč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perativní leas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3755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statní platební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ostatních platebních nástrojů bank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toring, forfaiting, leas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Ostatní platební nástro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krátkodobých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věř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louva o faktoringové spoluprá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loha 60 – 90 % z pohle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ový poplatek a úro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teritori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uzemsk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portní (vý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mportní (dovoz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act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rizik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s rekurzem (regresní) – riziko nezaplacení  zůstává na klientov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aktoring bez rekurzu (bezregresní) – riziko nese ban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orfai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kup  pohledávek před datem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y zajištěny jinou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těny směnkou, dokumentár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reditivem, bankovní záru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ledávka ihned proplacena s určitou sráž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poskytuje banka pří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prostřednictvím dceřiných společ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ilná konku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finanč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asing operativ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dej nebo zpětný leas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Finanční leas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jemce platí pravidelné splátk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vní zvýšená splátka (akonta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konci sjednaného období dochází ke změně vlastnických vztahů z pronajímatele na nájem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= finanční pronájem s následnou koupí najaté věc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40:22Z</dcterms:modified>
  <cp:revision>25</cp:revision>
  <dc:subject/>
  <dc:title>Platební nástroje</dc:title>
</cp:coreProperties>
</file>