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3EB-3D28-444A-9348-23FBF64A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1B2-EB6B-455E-8BF5-AD836F9B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54A-AB4E-4239-8FC6-A5B28134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88E-AC7C-4C21-AC73-D163FD5D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F28E-1629-41F7-8209-2E1B2F01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2F3F-208C-4EA8-B880-484566E5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87C-5DFB-40B9-89E2-F11BDC7E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7C46-E3C0-4220-A49D-9E0234AE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75E-027F-4047-A8BE-79B5DBBA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7C4D-1155-49B8-A273-8F1B8F1B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2EE9-CD51-4AFD-A8A5-01D10E6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994A-9ACD-4F9E-90C3-423E1F08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5AAD-2E08-49A7-9F0B-ED585BF1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2DF2-5C1B-409C-A169-E4E2ED4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21F5-B1E5-4C2B-8D38-7AAEAC96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0AA5-1B33-4F7C-ACEE-C26E6A9B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C9D8-411E-4864-8E89-FF6C2BB4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8DF-F0FE-4540-8620-09C878FF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F5B-9E8D-4756-A7B4-DFB0102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C6A-CB03-4FF5-A43E-913FCA55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FED-C36C-42F3-9E2C-D7A6015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622-FF8E-4FED-9CB2-4FB02C0C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3EA-A5FB-45F6-B997-1223B69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CBF9-39EA-4A8C-9990-5D446B1F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3820-A19F-4810-93F2-D64E4C3EB3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5FF8-931D-470E-82E4-DB9FC2FCB41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29560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11280" y="306864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860640"/>
          <a:ext cx="7561080" cy="162720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značení „šek“ v textu listiny v jazyce, ve kterém je šek vystave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podmínečný příkaz zaplatit určitou peněžní sum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méno toho, kdo má platit (šekov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ležitosti šek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daj místa, kde má být placeno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ní-li uvedeno, je to sídlo šekov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tum a místo vystavení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is výstavce v souladu s podpisovým vzorem B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může požadovat další údaj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měle vytvořeny pro potřeby cestovního ruc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sou to skutečné šeky, nevztahuje se  šekové prá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y Obchodním zákoník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stovní še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upují se, proto plně kry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dávány velkými bankami a finančními instituce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 světových mě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zaokrouhlených nominálních hodnot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znam a charakter šek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č u nás nejsou šeky příliš rozšířen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Šeky bankovní a soukrom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on upravujíc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voditelnost šek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estovní še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KON Č. 191/1950 Sb., ZÁKON SMĚNEČNÝ A ŠEKOV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ovelizace č. 29/2000 S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38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jeho význam, použití, dru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ek, šek bankovní, soukromý, převoditelnost šeků, náležitosti, cestovní š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átkodobý cenný papír, který obsahuje bezpodmínečný příkaz výstavce šeku bance (šekovníkovi), aby vyplatila z jeho účtu oprávněnému majiteli šeku peněžitou částku uvedenou na še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Š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praven Směnečným a šekovým zákonem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. 191/1950 Sb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cházejícím z Ženevských konven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elizace č. 29/2000 Sb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á přímého dluž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ždy splatný na viděno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bankov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banka na žádost svého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u plně kryt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ho vystaví až za něj klient zaplatí z účtu nebo v hotov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osoby výstav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y soukrom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uje soukromá osoba - klient, který má v bance vedený úč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ystavován na předtištěném formuláři v tzv. šekové kníž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řevoditelno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řad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 na určitou osobu, převod  indosamentem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jméno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 jméno oprávněné osoby, nelze indos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na majitel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-  majitelem šeku je osoba, která  šek momentálně vlast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ruhy šeků podle způsobu použit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kladní šek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k výběrům hotovosti z 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šek k zúčtování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- šekovník ho může vyrovnat jen bezhotovostně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(na šeku uvedeno „jen k zúčtování“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46Z</dcterms:modified>
  <cp:revision>25</cp:revision>
  <dc:subject/>
  <dc:title>Platební nástroje</dc:title>
</cp:coreProperties>
</file>