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931-E517-4704-9F51-E2EE3FCA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F79B-4979-430C-AE32-36F292FD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AEC-EE7F-45BD-880A-FEE49DF0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4F90-C468-4E93-830E-3AF9D42D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0DC9-34C0-4D13-9766-827E1378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7460-BFC0-44EC-9806-4C1E3528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62C8-F019-428D-99C1-96C8EC9F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62AD-F973-422A-9C28-4BEEC427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0B46-0EAD-4286-B5B6-37E523EF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9C60-2231-4375-98E7-9DFC1F57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CCFF-C226-40B1-8DC8-13D77A88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075C-9DB6-4D1D-A61C-28308F9F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7DEC-B799-4C83-8803-0F0DC457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91ED-6547-4E1B-854A-EE92A5B0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74BD-FD14-4032-B266-7AF2DD04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6ED0-4D88-4932-9438-3ED44090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4EBA-8021-4213-9123-09269AC8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C68-1A64-45CB-B4CB-ADB3414D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3856-B978-4352-8841-B6749530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1C1D-D954-46F1-B121-55BDBF27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A6F0-8D3F-4F2C-B103-54784856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017D-A83F-4E83-961E-4D46AE30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E890-3505-411E-99A1-D64B40E9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BBFF-CAD2-422F-A3FC-7E5AE5A2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E116-4A7B-4885-AF13-4B54B9047028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0AAC-AE36-47F3-B552-5E13CEE50CC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11280" y="3645000"/>
          <a:ext cx="7561080" cy="50472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11280" y="4400640"/>
          <a:ext cx="7561080" cy="1620720"/>
        </p:xfrm>
        <a:graphic>
          <a:graphicData uri="http://schemas.openxmlformats.org/drawingml/2006/table">
            <a:tbl>
              <a:tblPr/>
              <a:tblGrid>
                <a:gridCol w="3781440"/>
                <a:gridCol w="37796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ročník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respondentský způsob propojení bank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zájemné zakládání účt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ostro účet – účet, který má banka otevřen u jiné zahraniční bank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respondentský způsob propojení bank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oro účet (vostro účet) – účet, který vede zahraniční banka pro jinou ban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zahraničním platebním sty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learingový způsob propojení bank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tuzemském platebním sty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chodní banky mají u clearingové banky účet a přes ní jsou spoje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learingové (zúčtovací) centrum ČNB, systém CERTI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e to vkladoma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. Co je to platboma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3. Vysvětlete podstatu výběru hotovosti na pokladně obchodů (cashback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4. K čemu slouží zúčtovací centrum ČNB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. Způsoby propojení bank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lší způsoby hotovostního platebního styku tuzemského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7. Bezhotovostní platební styk tuzemský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847880"/>
          <a:ext cx="8229600" cy="4173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8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latební styk a jeho nástro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zemský platební sty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tuzemského platebního styk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uzemský platební styk, vklady a výběry v hotovosti, vklady a výběry na účet, clea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Tuzemský platební sty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styk z hlediska form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hotovost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bezhotovostn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latební styk z hlediska teritori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tuzemsk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ební styk zahranič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ormy hotovostního platebního styku</a:t>
            </a:r>
            <a:r>
              <a:rPr b="0" lang="cs-CZ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ložením hotovosti ve prospěch účtu příjemce - pokladní složen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klado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ukazem peněžních prostředků ze svého účtu k výplatě v hotovosti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ekem k výplatě v hotov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ormy hotovostního platebního styku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běrem prostřednictvím výběrního lístk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 platební karto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pokladně obchodů cashbac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skutečnuje se na základě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ormou příkazů k zúčtování (platebních příkazů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eků k zúčtován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ankovních platebních kar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elektronického bankovnic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Bezhotovostní platební styk tuzemský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Tzv. hladké platby na základě příkaz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nitrobankovní platební styk - převod peněz mezi 2 klienty stejné bank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ezibankovní platební styk - převod peněz mezi 2 klienty různých bank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oba převodu v tuzemsku  do 24 ho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5:12:52Z</dcterms:created>
  <dc:creator>Marek</dc:creator>
  <dc:description/>
  <dc:language>en-US</dc:language>
  <cp:lastModifiedBy>Igor</cp:lastModifiedBy>
  <dcterms:modified xsi:type="dcterms:W3CDTF">2014-09-13T14:28:34Z</dcterms:modified>
  <cp:revision>29</cp:revision>
  <dc:subject/>
  <dc:title>Platební styk tuzemský a zahraniční</dc:title>
</cp:coreProperties>
</file>