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E22-1015-4824-A1BA-24A3919E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E1C7-362F-4986-8973-5ABE40E4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403-29A1-4496-8CFE-74651998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019-8AC0-4DEB-A693-B4E96663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6B5-EF89-4C03-97C0-C97E9E1D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5206-2041-4900-BFCB-A441B1B6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A243-FDDA-4D0B-ABFC-8B62A6B9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2663-9D1F-4FA4-9D2F-6125D75C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57D3-6968-4DB7-A7E1-276C111F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91A1-265A-4274-9EC7-4F615958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9303-1DBD-4B5E-AAF9-5AA4DAD9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D67A-6186-4A34-B153-F3C862AF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772D-5E4F-48D3-9311-9CCC9F8D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0BD9-D092-428E-9DB2-911CA77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F9F3-FBFB-4773-9527-8241633D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F6EF-2AA8-4371-8EDE-44BA26336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E0B5-6BE6-474A-AC3C-37BC60EFC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FA8-D373-48EB-88A3-70C5A440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725-AD05-492D-B0F8-7CABAAFF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36C8-663E-4AD9-8A0B-34BF48CB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CC6-046E-4BB9-AC20-468155D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7D9-4F42-400A-A676-513E7543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D02-6F36-439C-BF59-38102971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870-2D0F-4A5C-AEAA-02346AD2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47B0-0021-405F-9B91-F521B22398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2E77-34B3-4B3F-9FFD-7617B5E8305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2852640"/>
          <a:ext cx="7201080" cy="720720"/>
        </p:xfrm>
        <a:graphic>
          <a:graphicData uri="http://schemas.openxmlformats.org/drawingml/2006/table">
            <a:tbl>
              <a:tblPr/>
              <a:tblGrid>
                <a:gridCol w="1508040"/>
                <a:gridCol w="1440000"/>
                <a:gridCol w="1509840"/>
                <a:gridCol w="2743200"/>
              </a:tblGrid>
              <a:tr h="786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11280" y="3789360"/>
          <a:ext cx="7561080" cy="159084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2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užité technologi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gnetický proužek – v něm údaje o účtu klien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ipová technologie – údaje ukryty v čip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ybridní karty -  magnetický proužek i č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karetních asociac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IS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merican Exp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iners Clu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B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ash  back – hotovostní výběr na pokladně obchod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– brandová karta – vydána ve spolupráci s obchodníkem, u kterého jsou při placení touto kartou výho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typ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říbrná, zlatá, platinová karta – k účtům s vysokým zůstatkem, za kartu vyšší poplatek, výhody: cestovní pojištění, odtahová služba apo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ezdotyková – pro platbu do 500,- Kč varianta embosované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užití platební kar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ý platební terminál – zúčtovací centr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chanický snímač (žehlička) – pouze pro embosované platební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epážky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cení po internetu – aktivace kar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kamžité oznámení bance telefonicky nebo na  pobočce banky (důkaz o oznámení -  zákazový kó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okamžiku oznámení karta zablokována (blokace – u elektronických karet, stoplistace – u embosovaných karet), poplatek dle sazebníku, může být i zdar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04000" indent="-50400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Zablokovaná karta se dostane na stoplist – seznam zakázaných kar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Odpovědnost od okamžiku oznámení nese banka, někde spoluúča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ostup při ztrátě nebo odcizení platební kart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 Žádost o novou platební kar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Nalezenou ztracenou kartu odevzdat na poboč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žnost pojištění zne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znam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debetní, kreditní, charge kar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rty podle potisk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alší druhy kar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užití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tráta platební kart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osobní účast na školení o bankovních produkt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a použití platebních kar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karta, debetní, kreditní, charge, embosovaná, elektronická, cash back, co-branded, blokace, stoplista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kart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stroj k bezhotovostní platbě, který vydávají fyzickým i právnickým osobám nejčastěji banky (nákl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 placení v obchodě nese obchodní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 výběru bankoma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i ke vkladu do bankomatu (vkladomatu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betní – k běžnému účtu, vybírá se do zůstatku na účtu, možno zřídit k účtu kontokorent ( krátkodobý úvěr, vybírání do sjednaného úvěrového rám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reditní karta – k úvěrovému účtu, bezúročné období 40 -55 dnů pro splacení krátkodobého úvěru , lze splácet i po částech – vysoké úroky, výběr z bankomatu zúročen vž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způsobu zúčtování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harge karta – k úvěrovému účtu, vyúčtování na konci měsíce, bezúročné období pro splacení  celé částky do konce následujícího měsíce, jinak vysoké úro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kupní úvěrové kar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lektronické karty - hladký potisk (ident), slouží pro výběr z bankomatu, placení u obchodní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platebních kare</a:t>
            </a: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le potisku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bosované karty - s tzv. reliéfním (plastickým) písmem, pro výběr z bankomatu, placení u obchodníka, navíc v mechanických snímačích a pro platbu na interne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20:45:37Z</dcterms:created>
  <dc:creator>Marek</dc:creator>
  <dc:description/>
  <dc:language>en-US</dc:language>
  <cp:lastModifiedBy>Igor</cp:lastModifiedBy>
  <dcterms:modified xsi:type="dcterms:W3CDTF">2014-09-13T14:38:17Z</dcterms:modified>
  <cp:revision>35</cp:revision>
  <dc:subject/>
  <dc:title>Platební nástroje</dc:title>
</cp:coreProperties>
</file>