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707A-2985-4AAE-B519-241EF340E0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5F62-A710-41A7-B8E2-B86CED8B6BCA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66B4-5718-4A52-8957-F7A9EA9D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8D84-B8BF-4D09-A7A5-76707D50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7BDD-7D6A-415C-B605-D6BCE493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9B05-329A-4B10-AEE6-923DC31B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0CEC-ADA0-4C8F-B1FF-2767825C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1A9C-FC0B-4119-84F5-3E2E1316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A298-9CF8-438F-8717-91BF6159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3FE9-FABE-46FE-948D-2D1BF2D9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AA96-F345-41B6-8357-0A1AD355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4E84-8DFF-41D9-AB76-1D97BF5A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07F8-422E-4880-81BF-5E36C3AB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96C1-F562-49F2-88FB-0A11964B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2037-9E62-428C-B64E-EA60E998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EA5D-7B72-4305-909F-62013020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C99C-1D06-49D0-BB6E-A8329899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AB3F-A3A5-4DEA-9A0F-02E657BA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53B6-2B8C-4C96-A630-D8E200F7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9A45-6050-44A0-97D5-DFBFBC08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DBB-62B7-4A09-95E7-AD37D126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A69E-58BF-400C-9906-7E6D20C5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040C-9D37-4711-B28D-654E180E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8185-7866-4175-A2EC-C2993DCE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5B9B-50AA-4EA0-80DC-3408A6AA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9E7-841C-46BF-A50E-3142BE64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43CF-590B-4C7B-9BE5-DD650F0B761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FA3E-5529-41E8-8F3E-58FD18D8A83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sas.cz/banka/nav/osobni-finance/servis-24-mobilni-banka/o-produktu-d00019607" TargetMode="External"/><Relationship Id="rId2" Type="http://schemas.openxmlformats.org/officeDocument/2006/relationships/hyperlink" Target="http://www.csas.cz/banka/nav/osobni-finance/servis-24-mobilni-banka/o-produktu-d00019607" TargetMode="External"/><Relationship Id="rId3" Type="http://schemas.openxmlformats.org/officeDocument/2006/relationships/hyperlink" Target="http://www.kb.cz/cs/lide/obcane/ucty-a-platby/internet-telefon-mobil/mobilni-banka.shtml" TargetMode="External"/><Relationship Id="rId4" Type="http://schemas.openxmlformats.org/officeDocument/2006/relationships/hyperlink" Target="http://www.csas.cz/banka/nav/osobni-finance/mobito/o-produktu-d00018799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11280" y="3068640"/>
          <a:ext cx="7561080" cy="5763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11280" y="3860640"/>
          <a:ext cx="7561080" cy="155448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3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obil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íjení kredi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cení přes mobilní peněženk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ychlé zaplacení v obchod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ternetové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ýkoliv počítač připojený k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4/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duché ovlád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utorizace plateb = bezpeč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finan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ča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ternetové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ádění plat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edování pohybů na účt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lektronické výpi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jednání úvěru, kontokorentu, platební karty nebo pojiště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íjení mobi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ternetové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měna limitu pro platby kartou na internetu a pro výběry hotovosti v bankoma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jímání a placení faktur, pojistné a složenky elektronicky (e-faktu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ehledné grafické ztvárně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omeban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iremní bankovnictv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ojení s bankou pomocí internetu a nainstalovaného speciálního program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ipová karta s elektronickým podpisem (nutná čtečka elektronických kare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omeban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4/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ádění plat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duché ovlád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finan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ča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munikace s bankou on–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lektronické výpis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omeban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jímání a placení faktur a složenek (aktivace elektronických faktur, e-faktura = předvyplněná faktur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urzovní líst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istence účetních programů podporujících homeban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lší výhody jako internetban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Virtuální platební kar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šestnáctimístné číslo (+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ba platnosti a kontrolní kód CVC/ CVV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bezpečení SSL -zámeček, údaje obchodníkovi šifrovan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ené použi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latební embosovaná kar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ento způsob není příliš  oblíben, strach ze zneuži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rta musí být pro placení na internetu aktivována v bance, nastaven limit plat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latební embosovaná kar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tšina internetových obchodů podporuje systém 3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daje o kartě (číslo karty, datum platnosti, CVV/CVC kód)poskytuje přímo b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rázový kód pro autorizaci plat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457200" y="1628640"/>
          <a:ext cx="8229600" cy="4748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lektronické bankovnictví a elektronické platební prostřed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hled elektronického bankovnictví a elektronických platebních prostředků, použití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elefonní, mobilní, internetové bankovnictví, homebanking, embosovaná karta, elektronická peněženka, PayPal, PayU, PaySe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ayP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 společnosti založit účet, na něj převést např. z běžného účtu určitou část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pojit se svou embosovanou platební kartou aktivovanou pro placení na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ayP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 možno platit i platby přijí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ozující společnost si strhává poplatky, platí je obchodní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ay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 placení v internetových obchode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bchodník musí být přihlášen do systém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 platbě propojení obchodníka s platební bránou Pay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ay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kazník platí přes internetbanking nebo embosovanou  platební kartou aktivovanou pro int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bezpečení SS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platky provozovateli obchodní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cení na internet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Elektronická peněženk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lient banky složí hotovost do peněženky = neúročený plovoucí úč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tby obchodníkovi z tohoto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tby internetem, mobi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íze se dají z peněženky vzít zpě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aySec, Mobito…… 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elefonní bankovnictv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obilní bankovnictv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ternetové bankovnictví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omebank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cení na internetu – embosovaná platební kar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Placení na internetu – elektronická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ěžen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. Placení na internetu –  PayPal, Pay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8. Vyhledejte další systémy placení 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ternet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Zdroj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http://www.csas.cz/banka/nav/osobni-finance/servis-24-mobilni-banka/o-produktu-d000196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bdélník 4"/>
          <p:cNvSpPr/>
          <p:nvPr/>
        </p:nvSpPr>
        <p:spPr>
          <a:xfrm>
            <a:off x="411120" y="256536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http://www.kb.cz/cs/lide/obcane/ucty-a-platby/internet-telefon-mobil/mobilni-banka.s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86d1ec"/>
                </a:solidFill>
                <a:uFillTx/>
                <a:latin typeface="Arial"/>
                <a:hlinkClick r:id="rId4"/>
              </a:rPr>
              <a:t>http://www.csas.cz/banka/nav/osobni-finance/mobito/o-produktu-d0001879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bdélník 5"/>
          <p:cNvSpPr/>
          <p:nvPr/>
        </p:nvSpPr>
        <p:spPr>
          <a:xfrm>
            <a:off x="372960" y="348768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www.csas.cz/banka/nav/osobni-finance/servis-24---internetbanking/o-produktu-d0001903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www.csas.cz/banka/content/inet/internet/cs/faq_ie_12.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s://www.erasvet.cz/pravnicke-osoby/ostatni/stranky/firemni-bankovnictvi-max-homebanking/popis-produktu.a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http://finance.idnes.cz/nejbezpecnejsi-platby-kartou-na-internetu-nabizeji-tri-banky-pu5-/bank.aspx?c=A110914_143118_bank_b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http://cs.wikipedia.org/wiki/PayP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Elektronické bankovnictví a elektronické platební prostředk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lektronické (přímé) 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telefonní bankovnictví (telebank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obilní bankovnictví (mobilbank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ternetové bankovnictv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internetbank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mácí bankovnictví (homebanki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Telefon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platné zákaznické telefonní li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éř nebo automatická hlasová služb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ístup k účtu 24/7 z tuzemska i zahranič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ktuální přehled o zůstatku na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SMS, e-mai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Telefon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ntrola pohybu na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operace zadané telefonicky levnější než na poboč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ča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rázová bezpečnostní hesla pro komunikaci s bankou (SM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obil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Phone, iPad, iPod touch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ím víc funkcí, tím širší nabídka služe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4/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plikace internetového bankovnictv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oduché ovlád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pojení kdekoli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obil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hlížení stavu a historie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ádění plateb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hledání nejbližší pobočky nebo bankoma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kenování složen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inanční úspora (levnější příkazy než na poboč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obilní bankovnictv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spora čas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ehledná grafika aplik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ísná bezpečnostní opatř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munikace s bankou on–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pisy z úč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stavení vzhled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39:21Z</dcterms:modified>
  <cp:revision>47</cp:revision>
  <dc:subject/>
  <dc:title>Platební nástroje</dc:title>
</cp:coreProperties>
</file>