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966-C2AF-4028-9CD5-2D87838A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6B5A-BCF6-4759-8121-AA0F0467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3B3-6ECC-471A-BAD8-4E79B6AA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D00-A27E-46AD-B940-87D9FB47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1885-CD37-412F-9343-7AE47D2A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6E52-C910-4515-9572-5848640E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B802-040E-4D4D-BCC4-CE2415D6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1E9E-42B9-4449-BB61-1457557B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5220-E86B-47D5-8415-5C1FD51C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14B9-8CF2-4100-A6ED-84CC8E75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C13A-C7D5-44AA-AA70-ACA893A0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B4F-A6C9-4B43-BAEB-01B61A4F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A7CE-67B1-4DE7-91C0-02D0C405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A322-EC71-44CF-A30C-62F5D682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D5E2-62AC-49B9-8CE1-5C218C55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6F53-3C83-4657-A7A6-CB515A50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199E-22C9-4965-92CB-A6897216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044-E24F-4551-891A-250C85C1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871-8392-47CF-A5A9-9F2D11AE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07E-976F-4AEF-BEF5-A5D372F1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F58-5AAB-4550-9FC4-3B1CE5FF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8BF-8A07-4499-88B0-9D5CEA66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345-0C65-406C-BD6E-0D8C2E96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26C-0E3F-47B2-879E-70833859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8870-1A15-40D6-A582-74B59869B4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95B6-3EF1-4C1B-AB0F-472C035C9F8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5295960" cy="1295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3284640"/>
          <a:ext cx="7561080" cy="576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4149720"/>
          <a:ext cx="7561080" cy="16984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4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 ciz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5" descr="5637_l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značení listiny jako směnka  v nadpisu i v text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odmínečný příkaz zaplatit částku uvedenou ve smě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méno toho, kdo má platit – u směnky vlastní je to výstavce, u cizí směnky směneč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latnost směnky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ísto, kde má být placeno -  není-li místo uvedeno, místem placení je uvedené sídlo nebo bydliště směneční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tum a místo vystavení smě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lastnoruční podpis výstavce pod textem list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ezaplacení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musí být předložena k proplacení majitelem smě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ní povinností dlužníka majitele vyhledáv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 odepření placení musí být sepsán písemný záznam – protestní list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ezaplacení 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testní listina -  zákonný důkaz o nezaplac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ůže vydat soud, notář, obe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ud na směnce doložka „bez protestu“, pak bez protestní listi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sleduje soudní říz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ezaplacení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ečné řízení u soudu rychlejší a jednodušš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čí předložení směnky u soud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ůkazní břemeno na obžalovan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zkoumání listin soud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ečný platební rozkaz (splatnost nebo námitka 3 dny od doručení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Nezaplacení směn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avomocný rozsudek lze vymáhat exekuč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mlčecí lhůta proti přímým dlužníkům 3 roky, pak nárok zanik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ečné úvě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skontní úvěr – odkoupení směnky bankou před datem splatnosti, částka snížená o úrok (diskont) a poplatek bance (eskontní proviz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eeskontní úvěr – odkoupení eskontované směnky před datem splatnosti od banky centrální ban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Směnečné úvě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učitelský (avalský) úvěr – banka se zaručuje směnkou zaplatit za svého klienta v případě nesplácení 3. osob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ombardní úvěr – úvěr u banky zastaven směnk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gociační úvěr- obdoba eskontního úvěru v zahraničním obchod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Opakování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harakteristika směn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vlastní a směnka ciz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on upravující směn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tup při nezaplacení směnk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znam protestní listin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mlčecí lhů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4238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měn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měnka, její význam, použití, dru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měnka, směnka vlastní, směnka cizí, použití, náležitosti, protestní list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KON Č. 191/1950 Sb., ZÁKON SMĚNEČNÝ A ŠEKOV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ovelizace č. 29/2000 S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Směn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on směnečný a šekový č. 191/1950 S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elizace č. 29/2000 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věrový cenný papí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epsaný v přesně stanovené form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odmínečný dlužnický závazek, který dává majiteli směnky  právo požadovat ve stanovenou dobu stanovenou část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užití směnk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středek k získání eskontního nebo obchodního úvě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středek placení a ruč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středek k získání hotovosti před dobou splatn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užití směnk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ástí dokumentárního akreditiv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izí zdroj  financování fir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směn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vlastní – bezpodmínečný příslib dlužníka zaplatit a obsahuje slovo „zaplatím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měnka cizí ( trata) – bezpodmínečně přikazuje jiné osobě, aby byla směnka uhrazena a obsahuje slovo „zaplaťte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měnka vlastn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5676"/>
          <p:cNvPicPr/>
          <p:nvPr/>
        </p:nvPicPr>
        <p:blipFill>
          <a:blip r:embed="rId1"/>
          <a:stretch/>
        </p:blipFill>
        <p:spPr>
          <a:xfrm>
            <a:off x="826920" y="1844640"/>
            <a:ext cx="7417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9:47Z</dcterms:modified>
  <cp:revision>38</cp:revision>
  <dc:subject/>
  <dc:title>Platební nástroje</dc:title>
</cp:coreProperties>
</file>