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FB2E-25DD-4688-8FF5-0C262AC2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E281-8ED1-425D-9820-141B088A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4DCF-F0ED-49C6-9087-05D67218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FFF2-0E2E-4FBA-9D1B-0143B8C9F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BF68-9B16-42EE-8580-DDF55E25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9172-DA6B-49DB-B8E7-30B6EE19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757A-33AF-4F9E-B2DB-8EF43D41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567B-6DF1-4A27-8E97-3E7E7F7B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ED08-E054-4330-A4C8-48293108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7A40-DC31-47A4-96C2-B51C0420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CB0B-64A2-4D25-8524-DB50075B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73CE-41CB-4B89-89EC-F4AAB521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47BD-243B-4387-8F98-CD947A68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3DC4-8CC7-4E47-BDED-F2B42201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FEAF-8877-46C8-9A8A-14047D1A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3CD8-EF91-4458-A456-53B9D5DB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AFDB-840F-4D93-AAB2-E0939EE1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E0DC-7AD4-404A-B505-A77971F6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FA2D-8227-478A-A08D-2404EB5A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8D74-3C2E-4438-98EF-5267AAFB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0DCA-C9E5-4D72-BB06-56CB0822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048D-DF74-4ED9-9741-89F3BC28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3E96-4260-40C5-A2F2-16C8B55F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78B4-B7F8-41D4-B17D-E8300735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6F03-BFA5-4DCB-908C-38421563BA0A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0279-1E20-423F-A0AB-EE91A598DD68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11280" y="3573360"/>
          <a:ext cx="756108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11280" y="4221000"/>
          <a:ext cx="7561080" cy="155448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1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áležitosti platebního příkazu - povinné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ástka v české mě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pis, elektronický podpis nebo jiný kód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áležitosti platebního příkazu - nepovinné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stantní symbol  - vyjadřuje ekonomický charakter plat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tum splatnosti - den, kdy mají být prostředky odepsány z účtu plát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ariabilní symbol - slouží k identifikaci platby pro příjemc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áležitosti platebního příkazu - nepovinné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ariabilní symbol – identifikace plát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íslo faktury, rodné číslo fyzické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soby, IČO právnické osob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pecifický symbol – dodatečný symbol identifikující např. jednotlivé měsíce u plate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áležitosti příkazu k úhradě - nepovinné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stantní symbol –určuje charakter služby, pro platební styk s účty státního rozpočtu povinn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extová zpráv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tum vystavení příkaz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Otázky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aká lhůta je pro převod peněz ve vnitrobankovním styku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aká lhůta je pro převod peněz v mezibankovním styku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aký je rozdíl mezi příkazem k úhradě a příkazem k inkasu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veďte příklady k jednotlivým příkazů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78080" indent="-4780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užitá literatur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57200" y="1897200"/>
          <a:ext cx="8229600" cy="3833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3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zemský platební sty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příkazy, druhy, náležitosti, vyplně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příkazy, jeho druhy, náležitost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Platební příkaz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ezhotovostní platební styk tuzemský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Hladké platby na základě příkaz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nitrobankovní platební styk - převod peněz mezi 2 klienty stejné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ezibankovní platební styk - převod peněz mezi 2 klienty různých bank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latební příkazy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říkaz k úhradě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klient přikazuje bance, aby z jeho účtu poslala peníze na jiný úč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říkaz k inkasu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klient dává souhlas k tomu, aby si z jeho účtu stahoval  peníze příjemce platby, může být nastaven lim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latební příkazy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příkaz jednorázový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– pro neopakující se plat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příkaz trvalý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– pro platbu pravidelně se opakují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latební příkazy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říkaz jednotlivý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pro jednu platb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říkaz hromadný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více plateb  najedno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latební příkazy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říkaz elektronickou formou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(internetbanking, mobilbanking, homebanking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říkaz na papírovém formulář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Náležitosti platebního příkazu - povinné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značení, zda se jedná o příkaz k úhradě nebo k inkas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spojení plátce - číslo účtu a kód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spojení příjemce - číslo účtu a  kód bank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5:12:52Z</dcterms:created>
  <dc:creator>Marek</dc:creator>
  <dc:description/>
  <dc:language>en-US</dc:language>
  <cp:lastModifiedBy>Igor</cp:lastModifiedBy>
  <dcterms:modified xsi:type="dcterms:W3CDTF">2014-09-13T14:28:56Z</dcterms:modified>
  <cp:revision>29</cp:revision>
  <dc:subject/>
  <dc:title>Platební styk tuzemský a zahraniční</dc:title>
</cp:coreProperties>
</file>