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D25F-0AD6-4C25-8E2C-49985815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3FF4-065A-46D5-8E9D-EB6B7CA2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F870-630E-4292-A367-0ED2AFF8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2019-7341-4021-8EB2-A053FA3A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73F8-B470-4165-8C44-28883899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B9F-ACC2-4D87-87BA-2215652F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D989-11D1-49A9-BF93-F115AA3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B2FB-17A4-4475-BFAB-10A1650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9DC9-1D66-4FC8-954D-D1EAB9F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6453-82DB-4CDF-B306-4F697704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A10E-C53E-4B58-AB89-2D774CE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E6FFD-8541-473B-AE5E-E9B6F483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73E3-0788-499A-BEE9-1BC7252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12A-0230-4B3E-B806-F9CF5B02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0AE5-207C-415C-92A2-E576DF8E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C2E-6789-4C71-ABFB-62B0D786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4BC7-03D1-4561-AC7F-124F0E29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6050-CE86-449C-A411-0D87222B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D692-E677-4315-BE74-735D632B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2BF2E-A0E3-4BB2-874C-B62CE3C2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8906B-10DC-46EA-A138-609A8C79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7948-3B66-43F9-9821-D4D6A16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E091-B9B5-48E5-9067-0D5EFB51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B2A8-A889-4EC1-B98D-690FC522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111-1ABC-4A55-9D55-6D5C75E3E9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b32"/>
            </a:gs>
            <a:gs pos="100000">
              <a:srgbClr val="606b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8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148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144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182520">
              <a:spcBef>
                <a:spcPts val="499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14CF-5D76-4202-9151-12834F2F8F2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uj-bankrot.cz/dokumenty_k_oddluzeni" TargetMode="External"/><Relationship Id="rId2" Type="http://schemas.openxmlformats.org/officeDocument/2006/relationships/hyperlink" Target="http://www.penize.cz/exekuce/18830-osobni-bankrot-petileta-cesta-z-dluhu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6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39640" y="4221000"/>
          <a:ext cx="7561440" cy="1663920"/>
        </p:xfrm>
        <a:graphic>
          <a:graphicData uri="http://schemas.openxmlformats.org/drawingml/2006/table">
            <a:tbl>
              <a:tblPr/>
              <a:tblGrid>
                <a:gridCol w="3384720"/>
                <a:gridCol w="4176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roveň požádá, aby její úpadek nebo hrozící úpadek byl řešen formou oddluž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je ochranou před exekutor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ekuce, mohou  soudem nařízeny, ale nemohou být vykoná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řitelé musí přihlásit své pohledávky za dlužníkem v rámci insolvenčního říze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7720" indent="-1659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rozprodáním majetku dlužníka ne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splácením podle věřiteli schváleného splátkového kalendář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působ od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ou je, aby  bylo splaceno alespoň 30 % celkového dluh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zaváže do 5 let uhradit maximální možnou část dlu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 výši jednotlivých splátek rozhodne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usí zůstat životního  minim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Splátkový kalendář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musí pracovat, aby měl dostatečný pravidelný příj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ým soud splátkový kalendář nepovol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případě neplnění stanovených povinností může soud zrušit souhlas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Zrušení souhlasu s osobním bankrotem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oddlužení se musí podílet manžel, manželka, pokud nemají zúžené a vypořádané společné jmění manželů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šichni dlužníci, kterým soud osobní bankrot povolí, vedeni v  insolvenčním rejstří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řejně přístupný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Insolvenční rejstřík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něm  všechny důležité úkony spojené s osobními bankro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 ukončení insolvenčního řízení soud dlužníka ze seznamu vyškrt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dstaty osobního bankro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obní bankrot, podmínky, návrh na oddlužení, způsob oddlužení, splátkový kalendář, zrušení, insolvenční rejstř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osobní bankro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mínky osobního bankro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na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působ oddlužen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901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01480" indent="-457200">
              <a:spcBef>
                <a:spcPts val="499"/>
              </a:spcBef>
              <a:buClr>
                <a:srgbClr val="ff8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Zrušení souhlasu s osobním bankro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Insolvenční rejstří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1"/>
              </a:rPr>
              <a:t>http://www.muj-bankrot.cz/dokumenty_k_oddluz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6187e3"/>
                </a:solidFill>
                <a:uFillTx/>
                <a:latin typeface="Arial"/>
                <a:hlinkClick r:id="rId2"/>
              </a:rPr>
              <a:t>http://www.penize.cz/exekuce/18830-osobni-bankrot-petileta-cesta-z-dluh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516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6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516708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Osobní bankrot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dlužení fyzických oso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ákona č. 182/2006 Sb., o úpadku a způsobech jeho řešení (insolvenční zákon)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 má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íce věřitelů (nejméně dva) 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ité závazky, s jejichž úhradou je více než 30 dnů v prodlení po splat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Podmínky osobního bankrotu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lužník je v úpadku, pokud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schopen tyto závazky plnit (tzv. platební neschopnos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dluhy z podnik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yzická osoba, která není podnikatelem, podá soudu na speciálním formuláři návrh na prohlášení insolv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vrh se podává na krajský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znam majetku a seznam závaz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klady o příjmech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8600"/>
                </a:solidFill>
                <a:latin typeface="Arial"/>
              </a:rPr>
              <a:t>Návrh na oddlužení</a:t>
            </a:r>
            <a:endParaRPr b="0" lang="en-US" sz="4000" spc="-1" strike="noStrike">
              <a:solidFill>
                <a:srgbClr val="ff86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 návrhu  na povolení oddlužení fyzické osoby musí  připoji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ísemný souhlas nezajištěného věřitele (= dostane méně než 30%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280">
              <a:spcBef>
                <a:spcPts val="901"/>
              </a:spcBef>
              <a:buClr>
                <a:srgbClr val="ff8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50:18Z</dcterms:modified>
  <cp:revision>18</cp:revision>
  <dc:subject/>
  <dc:title>Osobní bankrot</dc:title>
</cp:coreProperties>
</file>