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F25-CE73-40CD-9619-1A4FD442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A57-120C-44DF-8D57-0C076D6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D97-9227-4933-9B00-3D373053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DA8-B91D-4DDD-B35C-766000F7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C06-2770-4298-8EF0-7D471640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DA38-D854-4421-840F-93A157EE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D297-B024-4751-BA40-86B87ADA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896E-FDDC-48A3-8E67-DB8C5192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66DA-3FD8-4A0B-97B5-C038514F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68E8-D743-4C31-A042-F2B08262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84FA-3945-47B7-933F-64851898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CB2-A1C5-47D8-B4D6-7CFB9659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4CFB-B18E-4794-9D78-A2C20163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C3AB-5CE1-45DB-94E8-8C9C12B2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19D9-71B4-468B-8DA9-B35A965A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2BF0-24C5-4217-8D07-BA85A08D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408CC-FAE9-4B8C-AA79-0DD58F43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6ED-14E5-4DD2-BE5C-0E5257E8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EDB-4E44-4215-9361-A2E092C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36E-7D66-44D5-8733-3D10B749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208-EDF9-4480-BE15-207E8131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D0D-48CE-4F96-98BE-7852BB67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0DE-F276-4FBA-9ADC-5A65EEC4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C16-3284-4F6D-B7A0-2428937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200B-309F-45A9-83AD-D74EC2CFA844}" type="slidenum">
              <a:rPr b="0" lang="cs-CZ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040-44E0-4ADB-98A0-04616834A8D2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inarbitr.cz/cs/financni-arbitr/pusobnost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89000" y="304920"/>
            <a:ext cx="5699160" cy="1431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476000" y="1989000"/>
            <a:ext cx="6705720" cy="13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9640" y="4149720"/>
          <a:ext cx="756144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do výše částky  50 000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Důvod vzniku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soudního sporu vysoké, často převyšují spornou čá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dlouhavost soudního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armonizace práv ČR v rámci Evropské uni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ě poštou, e-mailem opatřeným zaručeným podpisem nebo prostřednictvím datové schránky, osobně, resp. ústně do protokolu v sídle Kanceláře finančního arbitr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musí obsahovat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ční údaje navrhovatele a finanční institu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 o tom, že instituce byla neúspěšně vyzvána k nápravě (vyřízení, zamítnutí reklam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plné a srozumitelné vylíčení rozhodných skutečnos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kazní prostředky nebo označení důkazů (smlouvy apod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čeho se navrhovatel domáh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hlášení, že nepodal v téže věci žalobu k soudu nebo k rozhodčímu soudu nebo rozhodci ,že neuzavřel s institucí dohodu o mimosoudním vyrovnání a je si vědom závaznosti nále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Návrh klienta na zahájení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nou moc, je-li navrhovatel zastoupen na základě plné moci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a podpis navrho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radně pro klienty, návrh podává kli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latn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ná proti finanční instituci nikoliv proti klient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ne do 30 dnů ode dne zahájení řízení, ve zvlášť složitých případech  do 60 dnů, nelze-li rozhodnout ani v této lhůtě, může ji  přiměřeně prodlouž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rozhoduje nález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ti nálezu lze uplatnit opravné prostředky – námit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ez je soudně vykonatelný a má účinky srovnatelné se soudním rozhodnut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95640" y="0"/>
            <a:ext cx="5187960" cy="14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539640" y="1484280"/>
          <a:ext cx="8229600" cy="51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instituce finančního arbitra pro klienty finančních instituc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ční arbitr, spory, působnost, návrh klienta, průběh říze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Průběh řízení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 případě nesouhlasu s konečným rozhodnutím finančního arbitra je možné podat k soudu proti němu žalobu o přezkum rozhodnutí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nenáleží finančnímu arbitrov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věci již rozhodl soud nebo bylo zahájeno soudní říz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Spory mimo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př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 již řeší nebo řešil finanční arbit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42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ylo již rozhodnuto v rozhodčím řízení nebo bylo zaháje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Úkoly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4400" y="2334960"/>
            <a:ext cx="6705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stituce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ůvod vznik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ůsobnost finančního arbitr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vrh klient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ůběh říze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75480" indent="-375480">
              <a:spcBef>
                <a:spcPts val="9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imo působnos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oslani-a-ukoly-fa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http://www.finarbitr.cz/cs/financni-arbitr/pusobnost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www.finarbitr.cz/cs/financni-arbitr/pruvodce-podanim-zadosti.html#fo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515680"/>
            <a:ext cx="7315200" cy="17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320" y="4768560"/>
            <a:ext cx="754380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imosoudní orgán k řešení spo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s právem rozhodovat sp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ídlo Kanceláře finančního arbitra v Pra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ho arbitra jmenuje vláda na návrh ministra financí na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arbitr je odpovědný za svou činnost vlá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 provádějícími převody peněžních prostředků (zejména banky) a jejich klienty – např. o správnost zaúčtované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stitucemi, které vydávají a zpětně vyměňují elektronické peníze (platební karty) a jejich držite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 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věřiteli nebo zprostředkovateli a spotřebiteli při nabízení, poskytování nebo zprostředkování spotřebitelského úvěru (např.o správnost výše úvěru nebo účtovaných poplatk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aeaea"/>
                </a:solidFill>
                <a:latin typeface="Tahoma"/>
              </a:rPr>
              <a:t>Finanční arbitr- působnos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ry mezi investičními fondy, investičními společnostmi a spotřebiteli z fondů kolektivního investování, které shromažďují peněžní prostředky od veřej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např. o správnost poplatků)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31Z</dcterms:modified>
  <cp:revision>22</cp:revision>
  <dc:subject/>
  <dc:title>Finanční arbitráž</dc:title>
</cp:coreProperties>
</file>