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A47-FE48-4A39-A5C3-65382B56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09A8-AA0D-4FC9-A47E-D66FF29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01A-76E0-4944-8058-ECDE045D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3459-4F0E-488E-95A8-D5C748CD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E905-257A-4E61-9740-D4DE1C9F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043B-D150-4B98-9E55-87DA5789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9C05-A00B-408F-B8EF-962316B7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CDF0-056C-47A7-9C43-F5C56BD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305B-4522-49AC-8718-71F1EA02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1469-D970-4CF8-B644-893F2276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F72-6DFD-43CA-979E-659C01E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AAA-2285-43FA-BCD6-6D364B0B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1BD2-CCF4-480C-8937-19CB0A8C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72FE-F875-4CC4-B565-AF2EACD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1257-0D9C-4352-92F9-12E61C6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BC5-0423-4A31-96D8-99A700F7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4CA-8F49-4D6E-BE4A-4034C97A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CAF4-0A24-44D0-BDE2-394398358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D3B8-5D46-44B9-B76D-D5A038C4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B6F56-40A3-4D4D-AE99-CB335702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CCF42-2917-4414-9E24-81213B6E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2D52F-F5E5-4171-BA78-92F0F72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841-AFAB-4E66-83D7-D1B219C2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F91D-445F-4C16-9D1A-5C0FFD41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4BBE-DF1E-42AD-807B-6C08BCB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39E8-0133-4E1E-8524-023175BF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56CBE-7C0D-4728-A4A7-411B5525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CD2A-4E09-4D19-9D19-2DD2D57B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83267-BCAA-4FFC-BBA6-B6281142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20D24-B496-404C-9CD8-575C106B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B6B-A741-4256-937B-4B99F0AF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BA9-216F-42B2-A9F7-63CCA020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D59-FF03-4FED-86D6-AC78E2B3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326-D42E-4D27-90D1-D4C54C5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EFB-80B7-4F37-B919-933303B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B62-9D78-499C-9F77-D43ED53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621D-BD00-45CB-8AE4-1319CC11A4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11A-EFCB-4ED3-B958-879333A9DA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F98A-C35C-4243-AACF-5559AB219D4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1835280" y="47628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2556000" y="2637000"/>
                <a:ext cx="4176720" cy="24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čet období, p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erá se úro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…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u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908000" y="1700280"/>
                <a:ext cx="54723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1" name="Rectangle 7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1908000" y="4005360"/>
                <a:ext cx="547236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4"/>
              <p:cNvSpPr txBox="1"/>
              <p:nvPr/>
            </p:nvSpPr>
            <p:spPr>
              <a:xfrm>
                <a:off x="2987640" y="1700280"/>
                <a:ext cx="3384720" cy="19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6"/>
              <p:cNvSpPr txBox="1"/>
              <p:nvPr/>
            </p:nvSpPr>
            <p:spPr>
              <a:xfrm>
                <a:off x="2340000" y="3860640"/>
                <a:ext cx="4897440" cy="19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3059280" y="1700280"/>
                <a:ext cx="324144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t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Rectangle 7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8"/>
              <p:cNvSpPr txBox="1"/>
              <p:nvPr/>
            </p:nvSpPr>
            <p:spPr>
              <a:xfrm>
                <a:off x="2195640" y="3933720"/>
                <a:ext cx="5113080" cy="200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lože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4"/>
              <p:cNvSpPr txBox="1"/>
              <p:nvPr/>
            </p:nvSpPr>
            <p:spPr>
              <a:xfrm>
                <a:off x="1692360" y="2421000"/>
                <a:ext cx="540072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j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n……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období (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l ……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počet úrokovacích období 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(neukončený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Kombinovan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4"/>
              <p:cNvSpPr txBox="1"/>
              <p:nvPr/>
            </p:nvSpPr>
            <p:spPr>
              <a:xfrm>
                <a:off x="684360" y="3068640"/>
                <a:ext cx="75610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611280" y="1557360"/>
          <a:ext cx="8229600" cy="4527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ednoduché a složené úrokov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ákladní pojmy a vzorce pro výpočet úrokování. Vzorové příkla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Úrokování jednoduché, složené, dekurzivní, anticipativní, úrok, kapitál, doba splatnosti, úroková míra, anuita, bankovní měsíc, r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si vypůjčil z banky  65 000,- Kč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10 % úrok p. a. dek., jednoduché úrokování, dekurzivní. Kolik musí vráti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70 254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počítej původní jistinu a úrok, jestliže půjčka i s úroky byla splacena po 327 dnech. Úrok 12 % p. a. dek., jednoduch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225 0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 525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ik si můžete půjčit peněz, pokud víte, že za 3/4 roku budete mít na úhradu dluhu  200 000,- Kč, při úrokové míře 8 % p.a. a složeném úrokování dekurzivní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8 78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v bance ulož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0 000,- Kč, vzrostl-li při jednoduchém úrokování dekurzivním při sazbě 0,05 na 36 5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5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rči úrokovou sazbu, byl-li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 000,- Kč úročen čtvrt roku a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6 075,- Kč. Úrokování jednoduch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 = 0,0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5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 firmy vystavil 15. 4. 2009 vlastní směnku za dodávku zboží v hodnotě 100 000,- Kč se splatností za 6 měsíců. Zjistěte směnečnou sumu, jestliže úrok je 9 % p.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4 500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 500 000,- Kč uložený do banky 3. 2. 2006, který si klient vybere 6. 8. 2009 při úrokové míře 8 % p. a.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jednoduch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složené úročení de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) 640 33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) 654 986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se zúročí úvěr 1 milion korun, když byl úrokován složeným způsobem při 0,05 p. a. dek., po dobu 2 let 6 měsíců 27 dnů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1 333 868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dlouho byl uložen vklad 25 000,- Kč, vzrostl-li na 29 246,50 Kč při úrokové sazbě 0, 04 p. a. dek.? Složené úrokování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4 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lik % byl úročen kapitá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8 500,- Kč, pokud za 3 roky vzrost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20 000,- Kč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ní složené, dekurziv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i = 0,026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 = 2, 63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ff"/>
                </a:solidFill>
                <a:latin typeface="Arial"/>
              </a:rPr>
              <a:t>Jednoduché a složené úrokování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Vzorové příkla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vzroste kapitál 240 000,- Kč s úrokovou mírou 8,5% p.a. uložený na období 22. 2. 2006 až  17.6. 2009 při kombinaci jednoduchého a složeného úroče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  314 873,-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MÉKALOVÁ, Darina. 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Finanční a pojistná matematika pro střední školy ekonomického zaměření,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strava:  Montanex,s.r.o. , 1996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85780-39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kurzivní - po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nticipativní – předlhůtn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ok – 36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měsíc – 30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o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q.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tvrtlet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. s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síční 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roková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ečítací metoda (německá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výpočet počtu dnů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. Vypočítej počet dnů v obdob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5. 7. 2007 – 4. 9. 200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e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4–15) + (9–7)*30 + (2009–2007)*360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= - 11 + 60 + 720 = 769 dn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 ……………….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 ………………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stupní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t……………….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úročený kapitá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, po kterou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kapitál úroč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…………………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roková mí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0"/>
              <p:cNvSpPr txBox="1"/>
              <p:nvPr/>
            </p:nvSpPr>
            <p:spPr>
              <a:xfrm>
                <a:off x="2195640" y="2205000"/>
                <a:ext cx="4897440" cy="14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ú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Rectangle 23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2"/>
              <p:cNvSpPr txBox="1"/>
              <p:nvPr/>
            </p:nvSpPr>
            <p:spPr>
              <a:xfrm>
                <a:off x="1116000" y="4149720"/>
                <a:ext cx="68407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Jednoduché úrokování  - vzorce pro výpoč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3059280" y="1628640"/>
                <a:ext cx="381780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7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6"/>
              <p:cNvSpPr txBox="1"/>
              <p:nvPr/>
            </p:nvSpPr>
            <p:spPr>
              <a:xfrm>
                <a:off x="3132000" y="3789360"/>
                <a:ext cx="3745080" cy="21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3:34:46Z</dcterms:created>
  <dc:creator>Marek</dc:creator>
  <dc:description/>
  <dc:language>en-US</dc:language>
  <cp:lastModifiedBy>Igor</cp:lastModifiedBy>
  <dcterms:modified xsi:type="dcterms:W3CDTF">2014-09-13T14:50:43Z</dcterms:modified>
  <cp:revision>25</cp:revision>
  <dc:subject/>
  <dc:title>Jednoduché a složené úrokování</dc:title>
</cp:coreProperties>
</file>