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37D-94C4-40F0-9EA1-CCF7DFDC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EDE-9722-4D64-9B05-A3B37EE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D9D-19CB-4E35-A445-E3A076A2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234-EB35-41E0-8582-CD9624CF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4FBE-E7F3-4EA1-8CF3-D8301553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ECAD-FBF1-4A97-A4C5-B0DBB2ED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0B70-5579-46EB-B959-53CF7FAA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28CB-E457-4FB2-BCDC-F4C0422B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BE4D-AD46-4F61-B419-0AF6B68B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F42E-B038-4CA8-9101-80A19B75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92A2-46AF-4269-92E8-D713C4C1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BF2-2E71-40FC-89D2-3FD1ECAA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3B77-E179-407E-A372-15200BA5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C180-6C25-4BA2-8A87-D9C89E7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4146-273F-4716-A5C4-757BE4DA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0371-F6A6-49BB-A6A5-D0CAAC7D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7CF7-84C7-47DE-B40D-48A4C48C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084-F4E4-43FF-A4DD-09E8586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BD6-43D3-46D0-A9C4-AB9873F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73B-52C2-4EF8-BC7B-6671193D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5EC-5C69-44CC-A315-F8A13B8E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36C-0596-4557-925C-B641B9A5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19A-B811-4D90-A74F-47FC0E09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71D8-02B9-474B-9CBD-0B1A114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2025C-18AD-4CEA-8246-062BBA5CD05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2CAF-AA02-459B-AD71-B8179C80168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5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9048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 na dobu určitou s  předem stanovenou úrokovou sazb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je vyšš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ankce za předčasný výb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termínovaný vkla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na 6 let s výhodným úrokem a státním příspěv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 spoření není omez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poskytnut výhodný úvěr k potřebám bydl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spořící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ody běžného účtu a termínovaného vklad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 úročen vyšší úrokovou sazb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(některé s výpovědní lhů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ývá doplňkem běžného účtu (přebytečná hotovost se převed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zákona pojištěny neanonymní vklady u bank a družstevních záložen, u Fondu pojištění vkladů do výše ekvivalentu 100 tisíc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u poboček zahraničních bank na našem území pojištěny za stejných podmínek v mateřské ze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ojištění vklad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anonymní v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jméno, adresu a datum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rození vkladatele u fyz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 na obchodní firmu nebo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zev, sídlo a IČO u právnických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patření proti praní špinavých peněz</a:t>
            </a: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identifikaci klienta se zpracovávají identifikační údaje fyzických osob i osob jednajících za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dentifikace se provádí zpravidla při osobní přítomnosti klienta a na základě platného průkazu totož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utrální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atří do rozvah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y, při nichž banka nevystupuje ani ve věřitelském ani v dlužnickém postav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šechny poplatky a provize, které neovlivní rozva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platky ze směnárenských činností a devizových operac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jímání a vydávání peněz, výměna peněz poškozených, prodej pamětních mincí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kazy k inkasu a k úhra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eutrální obchody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 (úschova a správa cennosti za  popla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užby poradens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u 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ěž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řící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ní kníž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 vklad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patření proti praní špina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utrální obchody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4476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sivní a neutrál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vkladových produktů bank, neutrální obchody ba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ěžný účet, vkladní knížka, termínovaný vklad, spořící účet, pojištění vkladů, neutrál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ropagační materiály ba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asivní a neutrál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asivní bankovní obchod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y, v rozvaze na straně pasiv, banka v postavení dlužníka, klient v postavení věři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plácí úroky (náklad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termínovaný účet, běžné vklady a výb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 hotovostní a bezhotovostní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vazují další produkty – platební karta, 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dka odlišná pro občany a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ízké úroč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pomocí příkazů k úhradě nebo k inkasu (papírová nebo elektronická form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tovostní platební styk na přepážce nebo pomocí bankoma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ůže být veden i v ciz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běžný úče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 doklady totožnosti u občanů, doklady o existenci firmy- podnikatel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čáteční vkl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ísemná smlouva (úročení, poplatk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ový vz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pisy papírové nebo elektron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starší forma spoření u nás, dříve anonymní, dnes na jmé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ložení, vedení, vklady, výběry zda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duchá obsluh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od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ehled o zůstatku na vkladní kníž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vkladů – vkladní kníž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 výpovědní lhůtou – vyšší úrok, ale je třeba při porušení termínu sank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 výpovědní lhůty – výběr kdy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herní – není úročena, slos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ětská vkladní knížka – s výpovědní lhůtou, zvýhodněné úroky, do 18. roku vě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9:51Z</dcterms:modified>
  <cp:revision>25</cp:revision>
  <dc:subject/>
  <dc:title>Bankovní obchody</dc:title>
</cp:coreProperties>
</file>