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D83-EAD2-4FD0-B452-69CEB705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32D-D829-49E7-AB88-76E77975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8EC-B49D-49BD-9359-C173EE9D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C6A6-B2A3-4716-A626-67DD389C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1AB9-B3E2-46FA-8D6E-F728F8EB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D6C1-1E9F-4984-BEE9-06BBEB34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44ED-D6F9-4FC1-B5E5-F034E022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4B39-55D3-46BD-AF73-315D9D68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ECAB-2A69-4EE8-9A95-8267144F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0031-4251-495C-A310-03C01FCA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66DE-2583-4C49-AEF3-57CAFD7E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7CB-CC4C-45E5-8C37-61F449A5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6CCC-B6B0-4160-9108-D6EF7C2F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5900-F7F4-4D6E-BDBC-E21BC712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4113-1191-4CD6-A04C-7E65860A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88A8-A0F4-4893-8FE7-9F7D35A3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98DC-1B0B-40FB-85A4-737CF843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BBC-8A57-4C92-A8DB-BB690D0E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481-E3CF-443C-AFE1-F9AC9EA4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D25-5111-47CA-876E-AACC0B42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0D3-6651-43E3-9C93-2F634EE7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335F-04A6-46B9-889D-F4A554D8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CF4-A756-4BA9-940E-68709DA3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8DA-3CFA-4B32-81D8-AC58F003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B7F5-3502-4C56-8E0A-EE8E9773D6A9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471B-19F5-407D-9F65-C1032191E72E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900000" y="1916280"/>
            <a:ext cx="73152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6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6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elikosti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lé – do 5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řední – do 50 poboč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é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– v zahraničí pobočky, v mateřské zemi centrá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uzemské – centrála i pobočky v tuzems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egionál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funkce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pozitní (vklad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á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latebního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kládání a vede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platební styk domácí i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kar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0840" y="164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měnárenská činno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evizové opera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prostředkování obchodů s cennými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pečnostní schrá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radenské služb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innosti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dokumentárního inkas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skytování bankovních  záru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avební spo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zijní připojiště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a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jištění</a:t>
            </a:r>
            <a:br>
              <a:rPr sz="3600"/>
            </a:b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likvidi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schopnost vrátit  pení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hotovostní peníze a vklady na úč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vklady u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cenné papí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úvěry od jiných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ziskovosti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výnosy vyšší než náklad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nosy – úroky z úvěrů, poplatky, provi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lady – úroky z vkladů, mzdové náklady, náklady na energie, vybavení, nájem, odpisy, provoz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sady bankovních operací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itřn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předčíslování dokladů, klíčový režim, dvojí podpis, kamery, bezpečnostní služ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66640" indent="-56664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ásada bankovní bezpečnosti vnější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audit, kontrola ČNB, kontrola finančního úřadu, zpráva o hospodaře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921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věrové - riziko nesplacení úvěrů ze strany kli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rokové  - riziko vyplývající ze změn úrokových sazeb na finančních trzí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é  - riziko ztráty ze změn kurzů mě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11280" y="1557360"/>
          <a:ext cx="8229600" cy="4956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í obcho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y a jejich postavení v ekonom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banky v ekonomice státu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působ fungování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a, základní funkce, bankovní soustavy, členění, zásady, rizika, hodnocení, marketing, marketingový mi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ciové riziko - nejistota vývoje cen akci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likvidity - riziko neschopnosti dostát aktuálním splatným závazků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 způsobených lidským faktor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izika bankovního podniká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selhání informačních systém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í rizik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špatného obchodního záměru, chybného marketingového rozhodnu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ztráty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tržní -  ze změny cen na trh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brého jmé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výše poplat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dostupn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vality personá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lasifikace pohledávek ( 5 skupin  pohledávek podle splácení – standardní, sledované, nestandardní, pochybné, ztrátové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úvěrové angažovanosti – limity poskytování úvěrů jednotlivcům, skupinám a ostatním banká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Hodnocení 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kapitálové přiměřenosti – poměr mezi kapitálem a rizikovým aktivů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banky (solventnosti) 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chopnost, stanovena ČNB, povinné minimální rezerv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 v bankovnictv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arketingová strategie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jdůležitější je přání klien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bízený produkt musí vycházet ze znalostí o trhu a kliente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by měla předvídat měnící se požadavky na trh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arketingový mix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ora prodej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y produk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istribuční míst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liv politického, sociálního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konomického prostředí a konkure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bank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údaje o bankách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i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tický kodex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sady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a bankovního podnikán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98960" indent="-4989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8.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odnocení ban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9.  Marketing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0. Marketingový mix v bankov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1. Bankovní soustav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Banky a jejich postavení v ekonomice</a:t>
            </a:r>
            <a:r>
              <a:rPr b="0" lang="cs-CZ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inanční instituce, která přijímá vklady, poskytuje úvěry a zprostředkovává platební sty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ávnická osob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usí vlastnit licenci k provozování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soustav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dnoúrovňová – jedna nebo několik málo bank, z nichž jedna plní i úlohu banky centrál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vouúrovňová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stupeň: centrální ba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stupeň: obchodní (komerční) bank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bank podle Zákona o bankách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innost ovlivňována ČNB                           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 udělení licence rozhoduje ČNB v dohodě s MFČ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kladní údaje o obchodních bankác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je akciovou společnost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K banky musí být minimálně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00 mil.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vady v činnosti banky důvodem pro udělení pokuty, nucenou správu, odebrání licen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Etický kodex ČB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sah kodexu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ecné zásady chová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 pracovníka k bance, v níž j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městná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y a jejich zaměstnanc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e klien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tahy bank navzáj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Členění ban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produktů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niverzální – všechny bankovní produk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alizované - prodej pouze určitých bankovních produktů (např. stavební spořitelny, hypoteční banky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10:29Z</dcterms:created>
  <dc:creator>kabek</dc:creator>
  <dc:description/>
  <dc:language>en-US</dc:language>
  <cp:lastModifiedBy>Igor</cp:lastModifiedBy>
  <dcterms:modified xsi:type="dcterms:W3CDTF">2014-09-13T14:48:19Z</dcterms:modified>
  <cp:revision>25</cp:revision>
  <dc:subject/>
  <dc:title>Banky a jejich postavení v ekonomice</dc:title>
</cp:coreProperties>
</file>