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E577-9A9F-4C36-A940-061B1974953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040B-5E82-4294-968D-42E1DF33C630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10B-6832-42B9-BB09-4D1CB1CE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33D-F95A-4D66-BD7A-549767C2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198-CEF0-4115-818C-04E5927B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AC1-7071-4E44-8F7D-940F4BDC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1B22-ED97-4683-B5DC-43C213FF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2D9D-4278-4E72-B923-B63F5161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D8F4-B4C0-411D-9878-42DCD531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C0C7-3416-4B83-858A-532F62CE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0CEF-127A-4944-A638-F65768C5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0B1B-D2F0-46AC-B36C-00353855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F448-49A5-4F3A-A868-9AE77004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13D-CC1E-4714-9DF0-CA1A8876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EAA3-0629-43C0-A679-FF13D6A0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2B61-E19B-431D-A2F2-8936CEE2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817C-15F4-498A-98B3-DBF915E8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0CAE-3C14-4D8D-8E23-A51EBB37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934A-0BB0-4E48-8C7F-ADE25D55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3EB-3160-4A7B-B899-8D047702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C2A-4FBA-4072-A5B6-F9262DD4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3B15-6E82-4F3B-9D9E-3847D41B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326-A86E-4139-9E1E-9BADACCE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E91B-406C-4E1F-AD1F-C466D440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80C-D677-45FB-8DE8-FAC8289A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39B-7C57-4D77-B0AA-6A98C113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3B8F-A6F8-4072-952C-70DB3556C4E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A304-E48B-40A4-9904-CDD736A26257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centralniregistrdluzniku.cz/" TargetMode="External"/><Relationship Id="rId2" Type="http://schemas.openxmlformats.org/officeDocument/2006/relationships/hyperlink" Target="https://www.solus.cz/cs/hlavni-strana/historie-sdruzeni" TargetMode="External"/><Relationship Id="rId3" Type="http://schemas.openxmlformats.org/officeDocument/2006/relationships/hyperlink" Target="http://www.podnikatel.cz/clanky/uver-neni-pujcka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900000" y="198900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působu čerpá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jednorázové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čerpání najedn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 úvěrové l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(postupné čerpání až do stanoveného limi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átkodobý úvěr k běžnému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volené přečerpání účtu do mínus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anoven úvěrový rám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hodnutá doba vyrovnání debe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 se opakuje (revolvingový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soká úroková saz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 čerpá úvěr  automaticky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 svého účtu platí či vybírá, 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dyž na něm nemá dostate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lastních peněz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lácen je příchozím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bam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tšinou musí být splacen 1x roč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mínky pro získání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adatel má u banky veden BÚ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něj chodí pravidelně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statečně vysoký příj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ěkdy i průměrný zůstatek na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yzickým osobám  na řešení jejich nepodnikatelských  potř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elový (konkrétní účel, nutná faktur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účelový (na cokoliv, vyšší úroče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ová právní úprava (201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 podnikatelům fyzickým i právnickým osobám  na financování jejich podnikatelských potř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vozní úvěry (na zásob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tokorentní úvěry ( dočasné překlenutí finanční potřeb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úvěry ( na pořízení   dlouhodobého majetk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xportní (financování dodatečných nákladů při vývoz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hypoteční úvěr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jištěný nemovitostí, nejdelší úvěr s nejnižším úrok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čelové hypoték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ázané na pořízení potřeb bydlení (nižší úrok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účelové tzv. americké hypoték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cokol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reditní kart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 úvěrovému účtu, bezúročné období 40 -55 dnů pro splacení krátkodobého úvěru , lze splácet i po částech – vysoké úroky, výběr z bankomatu zúročen vž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eskontní  úvěr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odkupuje  směnku před její splatností a poskytuje majiteli směnky úvěr snížený o úrok (diskont), eskontní provizi a související popla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ktivní 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úvěrů, možnost získání úvěrů, jejich zajišt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ontokorentní, spotřebitelský, podnikatelský, hypoteční úvěr, úvěrový proces, zajištění úvěrů, registry, půjč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Druhy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yndikovaný úvěr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aný několika bankami společ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lombardní  úvěr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rytý movitou zástavou (cenné papí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y městům a obc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anační úvěr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obnovu firm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ový pro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odní schůzka klienta a pracovník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ádost o úvěr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y totožnost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bo o existenci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rmy, potvrzen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příjmu, daňov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znání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lady o majetku, závazcích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atelský záměr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ový pro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ová analýz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věření pravdivosti údajů kli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hlédnutí do registru úvěrů 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uzavření úvěrové smlou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ntrola dodržování podmínek úvěrové smlou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registrech pozitivní i negativní inform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zitivní o poskytnutí úvě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gativní o nesplác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trální registr úvěr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de ČN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úvěrech podnikatelů u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vede údaj o úvěrech občan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sdílí údaje s jinými regist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egistr sdružení SOLUS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d nebankovních finančních institucí, bank, telekomunikačních operátorů, distributorů energií a dalších společ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občanech i podnikatelích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zech Banking Credit Bureau, a.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úvěrech klientů ban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občanů i podnikatel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egist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trální registr dlužníků České republiky (CERD ČR s.r.o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oukromý subjek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 z členských registrů státní správy, bankovních registrů, databází soukromých subjektů atd.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daje o občanech i podnikatelích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jištění úvěru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učitel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řetí osoba, která se zavazuje, že v případě nesplácení zaplatí za dlužní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tava věci nemovité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ocenění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nalcem,dobrá prodejnost, pojištění, zápis v katastru nemovit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tava věci movit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ajištění úvěr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ruka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mě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inkulace vkladu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rmínovaný vklad slouží jako záru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se pohledávek –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postoupení pohledávek b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Aktivní bankovní obchod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obchodního zákoní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ěřitel se ve smlouvě zaváže, že na požádání dlužníka poskytne ve prospěch dlužníka peníze do určit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ás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věr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se ve smlouvě o úvěru zaváže, že peněžní prostředky vrá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ždy úroč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n finan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ůjč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občanského zákoní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základě smlouvy o půjčce přenechá věřitel dlužníkovi věci, nejčastěji pení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věr x půjčk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ůjč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lužník se ve smlouvě zavazuje, že po uplynutí dohodnuté doby vrátí zapůjčené věci stejného dru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musí být úroče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musí být jen finanční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loučí se několik půjček a úvěrů jednoho dlužníka do jediného úvě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bereme banku, která za nás vyrovná všechny závazky a potom budeme splácet místo několika půjček jenom jedn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solidační úvěry jsou se splatností 1 – 10 let na od 20 000,- Kč výše, horní hranice  může přesáhnout 1 milion Kč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m je konsolidační úvěr vyšší, tím větší zajištění banka požaduje, u vysokých částek obvykle požadavek na zástavní právo k nemovitosti (pak jde o americkou hypoték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á sazba stanovována individuálně podle toho, jaké riziko dlužník pro banku představu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ýhoda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še splátky z nového úvěru nižší než součet všech předchozích splátek, nižší i poplat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olidovat jde závazky ze spotřebitelských úvěrů, hotovostních půjček, kontokorentních úvěrů, úvěrů z kreditních karet či prodeje na splátky, u některých bank i z leasing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Konsolidace úvěr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výhoda -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nižší splátku, avšak na delší dobu, proto se více přeplat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konsolidaci je třeba žádat ve chvíli, kdy ještě není  prodlení se splácením a při  dostatečném příjm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sloučení půjček ve větší částce, banka požaduje zajišt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lenění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tokorent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otřebi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nikatelský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ypoteční úvě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ý pro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jištění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lší typy úvěr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egistry dlužní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díl mezi půjčkou a úvěr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743040" indent="-74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Aktivní obchody ban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 rozvaze na straně ak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 postavení věřitele, klient v postavení dlužní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přijímá úroky (výnos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Obdélník 3"/>
          <p:cNvSpPr/>
          <p:nvPr/>
        </p:nvSpPr>
        <p:spPr>
          <a:xfrm>
            <a:off x="539640" y="2133720"/>
            <a:ext cx="806472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18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centralniregistrdluzniku.cz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s://www.solus.cz/cs/hlavni-strana/historie-sdruze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podnikatel.cz/clanky/uver-neni-pujcka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účelov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účelov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jsou poskytnuty na konkrétní předem stanovený účel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ezúčelové (neúčelové)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záleží na klientovi, na co poskytnutý úvěr použije, vyšší úroková saz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typu výplat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hotovostní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oskytnuté finanční prostředky vyplaceny v hoto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ezhotovostní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eníze jsou zaslány na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ajiště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ajištěn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banka vyžaduje jištění věcí movitou či nemovit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zajištěné úvěr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yšší úročení (neplacení se vymáhá soudní cestou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doby splatn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rátkodobé úvěry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do 1 ro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třednědobé úvěry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 až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louhodobé úvěry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d 5 l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úvěrů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odle způsobu sjednání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ankov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bankov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6:57:10Z</dcterms:created>
  <dc:creator>Marek</dc:creator>
  <dc:description/>
  <dc:language>en-US</dc:language>
  <cp:lastModifiedBy>Igor</cp:lastModifiedBy>
  <dcterms:modified xsi:type="dcterms:W3CDTF">2014-09-13T14:48:49Z</dcterms:modified>
  <cp:revision>35</cp:revision>
  <dc:subject/>
  <dc:title>Bankovní obchody</dc:title>
</cp:coreProperties>
</file>