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4D1-B5CB-42C5-98DC-B8D86639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5DB-67EE-41F7-B6AE-6B054169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86A-C226-44ED-9619-EA231E17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0F0F-C0B1-4181-8891-234ACEEF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DAD3-CA19-4126-A8D4-83107A98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4B13-53DE-4D14-9EF1-E2AC0E8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03F-7094-4EE2-B677-A08E8A2F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DACC-0A31-4BF1-93B4-7E647892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BA4-D0EB-4712-82F6-ECE49131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5EA5-CD5D-4384-B7FB-1D151327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7471-292A-4C3E-8B9A-8A15E5AA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F45-F0FF-4756-819F-1FF9CC59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CDE3-4CA8-4F42-8B28-B3ED8DB3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2201-D1FD-4A48-B678-5859B5DA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EDD8-850C-4859-8224-5F8C6C2A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D8CE-02C5-41CB-85B1-0B659FB8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1B9D-7B59-4117-80B3-C660D641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EC7-FDD2-432C-BC06-A1FAE17A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29C-B2BC-4E09-90A8-FB2525FD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C880-FBE5-4EEE-A8E9-A74A141D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10A-5884-41A8-A47B-E0329397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1DA-D13E-4518-A533-66682135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9FD-CFB7-42DA-AE72-58B44D64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C7A-714C-4E9B-A434-4D0A2D4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F54E-6F4E-4A69-9A6B-22967A2C9B6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13FA-948D-47DA-8D8D-4D72FCF6EDD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672000"/>
                <a:gridCol w="3889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lužníka: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átní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unální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dávají obce a kr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obchodních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oukromé CP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emise CP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romadně vydávané - 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dividuálně vydávané -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odle podob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nihované – zápis v Centrální evidenci cenných papírů (dříve Středisko cenných papír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né – fyzická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kladniční poukáz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dluhopis, získání peněz pro různé úče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á pokladniční poukáz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epozitní certifiká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obchodovatelný úročený cenný papír, který vydávají převážně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zní na maj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ho úkolem je aktivizovat dočasně volné peněžní prostřed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tím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razuje akcie do doby splacení jejich jmenovit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ominální) hodno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sou s nimi spojena práva, která vyplývají z akci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ato práv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zisk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vid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ílet se na řízení společn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ávo na podíl z likvidačního zůsta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je cenný papír, který dává akcionáři tyto povin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platit za akci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antiém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íly na zisku představenstva a dozorčí r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Akci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 má nominální a tržní hodno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ominální hodnota (jmenovitá)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hodnota akcie na ní napsaná a za tuto částku se  emit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ržní hodnot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(kurzová)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výše závisí na vztahu nabídky a poptávky po akciích na trhu s 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ob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listinné pod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itulní list: základní úda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pónový arch: pro výplatu divide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alón: pro vydání nového arch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 zaknihované podobě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zápis u Centrální evidence cenných papí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é papí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cenných papír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nný papír, pokladniční poukázka, depozitní certifikát, zatímní list, akcie, dluhopis, podílový list, finanční derivá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řevod této akcie na jinou osobu probíhá tzv. rubopis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je převoditelná předáním jiné osob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kladatels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dány při založení podniku, jsou zároveň kmenové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priorit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 přednostní právo na dividendu, majitelé nemají právo hlasovat na valné hrom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kmenové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akci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kcie zaměstnane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rodávány vlastním zaměstnancům za výhodnějších podmínek, motivační charak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při odchodu povinnost nabídnout k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kupu fir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tvoří max.  5 % základního kapit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luhopis (obligace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dlouhodobý úvěrový C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závazek emitenta vůči věřitel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mitovaný s cílem získat peněžní prostředky na delší do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atnost je pevně stanoven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dluhopis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aneck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ové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dluhopis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ypoteční zástavní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CP, forma dluhopis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vají hypoteční banky k získání prostředků na poskytování hypotečních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y zástavou nemovit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rizik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dílový lis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jetkový cenný papí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jeno právo majitele podílet se na výnosu fondu, který list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o na odpovídající část majetku podílového fondu (otevřeného nebo uzavřenéh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tav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unál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alší typ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P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Cenné papí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inanční deriv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vozené cenné papíry, právo koupit nebo prodat jisté aktivu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warra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a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cenné papír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finančního trh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majetkových prá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y cenných papírů podle převoditelnosti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 Druhy cenných papírů pod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chodu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 Pokladniční poukáz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 Depozitní certifiká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 Zatímní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hopis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Podílový li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2. Další typy cenných papírů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stina, která zachycuje právní vztah mezi 2 nebo více subje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žitosti určuje Zákon o cenných papír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Charakteristika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kapitálu, se kterým se obchoduje na finančním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jadřuje dlužní závazek nebo majetkový nárok vlastníka vůči tomu, kdo CP vyd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finančního trh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peněžní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krátk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kapitálového trhu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dlouhodob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 majetkových práv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ěcn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zajištění pohledávek vě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užnick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směnky, šeky,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majetk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akcie, podílové lis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ispozič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–  práva na nějakou věc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převoditel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majitel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ajitelem je ten, kdo je předl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jméno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jméno oprávněn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a řad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vádějí oprávněnou osobu jménem, s doložkou na ř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cenných papí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ůchod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e stál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oblig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s proměnným důchodem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akc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P neúročen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20:31:47Z</dcterms:created>
  <dc:creator>Marek</dc:creator>
  <dc:description/>
  <dc:language>en-US</dc:language>
  <cp:lastModifiedBy>Igor</cp:lastModifiedBy>
  <dcterms:modified xsi:type="dcterms:W3CDTF">2014-09-13T14:52:42Z</dcterms:modified>
  <cp:revision>34</cp:revision>
  <dc:subject/>
  <dc:title>Cenné papíry</dc:title>
</cp:coreProperties>
</file>