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F47-E2B1-4B01-B0D9-A49B1BCD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638-E9CA-4468-9819-CD220198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598-D287-49DB-9CD7-ED613BA9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F7F-9F84-4BBB-8D35-E119D4C9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77F8-9588-40C6-B46E-A33E9562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3264-F1E8-482F-9677-0EBF2BF9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FE93-BEA9-44C3-8F4C-6D536D1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66B6-7953-4D3D-9136-BA3F9F47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A919-001E-4148-8616-5725745A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DEF7-B71F-46C6-9BE2-1E44BA4F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63B2-EAF7-4E34-A982-2D21EB1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CDF-752E-4319-B251-7816E76D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B329-8D6B-47B6-B763-DFCC91E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E554-D9D8-415B-A767-E526641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4DA2-19BD-49F3-9610-05690EBC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5DA-7705-4DCB-A2DC-09FD4A69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E26-42EE-42DB-A1FA-042EDD9D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0D8-F3E7-4650-8EE4-B1C4CC9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E2B-4A2C-4856-834F-1334A7FC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794-F127-4B70-A3C4-B7704AE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D0F-D8D0-4EBE-A248-0C2FA1BF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E42-6BF3-43CC-B92D-98B03A85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92D-DF4D-4D3D-8439-8FB7BC6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94E-9C58-4CE5-BBD9-F90FE63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838-6760-4BC5-846B-816ACB6EA1F5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ED12-3499-4B73-9D43-3ECC9F45E111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2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10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ahoma"/>
              </a:rPr>
              <a:t>Znáte nějaké situace, kdy zaměstnavatel nemůže dát zaměstnanci výpově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vatel nemůže dát výpověď zaměstnanci, poku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racovně neschopný na nemocens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povolaný k výkonu vojensk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uvolněný pro výkon veřejné služ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stnankyně je těhotná nebo pečuje alespoň o jedno dítě do 3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YSKA, R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ávo pro střední školy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kladatelství Fortuna 2010. ISBN 978-80-7373-010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8737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468360" y="1341360"/>
          <a:ext cx="7704000" cy="552312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onální čin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konom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 k seznámení studentů se způsoby uzavření pracovního poměru, s jeho změnami a záni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acovní poměr, zkušební doba, povinnosti zaměstnavatele a zaměstnance, převedení, přeložení, výpověď, okamžité zrušení, dohoda, zrušení ve zkušební době, uplynutí dob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Pracovní pomě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Zákoník prá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Vznik PP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acovní smlouvou – nejčastější způs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olbou – např. posla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enováním – vedoucí pracovníci jsou jmenováni podle zvláštních předpis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Pracovní smlouva musí mít písemnou formu a musí obsahova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ruh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ísto výkonu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n nástupu do prá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91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ahoma"/>
              </a:rPr>
              <a:t>Jaké další informace by podle vás měla pracovní smlouva obsahov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Další informace uvedené v pracovní smlouvě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méno zaměstnance a název a sídlo zaměstnavatele (PO), nebo jméno a adresu zaměstnavatele (FO),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ližší označení druhu a místa výkonu prác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rok na délku dovolené na zotavenou, popřípadě uvedení  způsobu určování nároku na dovoleno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výpovědních dobách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údaj o mzdě a způsobu odměňování, splatnosti mzdy, termínu výplaty mzdy, místu a způsobu vyplácení mzdy, stanovení týdenní pracovní doby a rozvržení pracovní do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racovní smlouva může být uzavře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 dobu neurč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kušební dob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usí být ve smlouvě sjednána – pokud není, nepla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aximální délka zkušební doby je tři měsíce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lze ji sjednat v případě pracovního poměru na dobu určit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91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Jaké povinnosti vyplývající z pracovního poměru má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vat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cc"/>
                </a:solidFill>
                <a:latin typeface="Tahoma"/>
              </a:rPr>
              <a:t>zaměstnane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 u="sng">
                <a:solidFill>
                  <a:srgbClr val="ffffff"/>
                </a:solidFill>
                <a:uFillTx/>
                <a:latin typeface="Tahoma"/>
              </a:rPr>
              <a:t>Povinnosti vyplývající z pracovního poměru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vatel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tvářet pracovní podmínk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latit mzd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ávní předpisy, popř. kolektivní smlouv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ffffff"/>
                </a:solidFill>
                <a:latin typeface="Tahoma"/>
              </a:rPr>
              <a:t>Zaměstnanec má povinnost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Vykonávat práci osobně podle smlouvy, ve stanovené době na stanoveném místě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Dodržovat pracovní kázeň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měna P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vedení – Zákoník práce uvádí podmínky, za kterých musí být zaměstnanec převeden a podmínky, za kterých může být převeden, není nutný souhlas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ložení – může se uskutečnit pouze se souhlasem zaměst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ahoma"/>
              </a:rPr>
              <a:t>Zánik P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cc"/>
                </a:solidFill>
                <a:latin typeface="Tahoma"/>
              </a:rPr>
              <a:t>Jakými způsoby může pracovní poměr zaniknou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ýpověď – jednostranná, musí mít písemnou formu a musí být doručena druhé straně, začíná běžet první den kalendářního měsíce následujícího po doručení výpověd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kamžité zrušení – pouze ze zákonem stanovených důvodů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zaměstnanec porušil pracovní kázeň zvlášť hrubým způsobem, nebo pokud byl odsouzen za úmyslný trestný čin nepodmíněně na dobu delší než 1 r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kud podle posudku lékaře nemůže zaměstnanec vykonávat práci a zaměstnavatel ho nepřevedl do 15 dnů na jinou práci nebo pokud zaměstnavatel nevyplatil mzdu do 15 dnů od její splat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Dohoda – musí mít písemnou formu a zaměstnanec i zaměstnavatel musí souhlas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rušení ve zkušební době – písemná forma, musí být doručeno druhé straně, může dát zaměstnanec i zaměstnavatel bez udání důvod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Uplynutím doby – u pracovního poměru na dobu určit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Smrt pracovníka, zánik podni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7:35:20Z</dcterms:created>
  <dc:creator>Guest</dc:creator>
  <dc:description/>
  <dc:language>en-US</dc:language>
  <cp:lastModifiedBy>Igor</cp:lastModifiedBy>
  <dcterms:modified xsi:type="dcterms:W3CDTF">2014-09-13T15:24:32Z</dcterms:modified>
  <cp:revision>12</cp:revision>
  <dc:subject/>
  <dc:title>Snímek 1</dc:title>
</cp:coreProperties>
</file>