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ECD-3E4F-4F38-8426-FF3CC2A3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EDD-7080-47C6-862D-8A18194E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EEC-0B43-4860-BB1D-511B0196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E8C-A933-454A-BE08-999B0DC5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944-CDF5-48F5-88E0-30CBCC67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0B1-E3C0-4248-9675-99B12AC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F86-088D-447C-9A3D-90BBBAA9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1AE-446E-4294-BACF-B3CE9EA7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99D-EA7E-4AC7-8C61-68BE14D3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502-00AD-420B-9168-63DAEB7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E3C-3DFC-428B-BFA6-812B23C1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143-CE19-43AB-A370-27F050E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788-3FD6-4413-94C6-C0A2CDD895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_32_INOVACE_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10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8360" y="1495440"/>
          <a:ext cx="8229600" cy="5129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 se seznamují se systémem odměňování, s faktory ovlivňujícími výši mezd, s formami mezd, příplatky ke mzdám a navazujícím složkám mez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ěňování,nabídka a poptávka po práci, mzdové tarify, formy mezd, navazující složky mzdy, příplat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měň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Jaké znáte formy odměňování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lavní form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měňování pracovníků = pení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alší form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aměstnanecké výhody, pracovní prostředí, morální ohodnocení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odměňování by měl být takový, aby motivoval pracovníky k lepší práci a zároveň aby byl pracovníky považován za spravedliv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Faktory ovlivňující výši odměny za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Jaké faktory podle vás ovlivňují nejvíce výši odměny za prá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kolik by měl pracovník dostat za svou práci ve vztahu k ostatním pracovníkům fir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áce je posuzována z hlediska zkušeností, iniciativy, kvalifikace, znalostí, stupně zodpovědnosti a rozsahu kompet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ílem je stanovit takový systém odměňování, který zajišťuje správnou diferenciaci jednotlivých prací pomocí vyjmenovaných hledis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truktura peněžní odměny často odpovídá hierarchii funkcí v podniku, existují ale i výjimky – např. pracovníci v odbytu, kteří pracují za proviz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diferenciace mezd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– aby firma získala a udržela si zaměstnance, musí jejich mzdy konkurovat mzdám v jiných firmá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laty a mzdy jsou určovány nabídkou a poptávkou po prá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nabídku prá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ografické vli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ečenské n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dalšího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klady na dalš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ulace vlád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livy působící na poptávku po prá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 mezinárodní ekonom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ládní reg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ferenciace odmě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ými způsoby se na trhu práce řeší nesoulad mezi nabídkou  a poptávk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šší mzdy a platy mohou způsobit přesun pracovníků z míst, kde jsou mzdy a platy nižší do míst, kde jsou vyšší. Existují ale překážky v těchto  přesunech, např. dobré vztahy na pracovišti, atraktivní pracovní podmínky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měna za práci – může být stanovena ja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ová mz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íční p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56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mzdy je zpravidla odstupňováno do tříd (kvalifikačních stupňů) práce, od nichž se pak odvoz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mzdové tarif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= peněžní vyjádření příslušné kvalifikační třídy za určitou časovou jednotku vynaložené prá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omě mzdových tarifů existují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amostatné navazující složky mzd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ve kterých se zohledňuje výkonnost pracovníků odměny, výkonnostní příplatky, prémie, účasti na výsledku hospodaření,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ákladní formy odmě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úkolová – závisí na odvedeném výk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zda časová – závisí na odpracovaném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plat – např. u státních zaměstnan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Navazující složky mez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émie, odměny, výkonnostní složky mezd, podíly na výsledku hospodaření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platky ke mzdovým tarifů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enění za ztížené pracovní podmínky, práci v noci, ve dnech pracovního klidu,… Jsou sjednány v kolektivní smlouvě nebo jsou dány záko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Co je to kolektivní smlou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lekti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sjednávají se zde základní podmínky odměňování práce, další podmínky práce a poskytování sociálních výhod zaměstnancům. Vychází se při tom z výsledků tzv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ripartitního jedn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ástupci zaměstnavatelů, odborů a stát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4:44Z</dcterms:created>
  <dc:creator>Guest</dc:creator>
  <dc:description/>
  <dc:language>en-US</dc:language>
  <cp:lastModifiedBy>Igor</cp:lastModifiedBy>
  <dcterms:modified xsi:type="dcterms:W3CDTF">2014-09-13T15:04:58Z</dcterms:modified>
  <cp:revision>10</cp:revision>
  <dc:subject/>
  <dc:title>Snímek 1</dc:title>
</cp:coreProperties>
</file>