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210-8CBF-4A5C-9F7D-12781C89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BFE-97EC-4EA6-AB46-9FE137A0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7F2-12B6-49C1-BCF6-44C4B905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094-4B58-4445-BED7-9D2445E4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0A5E-CD19-4065-8B8C-9626FE05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EFF5-8433-4C11-B0C8-59365E4B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235F-3505-4521-BAC9-AF8B64C6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FE6E-4ACF-43F3-8AEC-1CA7910D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034C-41EE-42E7-B7F2-C463A1E7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31D5-12F0-4BAD-A00F-55673CE3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071C-14D0-427B-BC4A-F5661B6B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147-8C69-4F46-9796-1FB9DAE0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9A03-AC60-41DA-AEE1-37365569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ADF1-9307-4432-9772-D6C46EB4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5DBF-805D-49D1-9AF4-4BE1B348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10A7-FCB9-45EF-B130-FF24DE8C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0B23-CE72-488E-9A48-269EB3AC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97C-7AE9-4495-AAB1-5AA1B76C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A4C-8A75-4EA2-98EE-E4398CDA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F66-7DA3-442B-906B-484B0ECC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BD9-DD8A-4D0C-ABEA-AEA43F9F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888-0C7F-4FD8-A407-C97F8BCA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AE1-F7AC-41E4-84C1-DC8C9010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F09A-3247-4AD3-8CBA-E2DBA3C9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B675-E7D0-47E6-83EE-B2E0E40AD5E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DA3E-EF53-4287-A896-DA3B79D88BE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Y_32_INOVACE_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. Bohuslava Klapuch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9. 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351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Jak se připravit na pohov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Zjistěte si co nejvíce informací o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usíte se připravit na setkání s personalistou, proto si zjistěte co nejvíce informací o tom, co byste měli ve firmě dělat, jaký je hlavní obor činnosti firmy, ale i to, jaká je její konkurence a firemní kultura. Přehled o situaci potvrdí vaši motivaci a záj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Vezměte si s sebou potřebné dokumen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Aktuální životopis, ukázky prací, ale i kontakty na případné reference od bývalého zaměstnavatele jsou nezbytné minimum, které byste při pohovoru měli mít s sebo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řipravte se na otáz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myslete si, jaké jsou vaše pracovní priority a jaký očekáváte plat. Pokud nevíte, o kolik si máte říct, využijte internet – najděte si srovnání plat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míte odpovědět, proč odcházíte ze stávajícího zaměstnání nebo proč zrovna vy jste nejvhodnější kandidát na pozici, o niž se ucházít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ersonalista se vás také může ptát na tzv. diskriminační otázky (např. rodinné zázemí, dět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uďte aktivní a sami se zajímej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tejte se na chod společnosti a detaily týkající se vaší pozice. Zajímejte se také o to, kdo bude váš nadřízený a s kým budete spolupracovat v rámci firmy i mimo ní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O kolik si říct na pohovor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1.   Zmapujte si, jaké jsou vaše životní nákla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počítejte si, kolik si musíte minimálně vydělat, abyste pokryli své náklady a životní minimum. To je základ pro další určení požadované mzd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2.   Jakou výplatu jste v minulém zaměstnání dostáv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Nemusí vždy vypovídat o tom, kolik si vyděláte ve svém příštím zaměstnání. V jiném regionu a jiné firmě si můžete vydělat třeba i více. 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3.   Zmapujte si situaci na trhu práce ve svém oboru a v regionu kde chcete pracovat.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Kolik je nabídek práce a tedy jaká je aktuální poptávka firem zjistíte na internetu, např. na stránkách Prace.cz. I od toho se může odvíjet výše platu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4.   Platy ve svém oboru a lokalitě si můžete zjistit na internetu, na stránkách Prace. cz v sekci Porovnání platů.</a:t>
            </a:r>
            <a:r>
              <a:rPr b="1" lang="cs-CZ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ŠVARCOVÁ, J. 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Ekonomie – stručný přehled,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dání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 rok</a:t>
            </a:r>
            <a:r>
              <a:rPr b="0" i="1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2012/2013 Zlín : Nakladatelství a vydavatelství Ing. Jena Švarcová, Ph. D., CEED, 2012. ISBN 987-80-87301-16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ww.prace.c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68360" y="1495440"/>
          <a:ext cx="8229600" cy="5135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nikání a podnikové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ální č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konom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 k seznámení studentů s personálním řízením, cíli a organizací personální práce, s náborem pracovník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dské zdroje, personální řízení, cíl personální práce, organizace personální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Tahoma"/>
              </a:rPr>
              <a:t>Personalistika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odnik potřebuje k zajištění své činnosti výrobní faktory – půdu, kapitál 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prác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cc"/>
                </a:solidFill>
                <a:latin typeface="Tahoma"/>
              </a:rPr>
              <a:t>Jaké charakteristiky práce budou pro firmu nejdůležitějš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Lidské zdroje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– souhrn pracovníků, jejich kvalifikační a věková struktura, úroveň pracovní ochoty (motivace, kreativita, flexibilita a adaptabilit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Tahoma"/>
              </a:rPr>
              <a:t>Personální řízení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– řízení lidských zdrojů s vnějšími vazbami na trh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Cíl personální prá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bezpečení dostatečně výkonného person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bezpečení sociálních cílů zaměstnanců (spokojenost zaměstnanců s prací, s výší odměny, s možností profesionálního rozvoje,… To vede ke spokojenosti pracovníků a k jejich loajalitě k podnik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yto cíle jsou protikladné – vysoké mzdy uspokojí zaměstnance, ale vedou ke zvýšení nákladů firmy a tím ke snížení její konkurenceschopnosti. Naopak snížení mzdových nákladů vede ke snížení spokojenosti zaměstnanců a k poklesu jejich výkon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ahoma"/>
              </a:rPr>
              <a:t>Je proto třeba vytvořit vyváženost mezi oběma cíl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Organizace personální prác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lánování pracovníků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lánování potřeby pracovníků, jejich počtu, profesní a kvalifikační struktury a jejich rozmístě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získávání a výběr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určení metod a způsobů získávání pracovníků z vnitřních i vnějších zdrojů podnik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rozmisťová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zařazování do pracovních funkcí, přesuny pracovníků uvnitř podniku, povyšování, ukončování pracovního poměru, penzionová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hodnocení pracovník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hodnocení předpokladů pracovníků k výkonu činností a plánování osobního rozvoje pracovníků, hodnocení pracovního výkonu a chování pro potřeby systému odměňo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hodnocení práce a popis pracovních míst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hodnocení nároků jednotlivých pracovních míst a funkcí pro podnikové katalogy prací a tarifní systé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odměňová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tvorba nástrojů pracovní motivace a podnikových mzdových systémů a systému účasti na hospodářském výsledk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podnikové systémy vzdělávání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identifikace potřeb vzdělávání, plánování, příprava, organizace a vyhodnocování účinnosti vzdělávání, programy rekvalifika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kolektivní vyjednávání a pracovněprávní agendy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jednání zaměstnavatelů a odborů o uzavření kolektivní smlouvy, příprava jednání, dohled nad dodržováním pracovněprávních předpisů a závazků, spolupráce s úřady prá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sociální péče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organizace sociálních služeb pro zaměstnance, bezpečnost a ochrana zdraví pří práci, zdravotní péče, kontrola pracovních podmínek, organizace aktivit volného času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Tahoma"/>
              </a:rPr>
              <a:t>personální informační systém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pro potřeby podniku i mimopodnikových orgánů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Nábor pracovníků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očívá v poznávání a získávání nových nebo stávajících pracovníků pro běžná a budoucí pracovní mí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Nábor se provádí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střednictvím osobních kontaktů, inzercí, návštěvami škol, učilišť a univerzit pracovníky osobního oddělení, z Úřadu prác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Proces výběr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hodnocení zaslaných životopis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sobní pohovor, talentové zkoušky, inteligenční testy, testy osobnosti, reference od dřívějších zaměstnavatelů, škol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Uchazeč o zaměstnání by měl přijít na pohovor připraven!!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Jak byste se co nejlépe připravili na pohov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ahoma"/>
              </a:rPr>
              <a:t>Kde byste získali informace pro vaši přípravu na pohov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5:44:27Z</dcterms:created>
  <dc:creator>klapuchova</dc:creator>
  <dc:description/>
  <dc:language>en-US</dc:language>
  <cp:lastModifiedBy>Igor</cp:lastModifiedBy>
  <dcterms:modified xsi:type="dcterms:W3CDTF">2014-09-13T15:06:05Z</dcterms:modified>
  <cp:revision>12</cp:revision>
  <dc:subject/>
  <dc:title>Personalistika</dc:title>
</cp:coreProperties>
</file>