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721-AF88-41D9-85E0-5B1315D9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95A-F48C-4E33-97D1-ABF0F411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34F-1EF4-402E-8D12-8DAC8F5B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2DC-63ED-4D33-8A1B-7D330865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E31A-8C56-45BA-9AE3-7945A773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14A7-8DBA-490B-AB74-F7465E8F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3A5B-7697-4B69-9E9B-E453778D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7326-9B79-48BD-BBEC-90BF9AA9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2B0B-329C-4BC8-9C64-4BDC1BC1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3283-A16B-4EAB-A323-BEFCE69D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9804-72DE-48DC-AEFE-27D0C45C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953-D0A6-40D8-B296-13FED97C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98D0-2876-4FB1-9DDD-A4F1528F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DB4D-906D-4BA6-BE0C-FA1E7A34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B992-216B-418A-A54D-8262433E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39A2-8D1F-4749-AB69-237518EC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E20A-75CA-4952-A808-1CBA85C4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6A1-D7AD-4081-87DA-C83348B9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513-0ADC-460A-9463-9378CED9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554-4CE3-492E-A3F8-20BB720C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6E7-4F10-42E0-8E7D-533436D4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AE3-9B1C-4AA1-B5AB-A815AF1A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759-3C56-4BB2-953B-4B1A395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3E0-2D87-461A-A337-FAF47D31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3F4B-0371-4198-8072-7496066179D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8486a">
                    <a:alpha val="0"/>
                  </a:srgbClr>
                </a:gs>
                <a:gs pos="100000">
                  <a:srgbClr val="3b3b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5e7c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931F-3610-410D-B4CF-E0730ACED1A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q-tester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_32_INOVACE_2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9. 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tvůrčí, má mnoho nápadů, umí řešit náročné úkoly, je flexibilní a dovede vymyslet řešení odlišné od konvenčních zvyklostí a tím posunout problém výrazně dopřed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zabývá se méně podstatnými věcmi, je plně zaujat vymýšlením vlastních nápadů a když je čas na realizaci věci, stále předkládá nové nápady. Nekomunikuje s ostatními příliš efektivn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plný energie a zapálený pro věc, hledá nové kontakty, objevuje další možnosti uplatně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očáteční nadšení z něj může rychle vyprchat, někdy je nebezpečně optimistick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88640"/>
            <a:ext cx="80074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spolehlivost, disciplína, dokáže měnit myšlenky na skutky, z abstraktních návrhů dělá konkrétní produkt, uvažuje prakticky a racionálně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flexibilní, těžko reaguje na změnu podmíne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dovede volit optimální strategii, hodnotí všechny možnosti, jeho úvahy jsou přesné, od ostatních požaduje kvalitní prá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dovede motivovat ostatní členy týmu, může být příliš kritický až destruktiv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je sociálně zdatný, dokáže mírnit a hasit konflikty, stará se o ostatní v týmu, vytváří příjemnou atmosfér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ní schopen dělat důležitá a náročná rozhodnut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60280"/>
            <a:ext cx="8007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Dotahovač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hlídá si termíny a limity, posouvá problém do konce, když už ostatní přestávají pracovat, je spolehlivý, pečlivý a svědomitý. Dbá na to, aby dílo bylo bez chyb a hotové podle zadání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často má zbytečné obavy, neumí spolupracovat s druhými /zejména protože, by mu narušili pořádek v jeho prác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loajální a má rád svůj obor, jeho znalosti jsou velmi cenné, odhodlaně pracu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zabývá se pouze úzkou oblastí, ve které se vyzná, sleduje to co jej osobně zajímá, nedokáže skupině dát dynamiku a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59920"/>
            <a:ext cx="80074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sebevědomí, pomáhá lidem v týmu, aby spolupracovali, dává je dohromady. Ujasňuje cíle, dodává energi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ho přínos je především mezilidský, profesně si práci zjednodušuje, může manipulovat druhými lidm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Klad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je to velmi energický člen týmu, který tvoří hnací motor. Je odvážný a odhodlaný řešit i náročné úkoly a nečekané obtíž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ápory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provokuje a někdy uráží ostatní, nepřispívá k dobrému klimatu ve skupině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cs-CZ" sz="3200" spc="-1" strike="noStrike" u="sng">
                <a:solidFill>
                  <a:srgbClr val="3dccff"/>
                </a:solidFill>
                <a:uFillTx/>
                <a:latin typeface="Arial"/>
                <a:hlinkClick r:id="rId1"/>
              </a:rPr>
              <a:t>www.iq-tester.cz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si můžete zkusit testy on-line: test vrozené inteligence, test numerické inteligence, testy osobnosti a pracovní psychot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droj: www.iq-tester.c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5440" y="244440"/>
            <a:ext cx="5769000" cy="143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68360" y="1725480"/>
          <a:ext cx="8229600" cy="5135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i se seznamují s různými druhy testů, se kterými se mohou setkat u přijímacích pohovorů do zaměstn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Q testy, psychotest týmových rolí, pracovní psychotest, testy osobn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28600" y="2936520"/>
            <a:ext cx="7715520" cy="14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sty u přijímacích pohovor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IQ 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07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Složky intelig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teligence je schopnost řešit úkoly, která se dělí na jednotlivé složky –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storová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D ori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mě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Správný IQ test by měl testovat a měřit všechny tyto složky intelig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Inteligence je vrozená schop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tzn., že nelze ovlivnit její výši, ale můžeme ji pomocí modelových situací nebo zkušeností dále rozvíj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inci obvykle nevynikají pouze v jediné oblasti inteligence, ale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osahují lepších výsledků hned ve více oblastech intelige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Nicméně je inteligence často zaměřená na určitou oblast, ve které vyniká více než v jiné. Překladatelé a básníci budou vynikat ve verbální inteligenci, architekti zas v oblasti prostorové představivosti. Každý jedinec má při vyplňování testu pocit, že na některé otázky se mu odpovídá snadněji než na jin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333360"/>
            <a:ext cx="8007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á inteligence se projevuje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chopnostmi logického myšl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a logických analýz situací a problémů nebo správného používání matematických operací. Úkoly v IQ testech mají často podobu číselné řady, kde některá čísla chyb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tematickou inteligenci mohou měřit i úkoly s doplňováním písmen, pokud mají matematický princip.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př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oplňte následující písmeno: O Q S T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rostorová inteligen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yjadřuje, jak člověk vnímá svět kolem sebe. Tuto schopnost mívaj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soce rozvinutou například architekti, nebo sochař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Úlohy na tento typ inteligence zahrnují otáčení tří-rozměrných objekt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izuální „2D“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izuální inteligence jde 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ozpoznání optických rozdíl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podobností na předměte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99640" y="188640"/>
            <a:ext cx="800748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rbální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erbální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e projevuje jazykovým citem k mateřskému i cizímu jazyku, používáním vhodných slov, chápáním významu slov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uměním rozlišit rozdíly ve významech slov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asto tímto druhem inteligence oplývají překladatelé, právníci či básníc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onkrétní příklady na zjištění tohoto druhu inteligence mají podobu například vyřazování slov, která nepatří mezi ostatní nebo doplnění částí slov, aby výsledná slova dávala smys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otorická inte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zi složky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otorické inteligence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ůžeme například zařadit koordinaci pohybů, potřebu být v pohybu nebo schopnost práce a manipulace s různými předměty. Někdy se též nazývá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ligence praktick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amě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pamět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akožto další složka inteligence se testuje spíše výjimeč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Testy osobnosti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980640"/>
            <a:ext cx="80074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pravidla se jedná o sadu otázek na níž klient odpovídá volně nebo volí z nabízených možností. Některé takové testy jsou také dostupné on-line, i když obvykle s nimi ještě zachází psychologov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o měří testy osob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ěří především temperament. Ten představuje soubor relativně stálých a vrozených vlastností. Jeho změna je možná jen do velmi omezené míry. Typicky temperamentovými komponenty jsou napříkla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xtrovert – introver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nebo všeobecně známá typologi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flegmatik-cholerik-sangvinik-melancholi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Člověk, který často vybuchuje a je prudší povahy, ale rychle se uklidní takový bude v podstatě celý život, stejně jako se flegmatický kliďas pravděpodobně nezačne v pozdějším věku více stresovat.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y osob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umožňují jemnější rozlišení těchto vlastností. Tím se testy osobnosti liší od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Q testů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racovní psychotesty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67920"/>
            <a:ext cx="8007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sty používané v psychologii práce – pracovní psychotesty zjišťují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Vhodnost osoby pro danou pracovní poz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chopnosti a profesní orientaci člověka, jeho silné a slabé stránky ve vztahu k povol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kupinovou roli konkrétního jedi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alší specifické vlastnosti lidí podle požadavků zaměstnavatele a pracovního mí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jčastěji s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v pracovní oblasti používají k výběru vhodných zaměstnanců, při rozvoji zaměstnanců – pomůžou jim ukázat jejich silné a slabé stránky a také k nasměrování jedince na jakou práci se hodí.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sychotest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zpravidla zadává personalista nebo pracovní psycholog, některé firmy používají psychotesty on-line, které jsou dostupné na internet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8f8f8"/>
                </a:solidFill>
                <a:latin typeface="Arial Black"/>
              </a:rPr>
              <a:t>Psychotest týmových rolí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80074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aždý člen týmu má jistou pozic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r. Meredith Belbin popsal devět týmových rolí. Tým nemusí mít právě devět členů. Jeden člověk může mít dvě i více rolí (zpravidla máme role dvě, jednu dominantní a jednu více skrytou). Každá role je v konkrétním týmu zastoupena různou měrou. Záleží také na tom, co právě tým dělá. Společenství je schopné pracovat, i když nějaké role chybí. Efektivita takového týmu je však nižší. Belbin popisuje následující skupinové rol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Inov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yhledávač zdro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Realiz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Analytik, vyhodnoc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Týmový pracovní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otah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oordiná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směrňova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Belbin zdůrazňuje, že naše role nejsou neměnné. Pokud změníme kolektiv lidí, můžeme změnit i svojí roli/svoje role. Autor sestavil také vlastní test, kde se může každý otestovat a zjistit, kam v týmu patří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2:48:23Z</dcterms:created>
  <dc:creator>Administrator</dc:creator>
  <dc:description/>
  <dc:language>en-US</dc:language>
  <cp:lastModifiedBy>Igor</cp:lastModifiedBy>
  <dcterms:modified xsi:type="dcterms:W3CDTF">2014-09-13T15:26:16Z</dcterms:modified>
  <cp:revision>5</cp:revision>
  <dc:subject/>
  <dc:title>Snímek 1</dc:title>
</cp:coreProperties>
</file>