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4C0-8D7C-4340-AE64-06B7F0A4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32F-E8D8-4064-8F41-A8BFD23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B68-AA62-4CF9-9C9A-2992CD82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05B-A7FE-41C2-BAB9-9A159AD7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714-F3CD-4361-9136-C2F839B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34E-B112-4282-8133-C564E62B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2670-4D3B-4D9A-B12D-2F8ED30C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4FC-AB9D-4883-B434-03C54F1F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DC0-73D5-49A0-8543-058DF1B5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EE5-0172-406F-8694-E419985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301-CA38-4590-A31F-2CAB9B4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A8D5-91E2-4902-9B06-3492473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A894-A12B-44B8-B962-0905D533E35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městnanec má hrubou mzdu 21 500,- Kč. Vyživuje 3 děti. Vypočítejte čistou mzd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1 50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65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 39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0,045 =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968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1 500*1,34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8 900,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zaokrouhleno na 100 Kč nahoru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28 900*0,15 =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4 335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- 2 07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(3*111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aňový bonu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 086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ČM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1 500 – 1 398 – 968 + 1 086 =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20 220,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městnanec má měsíční mzdu 25 000,- a vyživuje dvě děti. Vypočítejte čistou mz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4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 postupem výpočtu mezd, počítají základní typy příklad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ubá mzda, sociální pojištění, zdravotní pojištění, superhrubá mzda, daň z příjmu, daňový bonus, čistá mzda, ostatní srážky, mzda k výplat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ff"/>
                </a:solidFill>
                <a:latin typeface="Arial"/>
              </a:rPr>
              <a:t>HM = základní mzda + příplatky + prémie + odměny + osobní hodnocení + náhr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dinová – podle počtu odpracovaných hodin v měsí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ěsíč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ál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ko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le odpracovaného množ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roviz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podíl v % z realizovaných obchodů jednoho obchod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pl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zda za práci přes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rady mzdy za odpracované sv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e ztížených podmínkách a na zdraví škodlivých pracovišt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latky za práci v n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émi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dmě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pevná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obní hodnoc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měsíční čá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hrady mz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olená, neodpracované svátky připadající na PO – P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kážky z důvodu obecného zá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etření u léka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kolení, studium při zaměst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vatba, svatba dětí, rodi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hř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mr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teré zákonné srážky ze mzdy zná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xistují i jiné než zákonné srážky? Uveďte příkla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ciální a zdravotní pojiště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Ze mzdy zaměstnance se sráží pojistné, a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,5% z hrubé mzdy na všeobecné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,5% z 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jištění hrazené firm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% z hrubé mzdy na zdravot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5% z hrubé mzdy na sociální pojiš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aň z příjmů ze závislé čin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způsob zdanění mzdy daní z příjmů ze závislé činnosti je rozhodné, zda má zaměstnanec podepsáno prohlášení k d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uze u 1 zaměstnavatele), je daň z příjmů srážena ve formě zálohy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emá-li zaměstnanec podepsáno prohlášení k dan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otom je pro způsob zdanění rozhodující výše mz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do 5 000 Kč – srážková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ubá mzda nad 5 000 Kč – záloha na da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íl mezi zálohou na daň z příjmů a srážkovou daní je mimo jiné v tom, že záloha na daň podléhá ročnímu vyúčtování, ale srážková daň je konečná a nelze ji již zúčt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mez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ociál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* 0,0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uperhrubá mzda = hrubá mzda * 1,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ň z příjmu = superhrubá mzda * 0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z příjmu po slevách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daň z příjmu – slevy na d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istá mz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hrubá mzda – sociální pojištění – zdravotní pojištění – daň z příjmu po sle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zda k výplat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čistá mzda – ostatní srážky + nemocen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kl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stnanec má hrubou mzdu 20 000,- Kč měsíčně. Vyživuje jedno dítě. Vypočítejte čistou mz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0 0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65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 3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0,045 =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9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uperH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0 000*1,34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6 80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26 800*0,15 =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4 02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vy na da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-2 070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1 11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ň po slevá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833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Č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20 000 – 1 300 – 900 –833 =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6 967,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0:06:20Z</dcterms:created>
  <dc:creator>Ing. David Holzbauer</dc:creator>
  <dc:description/>
  <dc:language>en-US</dc:language>
  <cp:lastModifiedBy>Igor</cp:lastModifiedBy>
  <dcterms:modified xsi:type="dcterms:W3CDTF">2014-09-13T15:25:22Z</dcterms:modified>
  <cp:revision>11</cp:revision>
  <dc:subject/>
  <dc:title>Snímek 1</dc:title>
</cp:coreProperties>
</file>