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3D89-0E2E-4D7C-80E9-0608BA40AA2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0FFC-2C82-43B0-AAAB-F55B72D5D38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939E-EF0D-496A-9834-EA3EF538C1EF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2865-DB8E-40A8-9CA1-8776107A2D62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279C-3813-487B-897F-359F6C14C2C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087B-DF70-48D5-8E8E-B6783B13A6A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18E66-F306-4614-928E-D9EA01D317E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D342-174E-468C-BC6D-7E11415BBD8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379C2-3EC5-4371-8999-4E9AA1A2B98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7BCF-7C83-4315-86FF-2CC33E67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6F5D-D89F-4122-821C-1210C7AD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9E31D-341A-4851-A31B-C99DA9E1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F3491-F725-4BEE-951C-1B690763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FDDBE-F163-4EFE-A691-CF8A0C76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0004F-147B-430D-B35D-7B709269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8BC74-DFAF-407C-AA0B-8422E93D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3B95B-D0E0-44D3-97FF-54487AAB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DC57F1-F104-4861-98B9-CF96EA8A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02995-C242-46CA-8CD9-DF13BE9B0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93570-CBB6-40C2-A6EF-FAD6942F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9E02E-8FEE-4F95-804C-C00301911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B466-FC72-42CC-81AF-4B55A76A6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8A4A18-4D77-4209-A4E9-60FA7747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A2EC3-6CE7-4DB1-831B-CE44C268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F3A80-596E-4ED5-A304-9049A4F3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462383-BF9B-48EB-BA75-69AFE757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7F6C2E-6D33-449E-AFDB-D90C2CFA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A6C45-D522-44AC-9B8D-C1320829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B36380-790D-4A4A-99D2-84C0471F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53C0D-D17B-44AC-AEFF-483DDD3F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587384-D91C-4B8F-8367-BE0758AD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ED3437-AD4F-44D6-AE1F-BB43952C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9DA6-B8CC-4D16-BCDD-4B2184D6B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ADA252-3F5A-4E45-826D-4865673B4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E9B1B-74CC-4A22-9DEC-CACB7CB93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A8758-3DCA-464B-8AD9-A736281A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4ADD8-E5EC-4FEC-A64C-2446D2BF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542CA-3B4C-40DB-AE39-DFC43C8B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5A724-8C79-48AF-A945-7545D7FB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BAB86-4B1E-4239-8126-84FCF276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0CFE3-BE4F-4459-91C3-DE3EEE6D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3AFCF-5E8A-47AF-A9F2-DA42B37F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F432B-779C-478F-A19A-50480451D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334E-08B1-4BCB-8F8F-94932B1B0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9FE2F7-783E-443F-B591-D9C3F721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73A0F-BD02-4BF2-92AA-6396AE012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96F7F-5EA5-4881-9E3A-E0D51622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E25ACF-93C2-4A53-9ABE-C8126E29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AD0FA-11E9-4955-B41C-7A9E313C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01CFDD-A615-4A05-A718-3041D272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33DB3-BA49-49AB-B86A-E9CC52DD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80BFB-4485-47A3-94C2-177E94D86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735CFE-0487-4E76-B972-49751F9C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0D44BF-AB65-4080-BEB4-F8724F62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AE2B-BD60-44FE-863F-409CDCB5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795BAA-2BF4-45BC-8D94-08656F24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F77437-F404-475C-A970-098976CC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8E9926-28B5-45C3-9088-0B2CA3C21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3875E-0D98-4244-ACF0-209C41BB0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52C03B-6074-41EC-ABE6-71BB93D45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162177-68FD-455F-84E4-6A0DBB5C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D4C442-55A7-473F-942B-2DE72AB1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0D8168-E451-402D-AE21-939639B1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051291-AEF1-4FDA-AA5F-C77B7F3A5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C75736-88BB-436F-82C3-95D6D86A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F2D3-EC92-4919-82E9-21D4659A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EE7812-2584-4769-A0FD-DEF27FC8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99DC82-0A55-4766-A956-0188EB50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F0D3DF-4FDD-4C7B-9DFE-52FBF026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71F902-EE49-4261-A600-8913E96E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E78311-38D3-4BF6-94A0-321654DA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15E345-1AB2-494E-9893-235403C7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48602A-2954-49B7-9AD8-FF6062D2B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49DB79-CDCB-4758-BB18-E7B2FBF9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D40533-E5D4-48DE-854E-FA3A7DFA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E0A59D-C982-42B1-A2AD-3F7FFF3E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D38B-15BC-48F2-B8AE-B9A01390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114D2C-5721-4876-A892-E0E1B5F9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657200-C870-4F59-AD71-C4E3442E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1F6DF6-C22D-4F34-A46D-F3565D8C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810A2E-F039-4780-A788-13E66E8E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92686B-0921-4884-BB19-051E5847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9B19A1-829E-4125-97FC-7841DB79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7F6284-BF35-4F9B-BC06-C1294957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017AEC-761D-43DF-B7E1-9F735794F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3DF37C-A062-4067-A36C-A39FDBCC5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F35509-0C35-4735-AAD7-5DEB749B2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5C8BA-9A35-4EAE-BA58-EC4C5E7E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A54044-FFDE-4AF1-941D-34C26EFE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FCDCD0-6EF8-4095-8A97-AC66525D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01AE6F-20EF-44A9-9395-B2C722C1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3EA79F-8C60-4F13-BBB6-288DC4AD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E6B5FB-40C1-4B19-BC88-2AE5EB25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7DD6FD-9DD5-42A6-B893-20EB1B78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5F9805-8209-40EE-9608-1A58305A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276CF3-7743-4D0E-A6E9-F1536C02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7FE481-8A2C-4860-9FEC-F47D031F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E4D52E-8421-4729-84D2-A509F9CCC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F109-64C2-46F5-A577-3D65862CA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2E7097-8954-4A59-AEAE-09779F37A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A96E94-61DC-4880-82AB-AACBDED7D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2E140A-91A0-4B15-8E2C-FD3AEDF9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B3F479-BDA4-405F-9FB1-0D6F656D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54A0D6-4F8B-411E-8496-7038E065F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7E8B37-C3EA-477F-B14F-10EFD9A7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A343D7-38C3-4D78-BDAF-AEAF081D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B7BA7A-5212-460C-8F9C-EBF8FA6B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878A86-4F31-4A60-883A-769D4E01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B7FEE6-E9BB-4479-BF8B-3AC24E49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C6EC-5470-4E4B-8F6C-9A1B4281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71ED77-531C-45E8-B24A-C00BEB11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528814-C3F4-4FD6-8046-EC99432B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B996A3-A471-4960-B78D-68F5A152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5A1B-1B77-4A84-BB77-C2297EED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D19D-CDB5-4E6D-BA2C-BD261309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45CDE-B839-4D87-B18A-9A798983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FB8D7-8840-464F-8BD9-E1D357FE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EA31-DE35-45AF-94E3-8472A5E2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0E33-7DFD-4457-8E17-03BF88AFD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88369-EBFD-4784-BE6E-9FF6695B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5C23A-E243-469F-807D-660BD3D2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EA9B6-B276-41CF-8BAF-F84B13AAC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76C8B-D77E-4003-92BB-711CFC3A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0926A-5D61-432E-98E0-9C2AD65E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4B30-BB1D-47CC-884A-FFAFE034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0D513-7BA4-4F12-89FC-8497BC81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730EC-E5C1-4A51-B47E-1B11BF50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CBFFF-4A27-45AE-AB64-BB34706C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753FF-1B53-4748-A1AC-105D4477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25111-F0AF-44F7-82A6-1B1D1E40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9EDF2-DC4E-4613-8867-38AB4833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E069B-1354-45A2-AEC4-00145D889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D8FB4-30FB-46D8-A1AC-3DC2A40B7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CD308-AB00-4C9C-AE30-9C53D336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09DD7-0133-494B-B272-7FC0D9A6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930D-11EA-45A5-8976-C424B1E3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091A7-36AA-4B62-A0CE-1B5898D1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7B8B4-1E9B-4F56-A4C4-A55D14FF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43F17-0EDF-4584-9133-CDD227B5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096F7-B25C-4B2D-827C-BA5C4B8B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E73B7-F235-4AA3-B954-67138EBC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2DC1A-7350-4441-AC5C-7260FC84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CC688-95D9-4B4F-B73C-4435354FE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66C22-9E21-41AF-BC7D-930E9BCA0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CF840-4D33-4218-AE56-BBF959B22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BE297-43F7-48A3-AB50-DD2B2FDC9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517C-1C8A-47B2-AF34-47F218221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314B9-4960-4912-A147-6C836174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5FB91-E200-4B12-9683-BD0D1007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C5BD3-D6F2-4D39-A1FF-5DEFDBD0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69493-F6D7-4669-8B03-3C35970B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F1E6A-C2C5-4FBC-B2C1-F5A1757F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4016E-54F6-4F9E-93B9-D17C7A82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EDF3C-5D3A-4674-B336-5840830A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1E4FC-6838-475E-BE47-D49DF53C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CB7CF-C45B-4CE7-A366-AAF01034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AD626-F781-4EF8-809B-0A7B30F88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5DA1-6990-44DC-B179-3F6ACBC9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D0309-9D99-4B25-AE69-EBF950F3E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96A02-FD43-49BE-B432-7ECC8410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EE4DD-1852-458C-B001-2D73B407F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275C21-2E60-45EE-81D6-0D19CB40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E98AD-C219-437F-9B06-D058EAC1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52876-5B4E-4E7A-86A3-885C6612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24EF5-1051-47A8-A0FE-C184C5DD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F20F7-82E7-4811-A950-F007EEB9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60699-AF4E-4B2D-9D94-B8460DDF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EEEF0-E35B-4752-A994-D7F049CD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34F0-F607-4812-B724-35CD0BB3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A5AA4-C754-4221-87D1-AEFEBB94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38CEF-7B70-44D7-BE15-BB3FEF51E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E2D15-F252-4B89-A477-8421B177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FDC67-1F71-4C07-B715-7F3DA81C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D018A-6682-43D9-8218-F4F04C48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6611C-732F-4D2C-B38D-90910726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84664-8DC7-44CA-88F5-3828162A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93E68-1470-4943-BB0F-80B41CEE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04321-FB42-4448-859A-E37D637C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20617-9DD5-42DE-8306-D9A6B945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D172-FA1E-4ABD-BF77-AA5AE8FA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73800-9E0E-44C0-8885-F35163DF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8B1881-A95C-4B68-A198-D405911C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947C38-2AEF-4C9F-89D6-53D6F8D1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3125E-9773-4DB9-A617-1E24A00EF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A17D7E-D417-4912-94ED-1DA98200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EA277-C473-4D03-8855-76C430BF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0AD32-2C6F-4C43-87FF-3D8C37FB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197B7-5C5E-4159-91CC-6E79F637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44D99-B0BB-4FE8-858E-97D469278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5DD7B-76AF-41BE-92EA-706196D1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F59E-810F-4441-8FE0-C9E2E5A7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EEA39-A3CB-44A5-9DE5-BABF19CE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C0CA6-117F-4788-991F-39314B45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A2DA2-8C3A-42FC-B4CC-68F70A61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C1803-1A66-4896-ADD1-444840C9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77F7E-93FE-4DC1-8092-1190EA3D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AE13E-452F-4C54-98B0-FD86F1A70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CECB8-6EEA-45A2-8678-0EED14B0C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7A6FD-A884-44F9-825E-EE9F1E3D8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531F68-C9D0-4427-AB8C-17A4DDEF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74055-5333-4DA1-A0EE-B095D498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4E83-B3B8-4112-96CF-F8964DA26B76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2704-DC41-4BEB-883C-D8E9CEB5ECA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2B87-936B-4A37-9B01-E06D4BF377A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10F3-DBCC-4A4F-A0F6-0ACA7CE0DA7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13E6-0213-41D3-84ED-CA0EB171A86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67D4-C949-4A57-B183-CA5DE4DE73D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5EBA-0185-4971-ACB4-D08A3132F69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7D2F-90CC-4315-8611-A6ECDAFF1CB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3178-C9DB-4A75-8E99-8E00007FA152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F662-AABD-4243-8B5F-43C395518F6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737F-3F39-42CA-B7FC-F0AA956727A5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E5785-8223-4B64-9143-8DACBF40E885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9137-212B-4914-941B-E9BFD75FCEE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481FD-D0C4-42E4-8985-65A8E96BC07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A0BE-B1C2-4BD6-BC06-EAEA951E83B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4792-AB58-481D-A897-473F2A21E41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 / 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pecifying the detai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insist on the time of delivery given in the order.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Please arrange insurance against all risks for the above mentioned shipmen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lease see to the careful packing of the consignmen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pecifying the detai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539640" y="2361960"/>
            <a:ext cx="8353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e certificate must also contain the signature of an official of the bank who has inspected the goods before shipmen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reserve the right to cancel this order if the delivery is delaye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stress that the terms of delivery must be kep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losing phr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280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f we are satisfied with the shipment, we can promise you further orders in the near futur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trust you will execute this order within the stipulated time according to our instruction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losing phra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280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f you execute this trial order to our satisfaction, you may count on further order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hope that you will give our order your best attention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nfirmation of an or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064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A confirmation letter should contai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anks for the or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 details of the order (description of goods, quantity, price, payment, delivery terms etc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surance that the execution of the order will be given the best atten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nfirmation of an or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351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ank you for your order of May 4, 20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which we have booked for execution in Jun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enclose our order confirmation and would appreciate if you returned one copy duly sign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ank you for your preliminary order which we have not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nfirmation of an ord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351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ank you for your order No. 123 if May 4, 20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for 300 T-shirts.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Thank you for your open order to the value of EUR 3</a:t>
            </a:r>
            <a:r>
              <a:rPr b="0" lang="cs-CZ" sz="3200" spc="-1" strike="noStrike">
                <a:solidFill>
                  <a:srgbClr val="0070c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000 and, in accordance with your</a:t>
            </a:r>
            <a:r>
              <a:rPr b="0" lang="cs-CZ" sz="3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ishes, we shall employ 1/3 of this sum for writing materials and the the rest for toy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6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dopis - objednáv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, co obsahuje obchodní dopis s objednávkou a představuje základní slovní zásobu pro psaní obchodních dopisů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rder, confirmation, trial order, repeat orde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43280" y="33573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ORD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56" name="Obrázek 1" descr=""/>
          <p:cNvPicPr/>
          <p:nvPr/>
        </p:nvPicPr>
        <p:blipFill>
          <a:blip r:embed="rId1"/>
          <a:stretch/>
        </p:blipFill>
        <p:spPr>
          <a:xfrm>
            <a:off x="755640" y="3789360"/>
            <a:ext cx="22478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n orde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n order is a request to make, supply or deliver goods according to the customer´s particular requirement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Arial"/>
              </a:rPr>
              <a:t>You can often attach a letter in which you specify the details of your orde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n orde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In case a buyer wishes to introduce a new line of goods in his local market or to know for himself the quality of the goods, he give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trial ord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n orde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You can also buy the same goods on the same conditions as in the past, this is called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repeat order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rdering goo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acknowledge receipt of your offer of May 4, 20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and enclose an order No...under the following terms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On the recommendation of Mr.... we would like to order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rdering goo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As your prices and terms meet our requirements, we order for delivery the following item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refer to your offer of May 4, 20</a:t>
            </a:r>
            <a:r>
              <a:rPr b="0" lang="cs-CZ" sz="3200" spc="-1" strike="noStrike">
                <a:solidFill>
                  <a:srgbClr val="0070c0"/>
                </a:solidFill>
                <a:latin typeface="Arial"/>
              </a:rPr>
              <a:t>13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and ask you kindly to supply the goods according to the enclosed order for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rdering goo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thank you for your offer of May 4,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and have pleasure in enclosing our order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We thank you for your offer of May 4, 20</a:t>
            </a:r>
            <a:r>
              <a:rPr b="0" lang="cs-CZ" sz="2800" spc="-1" strike="noStrike">
                <a:solidFill>
                  <a:srgbClr val="0070c0"/>
                </a:solidFill>
                <a:latin typeface="Arial"/>
              </a:rPr>
              <a:t>13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 and request you to book the following order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refer to your quotation of May 4,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20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3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and ask you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o supply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12:29Z</dcterms:modified>
  <cp:revision>32</cp:revision>
  <dc:subject/>
  <dc:title>BUSINESS ENGLISH</dc:title>
</cp:coreProperties>
</file>