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41B0-EBCD-4C64-B1BE-00C650B110A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C3A2-0865-4559-BBBE-45B0D9E541E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4643-868A-49FC-B044-7F88CC4BFD3C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B4D1-A07A-4917-AB8D-1C1C0D398512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D56A-C3A6-4B19-BDC8-2BC21BFCC1B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1E7B-5F69-4A1A-AA21-09156157B426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4A18-1952-4E58-B374-FAA6C3E8836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69C-AF2E-43FC-9887-952204510707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87BD-9A69-4E03-9BC3-BCE3335569A0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8365-91DC-44DF-A5D1-53E1E028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447-8298-4AB8-8438-43062CAA8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56F3C0-1F67-4C23-8E07-9D5C9178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6C11A1-B338-4FCE-A2E0-628F2ECE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46EAC-CE83-441E-9074-EA9B6965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201C7-831F-4CD6-B0B0-5A042094F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160A8-598F-4A51-91FD-8FE1F66D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8040F-B33A-4F14-A0C6-D68420EC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204C1-CCD0-4391-B55F-0990C43F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89D14-0F9D-4F34-9343-2ED4D9B5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E5EBF1-60C5-457C-95A2-AB2007F1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45C61-D2D4-42A5-BDC2-DEC3F820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1409-9D33-49FC-84ED-A08F2A24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4010B-1B3B-4EAC-9BA7-8D678771B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DCBE1C-2A38-4560-871A-7CEBE609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93D8F-FECA-47FD-A354-C8E96C9F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F82C9-3B70-46A3-819C-0A8210A4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08AC4-399E-4A4C-9BCB-DC6BC2D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6DEFD-F277-42D8-8607-E0F4DBFA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95E6-160D-4C79-8744-501D1930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3F4F9-9EF9-4B8E-9BD3-6B8B75B9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4E0E5-442D-488F-A05E-A3B756CB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8FDA2A-8259-4C2B-8BAC-22BA0DF5B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A28-D443-4711-B326-DECB98A01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E8990-BBF9-4178-A8F8-34E7FFEA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FEB60-2184-4245-A26F-8978A3D6C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62050-DEE9-4A66-B349-55308893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EE70B-20C2-46BF-8952-86E97EC7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7044C-D8B0-450E-B05A-48D6486D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9B73D-4038-4810-8AE6-9A10F708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3B6FB2-9C94-44EC-ABA6-AD399731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643CBE-2A7F-4AB3-BF04-656E65C2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0F914-5150-43E8-993A-42DD1197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68E34-8C41-4D62-9D2A-BF1EA51D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2369-9C7F-4D7B-BD14-4465845A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3DA1C-3045-4EC8-A24C-34FF7319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E03C3-1C48-4094-B460-B4D4C096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16D8B-CC92-4DDE-A782-3C95A34E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9DCD0-AC3C-4257-BAA1-DCC76B333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8DFF9-DFCF-4516-A323-8144056CB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606F4B-9A0A-413E-9A84-D0F78C3D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3AF5B-00BD-41C3-AB35-E6B03013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5D28F7-F2DB-4969-A8EE-5C536B8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1D620-9C1D-4E83-8C01-38C81881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BBB08-872D-4A50-92D5-35970A2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9162-27CD-4556-9355-E1D5BC7B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37B2E-5ABE-41D3-9E6C-B2B98D4C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A4E1F-EDDC-477E-9524-C63D2DE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EBE50-3EC6-45AC-B789-53E91A247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48FE9-AAEC-4D53-838B-127FDA18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74965-BF44-4230-8EF3-6AFAB2DB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99751-099A-487B-BC76-B5F74DF4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C4F51-BECB-4E1F-97E9-EC587B6C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96947E-2EFE-4199-A5B4-9AE0161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0ACEA-095A-4B62-A51E-0C83DFF20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824F2-29AE-47A9-B0F2-E053DD3AC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516A-EA8F-48BE-A000-5611A212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DD5C3-0C93-48B2-BBC8-16AF50DB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56AAA-FD17-41B3-8ED6-9CE1B305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772D7-0E83-4DD8-B631-631924A2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397A92-C78A-438F-A3DE-88531B7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BD785B-3889-4A97-A842-71C203E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0DDE3-937C-4B90-9D3E-8EB97C2FC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3861F1-7611-41BC-B04C-35DF2D9F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4CA5A-A976-4789-8370-BFA50245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F88206-9265-4F94-808A-922CF153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743E78-7AA4-493F-B08A-200A3616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AB34-B935-4FCA-B4D0-78A0C2C9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F0DD0D-72EA-4BBE-B61E-DDBE986B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D2CC69-557B-4C05-AC59-DDE3C7D1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4AAD0-5A6F-49EC-816A-716F0725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51D820-BFDE-4C51-92B8-5AA7167E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08D3F0-DF53-4C8E-9F43-57D43CC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36F7D2-1F02-4C46-A258-1E5054BF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62663A-FF80-4FE1-978C-40B63480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3E4458-7ABB-40A7-B8E2-96E54CBF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B183EB-A59F-479B-B0F3-D07DAEA9C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62D17-229D-492D-BE87-D4F961C22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937FF-B770-40F0-B277-8269EE88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E130C-57B8-415C-87E5-A4A8FC60F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00261F-896E-4D33-B81A-D91CEA4C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6420E2-493B-47A6-B865-5D9DEA19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B7951-106D-4EF6-BA6D-65EFF460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8BF011-19B6-4FA7-8405-BCF24986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C154DD-3925-45A7-A061-80014143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F119A3-0D60-4E9F-BAE9-CFBB0B31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63559-31DA-4980-978D-A46D2232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36CB1-7EF9-42F1-AD64-0047EC1C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2C0153-2338-46B9-9BF7-8177339D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B5F4-2397-4E6C-A493-A7A26574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D4CEF9-3F44-4580-B934-D15793BA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AE9DEC-A603-44BE-985E-D5A181D4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E065A9-E672-4446-BFD2-600660B9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92842-8EAE-48DB-A8F6-901799EE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8F7025-FD96-4B14-B27E-0FEC696D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2E1E7-C982-47EB-AB41-5E248D66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62218E-6152-46ED-ADE3-8D997614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A2E245-AF9B-47ED-A95D-2B957873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156647-CDC9-4575-A0EF-0D1D098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48BA2F-0A3A-46FA-91D6-97D2A060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8EB71-D7D4-441D-8EC1-4EFDC8B7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DAD326-006E-43CB-A18F-8BC9E337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B67E3B-567B-49E2-8F36-21EBAF02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5BE05C-1053-421F-9248-31B920283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B377B-6FDF-482C-8A64-2C6CAEF3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3218CD-B453-4E01-B553-BB2B2F8E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CDCE1-0C03-4AE2-AB72-92676049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60A34-0E4D-4E95-8D25-D89D44F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62D42-D41B-46B5-99B3-0C9A32A29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5CFA94-244B-4D68-8460-6BE29E92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48FAC9-FB0E-4650-8EAA-B03933BC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E62-2BA3-4EFA-BAC9-67CAAAB39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D24-2B8D-43D1-8741-BAD44083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44B37-BB85-4829-AA6B-3F06C39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85EBA-FE67-40D9-8B10-D8ABF339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A23216-4EDA-430D-97D5-9601C96D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0730A6-9193-445A-8AFD-FE0D2FDF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1794F5-7ECF-41CD-AB74-AB280C2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D221FD-FDF1-43D4-BE6E-BF35B6290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BBCC79-B05A-46EF-9C9C-946DBFB0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01C12-DDF4-4D8F-973F-B535335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D8DDB4-4A79-4DEE-BAD9-65C7CD1B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7319C5-F722-4E1E-A665-A69B5E71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EFED-4507-4C1C-8C3B-C563A9D81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40AAF7-C60A-4438-ACF5-43BDED50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422A1-9D8E-46D9-BB0E-D0576D5E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3960CF-8771-4695-A287-9988D68D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C033B6-B040-4717-BB1F-C5A14C47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D91B3-6CAC-4305-8381-2A4D7917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E4C4B-C2EE-4820-A110-62F30A3B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CCED5-DCB1-426D-8F34-58AF61350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B3E943-1548-42B7-8E55-99603242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3D2F69-6D8E-4977-84F9-BA1B011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6261CB-FA95-4BCB-BAE4-02A4B8CD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23C7-6C05-4AA5-9285-EEAF6CA4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ADD7B8-4CD6-46B3-8B9E-E623F99E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70BB2B-1F07-4593-9AE9-991EA90A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26D32-32F3-4891-8071-71CBE4DF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E2AAD2-F587-4353-91A4-5093704C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BAD415-5924-4A63-B598-9A48545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4BCC4-7A51-4965-9707-ECDEE15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88684-2F24-46FC-B2A8-72502BDE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B96DD3-4BA1-4FF2-85EB-92A5609A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646D7C-51BB-4771-AE10-9E277E7E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93669-AE20-420E-9729-E5EA0A3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DDEE-B308-4FAE-B41F-3DFEB263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FD1F9D-ED26-4FB9-B35B-0049E9C8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33C05-AFEC-403C-8A82-C2755E63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A39A07-BD7A-45A1-95B2-9FE6BDEA2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2A846-B703-4180-BB27-50A8A37B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A9DE22-3C80-4CFB-BD7A-0AC117CA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9CF08-9DD1-4FA9-A2DC-75F7494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8EA98A-D2CD-4C84-AF93-782719C6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4B0CF4-1B61-48BC-854C-9E7EE61F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107780-464E-4BFA-BD59-21D35296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B5FD1F-A87C-4F12-9ACA-03E57C33B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CE50-CFDC-4A00-9B2D-244B8BB0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ABC43-5ED5-4622-9998-E3886B78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9F412D-7F6D-4634-AB1F-F606C6BB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CCB7A1-82DD-4664-9C23-7DF9099A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694C93-A56A-4254-9120-0FA79A40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7CE66E-CC40-4BE0-BB2C-06C816AD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353E25-9481-4852-82BD-A6D31057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D09CA-2293-42F9-AE7A-7AE7CAC3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02FBDE-A63D-4E9E-9705-176EC2D7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D2747-0933-4690-B390-24823A57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2FD543-4E21-4DCD-BEB5-E6C7A68F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8BEC-388E-4908-B3D3-A9249258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CEE94C-08E8-41F3-8344-82E3ABCCD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906940-DEDB-46E3-8021-EB47FAF59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8797D-8000-4930-8BFE-F8EC86324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8FC7A0-8A22-4B76-B428-F942BE2BC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D73931-0359-4711-98A2-7C596451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65489C-F141-430D-9645-3AE44F95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439018-5932-4EBD-A3DC-87BC91C1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5F3D65-D7F2-4302-955B-C6337DB4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CC44C-2D81-44CF-A2CC-BA7EB4C3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52DA85-1813-4B9B-AB33-BC864E1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6C88-3FCC-480C-946F-84C58AC41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F6B7B-1373-4DB8-AEAF-84027AF9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51C406-31AB-478C-B23E-38B0135F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EC9ACE-6E07-4EF7-AC7C-3951BC13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A18D1-986B-4041-84BD-3941140D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416F7F-6226-4A8F-92B4-34BCD64F9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D19C8F-391F-4F9A-90F4-56B30FB3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BDE9C1-8282-44FF-AB30-8FC8D3A3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E64DB-A3FF-4A73-8349-B5EFF7CA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D32EB6-B6CD-475A-BEDD-54AA56C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B922CB-752D-46B3-9D2F-466D0C47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AEE56-2129-402F-8D14-89BEC7CB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2BCD35-B93D-43C9-984C-94959EDD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90E76-B4C5-43EE-92DD-D5E62B08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6ECA97-E489-4DD8-8A9D-2012FEE0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975A2A-D35C-4401-9DCB-921AD7DF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E51A10-7600-46B1-9CAB-17B63874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49EB1B-4B51-45A2-8B26-D17BC5A4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07C7E7-6D90-4331-8C4E-C9E8FE58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6D7A23-AD3C-49B5-9B14-4A0745FF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93F5F3-3294-4990-B9F4-1F96FBCF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DD923B-FD15-4795-B658-D36544C2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F5F2-9FCA-4084-82CD-9E1FC8CC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CFB2F6-02CC-4BED-8A52-E522B7C9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0C2467-4A9C-4A8F-94D8-24F364AC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B26A7-CC60-4E2F-B253-1992140D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925FA8-C268-4889-BB12-BEC6A9CB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62F34DD-25C6-413B-B2EA-C1AD6D1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9A2B01-B8CD-47B5-BCD6-431605AB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2FF49-EB75-4BA3-BDA7-5F59A0E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5569D5-E324-4666-A41C-6BD4E601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E24528-CEF8-4498-A1E5-CE1E9FCB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7D44F7-F5D9-49A6-966A-50D59384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1F81-E476-4DB1-B26C-B5B62F86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54CFAE-6C18-469D-A103-6A2A82D1C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1D4BBD-D8A3-44C2-B212-624789A7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9AD4E8-8F75-479A-AC04-E0EA861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8CE75F-8513-4C68-8A9B-F217BC6F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33836B-DAAF-4D61-9D75-00C209DB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57FEC7-714F-4D67-BF2F-A7BCBC92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3C84D8-12A2-4BA0-AA66-15E0414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470705-9AB6-4D6B-88A8-DD8FAAD9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94F50D6-3BB9-418B-83E1-EEADA1F5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E319A8-569B-48F2-81E7-4A14D72B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469F-6E0C-4C65-A233-0207A3ED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9DBC5-D38C-430E-A830-305E732D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EB34D8-2231-43A9-8961-CD6EEF16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A770F9-E85B-41CD-A1CB-23FF78BC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7C44A1-51F4-434A-AEBD-18E7FA75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FFCFA1-C7A8-4CF4-A8C3-A0AC73DC4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E40183A-F66F-41BE-A387-2E6AF7AB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009DF0-7514-4885-A291-1DF472E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98AAC1-7939-40D6-93E7-EF05BF0E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A85BD5-3A3F-44BB-B251-27998B9B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66136F-8959-41EF-A081-6901BC57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71403C1-3E7C-4DB5-9709-A84AC22A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E1E29-7B48-49D0-881D-3713738F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1CAD12-15BA-4C9C-A064-889D8C4A0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D646B2-DD73-4AB0-9BCD-41669C05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89B19F3-152E-4EAD-AF81-8EBD635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EF27518-D56E-4E8A-946A-BC9E1C27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F25F20-E3D1-45A2-9EF3-37D9D3DF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000DCB-4E3C-450E-8472-58243D55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5E8C1B2-1B5D-4342-8F61-F070EA0A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1284E-5570-4CE5-BD0C-5A78EA88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D7F279-D06F-4137-803A-D0A64BC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84C60C-EEFD-46FB-8704-59186761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69A05-DD09-4FE9-958F-A10E07E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B29710-53C4-4EAD-9783-613B80D7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50B6D5-B342-44CE-857D-BC208BCF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E9C1EA5-897E-4DB8-8743-D3381B0F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17D2CF-5F26-433D-A0F8-3809DD4D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18C4C0-88F1-431E-AB7C-7D214EE9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4D7C0F-FC5B-432C-8F42-B45639FC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79E06E-8F8C-4443-9273-EFAE9361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098565-20F2-41E1-97F7-D74E3C5A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209A2C-E0B1-4F70-92B2-20DFEF05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5A9BAD-23C2-412E-BBC9-6B8D986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82085-8FEB-48F5-AFFC-A34E50B1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FD4FAD-D9BA-4E13-9A6C-89941B76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BE1190-C46B-42C1-93FA-EC82E00E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7D9871-32C5-423E-8AC2-48A441D6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B2DEB9F-D4D9-456E-9EEF-BEFBEBA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61FAA0-CEDC-4D7A-9058-3BF6215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BF6308-CE20-425D-A631-1FC41A8D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CA6C38-86C7-451E-B75E-0614299E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70DFB-A319-4C3D-AC56-3C54035A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3578F-35CE-4DE4-8CF7-78D1AA84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54295-AAE4-4704-BF72-627A4D69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B64A6-8675-4ACD-9C8D-27C5FFF7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50C14-6B4E-437D-AD81-9FD1A09B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6BBF5-6E77-4B8A-A05B-FF365264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3ECD-96FF-4A79-B178-9F958E82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EE6B-180C-4BD8-886E-C9FE8A22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6B97-DDAF-4BBE-9182-404460DB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6621A-1EEE-481E-890C-CF392C2D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FF67-971C-4809-A1F6-D468BC5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15AB9-E249-40A2-9F5A-E92A9903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5F49E-9718-4147-97DE-389AD7CE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B2EB6-9127-47A9-9F14-2DDABB71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67D01-04D2-4FAE-9727-2AE69715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66AB1-6BAD-41AC-8473-2F240D33E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6DAE-8DB2-460C-BB1C-6D1A8A13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AAD-6C50-4BDC-9D37-4437EAC3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D913-9090-4340-92E4-B94E29EA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DFC1C-A8C7-408E-AA5D-536F4030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7AF34-3D14-41D5-A52A-31DD3001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DE6C-31D0-4FAE-A1AD-D4913F0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DBA64-9F2D-48AE-A787-FBA791D1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27068-87D1-4F3C-ABE1-3BC16F05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2E5D6A-0365-48E0-B1E0-ED454D02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32B8F-68BE-4423-9CD7-5A2E2A27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C463-4BE2-4C54-8346-554BD7C79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CB3B6-133F-4CCD-B4C4-BB0243E63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8348-0BD2-4949-B8A8-50563A7A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D997-ACFF-48E5-8CB7-1209433C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0E6C5-C7C2-41B0-9B05-1A2776B4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7877F-70B0-4E9B-9DC1-6C52EA97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91A1F-5B54-489D-9EE9-21D0C779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B2EF7-6C9B-438E-BB28-7269B75B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1B6A-7824-45F1-9414-6D858768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C77D3-13F8-41CF-B1E3-942BD38E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23F1-F0BC-4A47-BEEE-A07DFD99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E0029-0451-480A-A998-01EAD243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67EAD-41AB-46DF-97CA-FE3F6202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D5F7-B869-40A9-A27E-788321B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7D959-DE7F-4DBE-8814-8F46A306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40352-594E-408F-9352-8E875D749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74FAE-3C73-449E-ABE0-93B81201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5FBF1-EFC6-428C-B528-497B878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A5FFD-3874-430B-9A1B-255CF356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2BA8-790F-4389-8925-4E298866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1E9C0-17CF-4655-B14F-21C4BCC4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37E2B-49C6-46BE-B751-B9D43A3C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95CC5-52D2-4619-8B10-0B6A6591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545AA-C4C3-4322-B963-67311981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78D8-0B38-437E-9343-428B0685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31680-772E-48F5-8660-7E4192E0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7E6C2-36D9-49CD-B956-13145DD8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FE022-D0FE-49FC-A914-A382291D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6EEE-F35C-41B8-B427-F5656705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B5D83-29A9-4496-8C95-3AE0FC13C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73E6F-C3A5-436C-BB6B-56AA3290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C10D0-090F-4D59-90C2-5BD97C5E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CCF0E-402B-40E5-BC71-5037F1F6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91081-ABF2-484C-84AF-A56097A7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F84D2-9FF1-44DB-BF82-5AA1E665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1952-0EFB-4EEA-849C-5E3FC8B4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B1F57-DA46-4CF0-A1BF-1783C19A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129EB-CB93-4BFE-8E2B-BC9991ED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BEA26-7D5A-4EA0-944D-345F571B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57499-4CB6-47A4-8E03-4522FC6E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F9B18-E233-464C-A634-7D14B213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548CD-A20A-4849-B65F-7E68C01A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989435-CC07-4CD1-8AF6-1E78314D9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1EF0E-B51F-400E-A080-2EB0ED71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2A5BF-D941-4F2E-B9F1-A4DE6852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E593D-6129-4E8C-BB25-246F3D15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E2BB-980E-47C4-8EA3-8BCD649621EB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EF01-B176-446E-B9D7-8B9C6FEB6A6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E4B3F-F15A-4CF7-8B30-1931150B139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0B721-7FD7-46CA-B0A5-2ABE9A79A16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C398-EA90-470C-AEF4-069409908229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75EC-6CC5-4CF0-B958-E900E0F3B34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EFA83-8651-42D6-AE2D-F20EB62D7E7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B2EE-CB08-4A9A-8817-13FC8A53653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E35F-06D5-4DF5-87B0-085AC67111D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A1C4-8FBE-4FD2-9150-E89A305A40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B91B-F923-46F8-A350-0168DE9A699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C1F2-F06E-4B12-B85C-30A612D0FE0A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15E6-8224-49BC-93DF-826D64C16D3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8FE8-B0C1-4479-AB7D-A6669DC06BE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4555-C689-414C-A47C-ACBFF064AD6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D77B-C261-482A-99EC-B247B76563B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2436-8F38-4BA1-9778-A79370310EA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B83E-69E2-4696-887E-26C343D8F81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06D4-16B2-4B3A-BFF6-4135CDEB2152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D0C3-F763-4289-BFF0-745A6DCF9A7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9D47-4D3E-42A4-B199-875FB0C50AA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AF63-0EC6-4394-94C4-720157C3682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EBC7-15A5-43BF-AD00-A143215A727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9326-C81F-49EB-AB7B-B895623D6306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0B95-C0CD-462F-82D8-7805853AD0DD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1E63-5EDA-4BF5-88D7-225C5A39B5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16CF-5805-44DC-971F-CFFDC7A33BE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6FBA-60EB-4F2D-AC7B-FB48E586F29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4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nsultancy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surance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320" name="Organization Chart 10"/>
          <p:cNvGrpSpPr/>
          <p:nvPr/>
        </p:nvGrpSpPr>
        <p:grpSpPr>
          <a:xfrm>
            <a:off x="833400" y="2637000"/>
            <a:ext cx="7632360" cy="3023280"/>
            <a:chOff x="833400" y="2637000"/>
            <a:chExt cx="7632360" cy="3023280"/>
          </a:xfrm>
        </p:grpSpPr>
        <p:cxnSp>
          <p:nvCxnSpPr>
            <p:cNvPr id="1321" name="_s1028"/>
            <p:cNvCxnSpPr>
              <a:stCxn id="1322" idx="0"/>
              <a:endCxn id="1323" idx="2"/>
            </p:cNvCxnSpPr>
            <p:nvPr/>
          </p:nvCxnSpPr>
          <p:spPr>
            <a:xfrm flipV="1" rot="16200000">
              <a:off x="5918400" y="257616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4" name="_s1029"/>
            <p:cNvCxnSpPr>
              <a:stCxn id="1325" idx="0"/>
              <a:endCxn id="1323" idx="2"/>
            </p:cNvCxnSpPr>
            <p:nvPr/>
          </p:nvCxnSpPr>
          <p:spPr>
            <a:xfrm flipV="1" rot="16200000">
              <a:off x="51325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6" name="_s1030"/>
            <p:cNvCxnSpPr>
              <a:stCxn id="1327" idx="0"/>
              <a:endCxn id="1323" idx="2"/>
            </p:cNvCxnSpPr>
            <p:nvPr/>
          </p:nvCxnSpPr>
          <p:spPr>
            <a:xfrm flipV="1">
              <a:off x="4649760" y="3845520"/>
              <a:ext cx="2160" cy="605160"/>
            </a:xfrm>
            <a:prstGeom prst="bentConnector2">
              <a:avLst/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28" name="_s1031"/>
            <p:cNvCxnSpPr>
              <a:stCxn id="1329" idx="0"/>
              <a:endCxn id="1323" idx="2"/>
            </p:cNvCxnSpPr>
            <p:nvPr/>
          </p:nvCxnSpPr>
          <p:spPr>
            <a:xfrm flipH="1" flipV="1" rot="5400000">
              <a:off x="3561120" y="3362040"/>
              <a:ext cx="605160" cy="15721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cxnSp>
          <p:nvCxnSpPr>
            <p:cNvPr id="1330" name="_s1032"/>
            <p:cNvCxnSpPr>
              <a:stCxn id="1331" idx="0"/>
              <a:endCxn id="1323" idx="2"/>
            </p:cNvCxnSpPr>
            <p:nvPr/>
          </p:nvCxnSpPr>
          <p:spPr>
            <a:xfrm flipH="1" flipV="1" rot="5400000">
              <a:off x="2775600" y="2576520"/>
              <a:ext cx="605160" cy="3143520"/>
            </a:xfrm>
            <a:prstGeom prst="bentConnector3">
              <a:avLst>
                <a:gd name="adj1" fmla="val 15535"/>
              </a:avLst>
            </a:prstGeom>
            <a:ln w="28440">
              <a:solidFill>
                <a:srgbClr val="003366"/>
              </a:solidFill>
              <a:miter/>
            </a:ln>
          </p:spPr>
        </p:cxnSp>
        <p:sp>
          <p:nvSpPr>
            <p:cNvPr id="1323" name="_s1033"/>
            <p:cNvSpPr/>
            <p:nvPr/>
          </p:nvSpPr>
          <p:spPr>
            <a:xfrm>
              <a:off x="3976200" y="263700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31" name="_s1034"/>
            <p:cNvSpPr/>
            <p:nvPr/>
          </p:nvSpPr>
          <p:spPr>
            <a:xfrm>
              <a:off x="8334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LIF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S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9" name="_s1035"/>
            <p:cNvSpPr/>
            <p:nvPr/>
          </p:nvSpPr>
          <p:spPr>
            <a:xfrm>
              <a:off x="24048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PENSION 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7" name="_s1036"/>
            <p:cNvSpPr/>
            <p:nvPr/>
          </p:nvSpPr>
          <p:spPr>
            <a:xfrm>
              <a:off x="39762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ACCIDENT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5" name="_s1037"/>
            <p:cNvSpPr/>
            <p:nvPr/>
          </p:nvSpPr>
          <p:spPr>
            <a:xfrm>
              <a:off x="55476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TRAVEL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22" name="_s1038"/>
            <p:cNvSpPr/>
            <p:nvPr/>
          </p:nvSpPr>
          <p:spPr>
            <a:xfrm>
              <a:off x="7119000" y="4451040"/>
              <a:ext cx="1346760" cy="1209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HOUSEHOL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66"/>
                  </a:solidFill>
                  <a:latin typeface="Arial"/>
                </a:rPr>
                <a:t>INSURANCE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Life as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insurance (usually over 20 yea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certain amount of money would be paid to your family in case of your deat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n be accompanied with an insurance against serious illne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Will be paid to you at the end of the contrac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can back out of a contract under certain condition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Pension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ng-term saving with a state benef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gular pay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for the time you reti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usually cannot withdraw your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Accident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against accid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against damages caused by your activ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an accident (broken arm, leg etc.) you get some mon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ravel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ing yourself before journeys abroa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o avoid high bills at doctors and hospitals in case of illnesses, accidents, car crashes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your hospitalization abroad a member of your family can com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 case of death the conveyance of your body will be paid from the insur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usehold insuran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burgla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gainst floods and other natural disas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rt of the loss is covered by this insurance and paid to yo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accounts, deposit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ha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on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toc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5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7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Moderní bankovní služb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představuje moderní bankovní služby a zavádí další pojmy bankovní angličtiny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ccount, telephone banking, internet banking, insurance services, investment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191124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43280" y="3357360"/>
            <a:ext cx="4013280" cy="122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MODERN BANK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SIC BANK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ing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xchange off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DERN SERVIC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elephone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et bank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sultancy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surance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elephone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You give payment orders or check your balance via telepho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ansferring money between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aying bills and invo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ing your bala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rdering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heck movements on your accou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money transfers to other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a collecting dema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e-state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-charge your telephone cred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ternet bank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llows you to make a contract about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uilding sav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various types of insura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ssuing a bank card, credit c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s and investme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es internet banking wor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ign a contract in your ba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Get an access to your account and a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pen the web page, log in, sometimes you get a password via s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financial operations onli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nfirm the operation with your passwo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g o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35Z</dcterms:modified>
  <cp:revision>17</cp:revision>
  <dc:subject/>
  <dc:title>BUSINESS ENGLISH</dc:title>
</cp:coreProperties>
</file>