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7F2B-0150-46F1-B210-20C0D16FDFA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4DEE-F2D7-4B0F-ABD0-66FEF4FA4C5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A6D7-E245-4B17-A705-9AED8D26FF1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1105-71A7-4809-A27E-F3DE284A776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5944-F74F-4CD0-AAE3-888CAD172EF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8E00-51F4-4B7E-B5C7-7EEA636D436D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BAB3-3AC2-4295-8C21-8506137ADC9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7A1F-B6B2-4A1E-8BF1-C9116FA7620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70D1-D3C6-4205-8B73-CEB120ED14C1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EE4-A8F0-4241-BBFC-6723C5F3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F2C-EE6D-4539-8D69-F35C4C58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1856D3-8A28-4ABF-BE7C-4BF22D34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E1B08-4F16-4A06-A3B0-417539FD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A72E5-2B91-4420-8548-E306D1BC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A5B45-C851-454C-BFA3-52150C0B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D8D28-CEE9-4268-BE62-D3CFADF7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E84A6C-7BB7-44E7-ACDC-DF36595E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48F78-62F2-4630-8B29-93243465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75015-D88B-4756-BB4E-E7B6D4C73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9F8C7-3B31-47CA-936E-24F735B9E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65BDC-8D5C-4B5C-AC01-872E066A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40E-DCCF-487D-9CF8-D4C606C1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0AC55-9724-40D8-B82A-D6BA866D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49FFB1-C9EB-40A8-AC06-B2EE09D0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15083-1EB9-4405-B9E9-CB351A8B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1DD03-CE74-4772-98BF-B8DA061D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27E3CF-F61B-4C0A-B58A-1CED6C9A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6F467-94B3-444D-8DFB-69DB606D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9A697-F3A8-409A-AEEC-B699D129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8C6D5-B5F7-456E-8242-AA91D185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CFBA3-8959-43AE-B255-1FD58C2BB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4CCD3-3B11-432C-A4DA-38A93AEA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0287-9FCF-41EC-B429-BB0923310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E0891-63BF-4DA1-9C0A-8D535C2E0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631A3-0F83-46C8-AD7D-94BBA6BA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D9170-B3F9-495E-9C99-48072BA6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5E239-C135-4400-B4D5-800DFFB3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0581A-4053-415D-A339-6EDE8174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79D28-2A88-489F-82CE-08C9F03E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41187-32E7-46E8-9FD6-203CD0F07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1EBCE-81F1-4B3B-87E4-3E85DA3D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5C829-7B63-4F9C-9AA7-151B4426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4C15F6-1DBE-4C09-AE1D-00EE290F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2E4A-3DA5-4A45-B995-9806172E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61E0A-DF54-45EC-97A5-66B2B900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177398-95E5-4B3B-A626-C96877A97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3AB90-A051-4BE5-AB4D-8E15A34AA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CAA7C-8487-4222-BE40-3CC07E323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FFA829-1879-4F00-A8B4-8463DFC6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8EDE2-3C34-4070-9C38-78190C38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7089E-3671-4F80-80F5-76C696BD2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527791-B7D2-456B-99EF-87385ED7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2F9B9-222F-48AA-8E7B-1F9B380A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6740E9-54E8-4799-9DCB-C444BD4E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21D5-9D98-42FE-98F6-AB877BA9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E028C-7C4B-480D-9421-6A8CBF59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549EB9-3374-4DCE-99B8-249086C6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DC2971-4B36-49DA-8FAF-BDC8627AC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8D42C-A452-4FD9-A054-27A8F524C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8CD9C-FE31-4887-A415-70F63EBB1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1D4792-095A-424C-A353-6B89D5B3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B484F2-2FD7-4E89-BEE4-EC006F6B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D946C-1F5B-4F3A-87C6-FDE2FB61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0B36A-19A4-49E6-98B6-42456AF1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FA068-4743-409F-984F-28B1902B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03FC-DC70-4533-98A2-7210E570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17668-98E5-4DF2-AB68-CBACA871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19465C-88E9-4899-A326-411E6CB4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046B02-F958-4DF7-B5DE-5A154A15C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73604E-839C-43CA-B13D-2D925926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4948F-4FF8-4C2C-BAD4-390B4047B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19C5E-5E87-453C-B085-9BF43A84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72A252-F36B-4E20-8858-B604E793C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E563-7953-4945-B4A4-85539DB0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FB01-86DB-4053-A579-BAC9764C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C3D81-2597-4045-B5A5-50FCEA3B6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3DDE-286B-4BA3-8E7C-FC5BAB5F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530F-7B22-44BA-B6FC-C7E7B902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B082-1F5D-4B9C-9336-1E78BBEB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82B5-2DEA-475F-A00B-A6C1DA09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718A-2486-4D2D-8451-CA36621B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E75D-E68C-4066-924C-BC886DA0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051F0-81EC-4DF1-BBD6-6BC18376A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6A16B-0421-4114-97CE-58ACF4C2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5D476-3350-4739-80B8-F2D47BBE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54F32-D3D6-4E7D-9B82-8BF35FF0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4741F-44C3-4D3F-A850-F55FB1BC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C0CB4-E53B-4EF8-A027-6F21B9D7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35F9-F396-4E2A-94D8-2F453A57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0CCFD-B1F5-45CA-9FE5-6CAB149D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E8F63-D5BB-4A33-93A8-4A22133E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417D1-2F74-4646-89E9-44DD8C3E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07480-2653-4857-9746-4525B144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0802-67E0-4760-9A25-B1A361F1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74CB7-E07A-4BF0-9443-D7FEF127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1F76A-BF76-4D7C-98C6-990D5C7A1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79D92-5E16-4C0B-9BBD-50CB1742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0A0CC-4272-4AF4-A50C-F413342D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B1A672-3EEC-4516-B61F-DEF4DCE6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CB0-1EC8-48F9-A77A-78A35EE7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7D9BD-F562-4ACB-8A02-F7332D7A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C10D5-E8A8-49D0-B282-1EE9C38A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2AFF0-3998-41F4-BE59-716B05D6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B5677-B36C-4AB1-80FF-219C5ACD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6921F-EC20-44D2-B605-53DD00CE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B94CE-7711-4F70-AF74-9EFB2EAE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0B380-DF3B-43B0-ADD3-B51445D4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F498F-A3EC-49BF-8C55-CAA709AB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8580E-C4F3-4B57-98F6-E16DE0538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0B4D1-9E2A-45A3-A88C-BF78BCD44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55A4-D340-4E3D-802E-CCAA3752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93AB6-B94D-4058-90CA-C22FB062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1F6F5-91CC-49A9-9DD4-907DD586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DFF7F-2B8A-4C52-85D6-1C78881B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DA38F-0BD8-4AC1-9BB5-4542FFDF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1D238-9FA3-481A-A84D-EC73DA87C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9BFA7-C729-4CC2-A5A1-E448395E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A7F18-BF6D-4A92-BBA9-65E2F4F0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FE219-744D-407A-BB5F-22A04728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BA760-CFCB-4058-8FC2-609FC042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BF038-31A6-4093-979C-434C1E51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C132-DCB8-4496-B40D-E6724F44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F5F43-3D8F-4693-A9C9-A753A9E6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5046A-8AF1-437F-8095-A19A90F5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B0BC8-46C2-414B-AA8C-B1784132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A9EBB-6EC3-430A-BE2E-550F30A5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B5D13-1277-48E4-971D-1553DF64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7770C-42E0-4C48-B70B-22F81D9AE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779D4-F754-464B-A032-64C4DE440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CBA95-A468-437C-9087-14347562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E9735-DF35-426B-A350-5B132FA0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3DCC6-7E7F-40AC-B440-EA33A141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611-648F-4C9E-8370-5A0B4567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30F67-93D3-4501-8132-4ECCEE92E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14235-30F2-4E80-BAD7-924C5FBA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6DB11-F270-4F17-8F11-E9E48B676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D7515-12FF-4A76-97A4-BE89AC50C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8E091-3DB3-49B4-8F8D-BEAD384B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6D212-E662-47D3-BFA4-77B7524D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CF70C-5DCC-40E4-907A-A353E0DDA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EFF2F-373E-4492-B184-36EAD810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3538D-0882-4091-AD73-3E29A23DE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BFB6F-70AB-4615-8BCD-16938AA7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B3D6-899F-4E6A-B39F-5DEE5960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22105-C5E4-4AB4-AFC1-7304B6D5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A461B-0199-4674-83E9-BCB059CC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2691A-BB6A-44DC-BDF8-2FCE0133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1EDC0-2BFD-49D5-A8FA-AD06F548B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EED15-23F1-46C3-A8C3-02635A8C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D9EEA-3819-471C-B216-D84ACC41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F909E-FFA6-4815-A55C-9F2106E5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082F5-8A64-47F1-91DF-30020ECC0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06D5A-7A32-47E6-AD9B-6DD5C641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3DB9D-77B2-49A0-A9F9-AC073EBA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9C9F-9D91-489C-A706-EEE0CE6A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F84BC-7755-4FC4-A643-FAB2E76AD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106D06-7468-4BAD-8CCD-CE20A92F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52374-37B0-4521-A1F0-BD9C94B1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3F87D-00B1-47F9-AF1A-319F4B50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61176-1935-4204-B87A-887254F4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43E2B-7AEE-429F-A113-D14CEDFE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DDF17-F8DA-4F74-89A7-852CF310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E2197-AF44-483B-ABBD-21311926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8DAFC-719C-4B8E-95A1-8989964D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E2BCD-480E-4BD5-BDE8-B2AE931F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F97A0-7659-4F48-9C46-B0FDADAF70E8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1103-5595-44A3-989D-81CF21C95FA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46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571D-E4A7-41C8-8D71-23551E7BFD2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F752-CDDB-428B-9A29-CD3C215B173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ADAA-E8D9-4AF8-BA76-27E1BF6409C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8AA1-8A40-4A69-8508-DB934E75B27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8483-E263-4128-8F34-82BAAE28D23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6FF7-5CC3-44B9-A5FF-0F7B33C542A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9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9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9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6B88-3BF1-4F5E-B833-3AD2F6F1E407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4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8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340EC-E6F8-4811-96FE-A7595E31540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8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8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29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29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08A3-8650-4B31-9875-EE91B00056F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3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066A-4D82-4ECE-822B-19310BD6408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38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2E63-F0D5-4B01-A5F1-ECFE36240B7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0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5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1" name="Obrázek 1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fety r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 your card carefully and visib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Keep your card at a safe pl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keep your card together with your P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lend your card to any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Never say PIN to strang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fety r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say any card data to strang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say the identification password for communication with your bank to any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sure that nobody is watching you to type the PI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fety ru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n´t use your card when there is anything strange with the AT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eck the statements with card operations regular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yourself sure you have not lost your c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1258920" y="1557360"/>
            <a:ext cx="77007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3366"/>
                </a:solidFill>
                <a:uFillTx/>
                <a:latin typeface="Arial"/>
              </a:rPr>
              <a:t>Obrázky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ttp://search.creativecommons.org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nkovní kar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definuje bankovní karty a jejich typy, způsoby použití bankovních karet a pravidla bezpečného používání karet a představí odbornou slovní zásob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nkovní karty, kreditní karta, debetní karta, bankomat, výběr peněz, PIN, výpis z bankovních kare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3" name="Obrázek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673520" y="29271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NK C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BANK CARD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45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plastic card issued by the bank to help you to get to your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08" name="Zástupný symbol pro obsah 2" descr=""/>
          <p:cNvPicPr/>
          <p:nvPr/>
        </p:nvPicPr>
        <p:blipFill>
          <a:blip r:embed="rId1"/>
          <a:stretch/>
        </p:blipFill>
        <p:spPr>
          <a:xfrm>
            <a:off x="5411880" y="330048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610" name="Organization Chart 15"/>
          <p:cNvGrpSpPr/>
          <p:nvPr/>
        </p:nvGrpSpPr>
        <p:grpSpPr>
          <a:xfrm>
            <a:off x="838080" y="2362320"/>
            <a:ext cx="7692480" cy="3723120"/>
            <a:chOff x="838080" y="2362320"/>
            <a:chExt cx="7692480" cy="3723120"/>
          </a:xfrm>
        </p:grpSpPr>
        <p:cxnSp>
          <p:nvCxnSpPr>
            <p:cNvPr id="611" name="_s1028"/>
            <p:cNvCxnSpPr>
              <a:stCxn id="612" idx="0"/>
              <a:endCxn id="613" idx="2"/>
            </p:cNvCxnSpPr>
            <p:nvPr/>
          </p:nvCxnSpPr>
          <p:spPr>
            <a:xfrm flipV="1" rot="16200000">
              <a:off x="5657760" y="287712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614" name="_s1029"/>
            <p:cNvCxnSpPr>
              <a:stCxn id="615" idx="0"/>
              <a:endCxn id="613" idx="2"/>
            </p:cNvCxnSpPr>
            <p:nvPr/>
          </p:nvCxnSpPr>
          <p:spPr>
            <a:xfrm flipV="1">
              <a:off x="4684320" y="3851280"/>
              <a:ext cx="3600" cy="74520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616" name="_s1030"/>
            <p:cNvCxnSpPr>
              <a:stCxn id="617" idx="0"/>
              <a:endCxn id="613" idx="2"/>
            </p:cNvCxnSpPr>
            <p:nvPr/>
          </p:nvCxnSpPr>
          <p:spPr>
            <a:xfrm flipH="1" flipV="1" rot="5400000">
              <a:off x="2964960" y="2877480"/>
              <a:ext cx="745200" cy="2692800"/>
            </a:xfrm>
            <a:prstGeom prst="bentConnector3">
              <a:avLst>
                <a:gd name="adj1" fmla="val 15514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613" name="_s1031"/>
            <p:cNvSpPr/>
            <p:nvPr/>
          </p:nvSpPr>
          <p:spPr>
            <a:xfrm>
              <a:off x="3530520" y="23623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Bank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_s1032"/>
            <p:cNvSpPr/>
            <p:nvPr/>
          </p:nvSpPr>
          <p:spPr>
            <a:xfrm>
              <a:off x="83808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ATM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_s1033"/>
            <p:cNvSpPr/>
            <p:nvPr/>
          </p:nvSpPr>
          <p:spPr>
            <a:xfrm>
              <a:off x="353052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Credit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_s1034"/>
            <p:cNvSpPr/>
            <p:nvPr/>
          </p:nvSpPr>
          <p:spPr>
            <a:xfrm>
              <a:off x="6222960" y="4596120"/>
              <a:ext cx="2307600" cy="14893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3300" spc="-1" strike="noStrike">
                  <a:solidFill>
                    <a:srgbClr val="003366"/>
                  </a:solidFill>
                  <a:latin typeface="Arial"/>
                </a:rPr>
                <a:t>Debit cards</a:t>
              </a:r>
              <a:endParaRPr b="0" lang="en-US" sz="33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145080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TM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imarily for ATM us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inked to one or more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so called bank cards, client cards or cash car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not be used at merch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quire P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redit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ssued with your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used at mercha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 you to spend money on credit of your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bit card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used for paying at a merch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unds are withdrawn from your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designed exclusively for payments on the internet (no physical card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or withdrawing cash (like ATM card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USING YOUR CAR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ithdrawals from AT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ments in shops, restaurants, hotels, petrol station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net purchases – hotel accommodation, flight tickets, purchase of various goods via interne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3:48:01Z</dcterms:modified>
  <cp:revision>23</cp:revision>
  <dc:subject/>
  <dc:title>BUSINESS ENGLISH</dc:title>
</cp:coreProperties>
</file>