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20C7-EB7B-4CE7-B41C-E98DD83C8C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8B4C-94BD-48A1-8630-FFFA56806BE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54E9-86A1-4630-995A-38D4EDA182A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950A-D655-42CA-98D5-DC5EC15BD20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6A93-83F1-4329-93F1-B47948E68B0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ECCB-54D5-4F0F-A3DC-8E40DE6AFD3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EDA3-5C9B-4F6A-B89D-FF772984B9C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88AB-4AF0-4F8A-A82B-10BE9A333A8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7A69-0A68-4B45-AE7E-62C3062D948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AA5-E20D-4AF4-8979-5B4F611D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658-3B4E-40C0-AA43-991BDBEA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CFA71-5FFB-4F79-BE0E-9EB01512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9AB10-BFED-4BB2-B626-67D91AF9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2812F-7171-45BA-978A-B76CF193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DD508-14DE-4D28-85E0-D3E24DAD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309F4-6AF9-4103-BE3B-C03B943F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A675A-B4AD-4907-AB05-47342C93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F4EDD0-88DE-4967-95C1-FE0D1BC5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77E22-475D-448B-A834-51AFBBEE1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29C38-38D0-4C5C-ADBB-6B40D03F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4F6D6-F7AE-45DC-8AD2-66D42E79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7B14-E364-459B-9078-CCF1CFD3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6A0D1-A139-4C37-8567-2E7476A6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FA635-B680-450B-97EF-BD49D5D4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22F322-1389-4401-89D4-1D6AB0606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9F622-9EE9-4793-B827-56F45BFF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121CA-6994-4ED1-8EA1-C2CF7770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8B58E-48DD-4BFF-ABCC-D2F7B854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45F8B-A506-4BF7-A36C-33771FB5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AAD3A6-C331-4115-8035-53867BF9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6D155-2814-4229-B7F4-36A0B386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4B032-D87D-4D9A-8247-8CD74D74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1EB-1E73-40AC-9CEF-8386F911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164F4-6516-4E28-8DF5-27A491B0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5DEA7-D95A-4103-8CC1-2BB7EE05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D7C0D-465F-466F-BE1E-0A3B860C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8563F-3BFC-4CE3-8B6A-775F3773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14AFF-AD41-4FCE-BCC9-35F69BA8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5EBDE-9376-4028-98E8-D0C6D509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9BF6CE-63A0-453B-AF96-1E85CC63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1152E-CDE6-47C6-AA6A-6EB72293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30B0A-87BA-4845-A1C0-8D75B66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C23B2-F009-449C-BC7E-A9127EBB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37D5-264B-47CC-9CA9-B70D56A9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0F01D-4C1C-47F7-83A1-B8FB3F72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D29C1-346F-4D78-81CC-BE3EFB32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5BAAFB-3BAF-479B-9EF3-3303F2F0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DC1A8-5F4F-45A7-ABC3-8B96712FB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395A1-54C5-4F07-98EE-1E5B0C66D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C782A-B63A-4E5A-BB30-26ACE7732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A51486-CAE5-47E4-8C59-D56F9468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A1CAFC-CB58-45EC-B97C-A58BBD8F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F7B6B-BFCE-4EB2-A736-FAD91ACC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6EA3F3-288A-4609-AE18-3ACA7B85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4D13-8856-4B64-997E-F3EDC8F0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C52C7-567D-40F6-B54C-D026A485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02FF3-B5AE-4BB0-AA39-4C343F61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1D11F-C167-4FC9-815F-65F5A082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E8400-7D7D-4869-BBB1-858B0143D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3AA9B-541E-45FD-8D03-3D05D302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96B4CD-AC50-4B6C-8465-E5DF0FD0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57F7A3-C69A-4DEA-9F7E-86834091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E929B-035B-4332-80E8-742B485C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530FEB-84D0-447A-977D-8FF87B55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DBBB41-6FE0-408E-AB34-6B816CE2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E5E3A-2119-4C4D-B45C-2BF75B62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FD80D6-96E1-46E7-AF65-B4CF71EF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EB88DF-108A-4478-ACFD-9E2919B8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F248F1-45A9-493D-8DD8-07F3E25C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330CD-DF0A-42E3-8C54-7FABA1DB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A63EDA-4C28-437A-8AB3-7224187AF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72EAC5-BA75-4F00-85D4-5BE486552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9D97C3-879D-4202-A331-34F6806C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0D064-029C-4A18-ADC8-69188A7C1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6E027-F06F-41D5-BDF9-673735E3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8E813-8B92-4228-8D89-7580D299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0E47-BC4A-491E-813E-26A665BE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30DD5-9C3F-45F3-9683-4DB5AABF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0061F6-E94D-4CD5-9FC7-B78635220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5DA2E4-B189-401D-B5B7-2E00A498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BE932-D389-4233-B1E6-F120A7AD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5BB75B-DCC1-4FE4-A6B6-FC8334F4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4FBFD2-42BD-43C2-8521-B4486DFC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563C8A-891A-47E3-816B-8D941D6CE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5B129-E4C3-4993-84D0-9584D7448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FEECF8-C5C5-4EDC-8A49-E4FF7E3F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CCC64-7807-4B4B-B033-74EBC057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6D5A-89CA-4BA2-BA3A-768BF4F7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90D8CB-1376-4F21-95CB-A1BF30101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D3DACD-AA46-4474-850B-06D27E59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C47533-3E7D-4F24-9F7E-53107334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0F349C-C1D2-4BA5-BE09-0AD6DAD6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48482-19A4-4D07-8AB2-7590AA001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19B678-31D4-4CBE-8A1A-68808AE7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9EE5CA-39BA-4798-895A-EFC98D32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747672-2E38-4988-A4B7-B111E3EC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28CF1D-4857-43F3-A34A-0C818275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DFC34F-CE05-4B3C-80C1-0D4DB172B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A928-FEFF-4517-827F-85185D2E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FBD02E-A1D7-4288-9E9F-8771D3C4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5901B8-AF7A-4440-AA0B-A3315EF5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B3076C-5E61-41DF-9B08-C5462DDD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B5A8F4-369E-4187-B480-A0A83165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D64EC1-0279-45FD-B0CE-929D6802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CB1F80-B6D2-4DC6-83DA-B606F9DB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C1C678-BDAC-4EB2-AC2D-DF593D4F6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A6E5B2-E66B-428E-9E4A-413CAFB1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00D4CE-221F-485F-BD8A-FC8061B6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2D4A97-3170-4782-8B94-BD2094DB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8438-1727-4D9F-9F50-7C62F3B9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4C6641-1E8E-4D2D-9132-7B748431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1D95AE-3F38-416A-A286-0FE6B96B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06A05-E967-46BA-987D-4CCED786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16B705-58B5-4F35-B26C-E7ED3BE5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7D7C9-E71D-4D68-90A9-0A30C73C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B516BD-F332-4D8B-8230-5349F7B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F14875-73B8-437D-9C13-22E26B96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E50345-34F7-4698-BB5D-436DCCDF4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100CCC-D80E-4627-BA9E-0F76E09C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9655A3-A543-41F1-8BF5-3A435740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A3F-2FC9-4A07-B5E2-B0909160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6CAD1-DF8D-44EF-87FB-A33E470D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93B474-9716-483B-AFC9-25444C8C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D86E1-AC2F-4A7A-94ED-9349FBD7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7B4CA-69E6-4A03-9092-7D009F35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6DAE6-6A2F-4544-8813-712FD0D10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9CE3D9-1B48-4825-ADD6-5E70ABE4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6504-3507-4A4A-A985-25E73837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0524-E186-4F06-A912-33D56C14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6434-524E-4188-BE3B-B4085627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171F-5704-4AFC-A9A1-35BACB65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F23A-A27C-44F9-8BD5-C4E13581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BC4E7-7B5D-44C0-B45C-E1C8CF98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73A1-23FB-4C87-B223-5EDCF7F8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1E98-9371-4395-898D-83372F05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A6310-D840-4A97-9751-AED5502D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D00-A882-48C6-B626-9958FF67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B0C70-7DC7-41B1-8B21-4E477E7A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57C86-DC0B-4BDD-ACC1-7BBC466BA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50AB8-82DE-486F-B799-9077787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B04E-B79B-40DA-8985-EF112029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B5369-0854-4973-9A5C-BADAE2DA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5DE82-02CB-4A2B-9553-88EB602C3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8340B-E0E4-4CED-9176-A5B94F5C1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E6571-8A11-4F4D-ABD7-F242BFCD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E9386-805F-416A-B375-15458033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D9BD5-F071-49F9-925B-2C34CBA2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D426-2C3A-44E1-A1AD-C0D0D871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757EB-2D13-4524-A9F3-B669FFA20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C57B8-B92F-4170-9C87-B63A7DDB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F64FB-9BA9-47F5-AD24-BD2574AEA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E6BF-5054-41E2-8C8A-677D31D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4BC9E-7644-455E-9E5B-7D691EA0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A40AC-0A99-4808-8316-EF021B2A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B97CB-F92F-4365-B237-14AD530C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AF0BA-F97C-43FD-85E9-8C1B1869C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4261-ABFA-419A-BB67-A557F989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7EC2D-1E1D-4950-A438-8C706DF8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9448-8AD0-4799-BEAE-BE78186C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5DE86-0EBA-49CB-B1A9-95670667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2DA31-8D24-41E2-A0D9-4DB79560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47BBD-675F-46B0-9333-433E22E6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5AA9B-EF58-43E0-A47C-6BF8BCF1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29921-8788-4082-A4C9-34EC142DE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0D1D6-5AD3-4EA6-880B-FE12E7EA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126D-8AF5-4B65-8039-D21B737C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5A0EF-1BA5-440A-BE0E-40676CB8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91139-631A-43B1-8219-C6DD6E62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F8B76-BC4B-4C61-8C48-6EEBDAD3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A232-0EDC-462C-9937-59EC0176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09622-DAF0-48FF-AAE0-73A04B0E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DBEFC-B437-4B30-8BFD-5D2533741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09756-99EC-4345-8CF2-C9784CCFC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C0CC8-35A6-453E-BA4A-8E06A14C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1CB90-F840-4C48-864A-3316F69A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50DE6-577B-487F-8D8C-7C136327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6E753-C15E-49AB-9C17-8A149774D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5929F-1DBA-41CE-85AA-F8598892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D6B08-6B20-4587-B489-BB50C5A8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39680-47A3-4043-95F5-4E859E98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38D-1A07-49AE-8F70-EB466389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F8E59-4BCC-4103-AF9D-9B70C753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B356A-1468-44F6-8407-AFB47151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45124-EEF9-4A9A-8332-F79E780C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514C3-AA35-4D1F-A78E-ECE75F19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A2E8C-7676-4879-8E29-87B5FA12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11BA9-F1BB-4715-AFEE-57221B79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9E470-7B0B-4E58-A3C2-31139DD7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08BC0-C8C3-4948-A16E-51C03975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8A895-7083-4502-B6DC-2A165EBA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8DBBD-8F09-4263-B4E8-076F0BDD8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D33-88D4-4A9D-8F6E-6B03D5BD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10EE1-765E-4C46-BEAF-56C1C7F8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A0E1C-16B0-4657-B14E-6ED576E4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93DB6-CBCA-405C-BA84-0EE224F4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E745CF-53D1-47DB-B208-9C2A682F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8F8E7-3E74-4ED1-BD84-27EAB48A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89711-8D8B-494B-B728-E9BC98EF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50271-0303-40F5-93D1-28A90B62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8363D-95F8-4556-BC7E-F3DA6500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CFCCA5-2A6C-49AF-A6A7-77332A89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81F2A-2AD6-4181-92AD-BA365526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9320-96E6-4F96-AB7D-8C5917CA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40D1E-4DD2-4D75-8C92-A4826DB7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DADA2-D0D3-4E34-B5B7-7A97F07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0D7BD-50E9-40C1-8FE7-F1DC1969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69B92-22AB-4C27-83DF-D24B6D33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34D8F-A1AB-4A86-945F-3C8FA41E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A9661A-A2F3-4B39-9EA3-7384D1E9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57C37-FF68-43B6-B873-45E4AD62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07313-43D7-4E20-AC41-FE04F93D1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AF468-6D26-4A70-B023-450CB32D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B7D9D-4917-4FC2-A9A6-AAEF15F3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469C-E0E0-405E-9070-EDA8F4B97DB5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2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2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2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2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A36E-4972-4A53-A61A-327D8B8C2B1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7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8717-87A8-4DD7-BB10-D45B3D81CE5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1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2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9793-8258-432F-AE31-64E3922AF09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CCDE-A53E-4B69-9104-2060A854204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0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AA86-2245-4921-AA28-EADE4183DF0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CE8E-EE42-42B0-89BA-30BEC0EF645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92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9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9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9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2E7E-3B14-46EF-A988-7F0C4138AC3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7A06-64CD-4216-8E3D-9C8A824E5B4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8A33-21B5-43AC-8A0F-5A1CFC48D730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306F-4B4B-459B-A812-D30D9CFFFDC1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FB6A-DAC0-4149-BB43-7F5DFE9E864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44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5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48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8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4F43-EC0B-401B-BE57-F3F4641B5D17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0734-4D05-4BD1-9601-485C4836506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84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344E-4617-4ED1-B0ED-A1FCD0A4C6A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28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0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1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3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34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2DB4F-858B-4EA4-88E2-026B3577527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78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3F71-390F-4B0C-88BE-CA8C8699605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10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1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12.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2" name="Obrázek 1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Job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7 – 2008   Kalamity bank (tell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5 – 2007   Vodárna Troubky (accountan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4 – 2005   Mrazírny Eskimo, Orlová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(personal assistant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Langu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nglish  (advanc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rman (upper intermediat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apanese  (beginner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r: English (actively), Hungarian (passively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Skill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puter skills: MS Windows, MS Office, HTML,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iving licence – group 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ypewriting, PC writing, shortwriting, hand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Oth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bbies: sport, dancing, knitting, embroide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s: languages, econom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commendation: attach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VERING LETT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ning the covering l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y are you writ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re did you see the adver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position would you like to apply fo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do you offe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ing a personal me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osing the covering le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ttachements (enclosur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3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Životop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složení profesního životopisu a představuje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Životopis, osobní informace, profesní informace, průvodní dop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4" name="Obrázek 1" descr=""/>
          <p:cNvPicPr/>
          <p:nvPr/>
        </p:nvPicPr>
        <p:blipFill>
          <a:blip r:embed="rId1"/>
          <a:stretch/>
        </p:blipFill>
        <p:spPr>
          <a:xfrm>
            <a:off x="197964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0033"/>
                </a:solidFill>
                <a:latin typeface="Times New Roman"/>
              </a:rPr>
              <a:t>CURRICULUM VITAE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SINESS ENGL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and surna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ate of bir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ital st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lth stat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lephone and e-mail cont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ducation and cour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rtificates and ex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b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ngu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k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Name and surname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Johnny Walk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Date of birth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bruary 30, 197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Addres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 lesa 1234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ZIP code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733 01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own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arviná – Dolyw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ountry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zech republ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rs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Marital statu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n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Health status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ery goo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Telephone contact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+420 732 733 73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-mail contact: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zonywolkr@email.cz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Education and cours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2004 – 1999  Univerzita of Franta Vopička, Postoloprty, Economical faculty, branch Marketing and rac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9 – 1994  Obchodní akademie Karviná, branch Business academy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1994 – 1982  Basic school ABC, Karviná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fessional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Certificates and exam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type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short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te exam in handwri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rst certificate in Englis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0:14:44Z</dcterms:created>
  <dc:creator>Ing. David Holzbauer</dc:creator>
  <dc:description/>
  <dc:language>en-US</dc:language>
  <cp:lastModifiedBy>Igor</cp:lastModifiedBy>
  <dcterms:modified xsi:type="dcterms:W3CDTF">2014-09-13T14:10:12Z</dcterms:modified>
  <cp:revision>10</cp:revision>
  <dc:subject/>
  <dc:title>CURRICULUM VITAE</dc:title>
</cp:coreProperties>
</file>