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AD89-6EF6-47D2-925A-B8ECD9EBDB5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7DE2-5EAC-4F6D-A024-D19C0E1D3C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E75E-8D16-49F1-BE45-D678C7C12D3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531F8-6A66-425F-B78C-EBE1F4E6B1F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9156-1FD6-45A1-8502-2543494CB77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E37B-0602-4256-A7EB-D275941245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C358-272D-4421-8637-51290B608A1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61F2-BBC9-4AC2-9E08-A33717FABEF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456AE-8983-4673-9751-0FCFCD23A6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144-C601-4F85-A268-6EEBB24F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CA2D-6DC0-4D5E-A4D3-B6CB1932B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FEC8D1-445D-428E-9C46-1CC101D9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6C79E-BAC6-4AAF-B2C5-407D5BBD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EE7FB-FB09-45AC-B331-B4493E27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1B401-C55E-4693-90A4-B520973E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567D1-260D-4358-94D8-233512E2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8423E-1628-4AF1-A662-43C3059A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BB318-620B-46D8-91F9-282A2CAD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217C6-8924-4622-BD55-1224E496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9F76D-431E-4853-BD49-1BCD9EDB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EDDA2-8B13-4B1D-81CC-25123A16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9FD-EE27-4A99-B317-A4429041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792CD-F349-4E17-B938-50498179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8EE32-0443-42AB-849B-D31ECF77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CC3FA3-5185-4917-9E65-14148838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713977-7655-4B5E-BEB7-A46ECC443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E6BD1-C5B1-4115-AA49-C5FC7042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C522B-5480-4770-AF81-AE8681B1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D7E1B-6FF2-4453-9C05-4902E550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4C7B0-047D-4C2C-8ED1-A3D0C6A1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C7C1E4-0869-461C-961A-7895F05C5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FA65-F3E2-4E77-8030-E760D013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EE57-5A6D-4BA6-A1D5-42FCBF5C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CA512-E3DE-4BFC-8A93-4F4DF3D1E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659D0-BBA2-49DD-8FAF-3FEED858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D8332-7CF8-4C2B-990A-1AB9B02F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13052-CEEB-4809-B882-8E66B70E9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AB22C-4AED-48DC-ACD6-438267B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55623-3245-4157-A0EE-F2F98517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728B0-D573-4935-BB2A-7FE720B8F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00883-BAEC-4661-B110-3306536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15EF6D-CCFD-4429-8173-86BA2ABF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0537E-5E52-4250-AC39-66C52615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4E0B-E672-47CD-A65F-00C141E1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F4557C-A6DA-4693-B41D-44C1F544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C91FD8-4FF1-48E2-8196-077CD6D53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F261A-DCB1-4D55-9F83-22D27147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84E752-3C76-48FF-BC8D-0DE42BAD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F9A3AF-6B2C-4AF0-8A08-DD3F1AAB9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5AA09-963F-4C9E-AD31-5563961D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DDBB6-28C9-448E-9D49-6806921C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B7E157-03B2-4929-8245-F26E80E3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DBD9A-4215-47D7-A73E-2B291037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2EAAE-E220-457C-A54D-FC2E0806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FE6F-11BD-4AA9-B526-47D6F520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69BFB-79BB-4227-AD07-ACA95499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DF993-0443-4366-9B5C-E2B9B52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75E585-6C9F-4405-AC34-F2B491E6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5D058-CA4C-4DF6-830D-C7700A9CF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14927D-8E6D-45B1-A343-A424BAD7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61BA0-4E6D-44FA-B4DF-FF55CA36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0502EC-2536-4B48-A128-940BAE06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5813F-4120-435D-BDF6-F272B49D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E6987-DDF6-42DD-85D2-30FF823A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EAC446-FD33-4ABC-BFBF-772479AF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9333-2D40-4CDB-9BC5-C1BE9396E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5BA72-7981-4BEA-BC26-D34AA444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4C9FF-031B-453D-80E6-846CF1D4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AA721F-E4A9-4958-B374-9C72B6F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BE711-6229-430E-975C-7DAB139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939E9-1D98-4C4A-B7B9-F6C5A2A1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0A2592-8F16-4A8A-86B8-C5ED5577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9A0DD-8BC5-47F6-8DA2-698A073D9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3C92B8-FD06-435C-961D-011611CF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9E950D-C2CD-4DA9-8FB8-94D12F91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A0B0A-EE5E-4FE9-95E9-74F11DF5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C0C1-308E-4DAD-957F-59B8C272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37A993-D158-470A-8159-EA6A57F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200F7-1379-40B9-8103-5AA97014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D707B-72FD-49A6-9DFB-F52E6295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534D54-6B9F-4412-9F91-ADB15497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9EE2F-F4B1-483C-AC4F-CA41D92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54573-E2CE-4D95-A444-48ABED5E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B4E8F-9661-4530-A355-C786D732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21F572-B5A6-440F-AF41-3F21DE5D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ABF1B0-C46F-4C77-9F26-EF3AE7D57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367DD-2BCD-48C3-8473-EC7CE729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AFDB-6B52-4015-A12F-CF291694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B747E7-4CD9-4D6E-A0F9-408B072C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F34251-CC07-487D-99FA-C3D11D3F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97B8D-7E3C-4073-8907-89AF902D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69AA32-D83D-4A3D-B5F5-67F65C57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852E2-BBF5-4111-9FB2-2B1DF3F18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B452F-11AC-48EF-BE67-648975E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680002-DF78-4B5F-9D17-BD9ED209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B10EBA-AD0B-4084-82DF-EE48FE7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AA8D9-DBA7-4ECE-98A7-4A4B00ABC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CD668C-798A-49A3-B7BB-B5259C0F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B0F5-370F-4743-A409-8AAEF821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D53C27-0888-41C3-8764-7B2D87C0D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6A76E-6AD5-49AB-89DA-C897BB72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CD3F50-7A35-4429-883D-E61421B0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C40026-9281-45B6-B7E0-BD81BC7F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E16DA7-C7E2-4EE9-95A2-F4E41C3F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4F839-1EF4-4D7C-B1F0-98E14F7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7B2936-47D2-4A93-9137-3927D821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5DA11E-5520-44D1-8E7E-DE9A914A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9600D6-682B-4E4B-B9A9-361627BA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898177-601A-4520-A628-AF7CD302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57C7-FFCE-4ED3-957F-AF809933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21B8E5-8E16-4655-B826-9A0CBB98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3F5B1-FB9E-494D-B463-D12CAD56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271152-355F-4544-8792-D8A098D8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8519-3954-4CAD-90DD-BBD7E7A5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3D89-197F-4367-9100-A5F054E6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A39C-014C-42B0-8DB7-D22AB23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07B9-5150-4EAD-9543-DC7F94929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0E57-4631-49AB-9C78-C9BB9057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7CBE-D124-4687-B04A-AD003354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4FE15-A66C-48C7-90C7-9AF7F630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3C82D-B122-4D1A-B1AD-09B59EB1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A67C-7E6C-412E-A5FD-63D80B77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68F77-9EA5-4112-BF7A-2B127BC9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DE2C2-E885-4E2E-9B01-37B79663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DD0E-9E80-47E6-96BB-3B67B8C8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B2810-D8B5-4DA7-9390-AB60DC76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50CC-6E17-4BBB-92F0-5E6FDB81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B476-FE4B-4FA5-875A-2866707C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1A90-CD3C-4F69-9D6E-085A100B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74899-E04E-4566-A05C-DC7343D9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7ED0A-3547-4BE3-B336-5EF21474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0F39-2F3A-4FD6-9DDA-CF9A94AF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BC6E3-B556-4BD8-9658-38BF5CBC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4F5E-228C-4701-A68A-316980B3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2FCB1-1D78-4B0F-BCA3-CDEC8F1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EB6-AFDB-4C20-B694-D0212F20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D411-93A9-4B3F-BE07-705E8C81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5B830-FC19-4248-AF7B-94C51320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0690-B118-46DD-8EE1-57FE1FC9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1013-F064-42BA-8BC8-7031E8E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E8011-D59E-4449-A008-6E54066C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60EE5-FF8C-4CF3-994C-8B0D228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4299-B426-4B59-8221-15257294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365D0-E2E8-4C0A-BAA6-5895B3EB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FAC7E-27CA-4358-81F9-F50F3468E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C4719-D0B1-4091-978F-BD298BA23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6288-852E-4EA0-8701-EA45D2EB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4AC46-209C-45F0-9715-8747161B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10DF-53B3-4B3A-8D20-8BE3BB4A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0147-3725-4A90-BC9C-3DB92C8B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F9BEE-534C-4809-9A06-1E4214D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3524A-DE2F-47DC-B9B9-9488FD68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427A7-5CE2-4739-BDFA-5EA61A6D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C6377-3AA3-4EB1-9C13-1C87CC43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8D338-CE90-4CBA-A1F0-EC3B83AD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D7AE2-CCCA-40FA-8371-95E336CF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973F1-EB40-4B6A-9232-23F24F8A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FF0D-57B5-4592-AED2-0D8DCE63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29A78-CA01-448E-9DB2-9FAC5BC7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D6A0A-C905-431E-B2FA-A3E3A4A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B86C9-52B5-41F8-9589-7AF744C1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76FC4-A86D-41B9-AEAC-DBEE0DC9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E52A7-C7B7-4FD0-BA18-CC51ED90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DD42-4AB5-4627-8B31-E85CD6AC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A3AC9-D80F-4A6C-A438-6FE4865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4A192-A1FA-4748-B6AD-B29EFB05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FE0B62-DA67-45F3-B510-4C334730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5CFCD-3D64-42BC-9CCF-9817CD55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A165-E79D-4E3A-8165-738D32BF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698CA-8B25-453B-8044-9873E0E4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4BC96-3278-43B2-9C33-CE0DF023D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9B02D-01AD-4839-8824-C3B8B4B3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D5DF6-4F59-4AF2-A062-E5206531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82277-91C7-49D1-9D68-EFE7A7723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70754-8559-4EF5-964E-5B5DB41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247FB-438B-4463-B8CC-2019A285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C4DDD-48AC-4193-8B5C-B391C38A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9C6A7-73EE-47B4-BEDE-77716E46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0560F-3028-46FF-89BA-3EA29C8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2E17-DD7A-4467-B6C3-3C4CBF30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823B5-454D-4B02-94F8-F5EFD598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DA9E9-6D94-4426-BB22-C564FA39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F77DF-E38E-48CD-9587-6C8B0124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29FD-EB45-4E13-A6DD-C431B56E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82708-C6F2-4ADF-ADA7-54E89E54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F367D-D8A1-46B7-B4BC-9C0526A7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42E285-0832-41E6-831A-642C4EAE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491C5-796D-4E29-A096-9B3549FD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09EF0-6598-49C8-8B26-557802E6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29951-5854-4E0E-B291-27314169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5B46-F9E6-441F-8355-C75F9B3E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7BB65-CE45-47A8-8DC2-E037623D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2B88A-7917-44BA-8EB1-62668A22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853BDB-F549-4464-A4DA-4D52B825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BA223-1B53-4C86-8F55-AE3B90D7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D21B07-19B2-493A-8725-C83AB9B1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5A5984-1CEF-489E-AD14-98DC4C574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D38BEA-C95B-4FEA-B2FE-4AFFA679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69126-FCF3-4B85-90B2-501E693E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B883D-F7FE-4FF4-AC91-A8E23208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F11C5-762D-4436-A58B-1D3C18B5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EF4F-6EC2-42B6-BEEF-A6C23C7AA0F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F8A4-9EBC-48FA-8F54-4F3FD4CB7C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BE02-3611-4E3C-BBAE-24175D87DB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97BA-9140-4BC1-AB7D-FEE34AD47D6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8271-A450-4DD0-B40D-973CE68A72A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0222-B671-4798-81AA-364BD3004D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C5148-F2B2-41D7-B9E4-D3D237C911C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2EC-C774-4C63-BD82-B0435184ED5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C523-0B3E-4D10-BA9E-2FE0F6AA441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85900-EE7F-4AA7-BC98-88BE10FBA41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F7E-314B-495B-AD51-F8BBE2A2268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DA76-1227-408B-958F-95F60ECA0F3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A2B2-D4DD-4832-B8B5-76D6630ED71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CAFD-D91B-4076-8605-283AF3D9126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A8B-9B02-438C-A06A-7900A26837A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5AD-F4D8-4A15-A3D9-F991079A6D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11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Academic and aristocratic titl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EFORE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of.Arthur Whitesnak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Positions and university degre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re always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FTER THE 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Arthur Whitesnake, Ph.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) number of the house and the name of the stre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) name of the town or city and its post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)  name of the countr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Neil Bradbury,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bbey Court Hot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20 Pembridge Garde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2 4DU Lond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alu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adam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Jones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s.Stapleton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y you wri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offer, order, request, complaint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Keep the same style whole through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body of the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radbury,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ank you for your order of 10th January for 5 Electric Dishwashers, Model AZZ 567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dishwashers will be delivered by February 20th, 2013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complimentary clo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pends on the salutation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Sir, ………….... Yours faithful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ar Mr.Black,…….. Yours sincerely,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signa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33cccc"/>
                </a:solidFill>
                <a:latin typeface="Brush Script MT"/>
              </a:rPr>
              <a:t>John Walcot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John Walcott, Sales Manag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hite Dishwashers, Lt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saní obchodních dopisů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ákladní pravidla psaní obchodních dopisů, představuje typy obchodních dopisů a jejich jednotlivé čá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usiness letter, heading, salutation, body of the letter, signature, enquiry, offer, order, complai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RITING  BUSINESS  LE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usiness lett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nquiri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rders and their confi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ecution of or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aints and replies to compla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mind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a business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heading and the da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insid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alu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body of the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complimentary clo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signa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h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sually on special printed notepapers wit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ame of the compan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he addres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ax numb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3" name="Organization Chart 7"/>
          <p:cNvGrpSpPr/>
          <p:nvPr/>
        </p:nvGrpSpPr>
        <p:grpSpPr>
          <a:xfrm>
            <a:off x="833400" y="2565360"/>
            <a:ext cx="7632360" cy="3310560"/>
            <a:chOff x="833400" y="2565360"/>
            <a:chExt cx="7632360" cy="3310560"/>
          </a:xfrm>
        </p:grpSpPr>
        <p:cxnSp>
          <p:nvCxnSpPr>
            <p:cNvPr id="764" name="_s1028"/>
            <p:cNvCxnSpPr>
              <a:stCxn id="765" idx="0"/>
              <a:endCxn id="766" idx="2"/>
            </p:cNvCxnSpPr>
            <p:nvPr/>
          </p:nvCxnSpPr>
          <p:spPr>
            <a:xfrm flipV="1" rot="16200000">
              <a:off x="5802120" y="2735640"/>
              <a:ext cx="662760" cy="296856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7" name="_s1029"/>
            <p:cNvCxnSpPr>
              <a:stCxn id="768" idx="0"/>
              <a:endCxn id="766" idx="2"/>
            </p:cNvCxnSpPr>
            <p:nvPr/>
          </p:nvCxnSpPr>
          <p:spPr>
            <a:xfrm flipV="1" rot="16200000">
              <a:off x="4812480" y="3725280"/>
              <a:ext cx="662760" cy="98928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9" name="_s1030"/>
            <p:cNvCxnSpPr>
              <a:stCxn id="770" idx="0"/>
              <a:endCxn id="766" idx="2"/>
            </p:cNvCxnSpPr>
            <p:nvPr/>
          </p:nvCxnSpPr>
          <p:spPr>
            <a:xfrm flipH="1" flipV="1" rot="5400000">
              <a:off x="3823560" y="3725280"/>
              <a:ext cx="662760" cy="99000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1" name="_s1031"/>
            <p:cNvCxnSpPr>
              <a:stCxn id="772" idx="0"/>
              <a:endCxn id="766" idx="2"/>
            </p:cNvCxnSpPr>
            <p:nvPr/>
          </p:nvCxnSpPr>
          <p:spPr>
            <a:xfrm flipH="1" flipV="1" rot="5400000">
              <a:off x="2833920" y="2735640"/>
              <a:ext cx="662760" cy="2968920"/>
            </a:xfrm>
            <a:prstGeom prst="bentConnector3">
              <a:avLst>
                <a:gd name="adj1" fmla="val 15543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6" name="_s1032"/>
            <p:cNvSpPr/>
            <p:nvPr/>
          </p:nvSpPr>
          <p:spPr>
            <a:xfrm>
              <a:off x="3801600" y="256536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HOW TO WRIT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A DATE?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2" name="_s1033"/>
            <p:cNvSpPr/>
            <p:nvPr/>
          </p:nvSpPr>
          <p:spPr>
            <a:xfrm>
              <a:off x="8334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th May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0" name="_s1034"/>
            <p:cNvSpPr/>
            <p:nvPr/>
          </p:nvSpPr>
          <p:spPr>
            <a:xfrm>
              <a:off x="281196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15 May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8" name="_s1035"/>
            <p:cNvSpPr/>
            <p:nvPr/>
          </p:nvSpPr>
          <p:spPr>
            <a:xfrm>
              <a:off x="479088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th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6"/>
            <p:cNvSpPr/>
            <p:nvPr/>
          </p:nvSpPr>
          <p:spPr>
            <a:xfrm>
              <a:off x="6769800" y="4551840"/>
              <a:ext cx="1695960" cy="1324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May 15, 2009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da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ay write the date in </a:t>
            </a: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4 different types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February, 2009     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5 February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</a:t>
            </a:r>
            <a:r>
              <a:rPr b="0" lang="cs-CZ" sz="3200" spc="-1" strike="noStrike" baseline="30000">
                <a:solidFill>
                  <a:srgbClr val="003366"/>
                </a:solidFill>
                <a:latin typeface="Arial"/>
              </a:rPr>
              <a:t>th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ebruary 15, 2009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!! Use words not figures for months !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address - tit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.   –   is used for m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rs. –   is used for a 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iss –  is used for an unmarried wom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s.   –  is used for both married an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          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unmarried woma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32Z</dcterms:modified>
  <cp:revision>21</cp:revision>
  <dc:subject/>
  <dc:title>BUSINESS ENGLISH</dc:title>
</cp:coreProperties>
</file>