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1F29-39AE-4C99-A8F1-232BA36B754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7AFB-217A-4828-AFE2-BD2F012C3FB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3E6A-1DDE-4438-BBB3-B5A2086A7D7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EFD0-F481-438C-B5B4-776E0D68F56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0ECE-8C29-4438-AFF5-2551534E1C1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28D7-A0A0-4E72-BC64-2BE8952DD60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4ACC-54B3-4A6C-BE91-305A6CBC28A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C7EA-220F-42C3-9272-BFAD529592D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7950-D31C-4718-A2ED-FDFEADDA52C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D92-BCE0-48EF-96B9-4941493F9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FE61-98ED-4D91-990A-6C92C1E6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1E57B-7597-4277-BC23-3A722FD44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429F4-17E0-4EE5-AC9C-697F6C3F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333C04-DD04-427F-902B-234E375C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1F277-0C8D-411E-8A08-197AD01B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7652D-1A72-4C43-8E5B-19E0BE0B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01BC6-BE38-45F7-A8C1-0B639B03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490F46-F7AF-4C12-A272-1ABEFF95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D5FA0-16FA-4D22-AA1A-5DEC994B3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4D064-09EC-43D8-84EB-42791E7D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66E8C-B801-4524-8D6A-D3BE4604D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A62-59AD-4D3F-A3A3-5B7B7449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5F479-E538-4ABE-856D-12A1B60CE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DE1B52-6C0A-49A7-8ECE-6C1A1EAF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43E55-E5B8-4151-95C4-4952CCCA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51A508-FB1D-43D2-8FB4-BA47D490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2FE92-E9AC-4CD1-80E7-AE9EA7D5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1FBF68-0070-4723-B3B3-CD296189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D5236-2351-4E25-B895-69DA8F07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12C84-CCB3-4433-BAF8-0CAE8CAD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A55A8-36B9-418B-9524-962576A0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6A9A0-22F2-4479-BFCE-CD4E242B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8E2-2F7F-4721-B20E-1621247BC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FD7F1A-A0DC-4343-ADB9-A6EA8A6F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F73B7-D595-4A00-B50A-FFBBDAD3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43ED2-A383-4247-8D74-7F231202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B5A9D-6FAB-446F-AFE9-C6794E2F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6D3F5-5565-47E9-A331-43DB05FE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6A3F59-7AE9-4ABA-8165-5D2161CD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89BBF-4DDD-4B73-B1D6-4A71DB9A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600AF-3858-44B1-AEEB-1AA50E67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FFDAE-0D90-48D3-8050-EE9A193D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5E79D-9E46-4AFC-A049-EEA81BC7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BBB1-68BE-4D80-9A89-AFF45198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79FA2-F4E5-49D4-BBF0-68EB5B6D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5EFCB-8CB4-4A64-83DE-7CC18FDBD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1A51C-F0C1-4C33-9887-49047BC4C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D691F-0963-4B6F-BFFE-7C8ECE13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E409A2-9F3C-4455-B3B4-0AF2B239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5469A-103D-43C4-BA48-3A293DBA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DDDAD-11CA-4C20-9FDE-7915AB5C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046E1-0AF1-424E-9A99-DF9455F7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A3449-2851-43D3-8717-6B198AB4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501E9F-9022-497A-8E8D-1298EB043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FC45E-ED8F-4365-9F51-1D172406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2C7FE-EA6E-4309-B33E-8BE4CCF9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576A9-0D16-439D-8226-1C85FB95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74BA3-3AB0-4FDB-95C2-47521884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A85D4-CCBD-4F90-BAA6-67434FFD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99011E-26FB-4B9F-BE69-F641C2F3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416714-9FBB-4815-85E6-8FD7C42CC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FD6231-85FE-419F-9705-A8091E46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38CA48-5158-4F44-9275-EFD0E593E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F50CD-0FFC-4943-BE89-4F4BF5B4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C5A5A1-D454-4B00-8580-C83BA270C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2BCC-2A08-4261-90BD-4FEF56AD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637FFD-DB85-4EDA-AF29-5B82A921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B6571-CAEC-4D84-AE38-D4332715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2192A2-B160-4EF2-BBFA-D25BB3B2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6718D-E92C-4900-B3FB-27F7EC49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146C5A-4456-4224-AD7A-8616E001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CEA0DE-865F-490B-86B3-4A4289368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F1E1F4-D597-4DEB-84CC-9EA9563B4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61033E-835F-4FAE-9075-46806BED7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80BCE-AD00-43DC-8EBA-49C1C9FF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9EA95A-F937-42B1-AC21-7F3F0FF5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3AA1-1DF3-4D2C-98A0-9C50B055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99D570-88B9-44DE-B893-1FFDEA87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41F021-C307-40BF-95D5-4A1E1129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99C2F8-22DD-4897-81E2-9CD042AC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F620A4-FBE1-4A99-9A97-B569EA38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A0B60E-5371-4B90-9EC1-82DB3229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A8CCE5-E6FB-456A-9C3B-968D2266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B1D4B-921C-467B-9E9B-2402376A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08BB5-8AAA-4026-B99D-D7295D21E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DBD1D7-118C-41FA-A7F0-0F357CBAD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2826DE-21CB-4B6D-9D76-F87A4A17C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D3D5-19C9-42B4-86B3-000A7EE8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82063-106D-4857-AFB5-8F57E8CE4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EB7EE2-9132-4612-801C-E3E109769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55EA5-C89C-4BBD-89A5-60499B5A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B692CC-AEAC-4734-B180-3CB48C17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29369A-1529-4914-904D-497E6F2C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9E8198-F24C-4691-9D5F-96E0D337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1076EF-B351-485E-8FFC-17EDAED7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EE821F-34C8-4D1C-B82B-E41195F5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557F05-5650-49C6-89A2-5C6FACCA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1EA400-58AB-4E58-8F3C-57613D9D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D024-B8D5-495A-8B1C-F3798093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A336373-1043-414E-BB23-495D09DF1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06375B-F319-4556-9D0F-6664FD5A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758EC8-C386-4BBE-BD45-5D940748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C61BC0-0323-4A9A-B000-964F3867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AE8D95-32F2-4724-91AA-17DEC898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8E7EE2-42BB-4EE1-85B8-BFF434AFC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83ED3-E89A-4D49-B971-4946B5BB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AEDD60-CAED-48EC-9E1A-922651ED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DD0E17-7E63-4E13-B406-A9267534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704880-A108-4465-AA03-5ADD169A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6A2F-B2C4-4627-B980-2A9C41ECB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D6C0AA-FA10-4484-9E9E-AE5AAF3B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650B3A-1AD9-4B0A-B162-F9DDC26C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9DBC51-AE43-4D48-8207-B74E9BCE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ED93-3AC5-4ECB-8287-385BBFA2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536D-3253-45B2-8440-A7FAD3FB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0CA3-16C3-477A-BBAC-C9314800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C760-B9CD-4284-AB86-1171C8CF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7B81-1BBD-4A3E-B6F7-D58669D80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0CDD-977C-4389-A328-7BB506E1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6CFCF-1F1C-4D17-AA63-0E0F9FDE7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DE25-3267-4F80-9846-C4F72738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15679-A601-4971-B1A2-21544DE4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25D1-1E36-4E21-AC42-E20A180A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A7EEE-9001-4307-B5A1-5AC6B3B7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9D49-4824-45DE-8FBC-B2BDB56F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C4BB-37C3-4890-A9B9-FC3426BE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268FF-B5B2-4DC3-9942-A16716B4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5D0C1-3492-4923-BCA6-9A3583B2E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A57E0-0DEF-4B9A-B835-1C1A2497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7A1D-7BE6-4E17-9A84-59D2DFF2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38761-BD01-41A0-A9AF-1CF0F451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440F7-40A4-4ADB-AA08-915F0AE98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100E9-7190-412D-A344-62AE0D14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029E7-99B8-43DF-A4FD-F59526DB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00466-C085-46F6-A92E-63E27A42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C566-3B22-4A13-A3D8-5F8FB844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180F7-4DEE-424A-A986-13774871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CDACC-065C-473A-9C05-9D09BC01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BBEE2-3D5C-462A-928D-90AC7BE3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E064F-43D1-4A43-81AC-DCEA6194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546BF-9CE5-4BE3-B1D9-58A8174E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F43AC-9DC2-450E-A9F0-9943BD39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DD32C-B204-4BFB-92FE-7E709B6E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AB426-9719-4170-A61F-7CC544DF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939D7-A99C-4DFA-AA6C-17DE7028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A817B-0792-4093-A611-41C6B51F7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6680-F0AC-4E46-9E90-A2887255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4B019-3E42-48B4-9E27-5E18C41A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CEF6C-290E-48AF-82E6-89BFE784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87264-0B09-4FC7-8447-4105EB41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BB884-9BA4-4959-873B-0A0C4FCD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865F4-C153-4DE9-9B5C-43579D03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28EDE-E551-4185-AA47-D6914FB3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4FABF-DE0F-406B-AB70-35C155DC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97536-67DE-4A01-B2AD-4517078C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DCDB5-18EC-4210-BA2E-5B2B9F56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9B42C-7101-4F46-9D04-CBBFAAECF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DDB7-362D-4F30-812D-9E987B19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7AD75-4C53-4FF4-94CB-F5BDB1075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2B9F8-AAAE-455D-B057-8AD3396D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21FBD-2309-4E40-996E-377C56877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17FBA-8C46-48F8-A6ED-DC06392C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D01ED-2BDE-4867-BC4F-F6029E3E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41DB8-030C-4CF0-B675-14B38BBE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D7086-D458-4257-A19C-50E1D4B3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D4387F-F9B6-4BE9-9B86-887ACCB8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7C353-E3AF-46D6-8623-5392D0C3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22BA0-9158-4AFF-8D75-7F0E52F2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B16-466A-41C2-BCFA-B6EAE76E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361C0-433E-4D4F-B07F-946399E6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D9911-3645-49B4-A368-0454A28B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67001-1D25-45DF-9CEB-88CA86119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D39DF-E574-4D52-ADF1-C55F7C12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E75D7-1CA2-45B1-A9A7-88F176FA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2FD75-8B95-462A-84BC-D3EBA731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09721-E81A-4AFD-9CDF-811277F5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5D2BC-6FA9-4FF8-BDB0-4E6324AE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7F26C-9514-46EF-85FB-67A22D26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374AC-3777-4A70-B2D2-4A83CBFB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506-F24C-463B-BF9E-0A6CEEFF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16641-C33C-4F9B-8113-4AC50C44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06069-964E-4C83-99FF-34701ABC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0DF3A-2EB6-415F-8A36-A844CB6A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41479-CBA8-4973-8BEE-3C6C38E6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9B811-ABE1-4930-A004-7F894917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840F8-9716-4487-8237-EDA77A2A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17C68-FC3D-4FAF-925A-EB48967EE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116E89-71AA-44E6-A274-D06555E9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F99B4-3CC3-40A9-9BAC-595BBEB85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142E1-C8A5-4036-A79C-42114FB06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B896-7A45-4749-9AD9-776AA903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A80FA-EDF9-43CF-AA7B-24CF60FE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B1510-8A65-4082-9925-3B8D5A0A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6E990-E5B9-4FA0-9212-D61E5847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DAFA07-BAC6-4F7D-A6DF-EE4DE2D1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3AE73-F7F8-4E02-9AC0-1F29C991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D6E01-05E8-4C5D-9221-DD355CF40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1A423-3B17-48E1-AA80-3C3377FC3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1288FF-C85F-4A69-A7BF-5F82FC1A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58346-8A09-45A8-ABD9-009884F2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4C677-8831-43CE-BB1F-9ADA5D87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840B-FDF9-490A-8589-F8007F7312F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9DCE-AC2E-4CCB-92B3-DC19749B1C8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A1EB-4712-404C-AD25-BADC53127CE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1F8B-FF6F-4EC5-AE8B-36D8E2EF8DD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126B-559C-461B-9936-9F7247D736C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0AE7-9D22-47D1-A827-4E100B78876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99CD-9B42-4872-B866-BDD555447E2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2247-99E5-499B-93DE-474C144BD4F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0675-00E8-495D-9844-D990B035D54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1FAB-03CF-4539-B28A-413A0B9CD43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2A1E-1967-4457-AC4C-0647C4109DAE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F438-5746-4EEB-848B-87B7A7BA1B69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DF0F-E6AA-4234-88B5-11C97299DFB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F6B8-7208-47F0-8C86-50D31668FC7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834D-3496-407C-93C0-81BD209F091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33B3-D0E7-404E-808C-75252E1326B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8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mportant things to think about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ffice environ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rporate cultu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mute tim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boss and colleagu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alary, benefits etc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acovní podmín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se zabývá tématem pracovních podmínek, vybavení kanceláře a benefitů, které společnost může nabízet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Working conditions, place of work, benefit, office, equipme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WORKING CONDI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orking condi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a) Place of work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b) Equipmen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c) Benefits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3366"/>
                </a:solidFill>
                <a:latin typeface="Arial"/>
              </a:rPr>
              <a:t>d) Others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8" name="Obrázek 1" descr=""/>
          <p:cNvPicPr/>
          <p:nvPr/>
        </p:nvPicPr>
        <p:blipFill>
          <a:blip r:embed="rId1"/>
          <a:stretch/>
        </p:blipFill>
        <p:spPr>
          <a:xfrm>
            <a:off x="5580000" y="3213000"/>
            <a:ext cx="2343240" cy="19526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of wor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3366"/>
                </a:solidFill>
                <a:uFillTx/>
                <a:latin typeface="Arial"/>
              </a:rPr>
              <a:t>Is your offi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mall or larg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ight or dark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fortable or uncomfortabl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or one person or for more people?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quipme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rniture (tables, chairs, shelves, wardrobes, filing cabinets, other furniture…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C, printer, scanner, fax machine, telephone, copy machine, internet acces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ice supply ( files, stapler, punching machine, scissors, envelopes..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remium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bonu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13th salary or even 14th salary (summer holiday, Christmas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 employer contributions (e.g.additional pension insuranc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nef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c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phone bills pai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flat (or other accommodation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7" name="Obrázek 1" descr=""/>
          <p:cNvPicPr/>
          <p:nvPr/>
        </p:nvPicPr>
        <p:blipFill>
          <a:blip r:embed="rId1"/>
          <a:stretch/>
        </p:blipFill>
        <p:spPr>
          <a:xfrm>
            <a:off x="3338640" y="4292640"/>
            <a:ext cx="2466720" cy="1847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cante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tudy trips, seminars, cour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ances of your promotion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kindergarte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0:42Z</dcterms:modified>
  <cp:revision>24</cp:revision>
  <dc:subject/>
  <dc:title>BUSINESS ENGLISH</dc:title>
</cp:coreProperties>
</file>