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B5B2-8BC1-4207-8695-92F2F0AE31E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2725-4D40-4C09-A952-F478A6C8955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E8BE-D422-4AFB-B9D4-FE84D24BE65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7830-F7CA-445B-A010-FE7D82ABB7A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6766-A048-47E1-8B9A-0DF6176BD09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73EE-D438-43D2-98F9-5FACA6D432B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8CE3-10E9-4F99-AD8F-C094B781BB7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2367-99AA-4BBD-8214-8CCDFC393BB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F001-B9AE-4E11-A1A4-B9EC022FD8B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E6E6-7899-484F-8249-E47B1223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E78-9FCD-4029-8F20-EF037347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5CF956-33B6-46E7-8230-82031BA1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12DEB-9CDD-47D1-A465-E9BDB6ED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8AD9F-5DDE-4BC9-967C-62E98C0D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DD0EB1-365D-402B-8608-142EF47F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AA1F4-EAEB-47AF-B46D-FE5E2DBD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A79442-4001-4F25-AFE9-D325AB21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7AE53-A6D2-458E-A10B-EA85A242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63389-9C03-4B1F-8FCE-A550A339A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3B6360-7805-45D1-93E8-D0AAB0DC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2E00D-DDDD-49DB-8F42-71ED7F64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794-DA90-4966-A04F-D7078311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B2F5F8-E103-42EF-B358-42BF8CC6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233EF8-6E3B-412E-8591-148B8470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7BD9D3-FD09-4047-B857-35BF3D8E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CB8A2-0667-41BD-864F-FD0C649C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C6C44C-8BDF-4B24-9130-52169317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04DCD1-137E-415A-8B7E-538CCDFE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65760-56CA-46AE-9D1A-7B7883BD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43F18-CA3E-440B-8F9F-57ED2D0F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7A80E2-A3E3-4B41-B14F-95D74478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2CEAF-5172-4E5E-9A73-3ECDC817A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12C-B782-422C-8EB9-40663B6D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0E94D-9C8C-44A2-9345-DCFFD9DF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8E96A-4920-4B62-A588-0976CDD3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282D0-6201-4CD1-B6EF-29A492F2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3AAF6-4442-4802-A1C0-E5F238DA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A4B46-AA45-477E-A2A9-F6A2AB4B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DD90B-07F9-4BFE-AE04-2597D4E0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2D5A1-1AE3-4FF3-889A-D07B46DA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2654A-FEFC-4430-9F10-E829BB8A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48A6F-B7BB-49F5-BDB4-E95766C3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709DC-3320-44CB-B85B-44164AF7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A0F0-E0B8-456B-8ECF-6B2DC2AF1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763E3-1238-4ABB-8660-F0440827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3761AE-BDF1-4ECB-88E2-71BCA562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11D47-67F3-4F92-A694-3884B6FDC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D213B-74F0-4472-A50C-3A5D1837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D8777-7E24-4E06-A707-460B2820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7AA5D-001B-4ECB-A491-725573D1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F6713F-5CF9-49E3-B300-3BBD758B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086AD6-A199-44D3-B9D9-C386442F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9754A3-81F2-49FF-BD70-37F9F655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609EB6-E60B-486F-8BCB-0957AC7A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3045-9F86-403F-A255-B982696E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E1BB1-C51E-4B2A-A1A4-64A1275F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E4262-0198-4BA3-BEA7-728F8BDDA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C1E89-A839-4582-B9A9-5341B52D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44FBCE-AAA0-4BBE-BE66-E94B0E557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034CF-57FD-4EF2-8ADC-C437F620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BA0EA-D6CE-4744-A774-47E68CBF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E9E94A-EAAE-43B2-A9E2-766F82A1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B94EB-25D7-4AF4-990F-20107AEC4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D4A1C-2D9E-4246-A3FA-F3D5F35B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88D817-C71D-47D8-9C4D-67E8AD57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0773-F0B3-46A3-883A-79F75A55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E18A9-A51C-4A46-9E14-F5E894AA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8AE96-67A1-4159-BBCD-7DD90746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C3E06-5CE8-4345-A14A-384E2C66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4796BC-63AF-4968-ADBB-2AD89F0AA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6DCF1-06A5-4E0E-95B5-8A6ED520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83230-8A15-4155-8434-127DC624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CEBDF-6A99-4203-AE47-B7FB80412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313713-3452-4537-A98C-194A0633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2BC0B-ABBA-4FB0-80CA-A6F42581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24B611-DD30-49B4-BCB7-D2017518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1A9B-E8C4-4BE6-8B10-631EEEDA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C5519-71CC-41FB-A14C-D71AC77A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9E0740-A895-44A2-9A0C-68D51EA1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9748AB-2C45-44EF-AE89-2A5E4CD6F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0D025-5864-4949-A7A7-A33593A8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2003D-CDBD-4121-A87D-9311F45C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762BCD-8F42-42BF-8082-42BB7FAC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27886-3F9B-445F-9D6A-51251EC1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113695-653E-426D-A8EE-64085F5D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40B205-3733-482B-BE35-590A911C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13778-564B-45C2-A4DB-367B816C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885D-3BA3-4CE0-BD86-E89E8D50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37A8B7-406E-4269-93F6-C5794D44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A36F0-B1AF-4E26-AE83-8CD10954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4F8B73-F224-45A5-A768-9899BD836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BDF03-A0C9-4AC7-8371-A902100A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A94555-DDAA-411F-A13F-44E1530D9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AB316B-7DA1-40BC-B54F-700DE310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3C803-6617-4D49-83AC-69884FF2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60650-5714-4C0C-977B-9E1E86FD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621551-C0F8-4C1C-A342-E41F227F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CD8ECD-A3AA-457F-B712-71418CB87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36A4B-BCDE-42D1-9800-84BD2A76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64FC6-3D6C-475F-88D7-AE0CE0280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145730-0B68-48B2-92CF-82A9C017E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DD27F-FDA3-4197-987A-182FDB30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CF7BCA-CA7B-4618-B14F-988A8434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223C69-E61F-4D81-AA0B-481E55C7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74426B-7E1B-45D6-8336-996A72DD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9F5084-FE59-4382-BF91-65D1E458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1C039-0BDC-4034-B28E-F8DA2D1D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B1F6F-A9AE-4186-9EB2-F1890E1F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A4E4C0-ADE6-4A31-A96D-2F921576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F38D-C16A-408B-AF4C-A713E609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8E5314-9B7A-495E-BD7A-28B4BED2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292F26-82BE-4F48-ABB0-665B8886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D4412-4F94-4E79-AEB0-6E61DBE6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2A63-9A87-4A85-BC35-B64487FE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A5D3-9789-47C7-BEA5-C0D3206F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E4838-899A-4A01-980F-71B2F5FC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8B70-7317-4FE8-87C7-CD929B32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2AE5-6368-4315-B7DE-E2D1A2BA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4FE4-9D9A-4700-9400-04FAFB8D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B4C21-441F-4586-B4C3-F982F017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98CE9-6DA6-4201-944E-5E128A4E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2619-9C53-4128-83E7-74314DA5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CA416-8047-4471-933E-90167B5F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9177D-0BF6-4D29-B6E1-C28DA1BD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B74-60DE-4751-BFCF-797586AC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A3C1-9DE0-4BF2-82A0-948E82DE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6DC13-69C1-4E25-A5A2-5E0021CD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B0358-ADA6-4286-B3E7-09C355FF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66D5A-F3EF-42E0-9382-1B147F21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7B2F-3EB0-401D-8642-DE38AA1C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B9E15-E993-46BB-A41C-D0FB98E55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541E8-AA21-41B6-93A3-4A65A7CC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27E55-A673-4C37-9FAF-41FA1303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2FA90-4076-467A-97A2-57C17D0D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F82C8-9AC6-410A-99C2-ACF98C337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3A2-04CD-4A79-B506-7700B7F2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0525-8F20-4970-AB0D-BC2DF2CA6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60874-F6AC-4658-A9E7-941C08822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B0742-F686-4DAA-8F02-0E9518B4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6C456-3190-49EC-88A4-A9DE7146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F44DE-F8CD-4D95-871E-B0927710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11250-D6B4-440A-87CD-3836F849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28CEB-635D-44C3-B222-9084CAC2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04EBD-2DB6-4D15-B4B2-353D6574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D6CF9-622C-4773-B744-2D1BACAD9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F9E8C-CC59-4151-A2F5-A290C907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14C7-688E-45AB-9781-E3084EC2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5F58F-26D5-4964-B986-0C9D33B5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F4BF7-02E4-47CA-93AC-CA120879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9C2CF-C316-46DC-BEF6-664D089A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85208-30ED-4C19-B22C-E8AD59D4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EA65B-A904-4C0D-9D36-2C287058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86021-038E-4BAD-989D-A3FF8808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76B07-2520-4B5C-A29C-9FDD5025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AA076-969C-4215-87D9-1DBCB839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01083-77D5-4338-8F8F-36AFEF9A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15BDF-81E1-4211-AFAF-08D1CEC5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77C-2041-492D-A39E-8A36AA5D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588EA-3D4B-450D-B754-1726FC44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DC7E0-4825-45C5-95EE-1EB93ABF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BEB61-CB46-4E03-A7B3-19F1CCFE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592C7-9E82-4025-83FC-AE04C9A8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3226A-6695-4A2D-83DF-E46D26CF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07927-8716-4FB2-8CB1-6C94084E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6625C-374C-487A-8537-36EE94C4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D34FC-A0F8-4DEF-84D2-651B265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BA5C8-02E3-41D9-8FF9-683B62AD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E178D-2C15-4A6E-95B2-29FBE37D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179F-6698-48F7-AF90-5416F993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E4D20-955D-4CC4-B166-1AC93783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B19FEB-4202-4DF9-9FAA-6FF2341F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8BD1A-ABCC-4FE0-A03D-DB712A12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2B98D-2855-4C59-B6D6-7E21C7E1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0AC0C-7DD9-41BE-88BB-7672BE27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E3D13-A0F1-4CD3-88B8-CD99589E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5F363-4CDC-4D66-9B05-6E0AD350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2C6A9-79D9-4330-978E-C1775EF3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0A56D-1F44-42C7-B105-EE1A618B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F78A8-5D65-41F0-8E95-B8AE0A16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019-13B2-4703-87D3-1751B2A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81D8B-BFFD-4012-8F9D-4B55484D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61E28-A665-47C0-84E0-028B3213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0F674-F1B6-43C7-AC7B-99A0290E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44A04-3576-426C-92E2-72B1730B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DDD37-0E3F-4A27-80CD-506933AD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DB7B7-B8F2-4BB5-B905-DE1449CF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3C65A-90AA-434F-A7CC-55C199FD8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96BF8-058A-468D-B184-A637454C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D1C0A-0BD7-49FC-91FE-08837769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A7B0E-C3CD-447A-8860-608EDB36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FB3-584F-4241-9AC5-720D9217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79B25-1134-43BB-AD6C-CE12F6AC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9A3D8-D8DA-47C0-8317-9AD238A8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CEF83-A61B-42FE-A7D3-8F72DCE6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796D8-E92B-4EAB-AC47-56686B87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3A66F-824A-41C6-AE38-3025CDDA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B389B-B65F-47B9-AE9A-49BA7179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8C480-3BF5-44B1-B83E-1738DC47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F6C64-9E63-4AB7-A290-0541F752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67454-CADA-4E39-98F1-2A41C2A5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F40EF-83A2-4EDC-A4D0-6AE317168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5234-7630-44C6-B860-3FB28F6F1BCE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9F5B-5FEC-4D0C-B57E-8DA486F4D7E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798F-A5DE-48C1-81F0-85AD41ADA0C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72D4-FE1B-4698-873B-C6BF5CFF7B8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D172-6278-4398-897E-E9C4B2003B9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B82B-5CEF-4A72-AD8F-47EDD0CC80D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D837-37AB-43C8-8660-BE94135A6C9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A8FC-8B69-44B3-BA63-03247E1AD8A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FE94-082C-4429-A249-084F750C169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9A1D-F420-40C2-93B1-BF11B33407D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6EBC-8F58-4618-ABCB-15D7A1341BB4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EFDE8-9656-4CCA-9C0A-F1BDC0D84B68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1A92-F82C-41A4-ABCD-5E14693EA5D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93AB-022A-47AE-BD30-52094C34319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2256-1C12-428E-8871-257CEFFF8FD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63C0-1F94-465F-8833-FC23584B575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8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0 / 201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What should you use in your presentatio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whitebo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video-recorder or a dvd play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cr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lide proj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overhead projec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extension l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6666"/>
                </a:solidFill>
                <a:latin typeface="Arial"/>
              </a:rPr>
              <a:t>What should you use in your presentation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lms, pictures, sli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raphs, char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mples of your produ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talogues, price l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iting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f you have any questions, ask 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d now it´s time for your questions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 there anything you would like to ask me…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ease, feel free to ask any questions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hanking peo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your attentio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coming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ank you for your time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t was my pleasure to have a talk with you here at the presentation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ezentace společ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ukazuje důvody prezentování společnosti nebo firmy, typy prezentací, jednotlivé části a uvádí typické fráze používané při prezentování firm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Prezentace společnost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 PRESENTATION OF A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y to present a compan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a company or a fi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a new produ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introduce new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offer products, service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to present a compan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hort tal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tour of premi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film, video, dvd or a slidesh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arts of presenta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1450800" y="2362320"/>
            <a:ext cx="7693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62" name="Organization Chart 6"/>
          <p:cNvGrpSpPr/>
          <p:nvPr/>
        </p:nvGrpSpPr>
        <p:grpSpPr>
          <a:xfrm>
            <a:off x="833400" y="2343240"/>
            <a:ext cx="7632360" cy="3670560"/>
            <a:chOff x="833400" y="2343240"/>
            <a:chExt cx="7632360" cy="3670560"/>
          </a:xfrm>
        </p:grpSpPr>
        <p:cxnSp>
          <p:nvCxnSpPr>
            <p:cNvPr id="763" name="_s1028"/>
            <p:cNvCxnSpPr>
              <a:stCxn id="764" idx="0"/>
              <a:endCxn id="765" idx="2"/>
            </p:cNvCxnSpPr>
            <p:nvPr/>
          </p:nvCxnSpPr>
          <p:spPr>
            <a:xfrm flipV="1" rot="16200000">
              <a:off x="5853600" y="2606040"/>
              <a:ext cx="734760" cy="31435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29"/>
            <p:cNvCxnSpPr>
              <a:stCxn id="767" idx="0"/>
              <a:endCxn id="765" idx="2"/>
            </p:cNvCxnSpPr>
            <p:nvPr/>
          </p:nvCxnSpPr>
          <p:spPr>
            <a:xfrm flipV="1" rot="16200000">
              <a:off x="5067720" y="3391920"/>
              <a:ext cx="734760" cy="15721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8" name="_s1030"/>
            <p:cNvCxnSpPr>
              <a:stCxn id="769" idx="0"/>
              <a:endCxn id="765" idx="2"/>
            </p:cNvCxnSpPr>
            <p:nvPr/>
          </p:nvCxnSpPr>
          <p:spPr>
            <a:xfrm flipV="1">
              <a:off x="4649760" y="3810600"/>
              <a:ext cx="2160" cy="7347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0" name="_s1031"/>
            <p:cNvCxnSpPr>
              <a:stCxn id="771" idx="0"/>
              <a:endCxn id="765" idx="2"/>
            </p:cNvCxnSpPr>
            <p:nvPr/>
          </p:nvCxnSpPr>
          <p:spPr>
            <a:xfrm flipH="1" flipV="1" rot="5400000">
              <a:off x="3496320" y="3391920"/>
              <a:ext cx="734760" cy="15721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72" name="_s1032"/>
            <p:cNvCxnSpPr>
              <a:stCxn id="773" idx="0"/>
              <a:endCxn id="765" idx="2"/>
            </p:cNvCxnSpPr>
            <p:nvPr/>
          </p:nvCxnSpPr>
          <p:spPr>
            <a:xfrm flipH="1" flipV="1" rot="5400000">
              <a:off x="2710800" y="2606400"/>
              <a:ext cx="734760" cy="3143520"/>
            </a:xfrm>
            <a:prstGeom prst="bentConnector3">
              <a:avLst>
                <a:gd name="adj1" fmla="val 15539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5" name="_s1033"/>
            <p:cNvSpPr/>
            <p:nvPr/>
          </p:nvSpPr>
          <p:spPr>
            <a:xfrm>
              <a:off x="3976200" y="234324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PARTS OF TH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3366"/>
                  </a:solidFill>
                  <a:latin typeface="Arial"/>
                </a:rPr>
                <a:t>PRESENTATION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3" name="_s1034"/>
            <p:cNvSpPr/>
            <p:nvPr/>
          </p:nvSpPr>
          <p:spPr>
            <a:xfrm>
              <a:off x="8334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WELCOM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PEOP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1" name="_s1035"/>
            <p:cNvSpPr/>
            <p:nvPr/>
          </p:nvSpPr>
          <p:spPr>
            <a:xfrm>
              <a:off x="24048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TRODUC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YOURSELF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9" name="_s1036"/>
            <p:cNvSpPr/>
            <p:nvPr/>
          </p:nvSpPr>
          <p:spPr>
            <a:xfrm>
              <a:off x="39762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PRESENTATION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TSELF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7"/>
            <p:cNvSpPr/>
            <p:nvPr/>
          </p:nvSpPr>
          <p:spPr>
            <a:xfrm>
              <a:off x="55476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INVIT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QUESTIONS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4" name="_s1038"/>
            <p:cNvSpPr/>
            <p:nvPr/>
          </p:nvSpPr>
          <p:spPr>
            <a:xfrm>
              <a:off x="7119000" y="4545720"/>
              <a:ext cx="1346760" cy="1468080"/>
            </a:xfrm>
            <a:custGeom>
              <a:avLst/>
              <a:gdLst>
                <a:gd name="textAreaLeft" fmla="*/ 65520 w 1346760"/>
                <a:gd name="textAreaRight" fmla="*/ 1281240 w 1346760"/>
                <a:gd name="textAreaTop" fmla="*/ 65520 h 1468080"/>
                <a:gd name="textAreaBottom" fmla="*/ 1402560 h 1468080"/>
              </a:gdLst>
              <a:ahLst/>
              <a:rect l="textAreaLeft" t="textAreaTop" r="textAreaRight" b="textAreaBottom"/>
              <a:pathLst>
                <a:path w="21600" h="23545">
                  <a:moveTo>
                    <a:pt x="3600" y="0"/>
                  </a:moveTo>
                  <a:arcTo wR="3600" hR="3600" stAng="16200000" swAng="-5400000"/>
                  <a:lnTo>
                    <a:pt x="0" y="19945"/>
                  </a:lnTo>
                  <a:arcTo wR="3600" hR="3600" stAng="10800000" swAng="-5400000"/>
                  <a:lnTo>
                    <a:pt x="18000" y="235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THANKING PEOPLE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66"/>
                  </a:solidFill>
                  <a:latin typeface="Arial"/>
                </a:rPr>
                <a:t>FOR LISTENING</a:t>
              </a:r>
              <a:endParaRPr b="0" lang="en-US" sz="1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elcoming peo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morning and welcome to our presentation…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afternoon, I am delighted to see you here at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od evening, we are very pleased to be here and present our company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roducing your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o are yo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is your compan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at is your position at the compan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y name is Neil Bradbury and I work in General Motors as a sale representative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esentation itsel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esentation of a company, firm, product or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7:10Z</dcterms:modified>
  <cp:revision>22</cp:revision>
  <dc:subject/>
  <dc:title>BUSINESS ENGLISH</dc:title>
</cp:coreProperties>
</file>