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notesMasterIdLst>
    <p:notesMasterId r:id="rId22"/>
  </p:notes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notesMaster" Target="notesMasters/notesMaster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dt" idx="6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 type="ftr" idx="6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6"/>
          <p:cNvSpPr>
            <a:spLocks noGrp="1"/>
          </p:cNvSpPr>
          <p:nvPr>
            <p:ph type="sldNum" idx="6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DCB64-53A7-4A42-B41E-7B22D154E5E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91794-50E0-4A2D-987D-2EF555324183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B1139-19B7-4975-9C11-27DB84EE61F5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FEEFA-04B9-4385-95E0-1165A68AC751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E9606-846E-4B3A-B57C-4F0E1EA2EED5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05430-D592-42EC-8787-895E80DF0BCA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CB475-82E3-4EA7-8364-B67B5CCF3EF2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ED105-4F58-4F77-BC41-8E9F90D6A233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1A9D4-2AF3-40C5-A38B-A2557DBB4D4F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CA71-17C1-4B61-9814-403FC2F42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A5EB-57AC-4752-B45B-B3EA3982E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431B38-86CB-4BC1-B9B9-480016101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361084-E434-4E3B-BEBB-82B68E4D6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050D29-9CB4-4507-9FBA-4204C90C6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7F61F1-1147-422B-8D43-6F298B59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6D707F-CAEC-4819-85B2-48BE84D7E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5CC5C0-E220-4101-8305-DC554215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525ED0-4414-43F9-A60C-F1B644AF2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2DAAE9-D55A-4D74-84BC-330DA8F5E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757855-5F83-4918-948B-71DD02295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78F66F-9AD4-489B-BEDE-828C5C6A7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8427-5160-48AC-A28C-5360DB868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F6AE47-F65D-490E-BC22-7E2B8013A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AC84D9-BFAB-4230-8E4A-344E28CBE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FE8723-E32A-4852-9FFA-B70518B2A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94F44A-0CAE-43E0-A4DE-EDD9ACD92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32891B-7332-4FB8-87D9-D64885DF9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47BD8A-C85C-41FF-92A9-197A9518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E61D04-4FAB-4108-B34E-C086C7D99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5E69F0-EB3A-4366-A0FB-B6A10DCD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807753-69B9-4833-A8F9-DD4B9255A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AC5719-F47E-4ECA-8370-65C2E77D7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9510-9191-488C-9D7B-9E3507DC0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27DB44-9939-4AF9-AFE0-D20741314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C79ECC-8A1D-4D6B-A8CC-AEDF1A6F9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492119-A0CB-4318-B9B7-CF79CC6BE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2AD7F3-3992-4267-83FF-363EEAA88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2BF109-D288-4E2A-90E0-29007AF8B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22C3AB-4D37-45CC-BA33-771312283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366781-2053-45A7-98C3-0C0C98E44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B5C01E-D490-4EA2-B936-2D5F26655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860F74-6518-48D6-93CC-EAF3DC4B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D2509E-DF2F-47D3-824C-7A6F1F24B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C577F-27C5-43C4-ADF4-C16826717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59C038-977C-40AE-ACAF-50B80FE00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8D9437-9010-49D8-ABFC-F098374DE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166A16-C38C-47AE-8FC1-3C32FA464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E9A825-35E3-4D3D-BA48-7BD89A3C4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74CC67-E591-44B5-B6A2-A398C3C78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CDE2AC-F509-4AB2-83A2-DC2F49197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815BCC-C2BA-4266-855C-FEC2A1468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D9CCB4-BA48-4D61-B9C9-BFB258BA3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CE7BEC-2992-4421-98BA-1FBC3312A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D78EAE-65B9-4392-9ECD-84D817F0F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463B5-6209-4516-AE80-9073507FB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A0BE26-E387-43FC-B608-AAE997FB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A44189-335B-4C49-B5FA-BFAEDD26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3C21F1-4C01-42B7-99CE-7E40ACC8F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A3EC3B-198A-432B-9158-FE4914CF7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BE5EC3-7938-4292-9A71-D2F61EB53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C66FD0-233E-4E7E-BB41-7C547CDAF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FFEB97-5E3F-4413-AAC9-FC0CD4F02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13E064-F3E8-471D-9CE8-61DB2BBBF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D54088-C79B-46CE-8221-983EC7874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8ED147-BC0B-46F0-B784-DFB397E2B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93A19-2F90-4DF3-B80E-EB11B3951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D5A89D-0875-41DF-A26E-D66033856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E5B71B-CA84-4F9F-9989-01D793BF3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ED928E-0F9B-4146-B6BE-B9C5D273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AEEC2E-72EB-4EA2-8FBF-D1DAFAFF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723507-CCD4-48D9-B6C3-D0476921A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084782-8D04-424C-860F-B669708F3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6FD31B-34B7-4DB0-A736-B8B80F9D9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1548A6-A330-485B-95A3-444505796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AAAC8F-A63C-4627-8AB0-15C0428E9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7470F7-C9C0-4A74-AAAB-1F9A6F41D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16FE2-51B7-41F5-A276-B595F0D8A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30DC75-9197-499B-8ADD-D16933F0D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F85785-DB36-48A6-8873-28ACC1E36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372EF9-8119-4BBD-B956-7C4C9728A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11E0CB-C585-43C5-99CD-DAD6B8C36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880139-8F7E-46A4-B7DF-27BBC78F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AC280E-5FA2-441A-A041-28BB45E61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808EAA-F5E9-4C79-B445-98ED228AC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B6DBE6-A033-469A-9E79-FEAAB5361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C7547E-52CC-4EF9-9AA1-EF155A708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A3679F-E424-4D55-882D-436907783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45E22-4E27-4638-A082-D2F506FD1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57FC66-8915-47BB-B324-D068DC43A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2D54B6-5A18-499A-A852-2C3AB4CFB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3F76CE-22AF-4594-8941-D1A64708D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1FDE76-9965-475F-99D9-85207A53D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389951-13F6-4582-9940-D30EC9E45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85D6E0-3379-4CE6-8661-91888A12F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A126D8-A371-41CE-BCED-93ECABF4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174283-84F4-49D5-A10C-4A858DE4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DDD900-0933-40A5-80D3-A287D003B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7F5A51F-20C6-4D9D-8D77-F4D473C26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B570F-A3F4-4E6F-AD20-FA89F5DF6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BB4ADE-2898-4F18-B361-10F312D96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A8526A-F275-4170-A863-8BAAE95C9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E87573-AE20-4C6F-95BB-FC82DD6B7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16B6AB-F059-4C65-9659-AEE08818F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A60AD6-7B04-4BE1-8147-8F22DC2AB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1BEA7C-3F48-4259-90C4-CB26FA85E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667637-42FE-469C-879D-3C31A4854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AF741B-C665-4AF7-A766-D9595BDE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BF8D0A-6BEB-4250-9EE1-A4FD1E586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EB2D13-D025-492B-9744-33DBC266E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A1965-8E58-45BD-A720-9EC96CAA0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849FAF-E737-40A1-B137-077718F68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5D62BB-B815-481E-BC93-56AB0247C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85DE6B-950B-4EF3-8310-8E2DC1A64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FA20D7-279C-4CA3-B547-6F5FD73CF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A29039-5E6E-49E2-8CD3-1B3AA33FC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00A7DE-D704-411D-B31A-349D37D11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7515AD-4325-4CE5-967F-4C8990DC7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EA6052-4676-4D41-9572-475D0A8F6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2BC9B4-1605-475A-9F29-0CD5AA930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7081BA-DC93-4A3C-A9C7-C97A499EF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C596-7094-427E-8803-DB7E16C29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1C900-3247-4B20-8A4F-1D8785D84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DBA9C3-46A1-41A7-A688-19C266092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389B36-0115-4695-B01D-2F13A5EF8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9FDD20-A326-4E29-B3C9-248763D85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99D757-E028-4AA3-994F-A49CF18CC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6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E91316-D07F-4FC2-AC21-1FCA4CDCE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B7ED4F-7350-418B-94FE-AE2212E3F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7AA89B-00F4-4FFE-864D-D3BA88FF0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BDADE3-C760-4CDB-9055-8CAB2642A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F5E633-1E39-41C1-8A40-9A439202D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52AC5B-BEB4-4AE0-B6DB-B5A04B415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A779C-95AA-483C-94E4-EB233546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1B7FDB-56FC-4A6F-A0F6-52F4696A4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85CE8E-F1B1-4328-9C06-204FD04B5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7BB000-D949-4E96-A0C9-4EBF4CC62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F1608C-F30D-4992-A5B4-85D37B1F3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60F366-940A-4A8D-A2AA-F411E2CA8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8643FD-5A93-4039-8193-7B15E0995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9B6DB3-38C2-46C4-AC63-BA085599B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FB1614-85F1-4B28-AB8A-DA7A61D51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2D9658-1BFE-4602-B9A5-1A7BB1E4F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2E2FA2-B4E3-4176-9738-ECD4144AC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54EAD-5F05-443B-AB6B-BAF561A8E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C382A5-93AA-4825-9FDB-39A143594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A83550-D3F4-46CD-8F50-7C1FC0E34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AC094B-3D57-45FE-B520-847C3813B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671668-C802-40F5-AE9B-28D5F2EC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F802BE-5D2D-4B06-AA15-C9033D4F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2BAC01-1FC9-4843-837E-C18536B50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8159BB-B639-4D56-B115-7CA8FD899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B9270F-3B08-4E36-8BF2-29A2CEE6C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D64E43-B824-498A-AF4C-00782F3F8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C5C009-7A8E-4A66-953C-4230813C1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BF168-50D6-4B83-AAB0-E7BF8EC05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2DBFB0-30FF-4A2A-A412-AD43B12AD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8F0C60-5484-45CA-ADEF-D5E7C8511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C50A1C-7AC2-43A7-B73D-A962CE7B9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056DD2-391E-4098-AE17-C3A0F3534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A520C5-0DDA-4809-8800-8457638A0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71C0C6-BE80-4962-B2F3-C8E53165D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9119E8-1993-4FBE-8050-C2CF7E42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6CB177-14E2-45C2-890D-1E5B3AA8F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CCC32B-89D7-48D0-A760-1AF7D3BA8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9893F9-FF8F-4EDE-80ED-FE4D2F796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56E58-56A0-4958-A187-B0638DB61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828AEB-7836-4580-A42F-5D40FA461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F7CD3-788F-4797-BBA4-B5B052081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91C74-08A9-4E81-8A33-33F9A7DEB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B62E9-73DB-4207-A001-47928AC1C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1B574-B2ED-41C3-BEE8-9778645DF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69523-1D12-402F-9230-B536EB6E9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63A0-F9C7-436C-92F6-7439D598B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35EE6-5B8A-43D7-B0BF-9A5988E4B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BD20D-8853-4E8F-A8D5-809A203D7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E013D-AB91-4060-8659-91AF8AFD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4CDC8-6D3C-4868-9EFC-21D1273D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ABF3B-5D5A-4454-BC00-18FAB409A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2054D-6376-4C9A-B9A5-05AE35B90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AC0E2-3C2A-4870-AC85-FC51138B0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2A87D-B3B5-4059-9DF9-46CA61359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381AF-C517-4344-8F89-5AC9DEC6B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FD552-8F38-4AE5-9452-3DBA3435B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5686-1E1A-4D82-8F2D-E0FCC5B19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65838-8A6A-4782-8D16-DCE73BFCE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4223D-0E7E-4BC1-AB4D-FA5B97444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2053C-8604-46EC-A447-149214A5B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55D29-7748-4073-BB19-CD0AA1470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65248-7F73-4939-9389-2E920503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B0BB0-CFEA-436B-82B1-68E8F034D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7EA48-1605-4561-B9A4-7C7266048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18A5C-6C5A-4D0F-8AF2-D94CC94A9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F8AF9-3055-49B0-9CFF-8A49AD64F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8BD35-9DEF-4029-9625-039B401D0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5D0D-15DA-4DB5-BFE8-276543A0F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7189CF-D047-4D29-AE44-7C721A8B6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B4318-F9AC-4920-B18E-671EEB9C4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38B80-77A3-4CA1-954F-78B552401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2A454B-4F7F-435D-9127-EC01E85AD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1CF0A5-F2D0-4678-BA39-7F885D218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57C81E-4AEC-467A-B1A3-C151A7CA1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D3EC8C-A419-4262-8551-36490F88E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C0C2E8-7C41-432B-A090-AFB9B8ED6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4DC8BB-255F-412F-A013-027A53FD3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4D063B-130E-4AC7-903B-4A69D8023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4E2A-07B7-4D55-80F5-AC2E8DB7C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86A77A-4EAA-4C92-8C31-B188E3058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8E41E3-72C6-4715-837C-CFF3A4464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E0F7A2-DD64-4273-8791-D79E959B8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A84FB5-08E0-4EE3-A318-3216D8FB1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7D6E4D-74A0-4EF8-BD56-6F9E86A1D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5ECB54-7693-4F25-9409-A18C87115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AA922C-5999-44C7-958A-22F23D75A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77D3AA-7BA4-4BDE-803E-7A187C9D9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F97472-472C-44AA-9D4B-47B9DE363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7C5110-407F-4C29-951E-8C03961A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35C0-FD66-49B3-9039-CB33A651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7C4580-156E-4CA9-9A50-DDDC827E6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E7BE8E-339D-485A-8CEA-79CE67444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16B348-78FF-4CAF-9BAB-50B9CC216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A8EC9F-7FDC-4903-85E1-BE4F22C9C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5EA95E-8C93-4AF5-B196-9F26AAF67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F36B3C-2136-4D44-9BE6-6ECE45795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C8C047-0E7C-4477-B141-0A82201EC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CFB059-ED32-49A3-B7A8-94398A41E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799F92-36B7-402B-8A2A-4FA9EF200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626B50-E8C4-4707-9BBE-7262229A6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A8F0-0FB3-40F2-B661-0831FEA9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09AEA0-B095-40EE-98CA-9882EB60E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C4E54A-EF22-4085-BE65-8CB00DF7A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C6BA70-F859-4B07-90EF-803A4FE35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80836B-2EA2-49F0-B2D3-3D291CC8B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F8FFE5-9286-4849-A1BF-3A8FB02E0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EDA931-9477-487C-9190-DF4EF1873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F0ACCB-2B1C-4CE1-8202-3801F8B4B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FA4263-9AC2-42CA-8AFB-22BCF1250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1514CC-61A5-40CB-8D43-C41AA7549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65A833-B72E-40EF-B7B0-81108EF5A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2195-F0B1-4617-9F46-8F63DF30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2E19D0-C29F-435F-99E4-15368CBEB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C363CF-8158-44EC-97F8-1F35DA4E4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C0109D-8EF4-4290-892F-160EE43D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93B800-B24F-46DE-A1CE-D851300E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BB5A78-3352-48C9-B791-530EE4A5B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629ACB-CEEB-48F1-B93B-14A1D2C10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3F3A78-D459-42F5-BFBA-A1FB2DA99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DB296C-0E4A-45DE-9759-F22F0FC95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3CA9A6-1DC9-4273-A593-4D9AEC3F9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2BED58-787F-493E-843A-C00911CB6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EB6D2-7EEC-4A88-86F8-BB9CB83D439F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Přímá spojnice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419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2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B402F-39E9-41FC-AC0C-A9DFE378D8ED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C7496-63C2-4329-A785-DFFFE7BAC2B4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9140B-F9EA-4E1B-81F2-0F62393E0696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4" name="Přímá spojnice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45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3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ftr" idx="3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sldNum" idx="3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34D06-E921-4FB0-9D9F-D40FE3BFA5EF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589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91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592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94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595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9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 type="dt" idx="4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 type="ftr" idx="41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 type="sldNum" idx="42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C3CB0-7180-4C76-9FB3-DDDFA22C4AF5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8" name="Přímá spojnice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639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0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4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 type="dt" idx="4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 type="ftr" idx="4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 type="sldNum" idx="4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F8366-9252-4397-BBFF-CD0C916A70F7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2" name="Přímá spojnice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683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4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8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 type="dt" idx="4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 type="ftr" idx="4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 type="sldNum" idx="48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D4BB9-B053-42A8-88CC-0B6E3B824DAD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 type="dt" idx="4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 type="ftr" idx="5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 type="sldNum" idx="5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729AC-176A-4FA0-B01C-372271B5FC99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7" name="Přímá spojnice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768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9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77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 type="dt" idx="5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 type="ftr" idx="5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 type="sldNum" idx="5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6ECA0-C356-48DC-B099-16273C30E307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 type="dt" idx="5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 type="ftr" idx="5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 type="sldNum" idx="5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2D52F-B7BB-4F66-95C8-64C49ABB60B4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9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E2AD5-1F91-443A-80E4-19039C5A021C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56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57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9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60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 type="dt" idx="5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 type="ftr" idx="5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 type="sldNum" idx="6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40F53-7825-4228-B0AF-568ACEEB9B5F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9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E62C8-D9BF-4FC2-8A19-C36EDFEA86AA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106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7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9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10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19831-7BF2-4FA1-855A-AFD8B8E926CA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Přímá spojnice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196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4A02B-8A12-4A1B-BF74-6FB1041CB0A3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40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42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43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45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46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4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17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18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B41DD-827E-4562-9A82-8B3BA92A8B55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Přímá spojnice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290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19B4D-5956-4C8D-A4F0-28352BBD06E2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Přímá spojnice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334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920E6-BAB0-4CE9-8360-89A4C99517D1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BECF5-EC2E-4720-8B37-EA3D802C3352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9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04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02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3.A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/ třetí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6.2.201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03" name="Obrázek 1" descr=""/>
          <p:cNvPicPr/>
          <p:nvPr/>
        </p:nvPicPr>
        <p:blipFill>
          <a:blip r:embed="rId1"/>
          <a:stretch/>
        </p:blipFill>
        <p:spPr>
          <a:xfrm>
            <a:off x="2195640" y="260280"/>
            <a:ext cx="532116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heques usually contai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word „cheque“ in the language in which the cheque was issu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ccount numb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lace where the cheque will be pai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ypes of chequ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32" name="Organization Chart 3"/>
          <p:cNvGrpSpPr/>
          <p:nvPr/>
        </p:nvGrpSpPr>
        <p:grpSpPr>
          <a:xfrm>
            <a:off x="838080" y="2362320"/>
            <a:ext cx="7692480" cy="3723120"/>
            <a:chOff x="838080" y="2362320"/>
            <a:chExt cx="7692480" cy="3723120"/>
          </a:xfrm>
        </p:grpSpPr>
        <p:cxnSp>
          <p:nvCxnSpPr>
            <p:cNvPr id="933" name="_s2052"/>
            <p:cNvCxnSpPr>
              <a:stCxn id="934" idx="0"/>
              <a:endCxn id="935" idx="2"/>
            </p:cNvCxnSpPr>
            <p:nvPr/>
          </p:nvCxnSpPr>
          <p:spPr>
            <a:xfrm flipV="1" rot="16200000">
              <a:off x="5657760" y="2877120"/>
              <a:ext cx="745200" cy="2692800"/>
            </a:xfrm>
            <a:prstGeom prst="bentConnector3">
              <a:avLst>
                <a:gd name="adj1" fmla="val 15514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936" name="_s2053"/>
            <p:cNvCxnSpPr>
              <a:stCxn id="937" idx="0"/>
              <a:endCxn id="935" idx="2"/>
            </p:cNvCxnSpPr>
            <p:nvPr/>
          </p:nvCxnSpPr>
          <p:spPr>
            <a:xfrm flipV="1">
              <a:off x="4684320" y="3851280"/>
              <a:ext cx="3600" cy="745200"/>
            </a:xfrm>
            <a:prstGeom prst="bentConnector2">
              <a:avLst/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938" name="_s2054"/>
            <p:cNvCxnSpPr>
              <a:stCxn id="939" idx="0"/>
              <a:endCxn id="935" idx="2"/>
            </p:cNvCxnSpPr>
            <p:nvPr/>
          </p:nvCxnSpPr>
          <p:spPr>
            <a:xfrm flipH="1" flipV="1" rot="5400000">
              <a:off x="2964960" y="2877480"/>
              <a:ext cx="745200" cy="2692800"/>
            </a:xfrm>
            <a:prstGeom prst="bentConnector3">
              <a:avLst>
                <a:gd name="adj1" fmla="val 15514"/>
              </a:avLst>
            </a:prstGeom>
            <a:ln w="28440">
              <a:solidFill>
                <a:srgbClr val="003366"/>
              </a:solidFill>
              <a:miter/>
            </a:ln>
          </p:spPr>
        </p:cxnSp>
        <p:sp>
          <p:nvSpPr>
            <p:cNvPr id="935" name="_s2055"/>
            <p:cNvSpPr/>
            <p:nvPr/>
          </p:nvSpPr>
          <p:spPr>
            <a:xfrm>
              <a:off x="3530520" y="2362320"/>
              <a:ext cx="2307600" cy="14893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300" spc="-1" strike="noStrike">
                  <a:solidFill>
                    <a:srgbClr val="003366"/>
                  </a:solidFill>
                  <a:latin typeface="Arial"/>
                </a:rPr>
                <a:t>Cheques</a:t>
              </a:r>
              <a:endParaRPr b="0" lang="en-US" sz="3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9" name="_s2056"/>
            <p:cNvSpPr/>
            <p:nvPr/>
          </p:nvSpPr>
          <p:spPr>
            <a:xfrm>
              <a:off x="838080" y="4596120"/>
              <a:ext cx="2307600" cy="14893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300" spc="-1" strike="noStrike">
                  <a:solidFill>
                    <a:srgbClr val="003366"/>
                  </a:solidFill>
                  <a:latin typeface="Arial"/>
                </a:rPr>
                <a:t>Bank </a:t>
              </a:r>
              <a:endParaRPr b="0" lang="en-US" sz="33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300" spc="-1" strike="noStrike">
                  <a:solidFill>
                    <a:srgbClr val="003366"/>
                  </a:solidFill>
                  <a:latin typeface="Arial"/>
                </a:rPr>
                <a:t>cheques</a:t>
              </a:r>
              <a:endParaRPr b="0" lang="en-US" sz="3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7" name="_s2057"/>
            <p:cNvSpPr/>
            <p:nvPr/>
          </p:nvSpPr>
          <p:spPr>
            <a:xfrm>
              <a:off x="3530520" y="4596120"/>
              <a:ext cx="2307600" cy="14893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300" spc="-1" strike="noStrike">
                  <a:solidFill>
                    <a:srgbClr val="003366"/>
                  </a:solidFill>
                  <a:latin typeface="Arial"/>
                </a:rPr>
                <a:t>Private</a:t>
              </a:r>
              <a:endParaRPr b="0" lang="en-US" sz="33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300" spc="-1" strike="noStrike">
                  <a:solidFill>
                    <a:srgbClr val="003366"/>
                  </a:solidFill>
                  <a:latin typeface="Arial"/>
                </a:rPr>
                <a:t>cheques</a:t>
              </a:r>
              <a:endParaRPr b="0" lang="en-US" sz="3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34" name="_s2058"/>
            <p:cNvSpPr/>
            <p:nvPr/>
          </p:nvSpPr>
          <p:spPr>
            <a:xfrm>
              <a:off x="6222960" y="4596120"/>
              <a:ext cx="2307600" cy="14893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300" spc="-1" strike="noStrike">
                  <a:solidFill>
                    <a:srgbClr val="003366"/>
                  </a:solidFill>
                  <a:latin typeface="Arial"/>
                </a:rPr>
                <a:t>Traveller´s</a:t>
              </a:r>
              <a:endParaRPr b="0" lang="en-US" sz="33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300" spc="-1" strike="noStrike">
                  <a:solidFill>
                    <a:srgbClr val="003366"/>
                  </a:solidFill>
                  <a:latin typeface="Arial"/>
                </a:rPr>
                <a:t>cheques</a:t>
              </a:r>
              <a:endParaRPr b="0" lang="en-US" sz="33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40" name="PlaceHolder 1"/>
          <p:cNvSpPr>
            <a:spLocks noGrp="1"/>
          </p:cNvSpPr>
          <p:nvPr>
            <p:ph/>
          </p:nvPr>
        </p:nvSpPr>
        <p:spPr>
          <a:xfrm>
            <a:off x="145080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ank chequ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rawn by a ban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n request of a person for another ban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ork as a cashless pay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rivate chequ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drawer is a person who has an account in a ban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rawn on forms which are parts of a cheque boo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raveller´s chequ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Usually issued by banks or financial institu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rawn in most frequent world currenc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o make travelling easi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Advantages x disadvantag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ADVANTAG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You´re always able to pa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Paying for goods, accommodations etc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A cheap way of pay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366"/>
                </a:solidFill>
                <a:latin typeface="Arial"/>
              </a:rPr>
              <a:t>Bank checks the identity of the drawe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DISADVANTAG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6666"/>
                </a:solidFill>
                <a:latin typeface="Arial"/>
              </a:rPr>
              <a:t>Fe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6666"/>
                </a:solidFill>
                <a:latin typeface="Arial"/>
              </a:rPr>
              <a:t>Sometimes a long time before it is pai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6666"/>
                </a:solidFill>
                <a:latin typeface="Arial"/>
              </a:rPr>
              <a:t>You have to keep your cheque book with yo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4e3b30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1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očánková, M., Hedvábná, I., Kalina, M. 2004. Anglická obchodní korespondence. Ekopress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yčková, J., Neumannová, O. 1998. English for bankers. RADIX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enderson, D., Streitwieser, V. 2006. Business English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ones, L., Alexander, R. 2003. New International Business English. Cambridge University Pr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ackenzie, I. 1995. Financial English. Language Teaching Public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ěšťan, J. 2002. Anglický obchodní dopis se vzorovými dopisy. Nakladatelství JM Pís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4e3b30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3" name="Rectangle 3"/>
          <p:cNvSpPr/>
          <p:nvPr/>
        </p:nvSpPr>
        <p:spPr>
          <a:xfrm>
            <a:off x="1258920" y="1557360"/>
            <a:ext cx="76341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adice, F. 1992. English for banking. Macmillan Publish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kuch, E. 2005. Fit for Business English - Fráz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illey, R. 2005. Fit for Business English – Korespondenc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reger A. 2008. Inside the European Union. Leda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bbs, B., Freebairn, I., Barker, Ch., 2003. New Snapshot Pre-Intermediate, Pearson Education Limit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Obrázk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ttp://search.creativecommons.org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4" name=""/>
          <p:cNvGraphicFramePr/>
          <p:nvPr/>
        </p:nvGraphicFramePr>
        <p:xfrm>
          <a:off x="1258920" y="1700280"/>
          <a:ext cx="7416720" cy="45259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Obchodní angličtin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Šeky a šekové kníž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definuje šeky a jejich typy, způsoby použití šeků, výhody a nevýhody používání šeků a představí odbornou slovní zásobu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Šek, šeková knížka, vystavitel, cestovní šek, šek na doručitele, šek na řad, platnost šeku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05" name="Obrázek 3" descr=""/>
          <p:cNvPicPr/>
          <p:nvPr/>
        </p:nvPicPr>
        <p:blipFill>
          <a:blip r:embed="rId1"/>
          <a:stretch/>
        </p:blipFill>
        <p:spPr>
          <a:xfrm>
            <a:off x="2124000" y="26028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BUSINESS ENGLIS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subTitle"/>
          </p:nvPr>
        </p:nvSpPr>
        <p:spPr>
          <a:xfrm>
            <a:off x="4673520" y="2927160"/>
            <a:ext cx="4013280" cy="122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CHEQUES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CHEQUE BOO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HAT IS A CHEQUE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454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 written order directing a bank to pay mone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 printed piece of paper you can sign and use instead of mone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10" name="Picture 7" descr="šek"/>
          <p:cNvPicPr/>
          <p:nvPr/>
        </p:nvPicPr>
        <p:blipFill>
          <a:blip r:embed="rId1"/>
          <a:stretch/>
        </p:blipFill>
        <p:spPr>
          <a:xfrm>
            <a:off x="5796000" y="3429000"/>
            <a:ext cx="2432160" cy="1255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ypes of chequ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12" name="Organization Chart 15"/>
          <p:cNvGrpSpPr/>
          <p:nvPr/>
        </p:nvGrpSpPr>
        <p:grpSpPr>
          <a:xfrm>
            <a:off x="838080" y="2362320"/>
            <a:ext cx="7692480" cy="3723120"/>
            <a:chOff x="838080" y="2362320"/>
            <a:chExt cx="7692480" cy="3723120"/>
          </a:xfrm>
        </p:grpSpPr>
        <p:cxnSp>
          <p:nvCxnSpPr>
            <p:cNvPr id="913" name="_s1028"/>
            <p:cNvCxnSpPr>
              <a:stCxn id="914" idx="0"/>
              <a:endCxn id="915" idx="2"/>
            </p:cNvCxnSpPr>
            <p:nvPr/>
          </p:nvCxnSpPr>
          <p:spPr>
            <a:xfrm flipV="1" rot="16200000">
              <a:off x="5657760" y="2877120"/>
              <a:ext cx="745200" cy="2692800"/>
            </a:xfrm>
            <a:prstGeom prst="bentConnector3">
              <a:avLst>
                <a:gd name="adj1" fmla="val 15514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916" name="_s1029"/>
            <p:cNvCxnSpPr>
              <a:stCxn id="917" idx="0"/>
              <a:endCxn id="915" idx="2"/>
            </p:cNvCxnSpPr>
            <p:nvPr/>
          </p:nvCxnSpPr>
          <p:spPr>
            <a:xfrm flipV="1">
              <a:off x="4684320" y="3851280"/>
              <a:ext cx="3600" cy="745200"/>
            </a:xfrm>
            <a:prstGeom prst="bentConnector2">
              <a:avLst/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918" name="_s1030"/>
            <p:cNvCxnSpPr>
              <a:stCxn id="919" idx="0"/>
              <a:endCxn id="915" idx="2"/>
            </p:cNvCxnSpPr>
            <p:nvPr/>
          </p:nvCxnSpPr>
          <p:spPr>
            <a:xfrm flipH="1" flipV="1" rot="5400000">
              <a:off x="2964960" y="2877480"/>
              <a:ext cx="745200" cy="2692800"/>
            </a:xfrm>
            <a:prstGeom prst="bentConnector3">
              <a:avLst>
                <a:gd name="adj1" fmla="val 15514"/>
              </a:avLst>
            </a:prstGeom>
            <a:ln w="28440">
              <a:solidFill>
                <a:srgbClr val="003366"/>
              </a:solidFill>
              <a:miter/>
            </a:ln>
          </p:spPr>
        </p:cxnSp>
        <p:sp>
          <p:nvSpPr>
            <p:cNvPr id="915" name="_s1031"/>
            <p:cNvSpPr/>
            <p:nvPr/>
          </p:nvSpPr>
          <p:spPr>
            <a:xfrm>
              <a:off x="3530520" y="2362320"/>
              <a:ext cx="2307600" cy="14893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300" spc="-1" strike="noStrike">
                  <a:solidFill>
                    <a:srgbClr val="003366"/>
                  </a:solidFill>
                  <a:latin typeface="Arial"/>
                </a:rPr>
                <a:t>Cheques</a:t>
              </a:r>
              <a:endParaRPr b="0" lang="en-US" sz="3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9" name="_s1032"/>
            <p:cNvSpPr/>
            <p:nvPr/>
          </p:nvSpPr>
          <p:spPr>
            <a:xfrm>
              <a:off x="838080" y="4596120"/>
              <a:ext cx="2307600" cy="14893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300" spc="-1" strike="noStrike">
                  <a:solidFill>
                    <a:srgbClr val="003366"/>
                  </a:solidFill>
                  <a:latin typeface="Arial"/>
                </a:rPr>
                <a:t>Order </a:t>
              </a:r>
              <a:endParaRPr b="0" lang="en-US" sz="33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300" spc="-1" strike="noStrike">
                  <a:solidFill>
                    <a:srgbClr val="003366"/>
                  </a:solidFill>
                  <a:latin typeface="Arial"/>
                </a:rPr>
                <a:t>cheques</a:t>
              </a:r>
              <a:endParaRPr b="0" lang="en-US" sz="3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7" name="_s1033"/>
            <p:cNvSpPr/>
            <p:nvPr/>
          </p:nvSpPr>
          <p:spPr>
            <a:xfrm>
              <a:off x="3530520" y="4596120"/>
              <a:ext cx="2307600" cy="14893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300" spc="-1" strike="noStrike">
                  <a:solidFill>
                    <a:srgbClr val="003366"/>
                  </a:solidFill>
                  <a:latin typeface="Arial"/>
                </a:rPr>
                <a:t>Bearer</a:t>
              </a:r>
              <a:endParaRPr b="0" lang="en-US" sz="33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300" spc="-1" strike="noStrike">
                  <a:solidFill>
                    <a:srgbClr val="003366"/>
                  </a:solidFill>
                  <a:latin typeface="Arial"/>
                </a:rPr>
                <a:t>cheques</a:t>
              </a:r>
              <a:endParaRPr b="0" lang="en-US" sz="3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4" name="_s1034"/>
            <p:cNvSpPr/>
            <p:nvPr/>
          </p:nvSpPr>
          <p:spPr>
            <a:xfrm>
              <a:off x="6222960" y="4596120"/>
              <a:ext cx="2307600" cy="14893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300" spc="-1" strike="noStrike">
                  <a:solidFill>
                    <a:srgbClr val="003366"/>
                  </a:solidFill>
                  <a:latin typeface="Arial"/>
                </a:rPr>
                <a:t>Counter</a:t>
              </a:r>
              <a:endParaRPr b="0" lang="en-US" sz="33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300" spc="-1" strike="noStrike">
                  <a:solidFill>
                    <a:srgbClr val="003366"/>
                  </a:solidFill>
                  <a:latin typeface="Arial"/>
                </a:rPr>
                <a:t>cheques</a:t>
              </a:r>
              <a:endParaRPr b="0" lang="en-US" sz="33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20" name="PlaceHolder 1"/>
          <p:cNvSpPr>
            <a:spLocks noGrp="1"/>
          </p:cNvSpPr>
          <p:nvPr>
            <p:ph/>
          </p:nvPr>
        </p:nvSpPr>
        <p:spPr>
          <a:xfrm>
            <a:off x="145080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Order chequ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ayable only to the name of the paye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You will find „pay to the order of…..“ on the chequ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earer chequ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ayable to anyone who is in possession of the chequ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re does not have to be any name of a paye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ayable to the „bearer“, to „cash“ or „to the order of cash“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ounter chequ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re used for withdrawa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re usually left blan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hen you run out of cheques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Before your cheques get availab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heques usually contai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heque numb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ate of issu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lace of issu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mount of the mone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ame of the paye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ignature of the draw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8:42:48Z</dcterms:created>
  <dc:creator>Mgr.Martin Frolík</dc:creator>
  <dc:description/>
  <dc:language>en-US</dc:language>
  <cp:lastModifiedBy>Igor</cp:lastModifiedBy>
  <dcterms:modified xsi:type="dcterms:W3CDTF">2014-09-13T14:06:23Z</dcterms:modified>
  <cp:revision>20</cp:revision>
  <dc:subject/>
  <dc:title>BUSINESS ENGLISH</dc:title>
</cp:coreProperties>
</file>