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1EB9-EFC0-462F-93AA-B093A91119F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6F8F-C5FD-4D50-87C7-95DAD9BB9FA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FB02-4AFF-473E-B409-68563E3D9E4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CE75-9B31-4984-808A-FA08BF837D0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9EB3-F04A-4731-A8D9-156C544715A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A798-8F80-48CF-A939-3B900AA21A3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2A0D-A7A6-4BD2-90BE-EC100DD2FBF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73BA-1833-4A07-9D50-1AE41FD11E6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6E4F-D0D6-4E40-9C22-51095E819B3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141-3949-4DF3-B8F9-620099D0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5A9-DD60-4FBB-AFF2-B4A4012A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22331-37E0-4229-A0B1-D10E8C52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21398-BCB6-4FFC-8215-49CA42FB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B01D4-E5F3-420B-976A-AB867D52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87E5D-38A7-4C5B-ADA0-6E4BC70A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2E830-9FBA-4673-8CCA-130B6A36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A8BB1-83D8-4B4C-95B1-6B12132B1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46DA4-A12F-4A4D-B5CF-1DD0C80D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844DD-7A2E-4A22-9A93-68B454316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4494A8-7560-4598-8302-5D0CCC34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5CCB1-349E-40E6-AB7D-DF752F81B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7CCA-B5C8-4DAF-BA7F-48C56969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7B753-35F1-492F-8536-37DBD8DD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B17144-5336-466F-91DE-89B94C15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DA3B0-F0B5-4F6D-BB25-120F7B56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64BA2-2F92-4860-ADAF-3A865AAD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4F660-F080-4D43-922A-BB507DCA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385A0-A9B3-4B9F-88F5-C09ABD3C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C34A7-1C39-497B-AF1B-EA92441F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31E07-C177-4DA8-A9FC-5DB422ED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12E2C-D29A-4383-9A19-8F50912E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E435F-4F17-481D-BDB3-F94FBA15A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71E2-76AB-45B2-B560-6FC66071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B5C95-4745-48DA-8BE2-B0BCB854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AF6F2-7262-4057-948A-50C18131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17FF6-0367-473B-9B68-34C8CA54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C9FE7-D353-46E6-8A10-16DC33B3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8C50C-73D1-4A44-9EDB-FCA66A4B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A6707-DECD-4B84-857E-F7402D65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68C4C-4D27-4AF0-9584-424ABC30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0E7DA-C676-4A20-8642-E6693388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2244C-16AC-4F25-AEBC-99AA6EC4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5FDCB-E4FF-4244-8B08-AE06ED22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567F-2370-45C6-9A6F-DE7BD552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15BB2-4647-44C5-A5C0-E84E9A89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4351C-214D-4F1E-A7DE-E5FCFB87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DF287-CAB5-453D-AA7A-570847F1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26910-058C-408B-8186-E1F1EAE1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73DBA-43AC-4C9C-9709-39ABFAE5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F773C-40B9-47F5-987B-2D5D860E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2AEDB5-8259-46B4-B000-9BEA5479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28CFF9-8C22-4FF1-840F-280AFC07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24DE2-9749-41B1-84A5-00CEF8EF8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835C9-8DA9-4BAE-9FD2-D094C6CF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AD121-3D69-4E13-B2B6-7A8F7A48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D249E-CD2F-4084-AC2A-9FEB3B9D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7C3278-18F0-4B16-A194-7A115261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6946F-9AD7-4C29-97B6-B30CA1BE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C7E4F1-B563-4E1C-BD69-30F09B492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3DD25-4491-4D46-93DD-DDEBCC60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41717-BDF8-4FBA-9884-EC2C8E169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9B51A-1AFD-45DB-80BC-814CA1E5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38133-ACF9-4589-A93C-1A966F2A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64CCF-94DC-47F8-9A1A-ADD755F4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1793F3-3520-4840-9250-AB1ED6579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C2F0-F4A4-43D2-881A-C262236C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7CC579-477E-4172-8C1D-ECB9CE4B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8C1F2-73FC-4BF1-9218-3FE8EF58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CA87E3-4015-4C23-9E2C-3A97B951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177C4-C640-4F46-9609-09575970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A46C3-69E1-498A-B1FE-7629963A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6BAE2-25FF-4992-A4B9-73F97BA61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15D7DB-AB3B-456C-8311-00B9EFF2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BA0AA-CC71-4BAF-BE87-AE2F789E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FE733-977E-42AB-A031-90256B60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1520A-CC5F-4DAA-AC2C-198AA6DC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6029-B71C-45CA-91E9-EC535715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A10F08-7B07-4FB4-A408-072AFDD9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78560A-805C-45C7-9BF6-7B4F68CC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7758EB-44C0-4043-AF98-2DDF1E65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B183D7-0625-4F9E-8F0D-FEA300EA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9C0FE-EE9D-45EA-9B01-669FC6A6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327BBF-6119-4610-A69A-D9BBE8908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EC357C-959E-41AE-B704-EB0099431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C4448-4D2F-4226-8370-7C62754F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DA321-DD92-4981-81FB-65C22C662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9AC588-1118-4044-A73E-26C152A6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0430-071B-4179-B5B7-CFAE2450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719EFF-BD6A-49EA-998F-EB66B9B6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7B6D4F-9129-48BE-A138-085AEE6F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D5D920-0D46-4F03-A324-B725D335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2C763D-05FB-41A1-94D4-C2D74959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CEC5BC-8CDA-4565-89AA-3952D68C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FDA63A-6CBE-41F6-99E8-C56CBD49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47E908-83AD-45AD-8BAB-12430769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967DD6-ED6E-4E3F-8C3D-30FE320B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4BD80A-AEEA-4795-9A0E-08EABDD9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A356C8-6C2E-4027-8B50-E6313C82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1627-A9AE-4D0E-ABDE-6428B1E0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C922D3-67E0-4F25-B37E-6EBEBF1C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D8B8C2-3C21-4F16-A122-B8F6674F6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AFFDF5-485C-458B-AE63-802B31CB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89CA92-2F90-47AF-AAA9-85A4ABF2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D4402A-4822-4CDB-99A8-C34F30B3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D74ADF-634C-4346-A50E-9ECFA8B7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8BD30F-51B4-4C40-BE88-B31E9015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FC7A41-43A7-49BF-AB37-224C887C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1FD918-CB96-4046-B5A2-6F6953AB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7175D-56A8-4F9C-A6AD-963C91D1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8FE8-BDE5-4F5B-BD70-DAF2E6B4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3DC38-6DC8-4F24-A983-DF8166CB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D247B0-84B9-4A98-89E4-93FA5F79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6B1F29-7EF7-4F3C-9182-F8FD61C4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B7A4-115F-465E-9FFC-E0A476EA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53F1-288A-49B7-9D0C-A69FC6A9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7F96-533E-45B2-8929-F708DA68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B45F-C4F6-4C32-B281-9E19D455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0EA6-7F24-41EA-BCFF-C07D529F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386F-0941-41EC-AE98-B19B9E62A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F02DB-70DF-4CD2-9A4B-3775D51A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C4DB1-3EED-4335-994C-2D3E481B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DA1FF-D6D1-4CC8-B1E1-E5E6DEB7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417D1-DE64-4F42-A367-156D1D11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5C3D-ECF7-4654-9B0A-4DBE7A0A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8E23-4A6B-4E2A-8228-B198D35B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C9143-8B21-4060-A3D3-2BFEB1DC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1055D-C770-4E5C-8052-914A4614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A4F6F-C5DF-4879-B2A2-D7B72147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74E7E-EB93-4171-ACDE-8516470D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C2EB7-32FF-4F7A-B95B-5BDF87FD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AD71F-7F35-456D-9522-5DDCDA82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32EE3-065F-497E-9097-44D291AA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50F03-C299-48CE-9D6D-F3142E12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94CC3-481D-46FC-BF7C-2610A0CB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4EACA-A303-4FE0-9992-3E205255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F30-0656-42C6-BFC2-68CD91D8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A1D04-7C30-4F62-BA1A-3EF60D2B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D4497-1F6F-4570-A02F-804AF4C5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3581B-6082-46E4-8367-A6211CA4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BB695-3702-446D-9095-0A5D822A9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96727-823F-4F39-B660-DFC144AF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81818-4F14-4D98-8776-652F6ED4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C1C0B-81D3-4945-973C-7A50EE5E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4BCB9-5E08-4FDD-BBF6-FDA60FF3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A8C40-23F3-4079-9099-FD8AB1178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039C1-0057-4B83-A868-B5299193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295-BCB0-4B11-8DE6-784A195E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520B0-EDF6-413B-9715-535D871F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1179B-6E4E-4CDD-8E13-FFF13AC4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12EBC-A009-4CE7-808C-75AD70606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F96CC-EB03-48EE-89F0-A3D8305C6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6220B-7C13-47F7-8AE1-D2AE4EDD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65770-F531-42EC-B2AD-EF4EBAFB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124B8-0709-4C39-8CE1-45D6F4FB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2835B-691B-4949-B086-CA023A9B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18DC5-DEDA-4AE3-AD8E-9F4D0109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B6E38F-873E-4E72-A1BA-BE69F1D5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FD5-F8F8-4FB2-86D5-3729FF023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DFE7A-1E46-4C6B-A450-9AF3D9AA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215C9-F6FC-456C-ABC6-5009789D3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AB857-CFDB-460A-A36B-62702A6A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EB3E9-66F6-4CDA-B6B7-4624DCB9A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76942-DB7D-4AC8-808F-706C27153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CDD24-6044-4827-83CF-1395DD7C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AACBC-6D3E-44C0-8C3C-4DF8E9B8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37C39-20D1-41BD-A13C-F11641F3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FD11B-2E9D-4036-A373-2CAC3279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91201-BC9D-4F7A-B090-31B363D7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874-3C80-43F6-AB2D-F264A31B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62B2E-24A3-47B4-B5D9-59F14E2D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15069-72E6-456A-91EC-0787C7F8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7B3C8-57DF-44C7-9934-7BFE5971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2B198-E311-467B-B792-A147B848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D0527-5967-43C4-9C14-80CF8E08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B93DD-21F9-4E79-B83C-17506610D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0DB60-547A-4EEE-9613-905FE20D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A233C-9DF2-4CD0-A940-40B12648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85C90-4A9E-49CE-B717-8A271614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78E40E-2D1A-4DDF-993A-489C3E22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8BCB-C3F0-46E4-A87D-99E4A680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D1D77-E8FD-4898-854D-F137121F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36579-EA61-4B9F-A339-803FF733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A73F8-D45E-4377-A874-410E536E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0D300-27E4-455F-872D-DEA59C1A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0597D4-0324-417D-967E-52A976BF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4D67B9-DB33-41B0-A187-AF66E30E5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03E51-5DAA-463F-A16B-24B7DBF7F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B22B2-4929-4AF8-B153-3BC2400D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1BEC6-B0D8-410B-8AB1-998F7A79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D8E52-93BE-496A-B4F9-39ADF5FB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380-51B4-467D-8C3F-4B55F6B9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1C76D-4787-4E46-AD3E-C19EC80E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55513E-A462-4E89-A6A3-32B8E1C9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D4894-D9E1-4E8C-A136-2B6E88BA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2DA3C-7AE8-4DAC-939D-6998B8D8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728B7-AB4F-4030-98CF-4F981CCD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77B04-50AE-4CB0-847F-A26FB3ED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6AB46-95A6-4B52-B3C9-CCAF2596D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63B4E-F409-4DB9-BDCC-8AAE88BDE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F9B3B-858F-40E2-9668-2B50F359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51EB9D-1A4F-4B9D-8E21-6C81E83FA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488C-2337-4C5B-A864-A9FBA1C248A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B703-3907-4082-B616-5342ACCBC96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B8F6-6BC2-4AF7-88F8-205742D3C95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554C-E566-4DC0-A65C-D1A5E57CD21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C02A-5EE5-4D0D-9DCF-0A127846CB8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8EF0-D10F-4C24-90E5-7588F26D836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A39E-EE11-40A9-B764-E0B935D290B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3CC67-37A5-444E-B63B-3DE558CE662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50B5-1015-4BBD-A8C7-11475ED4B096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9A4E5-4FD8-4EA3-B726-D20BB82E4AB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8C2A-2288-42CB-8A68-BC4D8CAB9244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9B66-BDCB-4BA5-993E-89C34761E30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00F7-EE7B-47B1-B864-49010680A33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7186-AA3F-483C-9CDF-342942FE684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06B0-023A-4A7B-8869-A7C96F14EB4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D60D-44D6-476E-816B-DB08FAB78B2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1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55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pected areas of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 as a personal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present job and posi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Reasons for leaving your present job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previous job experie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strengths and weakness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pected areas of question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skills, talents, abilities to off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expecta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future pla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will to learn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pected areas of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amwork x individual work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willingness to tra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bstacles (long working hours, weekend work etc.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might you be interested i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salary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(compared to the present one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 company ca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Extra benefi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Telephone bills paid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heap housing loa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might you be interested i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onuses paid in a „thirteenth month“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ompany pension schem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ree canteen meal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Long holiday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lexible working hou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ome good adv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n´t be late for the interview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on´t lie at the interview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Wear appropriate clothes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peak slowly, politely, don´t use colloquial expressions and vulgarism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3366"/>
                </a:solidFill>
                <a:latin typeface="Arial"/>
              </a:rPr>
              <a:t>Be yourself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21. INTERVIEW FOR A JO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HE END OF 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acovní pohovor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typy pracovních pohovorů, očekávané oblasti otázek a podává rady, jak se připravit na pracovní pohovor při žádosti o místo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Job interview, applying for a jo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55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NTERVIEW FOR A JO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pplying for a job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nding a cover lett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urriculum vitae (résumé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view for a job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job interview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ne-to-one interview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Panel interview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Deep-end interview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eparation for an intervie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earching for information about your potential employ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view prepa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Applicant job interview present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earching for some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Newspapers, magazi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rochur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From people who work (worked) ther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view prepar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Your appear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Cloth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Questions prepared in advanc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Getting ready for unexpected question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pplicant´s present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Behaviou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peech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Imag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3366"/>
                </a:solidFill>
                <a:latin typeface="Arial"/>
              </a:rPr>
              <a:t>Sincerity, veracity, forcibility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10:27Z</dcterms:modified>
  <cp:revision>20</cp:revision>
  <dc:subject/>
  <dc:title>BUSINESS ENGLISH</dc:title>
</cp:coreProperties>
</file>