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648C-1962-410A-90CA-21071E8CCD1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F788-FCB7-494E-932E-13A5146B014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1F75-43E9-47B9-8A50-7373AEC2F3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EA85-E322-470D-A1D0-F65BBBE8FD0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9104-B57E-4044-AEBF-9B7BE2AEA68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3BFF-80A3-47A3-9ACB-41F6CDD884A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9886-C469-4067-96F6-0C9F90CE9C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373B-DAA5-452D-85EA-DEAD37C5503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F3E-3922-4DF9-9A0E-A4CBF7E5F7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A2E-4919-4D71-9E7C-DAB30AE73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54E2-7022-4086-88BC-CD1A6E0F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3FB2C-960A-461C-B04F-93EB21741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0373B-BD44-4098-8D2D-75BDE78B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93BA9-A3BA-4C03-AFC5-39EA263A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CFD20-EDA1-4F6F-889F-ED7214224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29CC38-D6C0-46A4-B498-80E143E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A6CB6-3909-40B0-8363-39FD8B13F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042593-400C-4D46-9DC5-4209EB36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40967-A4E6-4795-8046-83156240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1F8D3-6512-4F37-9D8E-0941F419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71612-91C7-4679-AD51-CFC04A86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90F-C718-484A-B27D-03ECC3336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F3B86-5472-416C-AC16-185641BC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26267-6619-498D-9189-5313CB8D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4716A-0094-4B39-825C-12F1DA52E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0819A8-6D3E-4C36-91BA-3684FCF7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D7B1D-EDB8-48F6-877E-0FB6F9B1D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E838F-254C-4533-BDFC-0EA9F2C1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4C2371-5350-4DBC-9738-F8B51ED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DCA750-85FC-4180-A797-1D30832B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457A8C-285C-4182-823F-1A420A62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FE6D1-2511-493C-98D7-9BA31FD2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F9DE-67FE-4EF7-942A-CE76AC1FC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E3C078-D746-4620-8771-F5534DB4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F17CC-4456-4613-B910-6BFD44A66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EAFEC-68DB-45D3-A3CD-69FE3D4B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41C03-B7C5-4883-9DC6-35A16329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76D5-5DE7-46BC-B5D4-B8A73D6A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8CDCD-D80F-4520-972B-B6473E9D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C344C-12D1-4380-AB1D-53B154AA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4E0AB-4E4F-4CE3-9983-B158450D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D79186-18CE-48C2-97AF-D2F6DFF9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5093F-DCE5-4CDA-A6CB-14B88FEB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AFE1-123C-4D53-A4C1-CCC7A5BB5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81CA58-5974-42D3-A8C8-60683683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956C-8ED5-4C07-A05F-61249ACF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789707-1B21-406A-9D3F-0FB76D9F7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EA845E-EAEF-4283-9A59-9C75C0738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6ECCF-BFE8-4E9F-810E-811DFE0C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66423E-675D-47B8-A413-5EC7F856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02D9D-96D7-41EB-A72F-0EBD51451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68235-1C65-4E14-B2FE-AAE7EC3A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14B8E-29B0-49A9-AFB7-43E3EAF6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075B4-A488-4C63-BFA5-0958AC05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85C-DEBE-4793-8C24-BEC60E5C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F009-9595-487E-B714-547856E4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FD986-255B-4FBD-8737-D9B2DAE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89A09-E46A-4943-9216-8970BA316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0E2F6-3915-4432-9C8E-651DFDFD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F4D05-74E3-46D0-AFB3-10C4FF131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A4346-87B4-488D-9C3C-4A473D3A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FF25F1-27A3-4E3B-85FD-9AE815DC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4C97EA-1E95-4DA8-8CA3-A066E1B7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9698EF-335F-466B-A98E-D0F5CDAEE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BBDF1-1709-4B5D-8084-17CAA20D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25DA-09DE-473C-9ACF-2C9443FB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B7A6D5-E43C-474F-9DC0-72E04F37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0EB9E-EBB4-4696-BB2F-BBE6FBF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8197BE-E3EC-4241-9D5E-BA3FCCFB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B52550-EB68-4999-B3BD-ACB43DFF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C8BCE-47A5-4664-9327-CF0EC20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BB58C-DC7C-4575-9C0C-4E0B32EBE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7264F-008A-4581-A6CC-AC5335030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20F4DB-899A-44C3-8BD2-FD8123E05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44981C-43C4-44DF-8471-41C8F540B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D7811-7C69-4EA9-9474-76531FD1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D2E8-B09F-4E00-B2B3-3448C853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E721FD-FAFF-439A-90FF-137C07CB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2993C-C8BF-4BD3-AC06-64622D66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B5712C-F83A-4579-A114-0A399AF6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BDAB16-E87D-4753-AB60-682E3FA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167A2-BFCD-45D0-9611-E2DEB6E2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61383-78C5-43FE-9D8C-8F6ACAD5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315997-6DED-41F2-93EF-3256477C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390AD8-95E2-4B97-97F7-1FE2AA3E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50DF67-340F-4040-99A0-44ACAC46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40C313-7BDF-4B9F-964D-6BD15B9F2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19A4-60BD-4254-8E3F-E8003451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F8C62A-E83B-4DE4-B710-285EFF7C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5CC8E9-BC57-401D-BFFE-44671A16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03D074-33CB-447E-BA65-A0A502E3B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6D4A1-E0FF-40D0-9E56-DC618C19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76BC05-F0AA-4CA4-9488-7CBD67B2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2BEAF-0191-4455-B9B9-574A657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5030D-BB3B-471F-87AD-1AAFFD9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7319FA-AC24-40C3-B635-78B87C41D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61996-B2C7-4616-83E8-4FA84F41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A60B9-F3D3-4CAD-BA0D-C15BA2283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8790-CAF5-4462-AF6D-7F2200B9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877CC-7FF7-4401-995E-6F3EF69A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B5C17F-CE57-41FD-BEBE-F2282AB4E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AC221-7DA0-4ECE-9813-4F2084276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3CFAA2-346D-4AED-ADCA-D0D17050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37ED0-9AEB-48B8-BC0C-6C2836C5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2EF366-C79F-43CF-A79E-F939F185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78ECBC-3E54-48FE-85AD-66E9AFA0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23CB0B-2369-487C-A01B-F534FD9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498FF8-FBDE-42DE-91C1-5F9CB52C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327DB-A213-4216-A3DE-8BBD893A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DA5C-29EC-4C76-99CF-5F15B1BC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2334C4-23B6-4A7B-9B81-C00EC06E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42CBC6-A0B0-42E7-B91E-F5E63A10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00C072-882E-4FD7-A488-93E61306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126A-6DE2-497A-801B-23BDE6C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DB1B-D9B2-4391-9893-2FF77057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9259-A1AC-4B9C-87C1-C41E518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3AC8-69C5-45B4-BA01-90862CEC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D238-DB14-4C76-A6CF-0A26690C8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6597-F1DE-4EFC-BA14-D2B30457C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FD6BF-3D6D-4EE6-9673-CDB0FA4D5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31A03-BF36-43B2-AAA6-110DA224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B5ABC-0ECA-43D2-BE63-D959455A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2D59-0546-4660-A763-A1C5C23B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38701-721E-4706-B9F0-7AA7D72C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292C-05C2-42A4-9649-66928D0C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D41E5-79A3-4413-B6FC-9C9CF0B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5D5A2-0BB9-4AF3-A194-0EC7F931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9C07-4172-44D3-9CEE-B2E53972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D585-9FE3-43D6-941D-DC71FC6A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96214-820D-45DA-95A9-70D493C2A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A1FE0-369C-413F-A555-63D2F485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8CF1-752A-4C90-BC12-1313507C2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F79C-0B6D-4CE5-A32F-68702753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E0762-438F-4885-9ADC-72D1E18D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24B3A-6E53-4CBF-B10F-C9EDB58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A005-30D1-4EEC-BDB8-094B2321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F6A1B-0F70-42A2-ACBE-07390CFDE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A41E-4021-44A7-8BF9-DDB024C6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CF67-BA47-4A25-946B-5FE72318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95873-318F-480D-8983-585366AB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87607-04E1-4967-A690-F136DF6F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5BE7A-8E3D-4731-8718-E09A60B9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27A0E-6FB2-4F39-81BA-4E09C02A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5DF62-3239-4424-AFF7-0ACB10F6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EB7AF-86BD-434E-82BC-FB21CEA32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3DAA7-8245-4948-A48D-CEAAA9161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8B9B-2829-4191-9F4D-457E01912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2AFC-AF11-4299-9AAB-17399F15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2DFF-6DA1-4149-9D72-346C17F3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B5CF1-F48D-40C8-8E70-055341975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800CB-407A-4E46-AD91-F13953CD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9AB94-4812-4931-BF26-B20BAA4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30B1-1B8D-49E6-83C0-BF7E6E88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80F82-71BC-40B7-BECC-FDDDAACF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9FA86-4296-40E2-9971-454DE8B1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08149-D958-4998-AC16-C50E3938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AB45-87EA-4BA6-87E8-21DD7CDA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D42-15E8-4539-BE40-519F7F8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A37C1-33CD-4FA3-B5E4-9A963820C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8CF1D-82E7-4E9C-B4C5-AADD725C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B9320-E8E4-40D3-B1BE-F82F8876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F7ECD-8E0D-48E9-AAA8-BCC90223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211F-87C8-4A7E-BA51-3759D93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2DC83-0BF2-4CCE-979D-F6237F5C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01712-4719-49C2-87D5-3F3F7C4E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E2A25A-CA94-436F-82B6-0C5BC852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337B0-DFA4-4A4A-964D-C03F38C0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51E4C-E5BE-4EE0-BABB-93CBC93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F0C-122B-4443-AC0D-35F9C2AF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89EAD-BBA2-4611-AA0F-661674F5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22B74-A973-4BF1-A4BA-01F6C608A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47D3B-9DEB-4941-AC67-20B06A5FF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47D75-54E3-4A0B-9B56-B1EE3839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5AF56-6E5B-4B9A-B612-54915C52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66E3B-02F7-4AD7-A1B7-3D0AD9CF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61245-AF53-4F71-ADA0-24F456C1B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55666-79DA-4AD0-BF8E-435CBA79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5403-F355-4270-A3BA-0D497492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83979-E02A-44F3-8B05-498D2204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8CC-0115-4583-B081-81996860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1BCF2-FE69-4F69-B8D6-F2C0A863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84E1FA-4C3B-4B1A-92D3-70BEEC2D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E89C5-D6DD-429E-A436-2407A3FE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CCD6-3C66-4FE1-8BA9-66704CA6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7A05C-F1AD-4CCC-8B7A-20F6F29B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0FC0-2ED4-4AF1-8B0F-B955C65D0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89E97-7678-462B-906E-26E5B090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870B-EB2E-4E08-9DB4-1ACE7A4D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4409-513B-43A1-BE77-BCB31883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E945-DCC2-4DDA-AF9E-CAE2AE341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B02-27C2-4EFC-84FF-F10AFBEE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599CE-C04C-4F20-99BF-C1AC2B60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50D09-89F3-4CB7-A761-E0FD1F1D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AA645-2D52-4738-94CF-8B69D9C7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DE7F-4F67-471B-8191-54DBD712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C72398-5E58-439E-8C4D-816EA733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FA87-C35E-4D7A-B5D2-F1F9945D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C8F7A-A043-4410-93A1-4CF7D1EF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5FBDF-1629-44FC-A70D-A0AC2EA8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838D8-36AF-4ABB-A30A-13EFCC5F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1BC32-8AB1-4B2C-B248-F3D45E12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650C-5529-4E6D-A3EF-6542BD7FA6E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A967-9BA3-4099-94C7-B0864C3B62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F918-1F42-49E3-A66A-C190CAE42A1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1AD9-4198-47B2-BBDD-D027080C19C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E3282-8236-4097-B740-436F6EBDDE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64BC-DA49-458C-A813-39D3D1DC53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FDB4-62D7-4062-B892-01A2C318C1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AA23-C63D-4E92-AA51-55DC1746E66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9F1C-B4F9-426E-B5A2-F6B107E7B8E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1BD-C65D-449E-B858-274591E8D2D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15C-755E-4478-A6C4-4E8853124FB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B85A-29F1-416F-8E57-47C70E04942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B17D-9783-4E9C-9BEE-CE4DF8393C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BAE5-059A-4988-BA13-D0F7DE035CA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CBA-086A-4B70-A8E0-57C5B3AC1D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CB8-3DB4-4A85-A6DF-6473A32B5A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mpt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war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rtial deliverie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xed delive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) Validity of your off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inding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irm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ithout enga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dopis - nabídk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, co obsahuje obchodní dopis s nabídkou a představuje základní slovní zásobu pro psaní obchodních dopisů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ffer, terms, delivery, price, valid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OFF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6" name="Obrázek 1" descr=""/>
          <p:cNvPicPr/>
          <p:nvPr/>
        </p:nvPicPr>
        <p:blipFill>
          <a:blip r:embed="rId1"/>
          <a:stretch/>
        </p:blipFill>
        <p:spPr>
          <a:xfrm>
            <a:off x="539640" y="3645000"/>
            <a:ext cx="22478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Your offers should inclu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description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quant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he price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your products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payment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Terms of deliver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 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Validity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of the offer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) Description of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ypes of produc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chnical det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talo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mpl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1" name="Obrázek 1" descr=""/>
          <p:cNvPicPr/>
          <p:nvPr/>
        </p:nvPicPr>
        <p:blipFill>
          <a:blip r:embed="rId1"/>
          <a:stretch/>
        </p:blipFill>
        <p:spPr>
          <a:xfrm>
            <a:off x="5845320" y="2924280"/>
            <a:ext cx="2043000" cy="2655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) The quantity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igh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ckag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) The price of your produc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ic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cos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bulk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cash pay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iscounts for long-term busin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) Terms of pay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etter of credi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yment after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pay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cuments against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) Terms of delivery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livery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lace of delive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way of transpo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52Z</dcterms:modified>
  <cp:revision>26</cp:revision>
  <dc:subject/>
  <dc:title>BUSINESS ENGLISH</dc:title>
</cp:coreProperties>
</file>