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2A35-B359-46A6-AA97-2B3A4918E27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F1D4-468B-4B79-AEB2-FD1A4511C1C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C875-B7A7-458E-8DBC-475CCA44216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E95A-F1E4-4A7B-AC8B-8552AA12A17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4EC8-0AC2-4835-A50C-8F1003220A7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773E-7723-4ADF-B332-E10D6564730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29C2-5A9E-41F6-BD95-12A6788873C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F1AA3-642D-4730-803E-04205137C29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5B5E-9549-4854-AF4A-F3CA3AB82A1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B971-E59F-4788-B72A-3FE48C29E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85C-04A5-4166-A305-88855083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E243C-4DFE-40DC-B1C9-D2A294D4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8F5F8-74EF-41A5-80FA-4B372A0B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509CE-A9E3-4D74-8837-3BA928A4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991E6-813E-48D4-8199-2C1EE54E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496F1-9B5A-4A7B-B9C6-CB13BBBE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6BEA8-2382-45AD-A858-C70765F7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B9898-7A6B-4DF0-80D5-4919266D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54E2E-BB95-48F6-BDBE-BDF4FF06F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48FA4-111C-401B-9804-8E1928C0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97B99-86E7-41F2-99F6-DA29765C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3BE-9C67-45B4-92E3-27FE838A5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3EF8B7-D988-4CFC-94C8-7D55DF0D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03F0E-D82F-4428-9CDC-F48CE006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02AD2-572B-45B2-8F0F-6104D68F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252C5-2AB7-4DE7-B2C9-C28A53A8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CECCE-AC72-4A68-A0CB-9CAD5B88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B94CE-ADE0-41D4-AAC9-3F5E6B2C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42D9D-6841-482C-8EDC-B7823F1D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79DACD-8022-4ECB-A458-0CDCA23B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78BC9-935A-46C7-BED3-F4FD2759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3361E-C22D-4BB5-B0A6-6297CF0CB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F7C5-1232-4409-BCF4-178108DFF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52099-9EFE-4CF0-BAED-8AE110DBA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CA8D1-6F6B-47B9-88FB-9311A1759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8649C-2FF4-4534-83D9-77B23DC4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BD465A-4646-40DB-8666-040470C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25BA3-EA4A-41AA-84B5-2F7F23519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BBB09-DA7D-4E81-9D62-9EB3FEE0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7EDEB8-ABC3-47FD-9657-CE7D5DDC1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7C27-CB64-45A7-90C8-B69292C0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1112E-19B6-4A01-8458-1BA2995F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2462E-D8CE-46B7-AF3A-73A977A6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5D11-93F2-4B6B-8CC8-F45BA8DE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BD0E0-D55B-4333-B332-720CC381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1E5E9E-9F01-49CE-870E-9BA22540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9D7F5-AF42-4C58-BA76-63B98DFD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673F5-AF5A-46AF-96F3-58962207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D009C-881C-4431-95F0-ECF0464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4A715-577F-4FA7-9A42-7F4AE48D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07125-0A36-4050-87A3-849A425EA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3A342-8174-4179-B093-A234ED9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4FFF08-43C3-4AEC-9DCB-8E91DB08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C8DBEF-AE8B-48A8-AA7E-C37DB58B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5869-7269-495B-8A74-B58AB04C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BC3E4-F097-4218-A2EC-2FB349C7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349770-7350-49D6-BDA9-1F708CA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184DAD-6145-460F-A8BF-BFB8DC82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E70E4-3921-4941-A89B-97B24280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A1CF7-61E0-4A95-B5AF-0017ED7D1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E43E7-378A-4C96-905E-DF89399B3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EBE1B-19D0-4FD6-9886-E7ED659E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CBD62-54B0-49DF-96C2-3B53066B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3BBA2-F769-41CB-8E35-F99658C8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7A209-53EB-4048-8E2E-89B560C4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61FA-68DF-4CC6-BB46-0A7E6D92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D74B4C-DA19-4CDC-9CF3-DE78859B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65E7A-8EFF-490B-A584-F76CFACA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3469D6-09FE-4B61-83DE-53B4E19E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7DBA7-1728-4B73-8D29-50A8F9DB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D9243-E62D-45D1-909C-CE67285A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90799C-8586-4F75-B57A-02238A6E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FD4EB-ABD5-43E4-8F7C-0A41E93B7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9826D-9964-4068-814D-BDD14055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ACBE9A-6148-43C6-BAFB-7F65037F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666AA-1D75-48B1-99D0-AA10E3EC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24BC-A7FC-4D7F-A0AA-DF3FF78B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3A728-F251-4EEC-A6EF-40B0767B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3DBDA-3C95-4D52-AE87-032612A9B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640237-EBF7-4A3B-95BF-C4800757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E9E4A-C96F-4010-9C2A-568E651E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C54215-0901-4E5A-A5BD-B0FE7E1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A0481C-33A8-473E-8341-15291739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E4ED01-ABF7-4F5B-88D7-B7D17724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548DCB-BF0B-403E-94CF-26C94F9EF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4F4A6-AE71-42E8-84D9-C446E8CC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EB604-0954-45F6-8003-DC391E21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59808-CB64-455C-92F8-35179C95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45C1C3-5B6C-4A05-8494-E99C5BF5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20830-B5D5-4FD0-AFD1-6BD94C9AC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0F692-80E7-43C8-A067-2D0C7D64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19893-53FD-448F-9674-79E3C2DA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4ECA44-9322-4B2C-B62F-F347DD4F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F5476F-5A96-44D9-A515-A3F348E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89844-75E8-4ED0-AA55-2E65A859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3F4F32-C52D-4CF7-82CA-69FE0E04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2E43E-8AE6-4B76-91D3-716DBABE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90EB73-E1C4-4E30-B6AE-6A4930A1A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C08E-96E0-4530-BD02-26A2F6CA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58DCB1-E44E-44B2-BFB6-558B016F4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A1FF1-CCFB-467C-9744-D603F5CB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67B7B2-DBAA-4D8F-8D3F-8CA87DA70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6EEC02-2646-46F1-ADAA-0B6C445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9328F9-B9E6-4192-830A-6BC86F15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A073CB-5432-47A3-AA0B-D7856D0D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7FC0E6-FCEC-4800-9087-383A12C2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08F2E-C2BC-4E4B-B915-DBFD98A5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055928-497A-44CD-97FD-7E2FDF10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5538B-96B0-41BB-90E4-7F4EDF6B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58A7-05FB-4124-9CE0-8720889B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6F5056-346A-4241-8E4D-3C83FD8A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55DB00-E43C-40FC-82D9-32561B6A1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0F4A9C-6175-4DFE-83B5-76E8ED20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2C9-BDDB-4E20-9C51-515F6D7E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BA1E-13BC-454F-965A-AA6F61E4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6865-2D1D-4191-9452-C910B2DF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FE6D-A28C-434B-8402-92A81DA9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02EB-2DBA-467F-B667-C8F5BC6A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5F76-D7EF-4555-B280-236B957F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12EF5-C8EE-4B20-850C-54EE4733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DBAB0-F39A-4095-9246-B6181A53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3027-3EF5-4DE4-AEED-2E9215A7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553A-5261-4761-85C2-B9C5E051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E5DF4-F5A3-4AA0-A365-74C4E38E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AC8-A425-40BA-984D-C3916712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2E89-F11F-416D-A6C9-E73B142A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F81E1-C1D1-492F-8FCE-1C628ADD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DC9A-78C8-466A-A00A-EC60E9B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4BA5-472E-4FD9-848E-FBF0B63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7B41-896D-49A1-BB2E-92E7C757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FA117-3A70-434C-A5FF-B396AD4F8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9E95E-9D1D-4F4B-997C-5C31B754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AE170-EC85-4D0D-A6D1-89BAB81E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F89C3-9429-4DFD-B13D-36100F4FF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DFC12-43F4-4696-A8DF-DC12F205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7A8-3258-4E1A-BF2B-52329FDE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9D68C-A347-4804-BDA9-420F09285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CF74B-A4A7-4D6B-AD70-89D296646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13A17-8484-4143-88CC-72C3E9A1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36841-D571-49BD-B62F-482BE8F8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069B-FCA7-4821-BBC8-C1D32ADA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F526-0A8C-4385-BCAD-A56F6720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4432-BB52-47C6-941D-EDDA9E17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0184-43B0-4166-8ADB-A9B4341A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4FCB-56E1-4265-B952-98A4CB9C4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E33C-8FC8-4529-A2B4-DADA7493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996-AEAD-4124-A6BE-AAE979B4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B3E25-8BF5-4243-85B7-6DDE3D80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4EE1-2DF3-4085-9EF6-24322DBC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B32F5-34BE-402E-9DD7-EE23453F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D8A90-46A1-46F3-A6D4-A3C4AC8D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C5AE1-3C52-4178-A775-B6BA9AA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4D780-B645-4428-9869-0066DE65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7A512-B6CD-451B-AE36-015F49A09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E6D8F-95FD-404E-B2F2-5075B16E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1F65-F341-446A-A51A-505F5F2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DCB9A-474A-4ED1-96DE-25ED4CF1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78AC-693F-4FD9-B429-BFBC92D9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D9B2F-8952-4F66-A841-170E1CF4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DA86D-A5AB-4E8C-9D1E-17E63D0B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3F81-B03E-4FE1-8DE4-DE2AD78A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7B364A-5211-4F16-8061-DF9DF328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DD194-F970-416D-9F4A-7022A5941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82FE3-45E1-4085-A3A5-6140C396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D18DD-2A2E-4837-85FD-32ABE3B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AB93D-8252-4924-AB82-73945DE6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173E1-9BD2-4780-8F21-C7D656F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EC7D8-94EA-464D-A8EA-DE00C6A4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3B1-EB47-4F14-B443-1AC36C87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F6883-602C-4868-9086-F4F6756E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75017-C6E6-42B5-B0DB-3698F8AC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10488-AC24-4308-BE51-81DF0210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BA698-5117-4727-A33B-D764D1A0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98CA1-510F-47F9-B824-C7545D35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C898C-94EF-4195-BD44-A79D1B66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B42A5-E9B6-4B80-9C5D-27AC8380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C5D27-7CF2-49D7-BCD6-B9883BDF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E61AF-ADF9-4AB2-B58C-AE585950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2AE62-9548-4872-8A4A-F3CB69F0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8970-98BE-4A93-BB65-A6229848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F8CD-7696-4344-883F-9194D081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2B55A1-6EDD-444E-8BCA-5AC667D4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D3E75-C16C-4FBD-9612-132EFF5B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16E4E-8EE6-46AE-9B4E-3BA89561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66961-1908-42A0-827B-D23DFEDB8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2543F-4245-4741-8390-DFACF759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74646-C9A2-4FF2-9E37-E9694151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8D6E1-1EB3-43D3-888D-62311779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1ACBC-85F8-473A-A992-39077347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0ED1-831E-419F-877B-CB8A2C70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C778-1195-4DF7-B5C1-F1498A5C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CA00E-0911-45E9-A031-2EF1070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AE1BC-E1E1-408D-BFF5-D72FA4261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40AF-12E4-4949-9336-D9C633AE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09E98-6219-4CB9-A7BB-B14E43CD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A2348-F340-45B5-96D4-793D6366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021A-4661-48C2-A982-CBB11EF6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F69F4-EFD6-414B-A295-52074F6D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78711C-F7C4-4E10-8248-7CB5B2848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707C3-FF91-4022-8092-EC60ECD6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FC8E4-8B87-4715-8708-CE8E2DD5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8487-2405-417C-AD1C-05C3F22580F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D602-757E-4094-A12B-1E38697FDA1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DF66-AA44-42BB-8904-6150D57255A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FD4A-5078-4B84-B72B-DBF7E4193B5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0E8D4-58A2-4995-8734-BDF9CBB8AFE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3DE3-2B81-4E8B-958D-8A5A953E1AA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9BC9-4517-4383-ADE0-E94FCE0966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B962-F9AD-4084-9F84-2F3A99C03EA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FC1A-4AE9-4A8C-B7CE-77A467722062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FE36-05BA-41B1-A0EC-7FC0ABE3251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2432-8D8A-4910-8DA8-CB37D466EA1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5F41-CB6E-4266-B8F8-D00712155EF3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0231-ADB6-4B93-B768-051F5D73A2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8F93-AE6E-4D21-B6A9-BD84FC92E9C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A095-959D-4C50-9298-3C197E55EA2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2B94-3243-40B7-83FC-57130FFBC3D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would appreciate your sending us your catalogue and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should be grateful if you let us know what you have to offer in the way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interested in the products you advertis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ill you please send us a sample of items listed abov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would like to know if you are ready to to give us a special discount in bulk orders</a:t>
            </a: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could place large orders with you if your patterns and prices are suit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A reque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demand for these products i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 quite considerabl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As we have a big turnover, we hope to be given special term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Please let us know if you have the goods in stock and when you can deliver them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064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shall compare your prices and if satisfied, we will send you the ord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ope that you will shortly be able to furnish us with the information request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ope that you will shortly be able to make us an offer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re looking forward to hearing from you so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should be very pleased to make business with you and we look forward to hearing from you in the near fu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assure you that once we are satisfied with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supplier we do not change them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A clos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9640" y="2361960"/>
            <a:ext cx="83534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trust your prices will be competitive enough for us to conclude this business to mutual advantage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f you can give us any further assistance, do not hesitate to contact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poptáv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poptáv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Request, refer, turnover, satisfy, price list, catalogue, sample, discount, good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REQUE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900000" y="343548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letter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short introduction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of your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 opening par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an explanation where you get their address or other conta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request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- some information about what you would like to get from the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 closing pa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Introduction of the compan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 leading steelworks in the region of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am writing in reference to my company, Ocean Steelworks Corp.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are an importer of ......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Our company deals with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684000" y="2361960"/>
            <a:ext cx="82803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refer to our conversation at the Milano Trade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Your name has been given us by the Chamber of Commerce in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e have obtained your name and address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m.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Arial"/>
              </a:rPr>
              <a:t>We have seen your stall with your products at the Frankfurt Fair...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heard you are exporters of 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I have recently talked with your representative, Mr.George Black.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Our business partner Mr.Thomas Ward has recommended your firm to u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Mr.Thomas Ward from Luton was kind enough to give m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 your name and address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I have been referred to you by Mr.Jones from Whitefridge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seen your advertisement in the local newspaper and we would like to ask </a:t>
            </a:r>
            <a:r>
              <a:rPr b="0" lang="cs-CZ" sz="3200" spc="-1" strike="noStrike">
                <a:solidFill>
                  <a:srgbClr val="0070c0"/>
                </a:solidFill>
                <a:latin typeface="Arial"/>
              </a:rPr>
              <a:t>you </a:t>
            </a: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for your new catalogue and a price list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An opening par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We have seen your advertisement in our newspaper and should be pleased to make business with you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Arial"/>
              </a:rPr>
              <a:t>We have been informed by ... that your firm is one of the leading importers of..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2:16Z</dcterms:modified>
  <cp:revision>32</cp:revision>
  <dc:subject/>
  <dc:title>BUSINESS ENGLISH</dc:title>
</cp:coreProperties>
</file>