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  <p:sldId id="272" r:id="rId35"/>
    <p:sldId id="273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slide" Target="slides/slide17.xml"/><Relationship Id="rId36" Type="http://schemas.openxmlformats.org/officeDocument/2006/relationships/slide" Target="slides/slide18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 type="dt" idx="4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 type="ftr" idx="5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6"/>
          <p:cNvSpPr>
            <a:spLocks noGrp="1"/>
          </p:cNvSpPr>
          <p:nvPr>
            <p:ph type="sldNum" idx="5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BA6E0-6808-4E81-9043-558B48DADEEC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3351E-B4D5-43CA-A3ED-D8C4FAC7C8E6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872F2-0A31-4C9A-8119-2A61569D3BC1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79C5E-04A1-4D3A-94BF-51F8029B5656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602BF-92EF-4752-9DC2-7E2F33BBEBEC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E47A6-77C8-4547-A97C-A6CC3C056351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BFF27-778E-4D44-A0B2-50A88BF95CF4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6470F-26DA-49E1-877C-FADA937F884B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956F8-C179-436F-B576-0423C53FC14D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94B5-0EB6-421A-B3B4-847F1754A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0E58-95AA-49AB-9DF6-404A113EC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54EF36-F71C-425F-96A7-B37C576E6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1739FF-756C-4725-81D7-4D59E5A2A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0C951B-817E-42DA-AA48-A2809921C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A0A42F-C155-4850-8D9D-E8CDEDCF8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82AFD2-DD2A-4D5B-B35C-A1A36FC4B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BA7D60-D542-4C98-BBAB-925AC5B75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3E2C0B-21CD-4B98-8F6A-285486504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6B7CEC-1523-45BF-9F0F-FEA7669BC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B553C7-2100-4052-A0DF-694E1EE4A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F4C563-A57A-4013-AC2F-1C7F415F6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B6EF-0A1B-467D-8FC9-0C870778A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269C40-CD0A-49CC-91E5-ADF6DC89B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B05EA2-A72D-4BD0-A0B7-8C4A4E268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BA3639-084A-447F-AE13-CC3EBAC99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B2A173-A296-4333-8D42-363E13981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936421-0EC2-4E74-9991-E44AF1F68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A5D801-A855-45DE-A9F3-F44A6C699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0A6E3E-BA37-480C-8E6E-40738332F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1044B2-EB4E-401B-9E1A-AD874211E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93FC94-CBF5-4CC8-92F9-E2E14E43F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0F9FCD-0F50-42C1-8551-C521C6DB4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7EAF-BFC6-4F26-93E5-6D999937A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BD7D83-453A-47C3-BDC1-4284D7022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A586F5-8019-4A9E-9EA8-65D766691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EDE929-99C3-44D4-8EA8-3CC0677F4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5ED25D-8457-434B-8A2B-F6D035B6E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47EA2E-04D2-4CCC-8471-CDB915F8B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554D1C-97E8-4A4B-B968-AF97246F0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E35E56-4C40-4F06-AC9F-2DBCF099F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D709AD-8E11-441B-881D-E7324F267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17EA86-2C7B-46C1-800E-5725FCD4D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C14898-5582-468E-8359-E09F7B9BE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83012-4828-4FBE-BF82-9476D8926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39FFD3-E517-4EDB-B0C8-728E1CCA7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CAEC2E-CAF5-4234-8018-0CC28A6F4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F145D6-D92E-44E7-8775-DCC367109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EE0DA6-1E2F-4281-B5AC-B90D98E1A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10EBC2-E3C1-4157-A4C6-A73E98E22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F2CD6A-90E8-4B48-8970-BB9F7E69A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6557A6-1818-4CF6-B112-1D782B292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7C9310-7580-480A-AFEF-6F7318FA1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B3EFDD-2659-4095-BFB5-E683B86EF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F3C411-8CDE-4302-855D-B0249E545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37387-2602-4F74-9BF5-9F8ED6742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C93A32-58E2-4F30-B8E2-523C80690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9A1F68-7EAB-4273-BD80-28F519FD8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F94D98-35DF-4022-87E3-52B3C42EC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29514E-09AB-44C5-938B-EEC04A876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D84B27-F6C8-48BB-9FD7-A12044094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47BE76-A174-4D71-B30F-6BAA7C536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EF8434-4534-4768-9C68-E88ECC6D4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DDCCF2-EE6F-4E31-80BE-7C94F5F64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A6007D-9919-4295-9805-B162A59C8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68FCF9-5AF8-4C2A-A1A9-3AE5F81B5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87DCB-C26F-4A51-B95D-F61F3C1AC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5D259B-E41A-4143-9EDC-63ACEB890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DA7FA9-4D8A-48DA-9F7B-92A748035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C63C18-0351-4D22-927E-609D498BD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6801FA-9C78-4472-95AE-30C440497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FC356F-DCE8-48C9-8C0A-6AE31A857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6A526F-6CE4-4283-ADE2-2D727D3B1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87498E-DCDD-4B05-AD0F-C5BFFD150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4C8CDE-00CB-494C-87C2-8F7BDFA87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ABDE59-645D-4251-A1E5-2077C34A1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4F40CC-D8E3-4E34-AD15-B2324D7D0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B40E1-AEFB-488B-8603-995B5DB7A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4BF2B8-1E27-4468-9576-9385DFD66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511C2C-D663-44AB-A028-BEE391ECA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7E5B6E-42D5-44FA-97B9-B3D54A4E8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490BA3D-4912-477A-ADF7-B87A70B96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A28E0E9-9464-4A7B-9160-9F60D127D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BB02B5-6677-4C9C-8B2B-13E08DC71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265EBE-D380-489E-872B-0C44A2B47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10C6EF-5D53-44D9-9F45-083372117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27683B-22D6-4187-8DDB-5F43A1802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056C804-D681-4867-ABE3-32DE1DDA8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D273E-27B5-4775-9ACD-88FE2D531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A4B1604-7D75-457E-A10C-DF8ECE036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7C1491B-3E15-4640-B96E-22EEB57EE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3288D34-0E74-4D4A-B984-DF6FD4222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571DC42-B9C0-4D0A-B837-BC952CF93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0D4E17C-0F99-4B2D-AA57-D1C559F4C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C3B6EF6-719F-455A-9B9C-A5FDD3CFA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75A7FA3-D767-42E3-B3A0-E3718671E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7F4FD78-E539-4641-8C34-6FB46F83E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AD76172-9396-44A0-9497-53E7B449C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EA2E512-054F-4F88-B300-9EA5C77D0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D85ED-91D5-440A-9C6F-DEA4E4E0A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7C7B667-6E39-4311-B050-953EF29AE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BF57EB6-E051-410F-8D99-BF0B77835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B810C7B-6CF1-4505-9C2E-B90BE283C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2197100-32DE-4629-9E18-139024D01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5BEE6A5-270A-475B-BA06-DD13BA84F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C8109F6-522B-4A1B-8115-395F4AE15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D1397FC-EB36-4B05-AAC6-D927E3BA9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30E42BD-6783-40E0-A5B9-B64FB4B50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24D6A11-6C93-4C8C-9EE3-279360274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0384C6B-7BED-4BC8-BBD0-0838472C8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9FD53-08B5-4E48-89EA-766C00782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7A45744-7383-4AA4-8E82-B2879325A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6B56E1C-1849-4B48-BFB5-D5558A4BE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F042306-40AD-42BC-B6FB-99943205D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9F77-53E0-4AB7-9A8E-392ED67D2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3D83F-ED79-4300-8E52-F4BE24965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B0487-AEE3-403D-9139-308B8E15A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49E23-7F5D-4E7F-BCF5-E21B9FDC0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F7F71-BF26-4BBB-94E9-18EB99DB9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A9E96-570E-4F86-A137-44423A517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A9E565-1132-4F73-BA53-214F869B7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64BFB5-32D8-4A53-85A9-DA83FD7D4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65E72D-5639-4260-BD2D-CEFFF3DAC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6342EE-FEBB-4CAE-85E5-047231146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74E632-CFBA-4F1E-A3D0-C14E908AE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7230-0D88-420C-A09C-7C1C0FA65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D747B4-6B99-440B-860C-4C700DF4B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FC841F-9315-4868-9622-797AF9DC6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0BE6E0-B593-425C-84CA-B4BFD25AE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922EBB-31B9-41ED-AD2F-464A0C793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D8DDB8-A036-4EEF-9E6E-F73952B99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E34884-1EEE-4463-93E0-8AAA55CF7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BBD4DF-130D-4185-9116-DC4F35CC7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F1ED4A-5ED0-4885-83E0-2D40B7B11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DE83D3-F35C-4294-9BE0-EF343195D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0E12A5-BAFE-45E0-A58C-544DC9164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2B45-E7EF-42FE-B8EC-1859D3F89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80FF1F-3DCB-4C02-8189-486D69A43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F4132C-7555-4E9E-A3CA-9A540CCAF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61E833-3D71-4513-ABF4-6D4A1B17C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4278DA-16E2-4BCE-9052-35B261256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35F3FB-4030-48D5-9DDC-2D085E6B6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B188B6-28AC-4513-9831-348219108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54C9B7-C25A-4C4A-B947-D12892BC5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031D26-65E2-4E15-A077-444C1F6BE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4FC813-7609-4F9F-ACEA-B76BE4367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082420-1E10-431E-822E-B4F61C766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5264-44C8-41BB-A1CA-5E07ABEE7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F1EC47-4F69-44DC-B48A-9379F7CB8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5462B2-FCDC-430F-BA30-4B6C6278D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AB5C32-A368-47BB-81F7-15F29C6AA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A9D61F-76C6-44FD-8430-9132AC4EF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3DCE73-7A82-46D1-906D-1FBA5510A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F2D0D1-DD93-4F4E-B733-7613C09AC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38F254-12E0-40F4-898B-ED0378B2D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B753C9-4492-4132-99BA-4B2C8F3E4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9A100F-86C0-4B60-B27C-FBDFDB275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660701-07E0-4431-A4B6-DDE76C944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0461-470A-49FE-9FF2-F80A07CD3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8675A8-659B-418B-A016-5D042BFE9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9DBABB-CFAA-4CA4-AA57-D05D2AD5E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3285B3-BB7A-4C3A-9664-AA28453B3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9F1273-1A94-495E-8EA2-3B145C57D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9617F9-5803-4DB8-9602-A2BB0C555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F0FC49-72E4-4761-9641-C35614EB8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710E5A-D8CB-43A3-9031-3F05BB246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738FEE-940B-4862-9609-35AF7B1DB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F87378-2677-43E2-B223-564231E07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9484EC-68B6-4DAF-93BC-4FAA8598C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CABB-A5A8-4551-A267-E9F51F91A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E688D3-9426-4FA4-AC40-B571F791A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2F6386-63C2-4BB1-8AC1-0C6BBD75B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702ECA-EE9C-4FAB-9958-8A9A8957B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0C592A-05BF-4A11-BCE2-F17A48AEB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C0FB29-AB56-40DB-9FA1-2A43C0BC5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7A8D31-49D2-4B20-962A-AF17D4469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0181F9-B06A-445F-B7FD-788B75993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F598F5-893E-4C9E-BCAB-2CACC5F2F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9E4E14-95D3-49D8-B6A3-912C3FA5C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A87AD5-B80C-48EF-8523-DD9D68114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9653-2FFF-489F-8946-B5FDC63E8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5D4B2C-6A74-4D06-AF42-A4C41DEF5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02F6EA-BB61-49CD-916F-C81A5715E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4025A5-864A-407A-8360-06E160C8A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5FB24B-ACB3-4495-975C-08701B909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C20A84-C156-49CF-9BDD-AB30C7A7E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F6E5FB-437E-4C8B-97D5-1410BBC00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6DC940-95CE-4213-95BA-7ACA46AED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7A4B5C-5A19-4E4B-8998-2AE5568A1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516ED3-1657-45EB-87BC-D4D115A53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73E436-B82C-45DE-83A5-B7EA52796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7596-E76E-42BD-A6F1-862D10704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FDC913-E7B3-47F4-8127-8766F6E71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5EDAFD-11F4-49FB-A4EF-3F5B12D5C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9A511D-C2AE-4013-A172-B7AA655F6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09ECB1-12B6-4B64-8A7D-0EAC4B561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0FD584-D556-4786-9DE0-C875C849B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7A31F0-6EA0-4A65-B05E-74B9D9B75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3A6282-ABDA-4252-A701-F19123D8F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D0B3DF-88DE-431D-9C31-3763924D3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59C360-F8C3-4702-97FF-40F2750FE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122B50-195F-48FC-BA37-F3039FB7D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69.xml"/><Relationship Id="rId7" Type="http://schemas.openxmlformats.org/officeDocument/2006/relationships/slideLayout" Target="../slideLayouts/slideLayout170.xml"/><Relationship Id="rId8" Type="http://schemas.openxmlformats.org/officeDocument/2006/relationships/slideLayout" Target="../slideLayouts/slideLayout171.xml"/><Relationship Id="rId9" Type="http://schemas.openxmlformats.org/officeDocument/2006/relationships/slideLayout" Target="../slideLayouts/slideLayout172.xml"/><Relationship Id="rId10" Type="http://schemas.openxmlformats.org/officeDocument/2006/relationships/slideLayout" Target="../slideLayouts/slideLayout173.xml"/><Relationship Id="rId11" Type="http://schemas.openxmlformats.org/officeDocument/2006/relationships/slideLayout" Target="../slideLayouts/slideLayout174.xml"/><Relationship Id="rId12" Type="http://schemas.openxmlformats.org/officeDocument/2006/relationships/slideLayout" Target="../slideLayouts/slideLayout175.xml"/><Relationship Id="rId13" Type="http://schemas.openxmlformats.org/officeDocument/2006/relationships/slideLayout" Target="../slideLayouts/slideLayout176.xml"/><Relationship Id="rId14" Type="http://schemas.openxmlformats.org/officeDocument/2006/relationships/slideLayout" Target="../slideLayouts/slideLayout177.xml"/><Relationship Id="rId15" Type="http://schemas.openxmlformats.org/officeDocument/2006/relationships/slideLayout" Target="../slideLayouts/slideLayout178.xml"/><Relationship Id="rId16" Type="http://schemas.openxmlformats.org/officeDocument/2006/relationships/slideLayout" Target="../slideLayouts/slideLayout179.xml"/><Relationship Id="rId17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FDABF-C281-47C2-8D11-782800F3CE5D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Přímá spojnice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431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2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3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28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29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0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445A7-B601-4EC3-9BE8-E6093CC2837E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475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77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478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80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481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3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3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3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FB8BA-EF06-4AD2-9875-0ED898845499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 type="dt" idx="3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 type="ftr" idx="3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 type="sldNum" idx="36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23FB2-07DA-4B80-B5F2-B2624E84E4E0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5" name="Přímá spojnice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566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7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6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 type="dt" idx="3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 type="ftr" idx="3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 type="sldNum" idx="39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A8DCE-7B4F-4E35-A736-EDDEC070F507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 type="dt" idx="4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 type="ftr" idx="4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 type="sldNum" idx="4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FA4D5-B4D7-41C3-860C-0532C292E697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0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651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53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654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56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657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65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 type="dt" idx="4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 type="ftr" idx="4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 type="sldNum" idx="45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2ACC8-0AC7-4DC4-B579-F2AB5F734DBD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6"/>
    <p:sldLayoutId id="2147483832" r:id="rId7"/>
    <p:sldLayoutId id="2147483833" r:id="rId8"/>
    <p:sldLayoutId id="2147483834" r:id="rId9"/>
    <p:sldLayoutId id="2147483835" r:id="rId10"/>
    <p:sldLayoutId id="2147483836" r:id="rId11"/>
    <p:sldLayoutId id="2147483837" r:id="rId12"/>
    <p:sldLayoutId id="2147483838" r:id="rId13"/>
    <p:sldLayoutId id="2147483839" r:id="rId14"/>
    <p:sldLayoutId id="2147483840" r:id="rId15"/>
    <p:sldLayoutId id="2147483841" r:id="rId16"/>
    <p:sldLayoutId id="2147483842" r:id="rId17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4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4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42513-9568-4151-9E2C-2EBD0CADF3C9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0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51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2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A4206-4C07-4DC5-B9E4-0B233B6CF1EB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6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ftr" idx="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sldNum" idx="9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C7F27-D0F7-48AC-B8FD-311B76BBE4D5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103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04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6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7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146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7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8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149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0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B943D-879C-4D30-9B6A-467BA78BD1EE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193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94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195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6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7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98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199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0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dt" idx="13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ftr" idx="14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 type="sldNum" idx="15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6F150-44AF-4EA0-8253-846515950CED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Přímá spojnice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243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4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sldNum" idx="18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ABB49-A559-4BDC-AB7F-EC243A47376D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6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287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89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290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92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293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9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0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1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38FFA-58ED-453F-A6C8-8B8847FB4B24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Přímá spojnice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337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3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2F8F6-06D7-479D-BAD6-89D58663502C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0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381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83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384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86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387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8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7A327-8342-426B-8408-DE1FD2F6A049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Rectangle 2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749" name=""/>
          <p:cNvGraphicFramePr/>
          <p:nvPr/>
        </p:nvGraphicFramePr>
        <p:xfrm>
          <a:off x="1332000" y="4172040"/>
          <a:ext cx="7415280" cy="36504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639720"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18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50" name=""/>
          <p:cNvGraphicFramePr/>
          <p:nvPr/>
        </p:nvGraphicFramePr>
        <p:xfrm>
          <a:off x="1332000" y="4751280"/>
          <a:ext cx="7416720" cy="109692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Mgr. Martin Frol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3.A 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/ třetí ročn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1 / 201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1" name="Obrázek 1" descr=""/>
          <p:cNvPicPr/>
          <p:nvPr/>
        </p:nvPicPr>
        <p:blipFill>
          <a:blip r:embed="rId1"/>
          <a:stretch/>
        </p:blipFill>
        <p:spPr>
          <a:xfrm>
            <a:off x="1911240" y="115920"/>
            <a:ext cx="5321520" cy="131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Suggest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9106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Under theses conditions we are forced to place the goods at your disposal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We decided to refer the matter to the court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Closing phras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/>
          </p:nvPr>
        </p:nvSpPr>
        <p:spPr>
          <a:xfrm>
            <a:off x="539640" y="2361960"/>
            <a:ext cx="83534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We are sure you will give this matter your prompt attention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We would appreciate your explanation by return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Closing phras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/>
          </p:nvPr>
        </p:nvSpPr>
        <p:spPr>
          <a:xfrm>
            <a:off x="539640" y="2361960"/>
            <a:ext cx="83534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We are sure you will give this matter your prompt attention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We would appreciate your explanation by return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Closing phras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/>
          </p:nvPr>
        </p:nvSpPr>
        <p:spPr>
          <a:xfrm>
            <a:off x="684000" y="2361960"/>
            <a:ext cx="82803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If we are satisfied with the shipment, we can promise you further orders in the near future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We trust you will execute this order within the stipulated time according to our instructions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Closing phras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8" name="PlaceHolder 1"/>
          <p:cNvSpPr>
            <a:spLocks noGrp="1"/>
          </p:cNvSpPr>
          <p:nvPr>
            <p:ph/>
          </p:nvPr>
        </p:nvSpPr>
        <p:spPr>
          <a:xfrm>
            <a:off x="684000" y="2361960"/>
            <a:ext cx="82803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We hope that further orders will be dispatched strictly in accordance with our wishes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We hope that the delayed shipment has reached you by now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Replies to complain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/>
          </p:nvPr>
        </p:nvSpPr>
        <p:spPr>
          <a:xfrm>
            <a:off x="684360" y="2361960"/>
            <a:ext cx="82087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f your customer sent you a letter of complaint, your answer should include the following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 expression of regret that the customer is not satisfied with your goods or servi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 short explanation of the cicumstances which caused the troub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 suggestion of a fair settlement of the complai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Replies to complain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2" name="PlaceHolder 1"/>
          <p:cNvSpPr>
            <a:spLocks noGrp="1"/>
          </p:cNvSpPr>
          <p:nvPr>
            <p:ph/>
          </p:nvPr>
        </p:nvSpPr>
        <p:spPr>
          <a:xfrm>
            <a:off x="684360" y="2361960"/>
            <a:ext cx="82087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 when the claim is justified the letter is closed by an apology and an assurance that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ecautions have been taken to eliminate similar errors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783" name="Obrázek 1" descr=""/>
          <p:cNvPicPr/>
          <p:nvPr/>
        </p:nvPicPr>
        <p:blipFill>
          <a:blip r:embed="rId1"/>
          <a:stretch/>
        </p:blipFill>
        <p:spPr>
          <a:xfrm>
            <a:off x="5867280" y="4005360"/>
            <a:ext cx="1876680" cy="243828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2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 u="sng">
                <a:solidFill>
                  <a:srgbClr val="330033"/>
                </a:solidFill>
                <a:uFillTx/>
                <a:latin typeface="Times New Roman"/>
              </a:rPr>
              <a:t>Použitá literatura: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5" name="Rectangle 3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Bočánková, M., Hedvábná, I., Kalina, M. 2004. Anglická obchodní korespondence. Ekopress,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Dyčková, J., Neumannová, O. 1998. English for bankers. RADIX,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Henderson, D., Streitwieser, V. 2006. Business English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Jones, L., Alexander, R. 2003. New International Business English. Cambridge University Pres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Mackenzie, I. 1995. Financial English. Language Teaching Publication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Měšťan, J. 2002. Anglický obchodní dopis se vzorovými dopisy. Nakladatelství JM Píse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2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 u="sng">
                <a:solidFill>
                  <a:srgbClr val="330033"/>
                </a:solidFill>
                <a:uFillTx/>
                <a:latin typeface="Times New Roman"/>
              </a:rPr>
              <a:t>Použitá literatura: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7" name="Rectangle 3"/>
          <p:cNvSpPr/>
          <p:nvPr/>
        </p:nvSpPr>
        <p:spPr>
          <a:xfrm>
            <a:off x="1258920" y="1557360"/>
            <a:ext cx="770076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Radice, F. 1992. English for banking. Macmillan Publisher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Skuch, E. 2005. Fit for Business English - Fráze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Tilley, R. 2005. Fit for Business English – Korespondence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Treger A. 2008. Inside the European Union. Leda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Abbs, B., Freebairn, I., Barker, Ch., 2003. New Snapshot Pre-Intermediate, Pearson Education Limite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3366"/>
                </a:solidFill>
                <a:uFillTx/>
                <a:latin typeface="Arial"/>
              </a:rPr>
              <a:t>Obrázky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http://search.creativecommons.org/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2" name=""/>
          <p:cNvGraphicFramePr/>
          <p:nvPr/>
        </p:nvGraphicFramePr>
        <p:xfrm>
          <a:off x="1258920" y="1700280"/>
          <a:ext cx="7416720" cy="452592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Cizí jazyk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Obchodní angličtina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Anglický jazy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Obchodní dopis - reklamac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 ukazuje, co obsahuje obchodní dopis s reklamací a představuje základní slovní zásobu pro psaní obchodních dopisů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Complaint, reasons, suggestions, regrets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3" name="Obrázek 1" descr=""/>
          <p:cNvPicPr/>
          <p:nvPr/>
        </p:nvPicPr>
        <p:blipFill>
          <a:blip r:embed="rId1"/>
          <a:stretch/>
        </p:blipFill>
        <p:spPr>
          <a:xfrm>
            <a:off x="1911240" y="115920"/>
            <a:ext cx="5321520" cy="131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3366"/>
                </a:solidFill>
                <a:latin typeface="Arial"/>
              </a:rPr>
              <a:t>BUSINESS ENGLISH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subTitle"/>
          </p:nvPr>
        </p:nvSpPr>
        <p:spPr>
          <a:xfrm>
            <a:off x="4643280" y="3357360"/>
            <a:ext cx="4013280" cy="122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6666"/>
                </a:solidFill>
                <a:latin typeface="Arial"/>
              </a:rPr>
              <a:t>COMPLAI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756" name="Obrázek 1" descr=""/>
          <p:cNvPicPr/>
          <p:nvPr/>
        </p:nvPicPr>
        <p:blipFill>
          <a:blip r:embed="rId1"/>
          <a:stretch/>
        </p:blipFill>
        <p:spPr>
          <a:xfrm>
            <a:off x="611280" y="3573360"/>
            <a:ext cx="224784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What is a complaint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9106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A complaint is an expression of dissatisfaction, especially by a customer or consumer</a:t>
            </a:r>
            <a:r>
              <a:rPr b="1" lang="cs-CZ" sz="32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If you are not satisfied with the goods you were delivered, you usually write a letter of complaint.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Parts of a letter of complain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9106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3366"/>
                </a:solidFill>
                <a:latin typeface="Arial"/>
              </a:rPr>
              <a:t>A letter of complaint should include the following parts: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opening phrase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reasons for complaining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your suggestion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closing phrase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Opening phras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2" name="PlaceHolder 1"/>
          <p:cNvSpPr>
            <a:spLocks noGrp="1"/>
          </p:cNvSpPr>
          <p:nvPr>
            <p:ph/>
          </p:nvPr>
        </p:nvSpPr>
        <p:spPr>
          <a:xfrm>
            <a:off x="755640" y="2361960"/>
            <a:ext cx="81374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We thank you for your consignment but are sorry to say that is has not given us much satisfaction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We regret to inform you that case No.40 of your last consignment arrived in a badly damaged condition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Reasons for complain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We are put to great inconvenience by this delay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We regret to say that the goods ordered on November 12 have not been delivered yet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The quality of the delivered goods is far from being satisfactory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Reasons for complain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/>
          </p:nvPr>
        </p:nvSpPr>
        <p:spPr>
          <a:xfrm>
            <a:off x="684000" y="2361960"/>
            <a:ext cx="80643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We have to complain of the poor way in which the consignment has been packed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On opening the cases we have found part of the goods badly damaged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It is quite clear that the damage was caused by unsuitable packing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Suggestions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In view of these facts we claim from your indemnity to the amount of..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We can accept the goods only on condition that an adequate reduction in price is granted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We expect to make up for the damage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4T18:42:48Z</dcterms:created>
  <dc:creator>Mgr.Martin Frolík</dc:creator>
  <dc:description/>
  <dc:language>en-US</dc:language>
  <cp:lastModifiedBy>Igor</cp:lastModifiedBy>
  <dcterms:modified xsi:type="dcterms:W3CDTF">2014-09-13T14:12:40Z</dcterms:modified>
  <cp:revision>33</cp:revision>
  <dc:subject/>
  <dc:title>BUSINESS ENGLISH</dc:title>
</cp:coreProperties>
</file>