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7A98-3AB1-4297-B9C2-5C512BB4835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FB7-E846-46EB-9B88-464F8815A9B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6933-057A-45E3-A987-A390C6DFCB4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C67D-DE2B-4B3D-A674-C12EC2A325C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381D-6B70-437B-A21D-E5A87E225E7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5028-1103-495D-9985-073AE864F16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717D-B9AC-469E-B321-C428052B73A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9228-16E4-428A-803E-0D59218FE08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6DFE-FB86-4BD6-AE35-3F36768F373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D4B-C5AB-4923-B797-CBE8C9C1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CEE-1531-4307-8AA9-C1497F786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9570D-5241-4293-B26C-2087823C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8260EC-1CC8-4914-B213-027CD3C5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7D8C1-9793-408C-B782-7922B806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45F60-DF5E-49AE-8E8D-F3FFC302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CED01-B288-45EA-BB20-A9454CEA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37432-1BD6-4B3B-9F68-E10419AD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38E29-61C2-40B4-90EB-536FE7C3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6A33F-5B9C-4D7F-B8E9-DCEA51EF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C4BFA-A065-40A4-AACD-49F04C6E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5B403-CB16-451B-95B2-6526C97E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3F9D-2EF1-4024-887B-5D58FDDD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8A1463-FB28-4DA0-9A40-843EDC9A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879BE-B93B-4A03-ACFC-9601BDB5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67044-7E41-4F6E-8A8C-6E619DB9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988B3-E18D-4E9C-91FA-6F655650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F7755F-EE29-40FE-B21F-2155D403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28606-2684-4381-B0CD-CC082A02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62CAA-E9A5-478D-90E9-51865DFA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443EE-EB6A-44C6-9837-BECBDC5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FD2EDB-2D16-4F7D-9A92-A895B81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4840EF-5E97-4DBE-A56E-44CDB8A9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60BC-A010-44F3-9FC2-C72466FB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FF17B-0F75-4D31-9CB6-F179888C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69692-91D3-4994-913A-45E4BA04D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572495-2F77-4888-B7B2-A1D67951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010650-F5C3-47A3-804A-BF7817B9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FD11A-139D-47C5-BED2-09E7C229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945A1-08C3-4F9C-957C-3C3C7066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D6A10F-49AB-40D0-80B0-13A9D67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EE85B-E5BF-428B-8D52-50062AE1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67B8-C1E6-4D22-8DA7-6DB667DE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7218F-ACB3-46DA-8686-3C7CE7B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EEF4-23D8-46AC-A739-9BA2027A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CE241-CF95-46DC-937E-D77DBA2E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DB9288-8BCC-473A-A5F9-2B5FDC34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56423-2E2F-4706-87B5-D582E102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B1C857-8273-477C-B340-34F0BBF7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57DD98-CAB2-4021-82C7-29CD4A70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1C0AF-0724-4924-BA70-1F632022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2E674-E213-44B8-8BCB-1F6F741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4A3D2-4E6F-454F-B68E-D70E12C3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34B88A-7B61-42C3-8FFC-658CCAEF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AF8F3-14B4-4509-870B-3D3F408C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2779-8AAE-4BA2-A368-37FDC195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138FB-AA4F-430C-AE33-868BD400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292CA-412F-4D08-AE0C-B7173D8D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C4392-9E25-4F07-9ECE-1C00ADB1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1663A-0FE7-4180-8517-E3C12774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F0E68-B27D-4C90-99D3-9E050CEE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CB714-C40E-4E95-859A-B9165100F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EA7E10-18D6-4C39-AE69-93E3E952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F3BDD-0815-4677-B03E-4B2F3813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944BD-85D8-4D91-891D-0E56772E2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CCD79-8B91-4CF8-A2BF-6C4EEEC36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5459-6598-4ACD-BB5A-A0154F70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99F6F7-F820-4707-AAE9-A63C7138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0B55F5-3144-433A-8FB7-69CDCD75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FA066-9655-4D31-8CAA-74A49F6F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93B106-5C84-4C8D-BA11-70AFD540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660060-4105-4DCF-BD31-1A1E4A67B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90694-FBCF-42EB-8BF2-9CF53265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EF2582-7049-407B-92D5-ECD5C2052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0C5DF0-2AF9-475C-9307-B7B67965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E939D-2E55-4DA0-ADD0-C770C172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321FAB-EB48-41F6-9A21-41F2B37B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79EC-1910-410A-B0FA-A733FBE6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B891C-DEC6-46F5-BE8F-DA0A7861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E40368-3A22-47C6-ADAC-939FEB64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94D7C-6578-4D70-ADF5-80FED27B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4AB3A-140E-4D0C-93FA-622677C6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19217-7363-481F-A4F1-481F70DF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CE3CA0-A637-45BA-A8EA-9763C0F9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296CB4-F433-4357-AE3E-0715ACBF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ED6268-74A1-4217-88FD-FEDE2BB2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AEF610-7602-47D6-BE08-2C5847B5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3E41E9-AAB2-4757-96B4-1B4B216C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306E-CED7-40F7-8C20-6D538B13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BE7DAF-8DE6-4AD8-9AF6-8A78BF4A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4D338-2CC3-4F4D-80F8-FEA16728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BDF480-3A76-42A3-9232-8656AD57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65211-8C4C-47F1-AD7A-7414D61EE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4F796D-37E1-4137-A111-5A3923E9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971E96-A72D-474B-9F8A-03F498D9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ADE917-2C51-48FF-84E0-5AB447E7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64C06-2AE0-460D-AB1B-74ED20A0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2F52A-34EB-4E0D-881E-A1E8D8CA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A5F44-DC35-4C6E-8182-6427D67F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B38D-2575-417B-B5D7-B337F302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A0709-B56B-4B3D-81D1-70506D47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B72FD-C857-4021-ABF0-3FBACE96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D3E60E-FF30-4DFA-BE93-0009FB28E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338380-9C4C-4F79-A90F-949C8F606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B0D7EA-0CD5-4794-9118-4C351FF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60ADAF-0FCF-41E5-8EE6-2A691130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7F11C-1F74-4805-BC93-A92E8D68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9600EF-C531-4145-AB24-06E1DADC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143793-1D98-46B2-8869-968B81F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1072E8-E10C-4873-820B-A611DE89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630B-FA67-4C66-94F7-211F32C2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06E0AE-E81B-4AAC-8609-8E3C7CF3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3798F8-3059-48E1-A5E6-9FD5F087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9220BC-C235-4656-B24A-AB27FBDC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DD57-866A-4F85-932F-E3F09600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0C9E-AD88-4B6D-9B6A-0F51545A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4409-9837-4067-BC07-9F4D448E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7CB4-1539-48BD-AB84-66AB95F1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D7D7-BC25-4D2D-BFE3-FFDA82C1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99D3-BF12-4C04-9309-49803637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2C45-6F1F-4B9A-93EF-E2056CB76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F2CB6-536E-46FC-9908-901BA91E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D9852-96A3-4340-960D-1D162905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9A5A-D518-4A49-82B3-42A01FE1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B930-B0A1-4CE0-BB65-4453C4A1E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A1E-99FF-4E7D-A267-FA15F766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F13C0-86D6-4239-976A-D4023001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9460-93B1-4430-9374-7DC67A5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5B2FA-BD2F-4C4C-9EB7-A34D52C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C9632-FDD4-4BF2-A6BF-6B8769A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F0DB9-A139-4088-98E5-4F33D640D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46CB4-9ADC-423B-B6C2-9CAD71F5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80E2-7A20-40FE-B489-8018EB10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32A24-3DFD-439D-94DE-194BE94D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5EE4C-304F-48F9-AF68-FD58B5F3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BE6D-9131-4A80-B8D2-8BFDF93D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CFE8-766C-4D62-9919-1B061FB0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6305-448D-48A9-B310-1025FD65A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0B450-D893-4A8C-A856-B83CB955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90AAA-844E-45AC-B925-BE6401AD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C2619-5C93-4A7A-BB4A-35C1C004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04C1D-AB1C-4E07-B765-9F343DA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D3AB6-4EBB-4AFB-830D-551D0D14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DA646-5F06-4CA1-B078-356464C0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E9E85-ABBE-46F0-8174-2DC3D512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A5879-963B-4AFF-BFF4-5DE3D429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A05DE-5854-4EE0-BE41-C5EAED9E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819A-F6BF-4934-91F5-6671206A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4207B-F4F9-488A-8712-12CDC467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282A5-781D-4230-B4B2-7D98A0FD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95F64-7A70-4697-AD91-A6B8EDDB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6BAA-69B6-460E-B6F1-AE0DCC8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252D1-85B4-4AA8-AB05-400314692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DF62A-810F-4FCC-9A49-342134CA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CBBC-18FB-4C9C-9A42-8DCF27D6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3E30E-4945-4BAA-9D7A-19C757F0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7A3CF-A0A1-451A-97FD-323643C2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ECDC8-B1E7-43C6-AF86-5520765C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A6F-1FDE-4F2C-931B-E22310B0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F7265-471E-4FFD-BFA5-0BBA2642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DC472-4CF5-4126-8B00-6540E1CF5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3DB91-F445-4844-9DA3-B7D4700F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2A5B2-8949-4654-BC47-8C8BFD2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BD8E6-AA82-40B2-877D-04F76F9D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00EB-3B84-446A-B3BA-B5B2D49F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F0B42-8586-4206-A66D-27A53DB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B1343-FB22-4DA6-9C40-BE137F42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594C-ECAB-4FDD-B823-C4568E84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ECBD0-4367-4CF4-BD64-A7582658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7468-CDCE-4EAA-8FF2-65729000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DC99-1DD5-4829-B420-D6D228C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A37A5-CE3B-4283-81FA-7EB9BD4E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65E2E-FF39-4F6F-A337-C806B771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DE6F4-A532-4321-B5E3-A317A92A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94F44-8E1E-43B6-B54A-FFC7B9CC0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82E6E5-5CA4-4E63-BEEA-8AA8B49F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5499D-68F6-4C36-AAA7-A472836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394B9-A8B2-4274-AFAD-FABD93DE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3D207-F246-41DE-B345-153D10D2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A30E-09DD-49EF-857B-5104F344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266-3B24-4C80-ACA2-39B36DE6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301A1-70F5-4100-BE4A-56E6794B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6ECC9-5145-4C18-A9CC-0654CE5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04A34-C389-4F16-9BC5-4EE8B9B2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1A4E1-9A49-48EE-A988-8164A572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25437-4816-48EA-B2BF-5FF0EE11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EC201-E129-49A9-8F95-E2E08B9D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F124-7940-43CD-A1AA-2AD96F09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D09E3-1222-4D91-B33D-06D630E3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0E8D-27EA-480C-8A32-9FD08C9CC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F2E88-16F7-43BE-9FFB-7553730F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913-6392-43B5-A30A-D697B0A1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C30D7-76B5-4E4B-98D3-CD509073A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5C270-5E8C-44EF-8578-17C5311D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85900-3BE9-4FC0-B62E-12830A38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5416E-6D63-4747-BA4B-9FBD6187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242F2-D12A-464F-8D6E-D0C592C05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8BBDC-C161-411D-91AD-3935A9446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C1617-802C-4F3F-9A8A-4D7125934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228D9-E85E-4047-AF95-D235AB2EB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9D9D6-3622-45C5-BD12-7D779F0E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4F94B5-2D6F-4CFF-906D-E9EF1AE1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5278-1E64-4689-AD62-C58DC9AFDA9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EE66-295F-48E2-9FF4-B60BA49456A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2388C-F052-44C5-B197-11C69913792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9EA1-851D-4ED1-8EF4-19B9378ED6C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3ECA-1ECD-48C3-9D5A-5869826190F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449-6A06-41F1-8485-74D3B1E0646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194-688B-47DF-A25B-E353035C610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FDB2-F27D-4C36-AEEF-8EF9EDDD3A7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CFF4C-AC4C-41BB-A454-18FF7BA31D4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C72B-1CB2-49E3-83AD-9F1D2B35510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9868-C751-4B70-A349-9689B416571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6BBE-3879-4EA9-BD82-D92BC0419FB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2B42F-4E3A-4923-BAFF-78D888A0B9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FB40-F317-4C9D-A9F6-9002550F99C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E314-EF9D-45B1-8B4B-6F1197630C7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5B84-2A99-425F-BA32-8A1BCB96C83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7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stoc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ney market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dex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investment strategies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uaranteed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pecial 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mmovab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ying a house, flat, piece of l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urchase through real estate ag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possess the immovable and can use it (house, flat, garden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make further investments into the immov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ther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s an individual you can buy many various things which can get a higher value in the fu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old, silver, cut gla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intings, art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pany 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technolog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w machi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investment ru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RI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HIGHER PROFIT (OR LOS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pojmy investice, investiční příležitost a typy investi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Investment, profit, shares, bonds, valuables, stocks, immovabl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n investmen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money that people or organisations have put into a company, business or bank to get a pro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omething you buy or do because it will be useful for la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opportunit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58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stoc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mmovabl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luable things - paintings, g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60" name="Zástupný symbol pro obsah 2" descr=""/>
          <p:cNvPicPr/>
          <p:nvPr/>
        </p:nvPicPr>
        <p:blipFill>
          <a:blip r:embed="rId1"/>
          <a:stretch/>
        </p:blipFill>
        <p:spPr>
          <a:xfrm>
            <a:off x="5796000" y="3213000"/>
            <a:ext cx="2467080" cy="1847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for a certain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ha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become a shareholder of a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et regular dividends according to the prosperity of the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e risky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on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edium-term inve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afe way how to inv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derate in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at a fixed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stocks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fferent portfol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invest into different companies at the same time which can keep a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under control of the Comittee for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56Z</dcterms:modified>
  <cp:revision>18</cp:revision>
  <dc:subject/>
  <dc:title>BUSINESS ENGLISH</dc:title>
</cp:coreProperties>
</file>