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 type="dt" idx="8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 type="ftr" idx="8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 type="sldNum" idx="8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F94C-4F08-46CA-B2BC-9ACFEF2FF5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34EA-E63E-4F1B-B2D6-0B839FCA031F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2DFC-4494-4781-907D-DAFE84C50E3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0127-71CB-4DD5-87EA-9B8B5BC192A4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BB7C-A80D-4C95-9419-DC1BBF467748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F9DC1-2E99-426A-B2E8-925F56F0EF29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CEED-2ACE-44B8-9D75-F0B921C3CE05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43C7-52EE-418B-B19B-AAB47E678D2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24A9-38F8-4C1F-B7E5-3030ADB02E13}" type="slidenum">
              <a:rPr b="0" lang="cs-CZ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D652-ABB9-4192-928F-C7EB7127D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06C-3824-4FBD-8FF1-62A697CB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A55F71-2C9F-4D5C-8950-78CEA271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4A8E1-7BE0-4128-9194-8A5F76B5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83290-8AA7-4603-9A56-B3A59310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CD3B3A-8C37-4C47-BEE9-83BFAC38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6E83F-0B2A-4E7A-84DB-D835FE23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1D86D2-4FE9-489B-A152-36E0A92B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BB25F-6688-4EE2-A8C4-B939492E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BFD27-1F38-47C2-98C3-3BF416205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FA00E-6BF9-4337-B9EE-E8DB83B41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A525E-B9F8-4195-B1DB-19115E6A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4E7C-4EE7-41F8-A332-623853FD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41CAB-7664-437D-A783-2409E509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8F7E4-F577-443A-AA31-BCCCFEDB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DA85D-9D70-49CE-9236-542807A70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25C31-8DF7-4790-B20B-A4D45A35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FA391E-D26F-434B-A77F-2144C408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278CD-B56B-4F29-8469-5F1F26D1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27B556-E683-404C-ADEB-CF492F78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C038A-FACB-4B38-97D5-A6ABA489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7AE7D-CEAB-4328-94BA-CE343DD7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4296FF-1C9E-4B76-B626-83661D2D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232F-03AA-429B-B468-B0033423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2CAC4-A4C4-43B0-9F0A-399F882A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25E48-4A9D-4478-8BC4-187FD3B1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06A40-AE1F-41C1-AAF9-015F310B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4F355-0ACA-4B70-8EFC-F73A681C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4909BA-8AC8-40CF-A188-7C636CF1D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AF05A-A4B8-4B70-9A35-CA6C0402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48751-2F89-4187-88F9-95ED644D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65C765-0058-4F46-BEE5-0D4B260A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EAF3C-E863-42C0-A9DD-0FD59702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E6F64-CCAA-4856-B1D1-C04355D0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DEDB-5701-4CD0-9E19-6CA4EA2C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42069-432C-4CF2-AFAB-92F12CB9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440F7-B669-4016-A7DA-34F065B7D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37AA8-49AB-47D1-B284-9315D855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6FCE44-4F76-434F-B9EB-708ABB8A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80A38-5583-4922-9E7F-9BCD79AF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D64F0-FBCC-4FB2-A01C-90AA6F2D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60522F-41B3-4AC7-B625-2170BBA2B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0936E2-6286-4D50-871D-75DBCB54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7B017-F2AD-45E1-A3C2-4ED6A05E3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8CED5-D565-4C0B-88ED-27D0D267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FFDC-A14F-4DDB-9294-B6069776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8DF40-40E1-466F-B245-92C2D9BB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DBB16-7047-4C97-969A-611FBCF7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02E1B8-EF6B-4ADB-A94C-AE01F13D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48556D-EFF0-4451-8910-A64A574C3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BBCB5-DF14-4236-8915-2ABB5B8E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25A62E-D96D-47B5-9442-5DCA589A8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09B69-0500-459C-9452-2C3F46B9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9F6C5-D57C-444E-A97D-B5124A304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55D689-BED4-4824-A5B6-537B37D2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68CF1-CEEB-4195-9E21-4521CCF3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92DAD-12F3-4229-AB40-A3508FA11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0AF2E-1D94-4617-900B-6017506C5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9B918-FEC4-40CD-A2CB-C98F6CD9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D53E5F-05DF-4D42-95BC-2A22B657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3A4A1-AFB4-434E-A70D-CF88A34D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5E108C-197C-43F9-A518-D102FBCE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4B9A8-C027-40A4-9CFA-182D60A5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449D14-3F0F-453A-B8E1-DDA20BD8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6B66BD-2D45-4685-934E-0BFA939FB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82127-29C4-4C24-A222-AFF85B5E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F6E57-2B3C-4820-B485-2068E043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51C3-2A49-4774-879C-167DD36F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096D58-1510-4D74-BE93-F358A87BC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AB835-E69D-4260-95DE-D10BC1D7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D7D9A2-D261-494C-8289-EB906A9F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89D198-AAA7-44C6-A263-27DE8869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31F338-D044-4490-9AF2-D517A3CE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18EC6-C29C-4EB7-B5F4-BB95E81A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1D5C1C-8B33-4129-9BDA-9F472455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9DBDD0-0DE0-43A3-A996-DF057E50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399EDD-B7D9-4338-B174-20B59F23A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645E86-7632-4C5C-A25E-7A6FB6E9F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204B1-E5DD-476D-8AAA-40BC04EF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4E24E5-548D-41D7-AC0B-DA0DB87B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710032-BFB7-4944-9029-8EB36A7E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295219-8507-4631-A8C2-CBAD2689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196B35-C1AC-49DC-BE9D-4A669ED2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9222A7-3850-4168-9E0D-85CDB7C9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2E06E-FF83-4AD8-BD6C-58DE84D1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7AC1A9-E97A-4725-AB84-D11555A6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391560-07BD-4231-AABB-0AFC66C6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96A138-22EA-4A16-89EA-D24BB448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68E277-F939-4C66-981C-3BA2CDB6F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26D9-F148-4B03-8DBB-F84559F6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729769-9C70-4964-81F0-BF01F1F6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288975-62CE-450C-960E-3A8F8C27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DEC1C0-3EEB-46A4-A342-26574CE3D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AAFE31-5C8F-4615-8393-5C82B7A8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255EC6-A7AF-47EF-933B-BB5311E1D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5AF1B0-40F0-454B-A40B-20E09BE51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65BA4-54ED-4A89-B6DC-654BD9A2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6F8891-E443-43F5-9D51-227C3439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83DF6E-E88D-420D-81C5-E3E1E239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2EE00-AB6D-4405-9A39-73F6223F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4B21C-214A-4C01-B706-F28643EE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0ECA90-AD01-4F10-A539-84458718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A4FA9E-B155-4513-8848-3490624F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21CD3F-6D7B-4ADE-8251-A44F1010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09658D-AB35-4377-8AB4-91B9B6426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62FE76-B0C2-4D58-8900-262FA110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364047-7E2E-4242-BA8A-C62E73E0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139192-B476-4C46-95FC-09487598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07FE75-88DD-4078-B325-318A5EA9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A8698A-4E1E-4093-B106-E4829093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A1A3F-24D6-4947-88AE-86355C03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2B9-8661-4FD4-BFF6-14972640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61DE-4563-4A80-86EB-246CF00B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447FBC-35E0-479C-A4CF-B912E649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D0672-9308-4D50-B04B-23E2CF18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F6096F-28D2-489B-830D-220DB8E6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3BB150-F26C-4E89-B453-43F6BC61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833187-8D98-4745-9894-3F153D00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4B56AB-741D-4FEA-9632-1F54E8BB3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A47871-7669-4592-8339-D4606607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62C6A8-8C1B-48E6-8E9F-139A109A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ABD799-3ACD-4A46-A347-D152FE64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50724F-1182-455F-A4DF-C680B6CE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3DE7-B246-4AC5-A38B-4A886CCA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472E3E-0FE7-4FAF-AE15-250CD01AC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281AE1-8FB8-4F84-9B20-2E2E7D6A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EC88F4-1C8B-4D93-B413-AB100719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0402A9-401B-4EC7-A8BE-207FA388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A86885-4632-4D11-BD79-249A9F50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71297A-587E-469C-AC9B-3CE18973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562BCE-534C-4F23-A910-264A0A9B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86E56E-3EAA-4991-B9A4-BA1E7B8A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E1D127-772F-464C-BB32-A5A7C71D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CBF36F-5467-45B5-9DF2-A47E1922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14E8-9C14-493B-AB3E-6CCD4BD5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CDCC64-FD2D-414C-8D33-4B8AF8ED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CAEFC5-7303-4864-9645-76F97C74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4DDE37-B339-4043-87C5-C2C162DA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F43F7A-918E-42F7-956E-39AA4188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13E583-A81B-460D-9088-6813DCD1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4534DE-DEE5-4070-8C87-C22E7A82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098D5A-4278-4728-BEE4-C92FA968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6BC5E1-EA4B-4098-BB1E-AA84261D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3404A8-45AB-48C5-8F68-478102C83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A2A47F-D4E9-4029-BD0C-90BA51D7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6E366-E487-4EE4-B48E-F685E164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E0D71C-6991-4B25-882D-6DB5C5A4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596F46-54FD-485A-9F69-8B84720F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635091-84FD-4B6D-95E7-81AF3CDC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187FA7-8215-494F-B5AC-8E5DE91D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80673B-5464-4028-A605-5D8F37E3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070058-BB85-4D9F-B0B9-BBD48F63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1B1FED-7E94-4AAB-A978-E3BDF68F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BC9448-47F0-4938-B175-96CA79CC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218CA5-A177-4066-A86F-E64154CD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29902-7F43-4E5D-9425-E235EE56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E0BF-2DB2-4784-A020-05E0E4AE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DCB24C-0255-4C8F-BA76-8AD169FF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BF0741-F8E9-4802-8F30-537B9225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257DF4-2F2E-4A13-82B7-4C38025F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D59296-6E7D-40A5-99CF-031D9A12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BDCD9C-726A-4F7F-BCC8-A88C6CAF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BA4E4E-5101-4DEA-8DE0-BC861B1BD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1597FA-EBDB-4892-907B-86120E47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627365-57AC-4DE4-BB38-499D97B0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23E079-19BD-44D5-BE3F-D6DAD894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CCD53D-3EC3-44A3-AB29-7EB0F280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D589-51A8-4ABF-B40F-D9E1C853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9795B0-802E-4EF1-A5EB-E08A4479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9183A3-5B07-43D8-9E89-38C3BE20B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F7F81D-005E-4644-B6C3-0FC43C28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4E77D7-69C9-41F0-A9BB-78F3B943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CDCD8A-1152-49FE-83A0-A679C510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29C992-D500-482A-BB02-EB736FE4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BE5348-13EE-41A3-8388-0CA3E292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3640BC-FBD3-4AF6-A408-5E2F28516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4BC40E-46D1-4987-B3CB-EA0A01B8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0A12FF-7675-4DC2-814B-DFAE42A2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47CEC-9BBA-4CB7-BF7E-9FE662792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478777-7B92-47F6-AB27-A92E64DE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D959B5-B11E-404C-AD48-B9EE38C0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C89B09-2969-4AC4-83F8-6F10C261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2D1577-1734-46BB-AF88-99C395A0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D8D41B-0936-4AD7-81A7-06507AACC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7A439C-32D0-4FFA-A89A-ED09C8729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78B0D5-97AD-4FEE-8251-8C2D5C5A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4CFE53-07E7-478F-8B26-D464AA63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AC629C-9054-4905-9DDE-CC7B0F24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2EFE04-81F4-4962-A4E8-1B3E5894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33B94-B361-4B30-A504-AA4B752B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0A5BBD-FD97-4347-A12F-9A500A6EB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9A945B-E182-4C1D-98F0-62761A0C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8E6C85-03A1-4532-A093-43C8F72D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8A7BE4-F297-4275-BB36-A39B2C8D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1CD993-3A5B-4D60-9E95-A3932DC4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B44670-7D5D-4500-9CBA-4B994E31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C25747-8182-434F-9C6D-88516C95D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1F7C95-E682-4E9F-AEC2-EAF95380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3F58D7-9848-43B7-9AE1-0BDC3BCF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BB689C-A0E9-40D0-B71F-880F1EFC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9F82A-694C-4FCE-BE3A-CC04C3C43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0624CD-F551-44AC-A920-4F49219A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272615-6ACD-4506-A72E-8B558DD2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A7C990-DDF5-4EC2-8FD6-BE869E33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E3674B-A821-48C4-856C-B2FC95C1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985A14-8C4A-42B1-8187-CAB06209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B1706B-D5DA-4F9E-A60C-84E3FF78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8F2932-16B3-4DD4-A65C-09B60CEA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99BE4A-5787-4737-ADD6-BC505179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D87798-AEBD-4F9F-933A-5106ECBB1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D5A3C2-81B8-4D8A-82B8-3B3C67E4C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0B9D1-18D4-4A4C-B7CE-1FA3FB9DD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B3E5C0-3C10-4C9B-82D6-BBAB17E3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60EE51-E375-4391-8BAD-D7E2DF5F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7D9352-1941-4625-ACE6-E25CE570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A1034B-358A-415B-9D56-B3A65414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86DD6A-90BD-45D8-A81A-A814BA77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50B57C-9C14-4621-8994-FA0EA708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792F0A-18DB-4C22-9036-2CD30855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C7AD66-5417-4027-B8A9-9A7CC080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E5EB59-645B-475C-B491-652733A2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D42BF9-C03A-4BC2-81EA-5FB30F3E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1FDD-5C26-4F69-BB98-B8CC3BD0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8B8D8-61C0-44B2-A87A-BE116371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916074-8177-4B38-ADBB-2A69848FA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C51157-479E-44AF-BC72-A2B69AB6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7A8E27-85AD-4478-BA62-BC65CB9E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23F1F2-B387-4508-A714-931BFCEC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69754E-9329-4670-B904-4A64D72B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FCEA456-15CB-4327-AAAF-AB98A62B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12DE02-A109-479F-B602-579D9EE1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2AE136-3EA3-4262-B273-D8734662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F1B67D2-4C6F-45E8-BC34-FCA632C4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9A2C693-A7FC-4C51-858C-53331300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3D4FA-9749-467C-ABE9-94B267A4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80D31E-E11E-45EA-9D3D-E00E74A2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3A378D-AFD1-4D95-BA24-49AC183B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47D865-1E60-4472-88D8-20282B03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422195-EB81-4850-B08E-7C9D90E3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385CDFF-5365-40CA-8E07-54824CEF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17B6E7-AEDB-49F8-A637-169D1CD2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EBA3EBD-995A-47FE-A40A-C358236E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E64C81-949A-4F0D-9957-076F0AB7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773E2A-C822-4540-B7E4-C9EAA97D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BFD552-38C1-462B-9536-C20E385D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9E020-5750-4D7B-92E7-AB6C6079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3A519A-DBD3-44E0-96D5-6532FD64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7F60A8-2DE0-42E6-A0C5-5805CF30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9D8D9F-CBB8-43E1-889C-A551AE36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6D721A-66B3-43B3-998B-7100A6CD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45F434-78C5-4EFD-981E-BDB217F2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288B1F9-5DE8-4889-A1B0-B07A0D7D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3286B0-6907-4F17-819B-651CF795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771419-9C75-4AD7-B713-0FF92C8C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59D929-B521-45BC-80F0-A66DD77B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94AD15-F74B-48D4-BFEC-B1A7EA27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0D893-9323-4079-AA49-4FA42486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1A258F-6051-4E60-ABBF-188BE27A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7E908ED-32A5-40D6-B8E9-CF1D2C7A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6965553-53EF-4100-BFA7-1F4080F7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A3C283-6E06-407C-B721-EC489D93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39251C-C7B4-4EA0-9795-B7EE76CA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C4109D-6BC3-4096-A1A5-B6CFCCC6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879327-77D1-4374-8092-3827AF09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25139-2250-497B-8E8A-1A893170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7392B-F372-4355-AB30-1972A08D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F4BFA-1B22-4768-BE89-CC23DF87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9F5CF-6BA0-4212-8837-9FC39655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6A074-2AE3-4030-8672-3E885F735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A7E34-5912-4259-9E70-34D45E66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16E-A7DB-4D09-A6A2-1396C92F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3F5F8-C597-4191-8280-30A9BBE1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E612B-73E8-419E-BB06-66C57446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25F42-EE84-42BD-A457-68485AD6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71695-FE30-4A2B-9C11-03DF8CD6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86D1E-808A-41BE-8941-B79AEB77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857D5-5F58-4787-957D-0A5F5044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1A9C3-FC22-44DA-A319-DADDBFCE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1F1AF-6334-496C-AE10-72725BE9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848F1-3552-4C15-8C1A-B9AFECEA4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C2580-E2BB-4251-8225-F213B53C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0640-75F0-43F8-BA92-A0915151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33D06-10CD-48B1-94CA-924CCC0C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04350-963B-4574-8D68-BE51F118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F84E5-C7DC-4A57-8858-6C57D4C14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8F2F8-D541-44B7-B14B-3793342E2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B6C80-A938-4CF8-AF80-38EED872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D7EAD-2BB8-4D7C-A52D-A560DE0A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2E098-EBEF-4419-A320-90A43837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FE7AE-FDD7-445A-98AA-09761F34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D4218-D3CE-4A34-93D5-8030ADF4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BB49C-5490-412A-A5F7-897F8C0D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568D-BA95-4D1E-AC9D-7E27E532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6B776-5FA2-44A1-A36E-83857256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7EEA9-2A2D-4206-BC5B-17C0346A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D8CB4-B6B2-4FEE-874E-173BEBFC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D2A42-28D4-4418-886D-B3CC262B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58DEC-82AB-434C-9420-65B70150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1D0C5-66EB-497A-B398-728DFC52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6CCF5-CA85-4BED-B6FB-B09F6147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B6AB0-8599-40EE-8D64-D386B96E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CEDA5-FC38-4956-82B4-4F5B1DD0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FB3EF-57D0-403F-873B-FFCD8921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C9B9-0D0A-4EE1-BFD5-65206196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753D2-6C58-4723-BBFE-86C03FC8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2F98B-A845-4EE8-B9AA-74D17F31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8C9A3-C442-4B0E-9D7C-4F037223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762D6-B384-47B0-9FDA-4CEE8C35C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E2FA8-D882-4C66-B590-2F7058B67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3B871-0B76-46FC-AB63-82B79CA75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9B982-4546-4FAD-8B98-D8736702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D05C0-D7F9-4E2A-BD98-9B063034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E5DF01-0655-475F-A32D-84578148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C3DEF-9894-4532-A377-C843D074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B3BF-E0DE-4423-9DCE-C320A295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B2681-C6C4-4C69-8AE6-6126C1B9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B3BA2-D947-45EF-8954-82F69F13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B0E28-C617-465F-A714-B0B134B7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DFA2A-4FE8-48DA-B193-88861EE6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AAD4F-45AF-4C8B-8E16-60233EC8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1C582-E5C5-4671-AD63-7330BE35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481B7-0093-4F58-94F7-20476D54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00057-0CF6-4573-A3E5-863F72B4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AB756-53D6-47E6-A4FD-43B3CDF7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DFADF-0D05-4640-ADAC-B2BF476A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F566-A9FB-4315-9D15-5BF755DB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827FA-36EB-4B9E-A946-5F9FAABC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04A635-46F5-4F20-B554-A75FFC6D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C47A1-F6ED-4E2B-B244-B231B675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04496B-F564-40E3-9B41-F7D3FD70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7C3FE-B661-4367-BDAD-4CF86FDB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C6D31-958B-4234-B8D2-1D47A5DC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70D7D4-EDF1-4883-A091-78B78E36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12723-9E06-4B4F-90AE-DC369DCAD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3CE1D-86B7-449D-AC83-5C1FEA9F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BD3D23-8BC1-4601-8850-714D311EA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65.xml"/><Relationship Id="rId7" Type="http://schemas.openxmlformats.org/officeDocument/2006/relationships/slideLayout" Target="../slideLayouts/slideLayout266.xml"/><Relationship Id="rId8" Type="http://schemas.openxmlformats.org/officeDocument/2006/relationships/slideLayout" Target="../slideLayouts/slideLayout267.xml"/><Relationship Id="rId9" Type="http://schemas.openxmlformats.org/officeDocument/2006/relationships/slideLayout" Target="../slideLayouts/slideLayout268.xml"/><Relationship Id="rId10" Type="http://schemas.openxmlformats.org/officeDocument/2006/relationships/slideLayout" Target="../slideLayouts/slideLayout269.xml"/><Relationship Id="rId11" Type="http://schemas.openxmlformats.org/officeDocument/2006/relationships/slideLayout" Target="../slideLayouts/slideLayout270.xml"/><Relationship Id="rId12" Type="http://schemas.openxmlformats.org/officeDocument/2006/relationships/slideLayout" Target="../slideLayouts/slideLayout271.xml"/><Relationship Id="rId13" Type="http://schemas.openxmlformats.org/officeDocument/2006/relationships/slideLayout" Target="../slideLayouts/slideLayout272.xml"/><Relationship Id="rId14" Type="http://schemas.openxmlformats.org/officeDocument/2006/relationships/slideLayout" Target="../slideLayouts/slideLayout273.xml"/><Relationship Id="rId15" Type="http://schemas.openxmlformats.org/officeDocument/2006/relationships/slideLayout" Target="../slideLayouts/slideLayout274.xml"/><Relationship Id="rId16" Type="http://schemas.openxmlformats.org/officeDocument/2006/relationships/slideLayout" Target="../slideLayouts/slideLayout275.xml"/><Relationship Id="rId17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13.xml"/><Relationship Id="rId7" Type="http://schemas.openxmlformats.org/officeDocument/2006/relationships/slideLayout" Target="../slideLayouts/slideLayout314.xml"/><Relationship Id="rId8" Type="http://schemas.openxmlformats.org/officeDocument/2006/relationships/slideLayout" Target="../slideLayouts/slideLayout315.xml"/><Relationship Id="rId9" Type="http://schemas.openxmlformats.org/officeDocument/2006/relationships/slideLayout" Target="../slideLayouts/slideLayout316.xml"/><Relationship Id="rId10" Type="http://schemas.openxmlformats.org/officeDocument/2006/relationships/slideLayout" Target="../slideLayouts/slideLayout317.xml"/><Relationship Id="rId11" Type="http://schemas.openxmlformats.org/officeDocument/2006/relationships/slideLayout" Target="../slideLayouts/slideLayout318.xml"/><Relationship Id="rId12" Type="http://schemas.openxmlformats.org/officeDocument/2006/relationships/slideLayout" Target="../slideLayouts/slideLayout319.xml"/><Relationship Id="rId13" Type="http://schemas.openxmlformats.org/officeDocument/2006/relationships/slideLayout" Target="../slideLayouts/slideLayout320.xml"/><Relationship Id="rId14" Type="http://schemas.openxmlformats.org/officeDocument/2006/relationships/slideLayout" Target="../slideLayouts/slideLayout321.xml"/><Relationship Id="rId15" Type="http://schemas.openxmlformats.org/officeDocument/2006/relationships/slideLayout" Target="../slideLayouts/slideLayout322.xml"/><Relationship Id="rId16" Type="http://schemas.openxmlformats.org/officeDocument/2006/relationships/slideLayout" Target="../slideLayouts/slideLayout323.xml"/><Relationship Id="rId17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97EF-34D4-4063-8F26-FE34C3019DAF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43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3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43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3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8EF3-E658-4270-BA1F-FECC6CE219B0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481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08BC-960C-43BF-B85D-B972EEF329C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5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27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528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30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531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6FAD-A941-45DC-9534-DE5959D95F0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B5EB-88C9-49C8-966A-5653F0E06D9C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61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2031-33FC-405C-932E-4DA913739EE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C492-F4B8-41B9-AD57-84B3B07870BB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1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7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7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7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0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2B84-6CD6-407A-9D1D-2F3D6BC2A67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F635-C8CC-4F5C-A5C8-705A4D0D8BE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792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2C042-03B0-4CBC-93C8-5B8F0A447AD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3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839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84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842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 type="dt" idx="5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 type="ftr" idx="56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 type="sldNum" idx="57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94B2-670E-4655-9DE5-579F0F00268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F2D4-6896-402A-891C-062AAA57ADEC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886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5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5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1731-3064-4C47-9E26-DE283B400AE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3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3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93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6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6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6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4EC3-A73D-4DC1-AEBF-9DC68048CBE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9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980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6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6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66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11D27-CD2C-446D-8D31-C6BFF5ACC047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3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4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6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27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29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30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6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6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6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A86B-3E6E-454E-B0C6-0205C1C5329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6"/>
    <p:sldLayoutId id="2147483936" r:id="rId7"/>
    <p:sldLayoutId id="2147483937" r:id="rId8"/>
    <p:sldLayoutId id="2147483938" r:id="rId9"/>
    <p:sldLayoutId id="2147483939" r:id="rId10"/>
    <p:sldLayoutId id="2147483940" r:id="rId11"/>
    <p:sldLayoutId id="2147483941" r:id="rId12"/>
    <p:sldLayoutId id="2147483942" r:id="rId13"/>
    <p:sldLayoutId id="2147483943" r:id="rId14"/>
    <p:sldLayoutId id="2147483944" r:id="rId15"/>
    <p:sldLayoutId id="2147483945" r:id="rId16"/>
    <p:sldLayoutId id="2147483946" r:id="rId17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 type="dt" idx="7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 type="ftr" idx="7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 type="sldNum" idx="7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5B77-20BC-4777-AA44-50C5EA58DE7F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4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1115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dt" idx="7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 type="ftr" idx="7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 type="sldNum" idx="7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A847-3B30-4EE7-82B0-294492A1CFA4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7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7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7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D967-462F-4875-808A-78CA093EC2F6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0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2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203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205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06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 type="dt" idx="7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 type="ftr" idx="8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 type="sldNum" idx="8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8317-39BF-4632-8227-16D0BEA4FE75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6"/>
    <p:sldLayoutId id="2147483988" r:id="rId7"/>
    <p:sldLayoutId id="2147483989" r:id="rId8"/>
    <p:sldLayoutId id="2147483990" r:id="rId9"/>
    <p:sldLayoutId id="2147483991" r:id="rId10"/>
    <p:sldLayoutId id="2147483992" r:id="rId11"/>
    <p:sldLayoutId id="2147483993" r:id="rId12"/>
    <p:sldLayoutId id="2147483994" r:id="rId13"/>
    <p:sldLayoutId id="2147483995" r:id="rId14"/>
    <p:sldLayoutId id="2147483996" r:id="rId15"/>
    <p:sldLayoutId id="2147483997" r:id="rId16"/>
    <p:sldLayoutId id="2147483998" r:id="rId17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8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8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8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D4D0-D664-4C21-99BC-BB0BA61A83C1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DEF0-8B53-4276-8D7C-0CE4608B1188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0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0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46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7BBB-8DE3-40D7-A217-24A632125243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153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54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6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57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9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9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E0BA-BF1A-4AA6-B792-AA1A0B32F75D}" type="slidenum">
              <a:rPr b="1" lang="cs-CZ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43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44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45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7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49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0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7542-B75F-426D-BDC6-58329C32878E}" type="slidenum">
              <a:rPr b="0" lang="cs-C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293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9333-90E5-47E4-9467-6C6DD9FF296A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37" name="Přímá spojnice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39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340" name="Přímá spojnice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2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343" name="Přímá spojnice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A1E2-E0A5-4F98-8DBF-3B8819B9375E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387" name="Přímá spojnice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C9A1-0126-4FA7-B192-AAA3D56C5B0D}" type="slidenum"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2"/>
          <p:cNvSpPr/>
          <p:nvPr/>
        </p:nvSpPr>
        <p:spPr>
          <a:xfrm>
            <a:off x="1187280" y="184464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ýukový materiál zpracován v rámci projektu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 peníze školá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ační číslo projektu: CZ.1.07/1.5.00/34.02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98" name=""/>
          <p:cNvGraphicFramePr/>
          <p:nvPr/>
        </p:nvGraphicFramePr>
        <p:xfrm>
          <a:off x="1332000" y="4172040"/>
          <a:ext cx="7415280" cy="365040"/>
        </p:xfrm>
        <a:graphic>
          <a:graphicData uri="http://schemas.openxmlformats.org/drawingml/2006/table">
            <a:tbl>
              <a:tblPr/>
              <a:tblGrid>
                <a:gridCol w="1181160"/>
                <a:gridCol w="1734840"/>
                <a:gridCol w="1697040"/>
                <a:gridCol w="2802240"/>
              </a:tblGrid>
              <a:tr h="639720"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Šablona:      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III/2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.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5360" bIns="45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Y_32_INOVACE_01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9" name=""/>
          <p:cNvGraphicFramePr/>
          <p:nvPr/>
        </p:nvGraphicFramePr>
        <p:xfrm>
          <a:off x="1332000" y="4751280"/>
          <a:ext cx="7416720" cy="1096920"/>
        </p:xfrm>
        <a:graphic>
          <a:graphicData uri="http://schemas.openxmlformats.org/drawingml/2006/table">
            <a:tbl>
              <a:tblPr/>
              <a:tblGrid>
                <a:gridCol w="3757680"/>
                <a:gridCol w="365904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Jméno autor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gr. Martin Frol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řída/ročník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3.A 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/ třetí roční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atum vytvoření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1.2.2013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0" name="Obrázek 1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Investment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n individual or an institution that acts as an underwiter or agent for corporations and municipalities issuing secur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o not accept depos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intain broker/dealer op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 advisory services to inves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Mortgage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 long-term loans - mortgag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ing building or buying houses or fla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wer interest to be pai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redit un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 non-profit financial institution that is owned and operated entirely by its memb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ovide financial services for their members, including saving and len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Deposit is considered partial ownership in the credit un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entral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ave responsibility for issuing curren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dminister monetary polic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old member banks´ depos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acilitate the nation´s banking industr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Bank staf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ranch manag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ashiers / tell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X tell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Retail bank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Loan representati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les assista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artments in a b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Headquar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edit administration di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national and domestic banking oper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reasury and accoun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inance operations division (FX, money market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di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Departments in a ban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formation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rketing divis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Each of them can have some sub-divisions, sections or tea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2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Bočánková, M., Hedvábná, I., Kalina, M. 2004. Anglická obchodní korespondence. Ekopress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Dyčková, J., Neumannová, O. 1998. English for bankers. RADIX,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Henderson, D., Streitwieser, V. 2006. Business English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Jones, L., Alexander, R. 2003. New International Business English. Cambridge University Pr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ackenzie, I. 1995. Financial English. Language Teaching Publicat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Měšťan, J. 2002. Anglický obchodní dopis se vzorovými dopisy. Nakladatelství JM Pís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2"/>
          <p:cNvSpPr/>
          <p:nvPr/>
        </p:nvSpPr>
        <p:spPr>
          <a:xfrm>
            <a:off x="1187280" y="549360"/>
            <a:ext cx="77724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 u="sng">
                <a:solidFill>
                  <a:srgbClr val="330033"/>
                </a:solidFill>
                <a:uFillTx/>
                <a:latin typeface="Times New Roman"/>
              </a:rPr>
              <a:t>Použitá literatura:</a:t>
            </a:r>
            <a:endParaRPr b="0" lang="en-US" sz="25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4" name="Rectangle 3"/>
          <p:cNvSpPr/>
          <p:nvPr/>
        </p:nvSpPr>
        <p:spPr>
          <a:xfrm>
            <a:off x="1258920" y="1557360"/>
            <a:ext cx="788508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Radice, F. 1992. English for banking. Macmillan Publish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Skuch, E. 2005. Fit for Business English - Fráz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illey, R. 2005. Fit for Business English – Korespondence. Grada Publish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Treger A. 2008. Inside the European Union. Leda s.r.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366"/>
                </a:solidFill>
                <a:latin typeface="Arial"/>
              </a:rPr>
              <a:t>Abbs, B., Freebairn, I., Barker, Ch., 2003. New Snapshot Pre-Intermediate, Pearson Education Limi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1" name=""/>
          <p:cNvGraphicFramePr/>
          <p:nvPr/>
        </p:nvGraphicFramePr>
        <p:xfrm>
          <a:off x="1258920" y="1700280"/>
          <a:ext cx="7416720" cy="4525920"/>
        </p:xfrm>
        <a:graphic>
          <a:graphicData uri="http://schemas.openxmlformats.org/drawingml/2006/table">
            <a:tbl>
              <a:tblPr/>
              <a:tblGrid>
                <a:gridCol w="3184560"/>
                <a:gridCol w="42321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zdělávací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Cizí jazyk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matická oblas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Obchodní angličtin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ředmět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Anglický jazyk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Název 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č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ebního materiálu</a:t>
                      </a: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y, jejich funkce a struktur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Výstižný popis způsobu využití, případně metodické pokyny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 definuje pojem banka, představuje jednotlivé typy bank a jejich funkce a strukturu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Klíčová slova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Arial"/>
                        </a:rPr>
                        <a:t>Bank, spread, fee, account, ATM, loan, deposi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Druh učebního materiálu: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prezenta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02" name="Obrázek 1" descr=""/>
          <p:cNvPicPr/>
          <p:nvPr/>
        </p:nvPicPr>
        <p:blipFill>
          <a:blip r:embed="rId1"/>
          <a:stretch/>
        </p:blipFill>
        <p:spPr>
          <a:xfrm>
            <a:off x="2050920" y="115920"/>
            <a:ext cx="5321520" cy="13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3366"/>
                </a:solidFill>
                <a:latin typeface="Arial"/>
              </a:rPr>
              <a:t>BUSINESS ENGLIS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BANK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6666"/>
                </a:solidFill>
                <a:latin typeface="Arial"/>
              </a:rPr>
              <a:t>THEIR FUNCTIONS, 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WHAT IS A BAN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k is an institution that accepts deposits and make lo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ks provide a system for an easy transfer of money from one person or company to anot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Bank is an intermediary between a supplier of finances and their use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How do banks earn mone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„</a:t>
            </a: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The spread“ – the difference between the interest rate pay for deposits and interest rate they receive on the loans they m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terest on the securities they hol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Fees for customer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fe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Opening and closing an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Running an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Bank state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Financial operations at the coun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Payments from your accou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Consulting servi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Home banking, internet bank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Arial"/>
              </a:rPr>
              <a:t>Withdrawals from AT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TYPES OF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Saving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ommercial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Investment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ortgage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redit un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Central bank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Saving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re financial institutions which receive savings accounts only and pay interests to its deposito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6666"/>
                </a:solidFill>
                <a:latin typeface="Arial"/>
              </a:rPr>
              <a:t>Commercial bank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Privately – owned for profit institu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Accept demands deposi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Make commercial loa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366"/>
                </a:solidFill>
                <a:latin typeface="Arial"/>
              </a:rPr>
              <a:t>Offer related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8:42:48Z</dcterms:created>
  <dc:creator>Mgr.Martin Frolík</dc:creator>
  <dc:description/>
  <dc:language>en-US</dc:language>
  <cp:lastModifiedBy>Igor</cp:lastModifiedBy>
  <dcterms:modified xsi:type="dcterms:W3CDTF">2014-09-13T13:47:07Z</dcterms:modified>
  <cp:revision>15</cp:revision>
  <dc:subject/>
  <dc:title>BUSINESS ENGLISH</dc:title>
</cp:coreProperties>
</file>