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4AE9-5751-415C-ADF3-58D9F6A6EED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DCE9-3030-42C2-986E-F055ED7A0CB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3FE6-5DCF-429B-836C-55879E1B63F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1085-8F78-41BD-AE3F-23AB825925B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D308-6B92-4BAD-BAEE-964DF8F331A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B3299-AEE8-42C4-8CCE-0A46E84A0E3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D238-15FB-4E68-A5D8-20A696EBAA7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DE56-BE1B-4AD8-BCDB-F7F0C60BF38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45B4-A9FA-47C5-A25E-BE76F99369C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5936-DE23-4907-9B84-7256DA27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0953-FE9B-4C51-936B-2768F14F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34201-4D21-4EB7-8616-8C15EE70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BA0956-C429-46BC-B78B-97DD5ED1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086F40-CC20-4A21-BB6C-949FCDDB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55B56-58B1-489D-A11B-6C5E6429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3AA2C-131D-401A-A2DB-4F4F4684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E804A-3A8F-4C53-B45E-3D179139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1AF6B-2F1A-43AA-8456-3846DFE5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382C4-965C-421D-9FD3-37F2081C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FD624-0C68-41EB-AA51-AFCC260A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ABBEE3-61AB-4111-B266-17FAA30A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2BF9-AFBC-40B0-8466-D71CC91A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BE43A-8A20-4543-A17F-629E6F7F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66DE2-0E98-489A-9DEB-45F42DFA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6C5DE-7FA2-4D5C-8B4F-91DA0200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F762F-A345-4DE2-AFD9-6D47FBCD0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F9D992-9121-44AF-BF92-437091C1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59E6A-1043-49F3-A53E-6FF89F1C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4FB9DF-4044-4BFC-A061-EA8DC599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AEBBA6-CA23-4599-B6B9-60CCF3A4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7FDF8-DA81-44B9-BF99-78A42C502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F3D8B-853A-4F5C-ACE3-AF97BB2C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2C0-60A9-4A7B-B49B-B83F26C14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68DF84-44F1-4B1C-B216-E5EE70521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6E967-EA96-4E22-B139-DB591F2E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B211F-28D7-42E9-B993-26F2BEEC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E1B35-DDBC-47CF-9781-03840617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46FCC-D804-4A31-885E-B52FB364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A680B-B97E-4EC3-9205-A48007B5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006C9-A489-401B-A47D-27D8C665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46BD6-7723-4015-9F11-FC3737C4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906A9-A25B-4AC5-A1D7-8BD4538C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60804-042D-4BE4-939D-F0C12584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52B9-9A03-4D37-897A-27E00BB9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DA861-9528-451B-B2E6-761B89D7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024D8-6F9D-488D-8D0B-402A16002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11F1B-9040-4B76-9F32-08382CCA2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282A3-8CAD-49B9-84EE-D89C36721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74C8D-113A-4A60-9B93-76BB5024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F01B9F-4B57-4502-AB71-5CB64017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71DC53-E70A-4272-B7D5-EFB3AD7B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561AF-1CA1-4093-87ED-C946337A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96DF0E-0C66-4A27-81B0-24488945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CD37D-9F24-4928-8000-80FF22F4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450F-A582-4BA0-9738-0E38221A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5CF67-CAB9-4029-9CEE-62EBAF0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0F41A-FE04-46BC-B3D3-08FC0FDC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F4D5B-B106-43B9-8743-17AF5438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C132D-77EC-41B6-9CFD-ADB97846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D245B-19D5-452C-8381-2BD2D147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0750B-F3BB-4593-BCDE-DF572912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A513D8-3F82-4C4E-8D61-AFD62917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C5A866-F7B8-4500-A221-5D9446ED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5FF9B-5CF9-4182-A64C-6C260843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C5046-0BC4-4907-9F6F-3B77F47E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5621-1959-4EEC-B073-9AD8E1BA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BFE77-FB92-442E-A2C6-0C557B8E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FCD64-A435-4712-AF9D-0ED3241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385CD4-3BAC-4D66-A968-A85765AC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AF807-5C73-46E9-9768-9AAB05FB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05AD1-5768-4BAD-B4E9-4208AFCC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8F432-6CD3-4485-9435-00023F1B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674FB-F074-4281-8BA2-6849731D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43ADA3-80AC-406A-B007-3B88A886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BB5C0-9EFC-40F8-9F5F-AD50F860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872F4-9A7D-4C9B-A2B6-36285341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C40B-A7DE-4B1C-BBED-DF670536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A8EB0E-F50E-4980-A8E7-C34FE915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0F2BA-CDD2-45E9-BDC4-9D9251B7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09919-C4CF-42FA-92E5-34B32CA8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A5603C-138A-4854-B534-CBD079DB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2D79B-65DE-43AF-A2B0-8DF5DC6B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4B443C-167F-43A2-9A69-9FC9000A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40B901-6236-436A-A4F8-29DD53CA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CB3DA-EE53-4A1D-BAB3-C14D3ADE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1059AB-40A5-4D9D-AFB3-3A5826A5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A44AB1-A6AF-483D-932B-1835AE62B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DFA0-5892-43BD-867D-219FFA83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EF24D4-EBEC-421F-A992-E0DABFCD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EF927E-D15F-4A22-861C-5AECE380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D3EC2D-AD55-48AD-BF47-D26356C6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69419-422F-4E1B-B383-60EF3CB5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538FC3-F2AB-44DD-BAC0-30AA5784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93F6F-24C8-4C61-8719-8564BA94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C9B61B-AA09-4337-80D2-9501AE21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1DFF06-CEDF-4AB4-A89C-FB6E62EC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9E10B-DD76-4B99-9777-64962691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11DBD-BCC7-4FAF-8606-22FA4A07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34CC-93D0-4585-85E2-F06065A5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8F887-2C14-4471-AEC8-5C420574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6AEA22-AB9E-418D-8822-671DEFB2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98AF3-FD99-41B7-8CBE-F9DE347E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B1752D-68E0-4B48-99E2-133A1261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B0E76C-885F-4E98-8783-AF6520DA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9466A-EDBC-4DA8-AB0C-FB3586794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34B0A4-8873-4936-89F7-D21FB9CC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3BB81C-12A6-4C89-8A38-68B43F7A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F2D6DE-1BAB-4869-AB45-6F169A05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3D458-501F-45FD-80FE-92124432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88DA-2E51-4D27-B08B-B2FAF9E0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A4CB67-8DCF-4A96-BCAE-BC2BD721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6DC377-AA06-414E-B745-F2498EF4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2482F7-AA66-46E2-90D2-84C4EB93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7FE3-A836-4C94-90CE-43A832AE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22D5-981B-4191-804B-5C87C33C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3698-C519-4B76-A505-99D5AAE0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EBB7-B686-4F35-98ED-A5F41BDD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5BD0-F646-404D-9128-BD17D3DE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EE33-7D25-47EF-9BAD-6611D82D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00AAB-3E4E-42C9-B711-1A61EE14F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9677E-7AA1-4E78-9182-619FCDEA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09F94-706F-4946-8198-2DC3AFFF9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4403D-087C-4295-9612-CD94C502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F6B9-10A2-431B-B026-E0C208C0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59D-F693-4E3F-AA83-E1568723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DC1D8-599C-4159-92A9-6EE9226F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85FF-5A37-4697-9AB0-AF20765F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B2EB5-6642-4516-8EC2-DD6E0FD5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7F238-EA9F-4A72-A5C4-D22035ED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0AB13-9A2A-40E6-8A04-A76E5BD6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6ED3E-DE36-4ACE-A325-B8D07442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71192-0824-470F-ADE7-AF3AD6FB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4897-7E6F-4AC3-9B5F-FD767DDB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13419-D540-4226-8539-E3814EA7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D1B7A-011B-44CA-BF28-63427659E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DCFA-853D-403D-B4B1-9BB5F5FD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D6E8-788A-4ECA-869A-D10AE64C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09EF-C7A7-44C6-83F4-D472FD19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65C2-812A-4CC7-A204-416117D3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FB3CD-660C-4121-B232-FB1D3AAC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DC855-056E-4ADA-A2C5-E54597CD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A84E9-279D-4FFC-824E-F0543E70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4F799-10FF-4D18-A017-204A9D31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80044-F5AC-4627-8E63-151641D6C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E9DC3-54A1-45E8-A7D0-92F5C74E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249F3-DE2D-49C0-89CC-79A553A3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7B3-FDDB-494E-A419-57F15C93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36918-7360-4610-BBDA-E13C9A58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89775-4A91-4D0C-9A9D-42FA2019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91B94-1FB0-47B1-AFF0-9D9FC639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0E4C9-EC1B-4C73-97C2-0921B3F8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124E4-C981-49D0-9051-97E44BE3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E6435-0338-43E6-ABB4-4F5215A2F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7CDEF-B406-4251-A0F7-7EECCBC3D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A8831-784A-4BB8-833A-CA7134ED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D5687-619A-4C9D-B751-FFDB6F8C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98A0D-AF05-4D89-B216-BCFD2DDA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7CA5-89AB-4BE9-9235-B4E3BA51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0278B-1A9E-4C27-BFC3-5049C0FCE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51A63-5E38-4251-B647-C829822F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54C97-2F00-4067-928F-08C1771A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1F70F-4B88-4A38-87F0-361FAF41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C8400-0A25-42C2-BB22-E41ECEC2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E961-335F-4C9D-902E-F326708E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0C8E7-8166-456D-AD69-CEEB44D0F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659FE-B6FF-44B4-B053-D51725A3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18ADF-6945-4C3C-9A0C-F5DD5E80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B0104-0714-48DF-B2D0-53085DD3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243-CFE9-4C40-B400-EAAC889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45F6F-2788-47B5-A628-F383A6FE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CE28B-1AB1-4275-9B6B-3B9CE19F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F3FC3-1EB9-4736-93E9-5CCCE4062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64B9D-12E5-4555-9FA8-5D0A07A9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A6045-C1BB-41C7-A152-BDCFE4C0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F815A-E83E-4064-A5C9-96E3647C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28A95-A77B-4021-AC14-31E1EA4E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27312-0AF5-452D-8364-19815282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6C6DF-4C1B-4CEE-9DAB-A671772D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5A44D-52D9-414B-B975-17C5B12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5D91-B83A-4B58-B7FF-9A4051E1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680A71-EF12-4907-B73C-E3F91F72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D5D17-F46E-43DD-89A8-2C142C2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55748-AECB-477F-B3A8-B9BA302C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3E0FED-B664-4724-ABC9-3BF8336FD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5E830-25AB-4EA1-8C68-0FFB3BF5C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BD149-38FE-4C56-90BC-0A139B48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566D7-A560-491B-86D4-32F24BF3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3CB730-C968-467E-825F-FA71E667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5C847-57FD-4673-BA17-9B646E1D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7FAFD-67A4-493D-BAE4-791B8059D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CEB9-2570-4F0E-825E-2908E81A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3DB7F-95E9-4057-B141-F1844870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B2C414-288C-49E4-A9DF-C38D2A79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64BF3-ECD2-4D79-8C33-DF33D893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0153E-11CC-4CA7-902A-C9EEF5F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7F79B-27F6-4531-A147-451423F7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59F9E-6F5B-4983-B6A2-A4DFC037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B5BFF-779B-4437-8ECE-68178667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9B982-C840-4963-8EE1-A3C06ED91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D2139-C761-4EB8-AE63-7A0D7AAED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6FF6F-5FCD-4979-A997-5A568E9C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1124-2380-4FF3-ABD6-5F2313C19102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3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702D-2F9C-4B3C-AC53-02299AD5488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7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7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8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EF02-478F-4133-BE35-95845B308B2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5D7B-80E8-4F05-BC14-B740CCE28FF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5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4EF9-6018-468A-BA81-18CE1B9998E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786F-AA89-48BE-9F51-1221B7EF08B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6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6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0768-9C6F-4749-A11B-37D16B0F1BB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E42A-794B-4FE7-9D85-F54A200AC48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D35F-0398-47D3-86DE-A204D11C8E2F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270F-3926-4086-9277-8E73FC30EA3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4901-7960-475C-AB72-4FC6738A19BC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14A1-CEF2-42FF-9F5C-975884291255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E55A-41DB-4030-9B63-CE5C5E7D107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C888-2E46-4ED2-982B-FD2F184F1BF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1956-5545-44B0-BEC5-028C40AA584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8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8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8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04C4-A606-4B97-860F-CB0E869FF81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74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5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02 / 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1" name="Obrázek 1" descr=""/>
          <p:cNvPicPr/>
          <p:nvPr/>
        </p:nvPicPr>
        <p:blipFill>
          <a:blip r:embed="rId1"/>
          <a:stretch/>
        </p:blipFill>
        <p:spPr>
          <a:xfrm>
            <a:off x="1901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.W.I.F.T. co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code for international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8-11 charac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4 characters – bank code  (only let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 characters – country code (only letter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2 characters – location code (letters and digit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3 characters – branch code (optional, letters and digi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s´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security which entitles the drawee or the holder to withdraw money in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90" name="Zástupný symbol pro obsah 2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826080" cy="1639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s´ cheques must contai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words „traveller´s cheque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order or promise to pay a certain amount of money to the drawee or the ho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name of the drawer or the company and their signa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2" name=""/>
          <p:cNvGraphicFramePr/>
          <p:nvPr/>
        </p:nvGraphicFramePr>
        <p:xfrm>
          <a:off x="1258920" y="1700280"/>
          <a:ext cx="7416720" cy="469404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měna, cestovní še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nejdůležitější zahraniční měny, vysvětluje směnný kurz, SWIFT kód, podrobněji se zabývá cestovními šeky a představuje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ěna, směnný kurz, SWIFT kód, cestovní šek,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3" name="Obrázek 1" descr=""/>
          <p:cNvPicPr/>
          <p:nvPr/>
        </p:nvPicPr>
        <p:blipFill>
          <a:blip r:embed="rId1"/>
          <a:stretch/>
        </p:blipFill>
        <p:spPr>
          <a:xfrm>
            <a:off x="1901880" y="11592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4673520" y="3573360"/>
            <a:ext cx="4013280" cy="117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FOREIGN CURR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6666"/>
                </a:solidFill>
                <a:latin typeface="Arial"/>
              </a:rPr>
              <a:t>TRAVELLERS´ CHEQ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URRENC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Currenc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is a system or a type of money a particular country us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Money</a:t>
            </a: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 in any form used as a medium of exchan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58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466720" cy="184788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to pay in a foreign countr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760" name="Organization Chart 3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761" name="_s1028"/>
            <p:cNvCxnSpPr>
              <a:stCxn id="762" idx="0"/>
              <a:endCxn id="763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4" name="_s1029"/>
            <p:cNvCxnSpPr>
              <a:stCxn id="765" idx="0"/>
              <a:endCxn id="763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766" name="_s1030"/>
            <p:cNvCxnSpPr>
              <a:stCxn id="767" idx="0"/>
              <a:endCxn id="763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763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You can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pay by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7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3366"/>
                  </a:solidFill>
                  <a:latin typeface="Arial"/>
                </a:rPr>
                <a:t>Cash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5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red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2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Travellers´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oreign currenc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Australia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australi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anada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canadi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Denmark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danish crow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16 countries of EU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EU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1" name="Picture 4" descr="austrálie"/>
          <p:cNvPicPr/>
          <p:nvPr/>
        </p:nvPicPr>
        <p:blipFill>
          <a:blip r:embed="rId1"/>
          <a:stretch/>
        </p:blipFill>
        <p:spPr>
          <a:xfrm>
            <a:off x="4716360" y="292428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2" name="Picture 5" descr="kanada"/>
          <p:cNvPicPr/>
          <p:nvPr/>
        </p:nvPicPr>
        <p:blipFill>
          <a:blip r:embed="rId2"/>
          <a:stretch/>
        </p:blipFill>
        <p:spPr>
          <a:xfrm>
            <a:off x="4716360" y="342900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3" name="Picture 7" descr="dansko"/>
          <p:cNvPicPr/>
          <p:nvPr/>
        </p:nvPicPr>
        <p:blipFill>
          <a:blip r:embed="rId3"/>
          <a:stretch/>
        </p:blipFill>
        <p:spPr>
          <a:xfrm>
            <a:off x="4716360" y="400536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74" name="Picture 8" descr="evropska_unie"/>
          <p:cNvPicPr/>
          <p:nvPr/>
        </p:nvPicPr>
        <p:blipFill>
          <a:blip r:embed="rId4"/>
          <a:stretch/>
        </p:blipFill>
        <p:spPr>
          <a:xfrm>
            <a:off x="4716360" y="4508640"/>
            <a:ext cx="54000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Foreign currenci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Great Britain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british pou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Japan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japanese y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oland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polish zlo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witzerland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swiss fran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The U.S.A.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 american dolla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77" name="Picture 4" descr="spojene_kralovstvi"/>
          <p:cNvPicPr/>
          <p:nvPr/>
        </p:nvPicPr>
        <p:blipFill>
          <a:blip r:embed="rId1"/>
          <a:stretch/>
        </p:blipFill>
        <p:spPr>
          <a:xfrm>
            <a:off x="4716360" y="292428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78" name="Picture 5" descr="japonsko"/>
          <p:cNvPicPr/>
          <p:nvPr/>
        </p:nvPicPr>
        <p:blipFill>
          <a:blip r:embed="rId2"/>
          <a:stretch/>
        </p:blipFill>
        <p:spPr>
          <a:xfrm>
            <a:off x="4716360" y="342900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79" name="Picture 6" descr="polsko"/>
          <p:cNvPicPr/>
          <p:nvPr/>
        </p:nvPicPr>
        <p:blipFill>
          <a:blip r:embed="rId3"/>
          <a:stretch/>
        </p:blipFill>
        <p:spPr>
          <a:xfrm>
            <a:off x="4716360" y="393372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780" name="Picture 7" descr="švýcarsko"/>
          <p:cNvPicPr/>
          <p:nvPr/>
        </p:nvPicPr>
        <p:blipFill>
          <a:blip r:embed="rId4"/>
          <a:stretch/>
        </p:blipFill>
        <p:spPr>
          <a:xfrm>
            <a:off x="4788000" y="4508640"/>
            <a:ext cx="360360" cy="3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1" name="Picture 8" descr="usa"/>
          <p:cNvPicPr/>
          <p:nvPr/>
        </p:nvPicPr>
        <p:blipFill>
          <a:blip r:embed="rId5"/>
          <a:stretch/>
        </p:blipFill>
        <p:spPr>
          <a:xfrm>
            <a:off x="4716360" y="5013360"/>
            <a:ext cx="540000" cy="36036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Exchange ra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Change every d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end on many different th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fixed on the London FX market by dealers from over 200 ban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y be different in different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ow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selling price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buying pr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nfluences exchange rat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conomic sit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olitical situ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mount of government 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ket t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09Z</dcterms:modified>
  <cp:revision>14</cp:revision>
  <dc:subject/>
  <dc:title>BUSINESS ENGLISH</dc:title>
</cp:coreProperties>
</file>