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E6DA-4242-4278-88C1-3D5448EA82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092F-B3AC-4B64-A851-4684165E7DC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DAF5-5D36-4435-AA05-3DF978C3753E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84B2-E7F9-4FA3-81DE-3A6BDD17BD6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75D9-34CF-471B-BDB3-51CD6AB18F6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6362-9D98-46AD-96AD-66CDD48DE63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A414-341F-4C28-8F63-F5A96A8BA9A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08BD-1580-4936-9F17-6152AC33E69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0A4B9-AA6B-440A-9CC0-AFF7265FC93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3D1-734A-4281-B2A5-10B0985F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110-D47A-4270-B2B8-9EA13820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AA735-8EAF-412F-ACB7-77E1F086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75326-8818-43FE-9E09-C06BF096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C6757-6B89-48A9-8E2C-6FF6A0B8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A84F1-C390-4465-AE32-37BC399A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4E1EB-199D-465B-ADC7-7D9D987A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8345B-7B4C-4DDD-9F84-FC57CF4D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6FE3C-C708-4CE1-8AAF-627E0F27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5E51A7-9AE5-455A-A9CB-F6E792ED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EDAD23-25E5-402C-A6C9-EC1A676E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9EC86-7336-4707-8A94-560DF49E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88C7-3829-421B-AC37-E5B9DA95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F1580D-ED9F-4FB0-BE22-C6688237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989B0-E71D-445F-974A-67E4C3F0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42FC1B-5898-4086-8326-AC9F3B90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A49FC4-F41E-4EB2-89E1-6757D8E9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B69A6-5F0D-4D30-9BF2-08525A31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0808E-8C83-477E-AC7E-E4D8B3E9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1D265-17C1-4351-90A5-4173F999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F1A5F-0683-43E2-89C1-67832E87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7EE4CA-6AD7-4A08-86E6-C16F8269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80541-69F6-4245-9390-86F9406D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6BB-A695-49D6-BAC8-31D912CB4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00575-E0F8-4F10-9E83-3D295F6E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05271D-F2EC-4888-8EBB-F9B80CDA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B9D8CD-A701-492D-A70F-E91AE7E89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53F68-0B14-45F2-8398-2B16BC72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C8644-7F3F-4D04-8C23-922755B5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7C1EA-5EC9-439B-A052-381FABF9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04DEED-A18A-4B36-B626-2D901292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9C1EC-65AE-41F5-9A0F-3C3D9F7B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9C0F1-443F-4A18-BE4D-52E805D7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2B529-279C-4D09-BB30-2FBDA9D0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44A7-D4F6-4DBC-B7E9-4FF58C9FB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BBA51-251D-42EB-BA04-AA07E3BF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A835E-26EE-4F78-8F46-9900BAA0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087EC-B1F0-447B-B675-21DA4481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19DC9-50AD-471A-BFF8-A6D3BD6C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A8CE2-27F6-4AA1-9BC4-3D01AE4E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FCCB7-E43C-4764-BB1C-54CF548C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09CC50-4A50-4519-8175-61B6915F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365DD-6150-4183-B6A9-CCB1D229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60D33-DA7E-4527-B65A-899EA86A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8FA9A2-CB31-4A2C-9349-91A1CE84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99CF-2B1E-448C-BD2B-06E3726B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10A67C-965B-41C0-B8D7-366DEDDB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A196D4-13BB-42E2-8CB8-A187DECF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865E1-1181-4E1D-B38F-CCC1A576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317A39-C230-433F-B87B-2EEE63027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AE58B-A45F-41CB-9607-DFC9850E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B7643-AB47-459B-8759-49FDEAF06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EE0E34-BEA3-412D-B41C-0B6D383D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0F47F6-12B7-478C-AD95-FD96B064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D1B683-1D6D-43CB-8325-2D587D05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986BC-4E38-4D6F-978E-D5635B6B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A160-01A8-48AD-AB89-2A0DF63F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475D1-20EF-454E-BD33-B2263517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8E89E-46BF-4951-8BF0-066855F5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4F5E1-A639-4FFA-B9A7-4B8A2539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D9A30-F93C-4CED-AB69-3623BF29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AEE1D-5500-47C4-A54F-F87C7DEC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7808F-FA5C-44EC-A9FA-8E7F2836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9C87B0-83FA-4436-A329-43EBE5A4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B526DA-9C90-4658-9B76-DDF22FE8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D50FF3-BB95-49C0-BD4B-54FF0ACE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E09515-71A2-4DAB-8FE4-ED8B781F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8C71-9C9A-498B-9B9A-E6AB36DD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0A100-FB01-4497-A77A-FF99F845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E7295-51CC-4AEB-BDCF-CA2EA349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EEF246-1AE6-4690-B776-4E4EB8EEA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2185B-0529-4AEE-A083-C3B29CE1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22C3E-352A-481D-90D3-E5FCAFFB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41338-DAE7-4643-BAAA-655695E9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FF5C2D-3D58-4F4A-AD5A-A925310F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694B9D-FBC7-4F91-A729-6F14D411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3EB557-0105-4C43-B25A-00B7BF6E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32078-7CF9-4E82-9793-35EA50E5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FB16-7249-49FD-91F8-72A43C43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73BE62-3B8E-4464-AF4F-8C1832FA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BFA652-5A5D-4273-B3EC-2BAF6EA9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0EB58-79D1-4609-A57C-DBD0C5BB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5748DA-7778-4B2F-A5EA-AC88D5D3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11E6A-19C2-428C-AE27-E03770E9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0EEF95-249C-4ECF-B156-7F83A5A8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F5C1F0-2F09-4057-B408-C6C2D9BC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8E32A1-CD0F-4FF4-A521-87E79BA9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03FF82-7904-4188-89B0-3469F7EF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A43761-40AD-4181-81F8-AF47F819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E8A2-B8C9-4155-980B-216B97E3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499A31-ABE4-4BB0-BDB6-A34647C2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5B40D0-1447-4560-8C98-CD65214A9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C5D587-C57C-4A93-82C4-B6302C31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B44E2E-4CCE-4355-A56C-8F423AD6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597A42-C54C-452C-9AB8-C5BBF8B3B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F8AC1D-A85F-4968-8E3B-B6ED17CF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CB703D-CE2B-4B06-8EC7-26C39F3A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B427C5-9DF4-48B7-927B-75EDC1E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9E4DF-E8F4-4839-B5A3-A60AC4E1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DF7341-80A5-405F-909A-647E0A02B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2B5C-A003-4549-A9EF-00B57B23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4414C-606D-438E-A8DD-CACFC9D6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F09902-5EEC-4F02-9BEF-2A43097D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63399-FB6B-4ACB-BD96-273500E3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0395-BFCC-4D40-8139-982A395B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A99D-3EEB-46DA-8D99-1B39EEB5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CB332-92A5-48AA-BDD4-81A274D5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B31FC-C229-4448-B3A7-B1396CF4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13DF-D322-46D8-BC4D-E763BC6B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F59C-24A9-4A9C-ADCF-2A1F07252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BE5D-B5B4-4240-B83A-CA26C653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FE204-1864-46C4-B5AB-7DD8A150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425DB-8998-4A28-AF97-DC0AA089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7608-9C5D-4EEC-9E5D-A18C6767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EDCE-D927-4F8C-9793-9165A467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B98-373D-4913-BCE0-A9ACFD2D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386BD-3FCF-411C-A328-FED704B0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DF857-1FF6-47E6-9A04-F2D11B7F2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536FF-DB13-46BC-8A25-69D7D77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85418-2A40-4702-B961-0B6FEECD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C54D-B555-4684-BEA1-5581CA7D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59FA8-25CA-4BB8-80F4-E8043285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7CE4-8BAA-4764-BF5E-480E170A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2A2B0-91D7-4AA8-8FA1-CE16413D1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0493-305E-464F-9B2B-C77CBA67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A18CD-69CF-426C-9126-537C8F96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BE18-B803-4A82-B192-F00E22408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1056C-98B1-4F2E-900E-7407DE84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9E4E-65D0-4AD9-8EBF-5E025CBB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AE674-1EE2-4095-9455-6FFB92D8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41715-7B36-4B6F-BEB8-21B03DDD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64C1-2F9E-421F-9611-F40FC974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EC5ED-7254-422C-A52E-ABCA5CDD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63DF3-A589-4A2F-9A9A-14EB2883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4805D-47CC-4B2D-815C-B113FF62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3C5F8-25FA-4F1E-A8F1-A61B5B4A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64A42-CE5A-46FB-AAC3-27AC7D0A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6825-8981-4BEC-ABD8-F4FC34F9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1FADD-8C5D-42E3-AF2A-A5866F54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49241-F640-4BB4-94E2-5C0E0F42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9D476-2AA1-48BF-B93D-2CF54A93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90B95-84E1-4B11-8D76-823F3A30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6C45A-DB3E-4414-97BE-63586FD1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9F596-C37B-4B2A-BA46-C944DF07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A33F9-BA1E-4B77-9550-DC1423F7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C0666-5C20-4342-9D83-6AEDCD52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92CD8-D185-46C4-959D-D8F34EDA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50125-DB71-4996-9DDF-BE11A388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247-C26F-4F84-9D9F-FF6E2015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CD605-6E11-4F11-AEA1-72652FDA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85915-F2B2-49D1-BB7B-5545FDDC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699A1-14B7-4C29-9CA3-3E726DE3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99281-03B8-4F91-A394-F2E5FFAA2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5F056-71CF-429F-821B-AD3E864B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EFED1-31DF-4415-9CA9-F399FACA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BF895-0804-4A3D-B021-70B8CE95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44FB6-BD9F-43C2-BD14-AA7E2D59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49CBB-D238-4321-A74B-7844F3C7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882D5-F1DA-45CD-831D-8F8E2F28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CE5D-6E2C-4540-BCE5-390B9F90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DA375-FC45-438B-AABF-A47D2E10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29144-A436-4496-BAED-E5C50CB5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04E23-9631-4365-A30F-5B8D7CE1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CA6D5-21C9-49D2-9556-9675A380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F239D-6002-49C1-9527-94559D2E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487D0-267B-4388-B662-D5815B08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42DFB-BCCB-4BAB-9C6E-3C0EEBD3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B9966-965F-48E9-9A7B-25FE0341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171B3-F7AD-4D1C-835C-52363978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83AFF-8565-4777-8EA5-5060F8CF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B1CF-21EA-4BE9-8F87-6BD362A9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9002A-1172-49BF-ACFF-F74E4624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A87E8-DDB1-4390-87A8-627D6BBC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AA164-EE08-4E0D-93F8-E14967B6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F6E0E-ABE1-4516-96B6-DD81F868C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9862A-A43F-42BF-B932-D9A00B09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9A4F1-201F-4C9A-A8EE-A941CDBD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40CF2-3351-45E4-A861-1281C550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FDBCD-C782-4E45-ACB4-86AD5ABD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8371C-AB12-46FD-B33A-D307D133F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BC868-92B9-44BF-973C-54BA334A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8BE4-0B22-4153-8AE8-E48E2EC9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B03BF-A276-40D7-B31F-03ED2283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A2876-4134-4759-A461-6A654117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FAC65-7950-4A69-BC45-6DB41574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694D-5928-40FE-AD43-4032176E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2BE27-D78E-49BD-A4E1-2C6E2BE3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39EAC-5618-4BE2-9CF5-9EC230AD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3E101-EE26-4E46-BB19-A72F8D64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126DB-A661-40BA-A553-D22F1430D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1005D2-DDBD-45F4-96A4-40DE6245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FE47A-E350-4964-A13C-1E3D6D58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D459-BAF8-4CAF-9B98-43EDA73BE149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6561-6047-49B8-9890-AA62F09E5DC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698D-38E3-48B8-AC98-329FD50EBC9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3C31-5637-479E-BAF0-A28FF9F5A4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B6FC-73A8-4F95-967C-B8D00AD4A6A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E14D-560B-430F-B652-B10198FFAD2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26A4-8C5A-4539-BA45-ACED4C8A6C8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CEA3-D7F3-4F56-B6A6-06AF26B7E16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7F34-1693-4AEA-81A4-17AC4C50412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9CBC-72F0-4594-9AE4-D02501F9CFA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3118-9C93-48E1-8AD2-914E803BC461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2457-FB9F-4361-8A0A-FED1B9CFFBF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8590-4170-4E2F-B6CF-56D6EFF81EC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7C04-06D6-4703-ACCF-C7B484621C9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F28B-39F4-405F-838D-FCE8EBA8065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B86A-2322-4A77-9644-50C851D1E99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9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1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retailers →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wholesalers → directly to end-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 – channels of distribu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ultiple store group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ducer → marker → wholesalers → retailers → end-us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ys how customers can learn about the produc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olves packiging, presentation of the product, image, brand name, advertising, slogans, brochures, literature, price lists, after-sales service, training, trade fairs, trade exhibitions and public rel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mo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nique selling proposi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atures and benefits must make it unlike any other product in the mark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4 P → 4 C  approa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duct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tomer va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ice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st to the Custom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ace       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ven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omotion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→ 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mmunicatio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WOT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rength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ak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reate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definice pojmu marketing, vysvětluje jednotlivé části marketingového mixu a SWOT analýz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arketing, marketing mix, product, place, price, promotion, SWOT analys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marketing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ocess through which goods and services move from concept to the customer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act or process of selling and buying in a mark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have to produce what customers want not what we want to produ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have customers focused approa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carry marketing resear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e must produce and supply exactly what customers w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arketing mix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766120" y="2693520"/>
              <a:ext cx="734760" cy="296856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4776480" y="3683160"/>
              <a:ext cx="734760" cy="98928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H="1" flipV="1" rot="5400000">
              <a:off x="3787560" y="3683160"/>
              <a:ext cx="734760" cy="99000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2797920" y="2693520"/>
              <a:ext cx="734760" cy="29689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2"/>
            <p:cNvSpPr/>
            <p:nvPr/>
          </p:nvSpPr>
          <p:spPr>
            <a:xfrm>
              <a:off x="3801600" y="234324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600" spc="-1" strike="noStrike">
                  <a:solidFill>
                    <a:srgbClr val="003366"/>
                  </a:solidFill>
                  <a:latin typeface="Arial"/>
                </a:rPr>
                <a:t>4 Ps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3"/>
            <p:cNvSpPr/>
            <p:nvPr/>
          </p:nvSpPr>
          <p:spPr>
            <a:xfrm>
              <a:off x="8334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DUC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4"/>
            <p:cNvSpPr/>
            <p:nvPr/>
          </p:nvSpPr>
          <p:spPr>
            <a:xfrm>
              <a:off x="281196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I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5"/>
            <p:cNvSpPr/>
            <p:nvPr/>
          </p:nvSpPr>
          <p:spPr>
            <a:xfrm>
              <a:off x="479088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LA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6"/>
            <p:cNvSpPr/>
            <p:nvPr/>
          </p:nvSpPr>
          <p:spPr>
            <a:xfrm>
              <a:off x="6769800" y="4545720"/>
              <a:ext cx="1695960" cy="14680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PROMOTION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oduc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goods or service you are marke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age, design, quality, reliability, features and benef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st be presented and packaged attractiv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products must replace unattractive 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3366"/>
                </a:solidFill>
                <a:uFillTx/>
                <a:latin typeface="Arial"/>
              </a:rPr>
              <a:t>Should include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value of the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qual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customer´s ability to buy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ces of compet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la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re and how the product will be s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ays of distribu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vailability of the distribution ne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upplying and trans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9:57Z</dcterms:modified>
  <cp:revision>28</cp:revision>
  <dc:subject/>
  <dc:title>BUSINESS ENGLISH</dc:title>
</cp:coreProperties>
</file>