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197F-61D5-4193-BCB7-6A289794BFC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4DA2-DA4E-44DB-9FF8-09DF17C6FDE2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4602-F5D2-4171-B91A-C990242C87B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0DB95-E860-4B1B-9FC9-AE297B0D97F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9A56-9B90-4558-8D48-87E292A15FB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3B50-6A19-4A33-B6CE-A644F2CD4FA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97AC-919E-4946-B715-13D9C266483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6CBE-415E-46F7-B2D2-14F3391FAE2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1ED9-49E2-4EB6-B44A-6FD164E959E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A975-7299-4398-B379-B89D8A059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5FD4-7510-4CF5-A936-74B2174F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B0FEA-4790-4A0E-8026-EF2A0D4B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05ACB-8940-4971-BB18-688DB42B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7A624-B531-461A-8A9B-B11B7D17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04E96-3EE7-4F07-A32D-F121281C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EB05FE-7E48-4E5B-A5CE-564CBC67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94DFA-4BB2-4EF0-A84E-99484BE2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19177-8F48-4CB1-B7D4-D37ACC72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939FFE-B626-43B4-A087-4AE6F9EC7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C6B67-352A-41F6-87E2-3551FF91E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0D73D-9C58-482F-AACB-0CFBDF3DF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6D57-7D81-4831-98AA-878FDD94B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3FD11-A799-4793-9D80-75F6F2A9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E5E31-1910-40DF-9C66-CFA88C1F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DBC667-FEBE-4337-8EE2-D1CD92825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F9C698-3A1F-4D29-AAAC-97722E9B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10E98-CAD7-482A-A7A9-4CD08A5F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7589B2-5DAE-4BBF-A052-7D61E0929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78D3B5-D9A3-4885-ACC2-48826345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8EAD4-80E4-47B0-BAAE-702FD9BF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430BD-FB21-4A80-BCD7-2CFC3CE9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00673-F1E8-4B69-B273-C5B451A97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576D-2F6B-4A38-AC89-545FA6DB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CD1C7-9B8F-4EF9-8E94-12BF8ABE0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29443-BEF6-471A-8CA9-E85287738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4137D-82DC-4551-8038-1C37BDB6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EB432-327D-4D04-B97D-DA40C899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98F4E-1518-4522-B14D-DE33E0C6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342B9-4AD4-4865-9C42-6FE1697F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5B5D30-F1CC-45A8-B849-4D88881A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3CA76-40C3-482D-A09C-E405525B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301D03-6C58-4ECB-BBB6-703AB72F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D31B11-AD91-4835-81A0-D09B561A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5714-7385-40E2-BFF2-D5561182C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FC6DF-F4BE-435A-AB87-743385A5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952FAF-19D7-4A62-B2BF-3C1CADD24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12C7E-5F2E-45C9-86B7-83C3FD7BB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09E8D0-6975-4D09-8376-E7C3985C0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A201C-4B46-4D81-A974-2FEC8D11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41B971-597C-4286-93C6-BAF4C050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BD3AF-7280-4E11-8326-F4F2DCB9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A18840-2408-40D0-AAB2-D917DAAF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4D1FA-849F-4DB1-9003-3C8E052F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A6E856-E917-4694-9E95-D0E8F91D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D182-C95D-42A1-9290-19B78CCE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AE026-3D8C-4EF7-8E44-117878E2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C3A72-DF54-48D8-A688-FF01890D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97EA4B-B657-4CFC-85E2-803AE529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5E6D5-6735-4476-ABB8-ED9F3B5C9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05048D-5787-4D42-99B6-82E834FCF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D7E454-5627-48DF-A048-029BA27A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A3EEAF-4633-4EC7-8BAA-FBC7D6E3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5F647A-0D75-4C24-8059-074F56F6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23CCFA-3056-4DF7-8E53-BCF96427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D67AB0-A74B-47AD-B097-4A23DE30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6CD0-4071-4859-89C2-B97FA717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A360B5-5196-4365-A507-4FCCE0FB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D3EB9D-E48E-4C54-9E46-57BBF4C6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08A324-2ABE-4735-8703-28E7E6E5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E92F3B-59C6-429A-9DFB-3767B0EB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26EC63-8045-4CD9-B3BF-A2E7EAE9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4CA6AF-887C-4D49-A075-D18B3DE65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46CE6A-827E-45FF-BB71-176D4A671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3DEA4F-FE75-48F0-871F-6BC73F7A5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DCB1A1-99DD-43A0-846B-F999C75C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FA41E8-CB1B-4172-AE27-A14FA72FC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DB04-F431-49A2-A514-EDFC665F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1C4177-CB16-4C8A-8777-9E46E495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FCE10B-1C59-42DF-A7A2-696C160F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C4EA7A-EEED-4E79-B803-658AEE08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B2ACCB-E167-4FD1-92A3-F2F972CF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E00C5E-910B-4359-BB12-6A495294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FF8FA2-059B-4676-A7A9-D885C5AE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3DA834-796D-41EC-841C-3236355D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4D8777-AE55-4D81-861E-8FD2C917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D247D7-2056-451B-B2E5-6AA52FF49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06990F-BA91-4047-AAFD-735B73AC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FC88-F3F6-44EA-9A14-4975161F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AC58B4-2D45-43CF-AD6A-407DAA6E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74C7A7-2099-45D5-B7CD-C916DC3D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933E18-9D8C-4B43-B145-AE2563E3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362550-366B-4E7D-A78F-FFA08F09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5528AD-A218-43BF-9DA0-C7E936FB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D62CC8-0744-4823-9DE6-883B8E3F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09E960-07B7-4A03-9988-F136A217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38DEE1-70AD-4830-8B31-AB2FD4B93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EA588B-C661-4155-B82E-6EF87FD3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581CE1-D766-48FA-9DC5-E406E359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3969-815A-4584-ADBC-3A162B01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C6901E-AFB5-4617-9410-C631586E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D2D837-8C46-468D-93A9-CFF5B15A4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F5C494-A731-4B03-A629-861C3679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0C7297-F79E-4845-8DF1-2AA6725F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0DDDC0-E135-4BDC-B814-E95EF7ED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A63651-A226-499B-AEDF-0862CEFD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13EE26-83E7-43E1-98EA-B8220647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4E97B7-76D6-4510-B4FA-BFF11467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CF0BDE-D09D-4F5B-B957-B8C61B3C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4A43BB-B5EF-4261-A502-ACD30886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9B6D-FE23-4AA8-8994-CA8F5F44E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C1F8D7-8248-4E1C-8DF9-19965ACC0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57D432-B2F5-4B73-8BF3-C99D95E0D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67FECB-08BD-466F-970B-A1925103B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B784-49E8-4C89-8AA3-A15C09A87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A935-0057-4A92-8F7A-48890FEC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4AF5-ECBC-43B7-8D94-3521D952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5968-13A3-470A-84B3-7802EB61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674FF-3B94-42AC-B555-94FC9F4DB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77B4-F0EA-4A3A-B75F-C93FF3E9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43D88-CC8B-40DF-933E-06C5FD4B8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FB1CA-8E2E-4792-B38B-5E8FDD4B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6F3BD-369D-4DD3-AB25-C4449C23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DD7BC-98B0-4FDA-BB6E-1684CF27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4AC23-2F3B-43FA-BC6E-DB2EF868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C64E-C05D-4ADD-A591-F8469F66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256E3-C794-473A-ABA8-64752D1C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6862D-3056-4533-B621-BB524DF6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F1965-49EF-4BEA-8276-E6D40C41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E0027-EFF2-41B4-921B-ACFAC15F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CB85B-563F-491F-A659-0F4AC4737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58DB2-D63F-4DD4-8BD2-3D48FCEB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6DB1F-284B-4A2A-A5C8-F7BCEE972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E3723-5D7B-401E-B184-D7EAFA2E0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39C0B-1C5F-417A-8584-CF59F03D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BFBB1-0FFE-46A0-AC79-84216BF3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650F-3329-4C85-B4EB-50BEF72AD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CAF40-305F-4F2F-A603-C85EE71B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D17F2-E99D-4097-9854-2C0DC1F3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BD7CC-7716-47E5-BE36-A7744BBF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D5162-B25C-4FB3-A876-1B6DC556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B903D-2DFC-4CC3-8911-24F2DF20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A76F7-2AA9-4C2A-8B75-31AF2341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FAC30-111A-43B7-9788-C2286EA8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23F9E-F716-45FF-8706-CEA01C426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5CF09-D97F-4EE0-8FD7-134C8226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DEC6E-FF01-4990-9884-41C2BF070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D693-B0AA-4C74-BE88-64B2F3F0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617E7-C25D-4883-AA0D-ABFE0BF7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49ABB-1F7A-431E-981C-8F956DC1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FC22B-E10B-4CA6-BD39-2111B1AE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85845-DC63-4D98-9DD3-DCB59847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6A66A-7F7B-45F5-83BD-C25D9CFD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EE7E3-1A82-4F9C-8901-98A4607F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7FDD4-B303-4D74-B400-232B584B3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8F98F-8572-42BE-8884-CC74B9FD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4DBAE-0781-405E-AFAD-19EB5201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4F238-8947-416F-8976-2CF4D1B2F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ADBB-8DFE-4444-9C10-658668E3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AA31D-4470-4ECE-BF92-EE47AC268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95D156-CA8D-43D0-B946-3BD2D69C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80D699-2D50-4C13-811D-97C68B2D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5C517-C50A-40FB-9774-5F64F797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B8646-C729-4AF8-8CEB-8470AF48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6F8D7-15FA-46A8-8B39-3C4207D1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E3AAA-DEA7-4B9A-AF07-D6EE2696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4F54C-AFD2-4E5F-906F-6968C87C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092AE-B7D1-42C0-A30A-1D9B98A8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2C466-D257-4CC0-9944-B83E24F4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FCD3-1BFC-4B0D-A7C3-BF2F1E1D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D7CC4-3D5A-4AFE-8615-BF5388C5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2C09B-17EB-4B2D-B897-DF73FB4A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43CBB-B364-4FF4-8799-4762A2515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2416F-D25B-450A-9D8E-B72A751BD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4845DC-D447-4EDF-86C2-8FC193F8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98609-8835-4478-8214-7D1FB219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83909-10A8-4508-9673-3765DCFA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3FF6C-B846-42A4-A7D2-7206DC41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19CE0-A9E8-4A6C-A0A8-9B14E671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09393-F8FD-4586-933F-E894F32B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9E07-2E05-4FE9-B34C-A60B63D4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725D9-BC35-443D-9138-25EFF8A5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C5D11-C551-41E2-A867-656B2167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F2C04-32B3-4E30-9F7F-18835C43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5CEBA-4854-4C7D-B53F-CD3A9789D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85735-B1BF-474B-A5FE-EED76FBA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8EDF6-5E6C-4AA6-ABE8-37CCDF346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FB67D-3461-4103-BED7-0C52B84A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C2029-1AFC-44A6-82A0-C3B4EAB3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12500-95FE-4D43-B36D-FAA1991B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B4F01-68E7-4347-9FEF-364FDCB9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BAF9-4F34-4E47-A2FD-BAD54F94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F69AB-DCE2-4416-84AA-9DAB68B5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93421-CD79-4F5E-B48E-622F4915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0B884-3310-4823-AAAE-0B7CBD5D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179F2-641B-45D6-A374-ED38A595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B46FE-526C-48DB-B8F5-E546E762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752F3-C264-436D-9382-5F6D8FC9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C232D-D292-4288-8829-20C7D3DFF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D82BE4-D066-4878-BA2F-BECDD515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F44342-1A60-4A89-BABC-9BE23D86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79E1B-B391-4BDB-9AEA-EB91D7FE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CCC6-9590-4084-9BC4-6CC6B5C60BE8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8789-4783-42EC-80FD-B9EEE718D46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B882-B231-41E7-9C10-0F228B20D29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EFA7-9329-457E-99A5-63FAC54E229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33D2-98B7-4D6A-BA0E-FC44BE06950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2E50-A90D-424C-BF8D-4C053193888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EF02-759C-4681-A76C-6CFB96845FE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7629-7FE8-4265-8CA0-6D20DEFAC53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E80F-9F64-44DE-BE07-1D592D30C29E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F76F-5063-48A5-8871-FDAC014A659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217D-44B7-4847-BB39-A7170C2A5247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42CB-0102-4B2B-BC30-1C53E8C3B4D6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81AA-9199-4593-AD72-6010F00D021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49E37-F730-4E69-854F-387A91AFEEA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2B18-BE45-4E6D-B2E7-8DB9188E4F5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7EB0-7FAB-4FD6-A619-7F5C9DE904B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9.12.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interne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earching for information, pictures, videos, new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ending and receiving e-mai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hatting with other people via messenger, skype, icq and other ways of communic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uying goods or flight ticke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e interne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ooking hotel accommodation, sport or culture ticke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nternet bank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resentation of a fir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ersonal present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73" name="Obrázek 1" descr=""/>
          <p:cNvPicPr/>
          <p:nvPr/>
        </p:nvPicPr>
        <p:blipFill>
          <a:blip r:embed="rId1"/>
          <a:stretch/>
        </p:blipFill>
        <p:spPr>
          <a:xfrm>
            <a:off x="5724360" y="3716280"/>
            <a:ext cx="26197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-mai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Head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Greet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ody of an emai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losing lin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76" name="Obrázek 1" descr=""/>
          <p:cNvPicPr/>
          <p:nvPr/>
        </p:nvPicPr>
        <p:blipFill>
          <a:blip r:embed="rId1"/>
          <a:stretch/>
        </p:blipFill>
        <p:spPr>
          <a:xfrm>
            <a:off x="4859280" y="2924280"/>
            <a:ext cx="3791160" cy="22334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-mai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3366"/>
                </a:solidFill>
                <a:uFillTx/>
                <a:latin typeface="Arial"/>
              </a:rPr>
              <a:t>should b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PLET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NCIS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URTEOU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RREC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79" name="Obrázek 2" descr=""/>
          <p:cNvPicPr/>
          <p:nvPr/>
        </p:nvPicPr>
        <p:blipFill>
          <a:blip r:embed="rId1"/>
          <a:stretch/>
        </p:blipFill>
        <p:spPr>
          <a:xfrm>
            <a:off x="5940360" y="3411360"/>
            <a:ext cx="224784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1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Telephone, fax, interne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způsoby firemní komunikace prostřednictvím emailů, telefonních hovorů apod. a představuje základní fráze pro komunikaci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Telephone, fax, internet, telephone call, email, communication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43280" y="33573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TELEPHONE, FAX, INTER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6666"/>
                </a:solidFill>
                <a:latin typeface="Arial"/>
              </a:rPr>
              <a:t>Telephone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757" name="Diagram 2" descr=""/>
          <p:cNvPicPr/>
          <p:nvPr/>
        </p:nvPicPr>
        <p:blipFill>
          <a:blip r:embed="rId1"/>
          <a:stretch/>
        </p:blipFill>
        <p:spPr>
          <a:xfrm>
            <a:off x="841320" y="2352600"/>
            <a:ext cx="768672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ood ideas for telephon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  <a:ea typeface="Times New Roman"/>
              </a:rPr>
              <a:t>Make sure you know the name of the person you are talking to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Make some notes in adva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Repeat any important inform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nfirm the main poi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ound interested, helpful and aler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eginning of a phone ca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Good morning, this is .... speaking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an I speak to Mr.Smith, please“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 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´d like to .......... please“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Good afternoon, this is .... from Whitefridges company, can I talk to someone from your  customer service, please“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ossible answ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es, of course, I will put you through“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´m afraid he is not in at the moment, could you call later, please“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´m afraid he is away, would you like to leave a message“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´m afraid he is busy at the moment, would you like me to.....“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eaving a mess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uld you tell him I called, please“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 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uld you please ask him to call me back? My extension is 231. He can reach me there until seven o´clock“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uld you take a message, please“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´ll try to call later again“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….. 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 telephone receiv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 dialing ton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n engaged ton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 transferred charge cal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n international cod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 hook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68" name="Obrázek 1" descr=""/>
          <p:cNvPicPr/>
          <p:nvPr/>
        </p:nvPicPr>
        <p:blipFill>
          <a:blip r:embed="rId1"/>
          <a:stretch/>
        </p:blipFill>
        <p:spPr>
          <a:xfrm>
            <a:off x="6156360" y="32130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11:18Z</dcterms:modified>
  <cp:revision>23</cp:revision>
  <dc:subject/>
  <dc:title>BUSINESS ENGLISH</dc:title>
</cp:coreProperties>
</file>