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EB5F-AF51-4870-B047-ABF1BA0933A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B0A0-B4A1-4C23-B528-C24DBA52E89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EAF-D9FF-4D62-B4E4-24AAAAB05DA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D4DD-6795-48FC-BDCD-ADE4E5F299A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E4A0-05F1-4CF0-961B-08A6562EC18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6EF2-EA74-45D6-98BC-C393469362C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79AC-54C9-47E7-BA6E-509B559C331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145C-6599-4060-BA4E-62FB2BB6CF6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11EC-C09F-495C-93AA-8E029C1D84FB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924-BE61-404C-B5CE-A7236B73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75C0-003F-43D1-878A-FE0734F2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29745-B3A7-454A-A62C-27DE10B16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F67B0-1886-42FA-9D51-6743692B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D488E-24F5-4BB6-A0CC-1A547E20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07DCF-A3A1-4010-AF28-77F85DE4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5B711-0500-4695-89CE-6B5C466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2148F-4874-494D-9E98-C5B98846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FBB66-3262-4F7E-A1EF-D0D801954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7EFC5-A905-45F2-9954-317CE236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79C12B-B63A-45D1-BC0D-5F42DEB4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78406-D718-49DD-8FBE-299E6000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5C0-3AE1-4EDE-9F62-FBC691B7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7D183-2ED9-4DD8-B2A6-26A459B4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6512A1-4AF6-4C95-BBF6-C91E73B39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71665-B723-4B6B-8EDE-96C8B3E4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E6A49A-3067-4E6D-A98C-BAAAEBBE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66B62A-5434-4AB2-BE36-D42E003F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BCF0E3-7FA8-47E8-B1F0-36F63191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AB219-E816-4E85-B5A7-96F470CB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20870-6797-42C6-B466-61394542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74FD68-C17A-4879-BC56-76EB55D5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41C9D-9B62-4222-9978-9CA4282A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A792-6847-4D92-A4D2-926536EA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60209-0104-43FF-B162-44DA0D1EC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51C19C-6374-4A5E-8692-452AA1A4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67336-6EF8-4FA8-9542-9BA7BAC3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9AF77-D1B4-4FE6-A2B6-F903CB70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3BF1D-FBDC-47B3-994F-61716E6A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B7DD1-E3FE-4669-84B7-2B53A2C8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1A95F-1354-4604-AE06-06C398F1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B9EA-7A75-4844-83CA-DAFE11A0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3EA8E-AB7F-4566-B742-E7BC7059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1C22C-69ED-4110-9B35-3A27FE6D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9853-D1E6-4091-920B-EE3EDB2B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3D547-E111-4169-A985-707B9462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87480-B4AE-4BEB-BF12-95082F95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1D29-1CC8-4D7B-BCEF-187414BBB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40AC58-B582-4F19-A89F-0A82DF0C9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5D58A-9A00-4AB1-97B6-F7378C88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D9E7B6-A558-4130-844D-A869F482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5FE441-BB4B-4D86-A54B-CFE53F86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499D6-05A3-416A-8ABF-67841AE7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4B7F5-8B13-4878-BFC2-0EB72B8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CC1CB-87CC-49BF-B5DE-651756A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E857A-C6E9-47B5-8D7B-C180FD95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0CA9E-E729-4E47-AF2A-02616550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80B31-0584-4775-ACFA-B52A3EAA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F35D4-1EDA-4B87-9698-BDBBCFF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A92AC-275D-4AF6-A900-C6DC7DEF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D773F4-3AF9-4407-AC04-74B988F45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DBC30-6F0D-4F61-B595-08A38B24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F9ACC1-F4A1-43EF-9B28-27ABBB6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D8D9E-5E0C-4190-9059-D1EF0B8E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EA785-185B-43DB-9A77-65D9838E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2E2DDD-7C74-4655-A89F-26657F34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9DCC-8F1E-4455-9D77-F13B47B04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41B738-FC58-4CE1-8543-A3156E9A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72999-2025-4F78-98E5-CD5D8AFF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B6004E-633C-4BF7-8FFD-4EA78280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724EDD-7E2C-4B67-99E2-1ADE3D79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AC2413-11A8-4842-A26A-F91445FB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31AB43-7D6D-4EA6-9D99-C3940A5F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ADB07-0F71-401C-B3E7-45CCC999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794F3D-5541-4A4B-BDED-97A6AEEE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93FE99-E67E-44FD-9845-671C5571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A79BCB-573D-487E-BFEB-DFB2FE29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0E3F-16AD-4B51-A6AD-51978AB1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66664D-B3C6-47F1-8C45-D21E3D48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4C4A30-7EE3-41DA-8C26-1555BF80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6FE8AB-2AD8-46C6-9F2F-D22DE50C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31CC28-C603-41FF-8FA4-9A92C53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339175-BBA8-4B27-8DCE-89DE4BCC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9BDED-91E2-48AA-9B85-E94C10B2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367B9F-F5B5-47E1-A160-2E1BB6F4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5B4B93-E5D6-40B2-8FA1-DE8A9B7BA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409DF4-6757-43AC-ACAB-87E3AC0F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F5195-83C3-4707-A076-83031DDC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DB43-DCF2-4C9F-826D-9F1CD285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8B30A6-21B6-46FD-8B34-475A92D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6A859A-93C7-49B1-AC2A-1D86C408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52581-70C1-4F9D-98F5-A6766511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D40F5-FE64-4950-984B-095CD70D7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708C1-B625-4AB8-92A1-C9BD8F39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D03457-7D57-4C88-A52D-5CB12831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556105-E2A0-4402-B695-70FB33BD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8357B2-33B3-46DB-B427-C839D154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7507F5-0EA8-4C4A-9D12-51B33253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C92965-8182-40EA-9687-8723F21A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588-C2CF-4939-B2F0-122986CC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57377-22A4-48D3-8F81-EB4330696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631EC-5C4F-42E0-8303-65A08EF9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9CACE-F125-421E-8D0F-5E7951D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B0E3B7-C7EF-472A-BC65-BD6270B9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F25C4A-39B6-4054-B07B-EA229E1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196DC-EF54-4EC1-BF57-490FEE8B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EB72F3-12E4-4174-A21F-9149EC9F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FC99C1-F6AE-43B1-9E01-B9A31A66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E8C33-909D-41C0-A5D2-A129B0CC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E0A72F-7D1C-4700-9407-F321CEF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BD9C-FAD3-43B4-ACD8-E34FDE4F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FB43D7-E80E-4DF9-9335-440AF962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E3066-EF37-4CDC-A553-995CD5A6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7B290-BC98-4AF4-B991-4954C1C7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892-85DF-4F24-B631-4B37ED56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13803-99EB-4DD2-8846-AF968C61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BE192-9F86-4CC2-A138-9E2BD67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8F80-A980-4911-B37E-4712A847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7A7F-4DF5-4876-93F2-8362D88A0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2547-2F8A-46D3-948A-76F3BBAA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499A9-8FDA-476E-8B54-0CDC0149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81F35-7158-4ACA-90F9-29CB2C35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B672-DF5C-414D-8CD5-7D14AB98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9D49-BEDE-46A3-A271-9CE6654A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FACD-1FF5-41BD-92C2-1169A175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88F5-FB8B-4C9A-81AA-ABFA18FB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55BE6-0BF8-4978-A0BF-C37288AC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59E9-5388-413F-880F-8FA060D6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33B5A-40F7-4AEB-895B-14B7615A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0C2EC-D73B-424E-973E-07754E4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3FF79-28BC-419A-BAB8-30D6AE27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1C7AC-3758-47FB-BCBA-B45D24F5A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F756-61BE-4B10-A7A6-5B1D57AD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5AEA-8E4F-4AD6-9015-C52512A98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CF4F5-3871-4447-9250-8755351C5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021B5-30C0-47AD-8B6C-962795EB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433-F1F6-404E-9247-28E837CE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70F7F-1A4A-471F-9826-5AA026E6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8A654-44AF-4912-B50F-7333CC14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812F-0171-420B-8F89-D30BB9C6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E0AEF-2EFA-4D88-8B97-B4BCD2F7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84D74-6446-48CD-86F3-796198F6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B52A3-5EF4-449E-A656-90E9F937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BF219-F286-4397-A3C0-8D69C40D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C08F-6139-4D0C-9823-A0F005D5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CAA76-DEC0-4917-AD27-3C6B6C01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B4B30-C76E-44D5-AC4F-803DF491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0C7-3251-40C3-BD4A-7C59FFF6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EB215-FAEB-4F3E-B521-DC9A3006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771AE-246B-4E25-BBDF-C3C9B535B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1950-E695-40DD-8302-A4B3D26F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D68B4-36B5-4DE6-9B52-1A8B4EAC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F96F0-ED37-4E16-851E-226C0666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51CEB-527C-4679-8B0D-AF18FEB5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8C241-4031-41C1-81F8-3819C9FB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16460-6F7E-4183-B361-E3D0E370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3D6C-9D45-4937-B325-3BAACBD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8DF8-2989-4DF9-996C-32D7F04E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B08-A868-41FD-8365-06AF973D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61F99-B58C-4518-937C-4B2B90F0C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1BEF5-4942-4B81-965F-78A0081F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461FC-9B44-4F7F-9E4A-ECAFAAF99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CB1AF-7706-43D9-B36F-240A92B2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DFEB-47C6-4A22-9CC5-F3088F14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8BB7B-9CF8-431F-9CF1-4E725699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0CA5B-7ACC-46E3-9514-B94E82B3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D8CBE-F4D4-45B1-91BC-2D9417E7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1066A7-EAF2-42C1-B20E-8D4E671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8633-AB50-4436-BEAC-8FE4A417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0BB1-42AC-4C26-A68A-63FCE269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B186C-7756-41E2-99C8-FDFB2581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3958F-C80C-4F03-8150-1983E541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E3C4B-16A9-4E1D-A228-6CFEDBF7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68962-FB5A-4250-AE15-FB70142D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D6240-65F8-41D3-9E3A-602573B8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33A6D-DF45-48FB-938D-D52B286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1CFAA-31E5-4AB0-BAFE-02BD8545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C3F58-0134-4785-AF9E-BE74F3E2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C2A1A-A854-4585-8A59-76C68118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FA1F4-2B05-434A-A574-AE43C9D8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99CC-E48C-4E3B-8BEA-7A56F9D8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3FD29-B2CB-477A-AF2E-2C2E4478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E01FA-0455-4F38-9FDF-8EA6C23F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BF135-920D-4584-AF12-B8A6535F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95C7B-E4FB-410F-B86F-3499D8DF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15379-1862-4E04-80CD-D4F19E165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DCB47-6CE7-46A7-A050-E84CAC9F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A93B0B-C0DA-4530-B7AD-D1FD4061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AD4BD-2ACD-49A5-ABC2-D2E16636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6DFB4-CA76-46DC-BD60-510C4AA5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6E7ED-EC4B-454F-B043-21C82F6F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ADF-260F-430E-B786-848E4705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8555B-308C-41EC-8DBE-4742FFE4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2C96B-F880-4D0F-A16E-6D529A2A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F05FB-9B00-4252-AB35-437A593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18CC3-1395-4789-83A9-9F1DDFBE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BBACDA-BA6C-4E7D-AD81-BD71164F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7FCA8-B4A4-40F3-9073-351CC1FD8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7FE3A-FED3-4C21-A5F6-845CDB98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83FC67-8D73-4F14-AF25-BF1B14FC2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3FB33-0833-49C5-A749-ADA44B3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83380F-EAF2-4992-BA0E-A61CF8D3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A9CF-D083-41BA-8E7D-FC5DC1A144B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B72A-44D7-425D-960B-D1E371D919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3394-9009-4750-B2CD-0536A00FC9D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A2CA-9878-412E-9124-B82018E8C4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78E8-F617-4BF1-96E9-B64B1A3861C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97AA0-F3E1-4131-BFDE-F641F2F60E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3321-65FA-4B96-A838-FADFA9F9E58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BD17-C080-4594-96FA-FCE5A5E1046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E53-C82D-47E4-9FC7-EA093E76351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BC61-AB3A-4D9B-8AB4-99DD3690B2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06CB-793C-478A-B2DE-3D2F8B8C4BB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5546-D87F-4977-AEF9-A2FC08DAA63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09A6-CA65-4619-A46E-7584953027D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0AD-6EB7-48D7-957F-548E2707B38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140F-0EF7-4127-9349-D1D71EB666D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884F-6523-4528-BB35-36BDC4C7EC4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6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20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 -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requency of sending your bank state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 / 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„overdraft“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verdraft = withdrawals from a bank account exceeds the available balance which gives the account a negative balan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Úč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typy účtů, základní rozdíly mezi nimi, pravidla při otevření a uzavření účtu a zavádí další pojmy bankovní angličtiny spojené s tématem účt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open an account, current account, deposit account, giro account, FC accoun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11240" y="76320"/>
            <a:ext cx="5321520" cy="131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ACCOU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iro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C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urren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anding ord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irect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via debit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 fees or even no fees for running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must keep a certain minimum average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osit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uch higher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rate is fixed for a fixed length of ti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f you withdraw money you lose the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renewed a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Giro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ype of current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ot very high intere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aries are transferred from your compan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to pay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nt, gas, water and electricity bil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C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current or time depos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major convertible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is usually paid transferred into F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lient can ask for euroche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PENING AN ACCOUN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need your ID and you have to fill in a for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some personal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a specimen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agree on the conditions of running your account and th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39Z</dcterms:modified>
  <cp:revision>14</cp:revision>
  <dc:subject/>
  <dc:title>BUSINESS ENGLISH</dc:title>
</cp:coreProperties>
</file>