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5452-1DFA-462A-A914-0E95FAC2204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D7CD-44DB-4DBD-A5A0-10BE9798BC1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38AE-E1F1-4FFF-AB76-7BC50056753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B1C0-0CA9-40B6-94F7-5AADF753938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189D-326C-4D7F-832E-1A148E6B212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5882-432A-4097-A10A-202690317BA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45B3-E9F0-4C59-A00F-EC725EF586F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D956-65F9-4BB6-9D65-B74D621E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2CAD-F8AA-40EC-8D84-47BEB683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5C8-F483-4227-87EB-3F64F6E2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AB18-AC59-4AB5-A2C5-6AF9F267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F90D-EC8B-422F-8873-61DCD44B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86F4-E60F-4670-8C1F-5B3CC0D4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921E-280E-484E-9140-2D0CE2EC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90F1-723D-4968-8F06-4B4E9479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61F4-48F9-4EB7-B5BA-5EDE98AA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0EE2-E57E-4526-9F1C-DC6F52EA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FE78-8596-43FB-9BD2-8447E163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84C-8D41-45DB-8168-963E341E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2657-F41B-4532-A0E7-5CAB5654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6108-7ACE-4105-AAAE-AB4167BB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8AAC-1B1A-4EF8-B7A2-8CB1BEB7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3619-6D76-41AE-A6F3-437811F7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2BB0-814F-4332-A299-45521D2E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0EF55-A4FB-43D3-AEE0-89890B22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785F5-FDDE-4030-A250-D6BC50E8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97442-2739-4B2D-9C70-F754B7DE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8C644-0459-4AE8-8071-764276CE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127B9-EBBB-44CF-99CB-69930399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2E3D-D8EE-4B0E-BF39-50D5BBDE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FD393-1C8F-484A-95B2-60671990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5C707-3FE7-4604-9FBD-8A57E7ED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D9029-126E-4CD6-B689-182FFA9B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A70C2-EEC0-4DF8-8F63-F1A43932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5D518-2926-4387-82A4-6EC0D080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CF7AC-F3F8-49FC-AF07-57D8FDDE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409D-9405-4DB4-BD36-5F6F17DC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E2AC9-C932-4334-8C07-3F9081EF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4C766-9EAF-414C-8293-28F80342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F56E2-A46F-43AD-B75B-A5571569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169B-C2C0-4405-9BF6-163EECDF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F0433-1573-4ED0-83DB-257EEC3C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9F4E8-2126-4540-9F87-10D6D550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FCCA1-D486-48AA-A705-BA01118F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37411-519E-4DCE-94AC-6562015B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5AAD0-1C28-4F20-A16D-E4D82C43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D00E6-C346-4724-8251-92CA2E94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D687B-E354-4F9E-91D7-97592D9E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FCD2B-858B-4DB0-B7E3-8C86309D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702EF-2803-4806-8648-CFB6E29D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A73D4-96D5-413A-B77F-48B22F97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EC09-3E31-4DDB-BEE2-FB91A787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8725D-5431-4989-83FA-E40B1138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92ED9-65BD-4173-9114-6C9C7E31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CF3DE-4F0E-4829-84C6-1EFC5F37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9F297-B0A9-43AD-A799-7F81B8B1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6B32E-C728-43BD-A608-477DC6E5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37D6E-EE45-47FD-B278-F75BFF1F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7844D-7D8E-46DD-91AF-5C4CB7FF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70A96-575B-4576-83BF-C71A2243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A244A-B1D5-4CDA-9FF2-A00274A7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982AC-BE8F-40DF-9013-0CBF918A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6E10-06DA-46AC-82C9-46379F44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3D81F-ECDF-4FFF-8CA3-A00DB230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5CD3C-3F55-42C1-8E6D-A700B349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4226C-B5E4-4684-99C8-5A465ACC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5B017-3E3D-42B3-8C8E-88E91557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64A5B-D4A7-49E5-A163-97988462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2C3B8-6B6B-4F8A-AA85-3443EC78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9D0CC-9B35-4D89-9ED0-B1636850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6ACC2-119F-4FCB-BDF0-F4A53170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89D62-9B7E-4CDB-AB94-85E441BA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221D2-21E0-46B3-A8F8-6B87960D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CAB-B42E-4E9D-898C-805ECDC3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390A4-CBC2-480C-884E-9A241F4C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3022C-1530-4F68-99D1-291FF356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1D7AB-CEA3-4D6F-BFD5-D05D2F91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856B-4FCB-4B7D-B706-EC7758D5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6AC-F0C9-4AD0-8F8E-76520FEB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1604-E25A-43DE-AEBF-9CC7AF4AD675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F396-CEFF-4A3A-B017-81B2B594EA0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04D3-FBD1-4686-9695-74866751056D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AD90-8221-46E6-90FC-57E3C5A8B6F3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DF1B-E295-4523-BF3A-B05A1B4EA305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AE2B-6082-4448-B3F3-BDB0FF90D4A4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Tvrzení o budoucím děj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r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b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7 billion people in 203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r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b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ore countries in the European Union in the futu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Slib, nabídka pomoc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ait a minute,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help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on´t worry, w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call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 every da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ope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the window, please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pisy způsobových slo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ou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have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ait much long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not be able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lay squash ton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not be allowe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eave the cam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U časových a podmínkových vě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you come round, w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watch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V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I win in a lottery,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buy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 new c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en I get to Paris,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call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Budoucí čas pomocí „will“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budoucího času s použitím „will“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Budoucí č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Future te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260280"/>
            <a:ext cx="5297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4920" y="184464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pravděpodobně proběhne v budouc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kamžité rozhodnutí o budoucím děj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vrzení o budoucím děj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lib, nabídka pomo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opisu způsobových slo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 časových a podmínkových vě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84360" y="3645000"/>
            <a:ext cx="7775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mět +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+ sloveso +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9640" y="3500280"/>
            <a:ext cx="79200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mět +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 NOT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+ sloveso +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10920" y="3573000"/>
            <a:ext cx="7848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+ podmět + sloveso + ...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avděpodobně nasta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com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late, I thin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pass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 exam, I suppo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not hav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time at the weeke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Okamžité rozhodnutí o budoucím děj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´s ill?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com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nd see her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I´ll hav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 chicken steak with potatoes, plea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5:23Z</dcterms:modified>
  <cp:revision>11</cp:revision>
  <dc:subject/>
  <dc:title>PRESENT  CONTINUOUS</dc:title>
</cp:coreProperties>
</file>