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167F-0B30-41BA-B67B-E697EE8576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E049-9D0A-4229-BA97-160597301F1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3E9A-5BF1-49CD-BB41-0CF5477A44C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9A9-4944-40F8-BD42-F1EE773E6CC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89F7-41D7-420D-B9FE-EE38DB72250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684C-8027-4F2D-9DBF-65C0690CC05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9AF9-BA86-4215-82C7-098C9690B6C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5B3-3AC7-4132-BC8A-12AFA39C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481-F1EC-47B8-919C-069FD48C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E71-52D2-4512-A3E5-3520601B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1C2-E358-4193-A76C-581072F9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A1F0-D5D2-44F3-9653-FF1DBD68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D88D-D16B-4571-9FAA-2D74A566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128E-60E3-40B9-B15C-A4B7BA0D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AD86-5A5D-4116-8B75-5F671E0C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9518-8BFC-4F91-88A3-00CEB865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8BC9-ED4E-460C-8750-1E0FEC3E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6CE1-4FDE-4569-951C-AFF8720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7BC-EE40-4EFB-ACBD-E9A2115D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7E06-C790-4B5A-9905-B42F028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A1BB-A3B6-4AED-B648-CACEEA03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195E-E4F8-4D34-B7F1-7FDC1E81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1668-C3DE-4EE2-9F65-6A3C52F1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6D9A-B4ED-4694-A35B-BF5508FE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14D5-216F-4664-992D-27B8F03D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B672-7DA3-4E1D-9E7F-2ADDE9F7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0C9F-26FF-4495-979F-67214821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ECE5-F67F-4EBD-B316-CCCC4A8D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C328-7D13-4844-982F-5F3A08C2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2A2-891B-4B0C-A301-735C1339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DE69-346D-407A-B2C3-473CC14D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F52D-2E12-4C62-8DB3-8BD1102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2B7E-F5F2-4591-9973-05EE08F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CBA1-8BC8-4C4D-B400-E6141C0C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69E7-A7E6-49F1-BDFA-8BB1CA6A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DBEC-BA45-4E4B-9E4C-4D045D18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1B34-AF1D-4792-B230-340B75DF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5613-9099-4DC5-97A8-DC6BE8EE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423D-48AA-4117-BB14-2EC29B25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9AE2-F3F1-4ED6-9D6A-99469B3D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D8B-776E-4D53-82A7-81888486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A816-6167-4103-A867-C25EBB92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4CD4-6608-4F32-9707-DF8D1F22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F17C-F539-4435-A5F0-A1D1DD11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A6B9-AB01-4C56-A164-9E5A337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FD19-7288-44C4-BE1A-3DD720E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5F8AF-9725-4EA0-9651-B0CB693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B27C4-1C7E-494D-AEE6-CAB2ED57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6B7B-EA07-4C0D-9A63-CB86EE9D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538F-C776-4862-87F4-6F9DF27D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3985-2019-4C1B-9E5A-6A6ABDF8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FF3-651E-464B-AA8C-7B67602A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C8FC3-B802-4A42-AD84-061F782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28A04-AF61-4F05-B68F-AFDC3DEE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35A6-9509-41EB-84C2-79494B7E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DD68-0619-4CBC-A05C-2ED232A5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6DC85-2CBE-4BED-B1C5-63C8D9E7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78D0-E90F-4F35-89C4-4E04560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31B34-87CE-47EE-98FC-02DABC9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9431-E4B3-463D-9499-9390FC0E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27A49-5AEC-4C8A-AB37-C6987555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6BE3E-0003-4F3E-AC7D-2179D5FA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D6E-309C-4D53-B627-FE5E0F91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82794-9605-47D5-8604-DF7050B9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FB9EB-84C8-49B0-89EA-10ECD569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81B86-B65D-4AA2-A0D4-D10636B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AB71E-37D9-4747-8807-155B43B7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E156D-CA01-452F-AB6A-66B99EA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90A75-10B1-4315-BD8A-B1BC28AD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EACB-6BFD-4E6A-BFF0-BA8B3DE7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7CA35-F64F-4902-AFA9-18941C8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3D33-8EB3-4BC2-9C9D-3B6A76C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F42BF-20F8-47B9-81DE-F9DD883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E00-6CE1-4014-8F95-68B56D3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F767D-8CAF-4EDE-B739-752B9332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EE1C-5DB5-4CC9-AC34-ECF66E99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665A6-FA3D-49C0-BD85-579A7554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321-990D-48CB-8F81-6D4E2FF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216-1CB5-4F32-88C7-3287C94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225-A567-418E-A61E-A98831FE9CF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21AA-7608-4EDD-8DBC-5F757F50215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807A-A584-4BA9-A437-CFE235C5F816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D913-DFC9-40E0-A152-88111EA0363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6366-B7AD-4F1A-86DC-8777871FAD0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858F-3BB0-4C90-9DFA-B4786E634D9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42480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many books </a:t>
            </a:r>
            <a:r>
              <a:rPr b="0" lang="cs-CZ" sz="4000" spc="-1" strike="noStrike">
                <a:solidFill>
                  <a:srgbClr val="ffc000"/>
                </a:solidFill>
                <a:latin typeface="Times New Roman"/>
              </a:rPr>
              <a:t>have you rea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o f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1640" y="2349000"/>
            <a:ext cx="40323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ntinu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long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you been read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boo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přítomn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perfec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 spojený s otázkou, jak dlouho něco probíhá (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long?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716280"/>
            <a:ext cx="8497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ět + have / has + been + sloveso (-ing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733560"/>
            <a:ext cx="849780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n´t / hasn´t + been + sloveso (-ing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ve / has + podmět + been + sloveso (-ing)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been study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nglish for five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swimm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an ho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been wait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hi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long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been read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boo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důrazňuj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ůsledek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dě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 spojení 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2920" y="227664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důrazňuje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průběh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dě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 spojení 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3:41Z</dcterms:modified>
  <cp:revision>17</cp:revision>
  <dc:subject/>
  <dc:title>PRESENT  CONTINUOUS</dc:title>
</cp:coreProperties>
</file>