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478F-683C-486D-9A7B-E20D0EAB00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B162-DDC6-4BB0-9084-30166374CFE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2ADE-4B85-40AF-9B10-E780FC37B0A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5CC2-F9FB-4366-AAFF-85EDC049993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A7EB-8C72-4483-B42C-C8495918B00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D9C3-E0D8-42FF-B6D3-C2ADE1E07D1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A6FF-D826-4A5E-9F44-E5430688BD1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740-5F39-4E86-9C3F-FFFCE601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CCA-BA14-463F-AAD2-200A3AC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B02-BE57-4D29-9BA0-D6390735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2EB-D79C-4785-B833-38919C6A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7ABD-8CC9-4D77-A77D-890688D7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23E8-BDD0-49E5-8E31-E66DDA07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4FC3-5952-4DED-B8E1-CF8E49BE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64E3-0C86-40C4-A4C8-0FA4E167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0B1C-4B17-4CC4-8332-810B2B02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9ED9-2DD1-4EBE-8168-D0B09E93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7AEC-3227-4CC8-83CC-9C1FD5E6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5C2-A1E6-46F4-A920-6F094A63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F8BC-5739-4660-B7CB-0277BD8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42F3-12FB-4915-9676-C6C109C3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FE71-6306-4347-A976-9CC803CF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C4E3-75BE-47AC-867D-9F03608C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24F1-8C9F-4CF1-9692-012C5678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68208-63DF-4984-BA7D-4D6F3ED5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C6B6-0E86-4E5A-987C-A429CE12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9C3A-58AD-4D82-8AEF-2C4C94C3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72C3-60ED-42C2-96D3-E55F73B0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C6DB-BC0C-4323-B091-5858A3B8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3F0-1CF5-4C33-9E35-73A906EE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0619-63AF-44F8-A903-239EAFEA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810B-62CF-4CF2-B3F5-F338C612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A491-C56D-4C83-A7F3-FCD69EF7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92C39-4A94-41EE-8D4E-880824B3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6873-EF34-4303-B8BE-708E96CB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A88EF-5F70-4BE3-9037-CC929651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920C-0331-481D-8504-81B871AE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A56D-6950-4C69-B509-04619F4F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71C78-DE12-4B0B-AED5-C3837B49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7BAB-CC55-49CB-BA01-03C8C52B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FCD-914C-4CDD-AEDB-1469B274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9FD95-1BCB-476A-B0A0-F699101F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6290-331E-4F17-AFA7-8EFEADC2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8F65B-1B59-4870-AFED-1B194450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7944E-E079-4CB0-BD12-77A1B2C0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F1041-20BF-4F7B-9720-3DA068A4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8D0E-385A-4D7F-AAE7-D81E3DCD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8F901-CC85-44C4-9497-8116BC7C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757A-C896-4305-9350-487152F0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FB037-D880-4531-9139-0A4B19C7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6DD5-6620-46F5-AD86-F931A839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570-5630-4928-9255-3E1E6914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45A1-E00B-405D-8B30-9C88CE0B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07181-6B33-4BE6-8FA1-8E2236F7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7F2ED-EC06-4122-882C-E5B5D092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F32A6-21D3-4A62-91AF-01AA178B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4D6CB-3E3C-453A-B5DE-0A76E19A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F0DB1-875A-4945-9129-354F0375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BE409-4F38-450B-B533-22FDAECA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DF8B5-7F87-4C5F-969B-306C2AD1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4A8B3-C8BC-4885-A6D9-C56716CF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69F5C-F117-484C-B574-EAACAE28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81B-5297-43D8-8B04-EAC380E0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5C0B-6239-48B5-9312-E729C7F8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08551-3CE3-46E0-ADE5-F85B1F22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3F35-6583-4972-B485-09B15415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1778-9C5C-48E0-963F-26F15871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1F4D5-5FD9-4113-992D-56BC62AC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F715-F625-47F5-AD60-E7D25E51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F538F-6FA3-48EB-8EFA-A05BBBB5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9D7F6-8335-4617-91F7-19A998ED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4AE09-A16C-4BB0-9735-8EA3D745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F82D2-7ED8-4F75-A7F3-5A8B1AF5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0EB-C781-4FBC-9CD8-0392FB84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79C2C-1502-40FD-8AFD-B3DCA260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4EEE3-46D6-4E0C-9A16-D80449D8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408AA-10FD-40FD-821F-236BB2B8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79C-E2A5-49F7-8913-A976B2CA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888-57EF-463D-9467-13D945D0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8FB5-D118-4DDD-B92C-7FB1545709D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C034-3641-483E-A53C-E5D88097A96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A6CD-C282-417E-AB9D-CBA7650E573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AE83-8E34-4C0E-BEDF-D91BEE2B886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7B5F-989F-4FB9-AE16-71FD009CF22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7835-7708-4C03-A257-D6FC4D0ACE0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les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in 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pai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ear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fea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us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us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4211640" y="2565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421164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ut in the correct ending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onder             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ois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had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ilarity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4"/>
          <p:cNvSpPr/>
          <p:nvPr/>
        </p:nvSpPr>
        <p:spPr>
          <a:xfrm>
            <a:off x="4067280" y="2522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Šipka doprava 5"/>
          <p:cNvSpPr/>
          <p:nvPr/>
        </p:nvSpPr>
        <p:spPr>
          <a:xfrm>
            <a:off x="4027320" y="33577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Šipka doprava 6"/>
          <p:cNvSpPr/>
          <p:nvPr/>
        </p:nvSpPr>
        <p:spPr>
          <a:xfrm>
            <a:off x="4027320" y="414972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7"/>
          <p:cNvSpPr/>
          <p:nvPr/>
        </p:nvSpPr>
        <p:spPr>
          <a:xfrm>
            <a:off x="4027320" y="490536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nejčastějších koncovek přídavných jmen včetně pří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davná jména, koncov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8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Koncovky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KONCOVKY   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80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445840"/>
            <a:ext cx="7488360" cy="30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ss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ss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n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it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it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4067280" y="26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4097160" y="348624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4067280" y="4265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v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ttractivity              attrac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aivity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na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egativity                neg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22604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4226040" y="37767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226040" y="458136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c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205000"/>
            <a:ext cx="748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rganism              orga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nthusiasm               enthusias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istory                histo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4067280" y="242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4060800" y="3213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4060800" y="40338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83800" y="2244240"/>
            <a:ext cx="748836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dvantage            advantag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onoton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monoto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r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r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121280" y="2438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4121280" y="31924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4121280" y="39337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ful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beauty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beaut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colour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aning            meaning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4211640" y="2548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421164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3:56Z</dcterms:modified>
  <cp:revision>38</cp:revision>
  <dc:subject/>
  <dc:title>PRESENT  CONTINUOUS</dc:title>
</cp:coreProperties>
</file>