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704-A781-4BB0-B5F9-7441C2E5C0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CFC-4C7E-48B5-ACD3-10051E67F79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ABA-2D31-476D-8AB0-E22E88E168F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B99-62AF-4DA2-A3C4-F7BC710FF87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72F-77C4-4733-9568-E9308AB7D57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C1F-0AD8-439E-94AF-459DF20CB38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C5C-D348-47A4-9422-B8521167199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598-F652-465A-A882-66CC51CE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F94-4375-4C72-B43E-AC51C14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8F7-B7B9-46D8-B21A-6D6B39C6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B68-A90F-4252-8BF2-A7CFD6DC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B07-722F-4EF1-80B8-D46D9A89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F4E9-52B4-4FEE-B996-8F2F72B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DD8D-6349-4411-9D1E-4A1B16E5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774-8CFF-4895-9150-E1E3F7A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ADFF-2BF5-4917-B53D-FC145C1A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810-72DF-46CC-8808-8CC7D10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CC2D-744D-4ED6-95E5-D9A2BA5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3CB-313F-4EA6-8CC2-1A42F83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06C-F1D3-4905-A1E3-326FFB2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AC8-5A26-4FE5-89A1-FC1B1AE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F5F8-85BA-4A85-B12B-C8BF103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2DA-75D3-4FAB-9BD0-B4BE133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4D10-7A52-47EA-B132-D3FA87BB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514F-691C-46C8-BF38-FD2ED95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3E3C-390C-4F32-82D8-1B1E77F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22F6-DC6D-4094-824D-E44745F9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A28C-9FB9-429D-8CAC-44672EF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EF36-A029-4A14-9DE0-653D75B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7A5-74A8-4FBD-9D06-E99A7991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9DC6-F855-48C8-8438-D329CC74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CE69-532A-4813-BD7C-D088F63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684B-382D-485D-A6D0-4DBE898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B426-07E3-44E0-872B-BA2EE9B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8851-91A4-493F-A7F0-10BDB6AC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B6E5-096B-4634-9C3C-E8E862BF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7DE3-93D9-4878-9288-F28E1169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669E-F73A-4D43-A2F2-022298E7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5DB7-2B7D-4392-B02B-101DD5C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BEC3-023B-48BA-B74A-75F73B19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C2D-D6B2-49C7-8576-8D94B6A6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48F0D-E7D6-4997-A8D9-8A68EF43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B5A8-1198-4F8D-9C59-38E39355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FFE6-8244-4FF8-B69F-4F741E4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79AF-659D-4692-9800-4082FE3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0FF4-003D-46A1-91CE-6EA89E7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3CFB-63B6-4A25-927B-C5E3584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BFFA-D06D-4339-8F36-D82463A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40D2-6EF5-4601-92E7-649D3C8C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5C9B-A473-428F-BD3E-FC7EF6C8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8EA7-66E0-4D18-AA23-6EDADDC3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C1B-A03A-4270-AF14-9454C65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5650-CFEE-4814-A624-96F7D624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D3F2-D470-48AE-B313-9321E77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FBAD-EB99-4891-96AC-E15DC1F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FFAE-F3FB-4534-89BC-8EE34E51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EDD0-B258-4A05-AE1A-0CDD531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73E2-78F4-4F8E-9072-9271351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A7E4-2665-4736-991E-8F71688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80A7-4343-4D8D-B2A1-D98F700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EDE80-6307-4885-A980-D758D41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1C34-B9C9-4236-BE66-11FD392E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EE3-6CFC-4129-97AC-70B9726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FA8D-3774-4AA2-841A-BBF9C4F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3C5B-5F91-47F3-A203-774053B2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6672-6CC5-43CD-9FA4-13A46580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F22D-59A7-49A3-8F74-1725B1A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7777-6ED6-46FE-B7A8-E1C9198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F86D-F496-46CB-B380-21CF95C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342E-71A3-45F8-AA8E-054EE38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61B0-7E92-4C3C-BF74-2173C0F7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32C9-A51A-4A47-B04E-8F738A2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9258-E30C-490B-B263-D64EF82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64B-7E63-4B7B-8DC0-78569A4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47D9-51BC-49EC-98BB-172F0DA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455C3-FAAF-4158-B480-5740BF2C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0C3E-22DA-4920-BAAB-93018919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CA4-B638-4106-A319-4468FC3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4D1-8B57-4C61-8DBE-840DD65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2A2-F42A-4639-A627-8FCC7C6B5D0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1939-C17B-489C-8B13-798D92FA797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7DA9-D775-40D1-B9FA-A04D04F341A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AA58-FA06-4D77-8752-1413D147C83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7752-676A-47DA-96C4-5418A978B79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9971-7074-49D1-8993-C418860FF1C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oes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learn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pa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m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1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podmínková věta, spojka i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bs, if clause, main cl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budouc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ínka skutečná (může nasta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= jestliže, poku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lea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on´t wa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13Z</dcterms:modified>
  <cp:revision>41</cp:revision>
  <dc:subject/>
  <dc:title>PRESENT  CONTINUOUS</dc:title>
</cp:coreProperties>
</file>