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380-4D54-493B-B640-4BD83CA7F3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7C4-CF52-4A25-BDE7-B4133BAFAD5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F37-DD9C-4B53-B59F-ACBADF4690A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40E-03D8-425C-A02A-1FA4240F0C7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47EC-D670-423D-A0CB-D959BBADDF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2C7-993F-440D-95F9-51F2CCFC511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10C-AFFF-49CE-BA57-CECEC665F5C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8F7-429B-4293-8F56-13D2F88C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5C3-4309-4CB6-9304-51BC9B5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940-E66B-4588-A644-F3A5FF90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215-B600-4EB5-B059-BF83ACD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745A-CAC4-4400-9619-BA1BB54C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8474-C127-48F9-93FA-D7CDD86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20F-687C-4A5F-A7D9-87EA982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5C49-4D95-4DF2-869C-CE07345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E30E-05FD-4B4B-A1E1-024BE748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F5F-58F6-48E7-A2D3-6DA3D271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EC7-946E-4F37-98E2-3C2B4416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F8C-8FC2-4815-B31A-DF863392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B201-6435-4E29-B009-09B6299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DF96-F8D1-4CE2-B483-95D3958C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A5AC-D2AD-4819-AAC4-CDEC0B9E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6691-F4DF-414D-A2E5-18BC0430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C373-18A9-47A7-A17E-C1F48419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D93A-ACFC-4DE1-AA6F-1F91D041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6CE4-6F7B-4E4A-AE81-3C22D7D6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DF9C-36D6-429E-A3C2-57D04FC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4418-5995-4A8D-8121-50FD2BAE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137D-5C38-4394-90FD-3678E9C8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8B3-07BA-42A6-88D7-3B5E0BC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2E9D-82F1-49BC-A810-ACAA860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C1E8-7CFD-49C4-B4B3-57C9F87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3C5C-9329-431D-89E3-0EB0444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D6F0-F4BC-4D6E-9D67-EA436AB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3DFF-C769-4EBA-ABD7-1A009582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6BB0-21A0-4B18-B816-312996C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4108-3F6A-40AF-93C6-D7819FD8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A9F2-C93C-4A0C-B25D-42174D55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A0A7-58E1-42F8-A0E0-2007E28B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1265-BEB8-4D81-B534-C38C3E0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48F-3E4F-4CA7-BB59-FF7B3BE6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DA7C-8E91-4CC8-B146-C170024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88F4-CCE1-40B2-8225-9752AB2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637A-4951-4830-9287-94781836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B36C-9EA2-4967-AED2-78D4A2BF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821F-1405-457D-86D2-EA85F43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5E4D-824E-4DD1-9791-61CE17E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6C03-1635-4BCD-AA3A-0E8DB1C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3D836-24C0-4341-93B2-F9DE87A6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4ADE-5406-40F3-829C-DB3B7A8B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067F-15E2-4180-8467-58C0D424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7A1-59F1-41AB-9A5B-79AB4A38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2CB2-134D-4EAF-9173-54FEA990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E250-BB24-4380-9D51-6BE1B633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FD94-710C-457C-8EB9-E7C10BF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682E2-8C1B-4B55-97FB-84E7023E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AD5C6-229D-46BF-8527-48C61D3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1906-B877-49CD-A4EE-29FF523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1AEA-4120-48C9-B0D6-630E3EA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3061-9D20-4039-A9B3-9D5E38C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837A-99C2-4939-8219-BCD0A0F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D699-A309-4259-B22E-33FF20E6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C70-7390-43BC-8118-B4396642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738C2-93D5-4FE5-9FA1-F934E229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6529-C23B-4C05-BAC4-8361FCE7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2DFB-2B58-434E-B2E7-EF82B097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C63D-5D80-4A94-ACD8-541D860B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F9FD0-0C95-48AB-A8BC-FEF9EBD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5109E-E567-4836-8939-003B7F7D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2AC1-6578-4B12-A185-9D47C34C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1A25-19E1-4A5E-A6C3-8229095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71A7-5C98-47D3-BAE4-C24E0598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05CC-05D3-4FD8-B46B-E89B84C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9C9-91DD-4597-AD68-683709C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979D-2DA5-42CF-B6F7-EA8326F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787D-49E4-4C2E-935F-B56D75FB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E977F-76FA-4317-B72D-5D4BC997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70D-0056-4B77-B546-D102795C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299-5CA3-4C21-A9DD-4E7BF8D6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1A4-5212-4EC9-9C93-341D13C2831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7607-5A84-4046-BBEF-1ED5C87E4C7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B4A-E21E-4D44-BBC2-374B6CFF4D5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32A-7C8E-444A-ACCC-8BCE9BDF4B1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E44F-D5F0-41EB-B564-4DC8F1F28A1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BE87-613E-41C4-8B2C-CAEB3E05899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ke opposites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83800" y="218448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pula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ssibl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cisiv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167360" y="24494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167360" y="3268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167360" y="400536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4145040" y="48848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on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předpon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předpo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ppo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dpony u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ŘEDPONY 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m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349000"/>
            <a:ext cx="7488360" cy="30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513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6728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42100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1164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11640" y="3441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r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5336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7280" y="3351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81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u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313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  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098960" y="2490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098960" y="3305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40360" y="4081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dis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097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38640" y="2514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0200" y="3301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0200" y="4076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2:53Z</dcterms:modified>
  <cp:revision>41</cp:revision>
  <dc:subject/>
  <dc:title>PRESENT  CONTINUOUS</dc:title>
</cp:coreProperties>
</file>