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FDCA-6420-4A47-83DE-9F08BB362A6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59DE-53C3-4C74-8C10-D09DCC7348A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6D58-96B3-48CA-BFB3-3FAA3C7CE0B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5AF2-7FA1-4E3F-B3A3-6FE1D55EB00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6FF1-75A4-4E09-9907-C4F55133947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B22C-EBAB-4FD8-A54A-F5E4B7D4B8D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8FCC-B9B4-4631-97F1-E42DB9F4D1C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C35-3EBA-48E5-B3AB-9BD2C55F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CBB-DD44-4E8C-B4EE-874B4331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AD4A-4225-44B6-8F3A-5DDA884F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254-FAB0-4EFA-9C02-64729ABB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D91D-19CF-4059-9A52-7249F948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7DFA-D93B-4F9A-B3AC-89EFD6D2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7196-4B39-44A3-BD1A-FD8F0647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8A29-EF9E-434C-9B1D-DCEB5E31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99F9-D266-4BFA-8A38-D15BA345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F94A-1237-4EBE-B5DF-39ECE900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FA69-0891-4E93-81CF-5AD10AC5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2176-3D27-4DE3-8CFA-A247ACBC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0230-826D-4D1A-92B2-964B1E8A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FC92-B132-4C8F-9CCB-1A4722B6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4015-59B6-4C53-B206-DD65BD4C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30BA-A45B-42C0-8813-46582E70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C96A-2021-4BD5-8327-A9ABC39E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ECD88-2354-448A-9284-223D014D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FDB5A-EFFA-4933-9965-9F3BF1D1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AE3D5-5389-43FC-9CE2-569D261E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BEE44-A462-4124-A2EC-C6177046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3C1D8-57EC-4BAB-9340-FEBADCD5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84B0-06BE-4C8F-904D-A8836588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31C0C-F599-4D44-88F0-022A374A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85F36-5B7E-49B5-94A9-A27E8241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19976-BF30-4307-91D8-1C1981B5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AB123-8F52-49AE-9664-7ECC1B22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47E08-2821-4C72-B578-5EBD75B1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07D20-5352-423E-BA97-E62817BB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3389F-AD98-4DD4-BEC7-CBBD0CFD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DCA03-F891-447A-8963-73DEE7A3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3758E-DBB0-44B7-8E33-9B42C81A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6CD45-2EFD-499B-B384-F504DA64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7600-44E1-40F9-BDBF-99246733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407B0-5C5D-45A9-8B9D-D61D01C6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87E6C-1770-47A2-A31A-CF2352EC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BE2C4-35D1-4CA8-8D63-E106C24B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0D726-F6A7-4CA9-8861-A4E48B0E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27794-D344-4FEE-A4A2-BFFE6999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F4816-C4CD-414A-A294-BA7BFBEE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5BC84-8B63-4BAA-9247-F40B17FA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BDE4C-1435-4A4B-9586-4429C38C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BBBEC-CB38-42D2-B0A6-BD4E654E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E0A33-1976-4501-B973-91EF4A2D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77C-8B33-4D26-B203-11A61B32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6AE19-05B7-4282-ADE2-0FAF2803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655F3-E7AA-4BB0-9267-80C78159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BB2D5-D325-4BA4-A4D6-C9B8DBC6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4DFCD-7893-4615-927F-F8842705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39AF0-1FAD-4A3D-8D40-D0D950ED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FB51D-5768-4D99-A900-AA95DDB9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9D0CF-B62B-4D72-A719-62EC9649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E9542-1BCE-464A-BD47-3F631F47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DFCF5-4DB4-4FD8-952E-4ADB93E1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CE5E2-AD6C-48EC-B9C8-B854BD0E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B748-4C6E-40F0-A400-A6BD0F36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0E1B2-105A-4F24-84D3-D00D19F0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926DD-4690-4AEB-8D88-F996D1F7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12FE1-1F7A-401F-9A57-15B64F0B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D1174-D930-4AFD-B821-FA531504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261F8-E32E-4701-9075-3B6BCF26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F69E1-DDE0-4E3B-92D7-B79E6904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4DB3A-42F4-487F-8223-2CF5CE99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87405-8120-4571-9C5E-BBA342F5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C0961-468E-4FC3-A26A-BEEFAF7B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A80C9-9A01-4DD1-A5DB-BBC6FF78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6DA-AF16-40B0-879B-B05E4933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36835-9BF0-4205-B0C9-2609E5ED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CD5F9-EACE-427E-A8F2-C522FCE1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C7A38-D575-4374-B748-FB0DCFB9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DE5A-7EA3-45DE-A6D9-769E6885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3228-8886-41A0-9ED5-8C1549F6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28BA-D9AE-4791-9E1F-7A6ABF0178B8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68FC-713D-4804-B264-A65CFB7DE7D9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CC9C-D3CD-4464-8B32-DB47A2F41063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E7B1-C00A-46A7-ADE1-CCF5F2845BF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9FF8-FD1F-4AA6-B08E-816F085B86B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F077-F72A-4DEB-BD07-41329667908C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404640"/>
            <a:ext cx="5297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oběhne v blízké budoucnost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e are leaving tonigh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am going to the cinema this even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´re moving next wee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842472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lánování v diář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 am having a meeting on Tuesda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e are going to the theatre on Sunda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hat are you doing on Frida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Spojení s příslovci času now, just, at the mo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e is writing homework now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am just going to the cit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at are you doing at the momen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Simple  x  Continuous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opakovaný dě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trvá stá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probíhající dě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trvá pouze přechodnou dob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Simple  x  Continuous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lway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nev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ometim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every da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n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us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t the mo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imple  x  Continuo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go to school every 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live in Karviná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 plays footb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do not read boo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at do you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am going to the supermark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am living in Sp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 is playing squa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am not reading 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at are you d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tomn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přítomného času průběhov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tomn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116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000" y="1915920"/>
            <a:ext cx="8280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Times New Roman"/>
              </a:rPr>
              <a:t>PRESENT 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ávě probíh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očasný nebo přechodný dě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ne v blízké budoucnosti, plánování v diář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pojení s příslovci now, just, at the mo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26920" y="3573360"/>
            <a:ext cx="7632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to be + sloveso (-ing)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68000" y="3733560"/>
            <a:ext cx="8351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mět + to be not + sloveso (-ing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94920" y="3573000"/>
            <a:ext cx="84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o be + podmět + sloveso (-ing) +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ávě probíh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e are working in the gard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is watching TV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am not writing to hi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at are you do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očasný nebo přechodný děj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is living in London.  (only this month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aren´t staying at the Hilton hote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e are having a part time job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0:44Z</dcterms:modified>
  <cp:revision>9</cp:revision>
  <dc:subject/>
  <dc:title>PRESENT  CONTINUOUS</dc:title>
</cp:coreProperties>
</file>