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4476-86C1-4CC1-86FA-AF71CC6BE3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9B10-6E9E-4575-A591-40177CFDFA8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A48E-7E09-44A7-8468-1A23F2433E0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93D8-F128-4E80-A1AE-1B4CAAA4A58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02F0-D123-4F03-A12B-A2FBA2A4F2D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DA22-6F9E-4C05-AFC7-A59A19F74CB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AA36-28B0-4452-AC3A-12452F2D1C4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9E8-99F0-4B88-9400-0A936758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D49-B96A-40FC-AE6B-A010B94E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D9E-DBB6-4298-87DA-2149A946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457-7356-46B9-88F9-E9FD4BB9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1858-5DBA-4EDA-B105-CA3171E3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B4D1-F6E9-436C-84EE-4353B181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00F8-1B84-46A6-87B1-3E9BEAC6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9CEB-AD2F-44D6-A882-7175A622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BA1D-0E11-4F20-A58E-6E9A50C9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8E73-96BD-4414-9ED2-73D9817E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132A-5B02-4344-AAB3-A31208E1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7A0-05EB-476D-84B7-245E35E2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CC8E-BCDA-42BE-A23C-2FAA28D0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944D-50A4-4940-BD03-DD06D6D2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FC2E-27F7-44C2-A685-66469ADA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4F8E-C935-4CD5-8078-9D42673D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5480-E20D-4B17-BD6F-04AABE18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D730F-CE14-4619-A560-7D13E109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D0C15-B8AA-459F-BF92-CEB7D5FC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71F95-B9B6-4969-B80B-7D0A4E9D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24209-7618-4582-A1C8-A49C8C43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3E5F8-3EE4-460D-B4A2-05AA9EE5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2D2-D983-4E74-9387-FDD943CA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6C62-147D-420F-AD90-9B1C72EC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CAFE2-CB39-4005-A45B-B82C8FE2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DD141-874F-439B-85E0-133E6DCA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60C6-9965-4216-893D-93DAF98F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54635-4D16-4D9E-84B7-70F69A45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DE715-5865-4A6A-9553-2D5C1432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B498-6079-473A-97B9-7030A159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BE4D4-BB2A-482C-9298-66102708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7A5D3-7790-441D-84AA-71E07AE2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05322-8F09-44A6-ABDB-D329E099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EBE-2EA8-4506-A004-F975D761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D51ED-566A-4B42-80B9-FA6D5AA9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1A3F6-0649-4D1E-B509-DD44818B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F9C4F-980B-4B8C-9E8B-E1575FBE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839F3-6C17-4107-B86E-C6BC179E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9231B-4BD7-4746-A1C9-E68B4EDD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94DA9-5AF8-4159-9FAB-59D1C615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8B250-993A-448A-BBBA-19448301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49B38-52A1-4B41-8146-6165D55A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43CE4-E279-4877-9014-2163D414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28192-0843-44A2-888A-73C5C10A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D7B-286E-463D-AD49-0A9F0D2F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03167-B474-40FA-BC00-1A357E96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655E0-E3DB-4039-9408-9D3226B3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01333-6023-449F-A3C8-675CFBB3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BB432-7818-4D8E-AFB7-18BE7CDC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1860E-D7FD-47C6-93D7-13820764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E4AE1-1CA4-4559-84A3-07FFB7F0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1C8C7-A8A7-42FC-984B-103ABB31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B3ECB-4381-4B44-BA04-33966EF5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D4DDF-33AE-4D5A-9EA9-DE5EE506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9D57A-1D0E-4353-8FD0-A8279A7E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A0A-C253-4DA2-84C3-6B5509BC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9B7E2-5E5E-400A-8DF6-35201343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24C46-3F00-4DBA-BE7C-02E44D72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390A6-AEAC-4501-B0C5-D3C41F96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0D6B0-749E-414E-B039-1042DBA0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7429F-FD91-4854-9074-47496D84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F31BE-482B-4F3E-80E9-939F492F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66D8E-214E-4533-8A08-78547248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EC63D-3E87-4F53-BFE4-CA6A6DE7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CC77D-046B-4DF8-844B-0DA680DC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5E223-0B8B-4DD4-AF03-35C6423C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3E8-8365-4985-ACC6-AE88B949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0250F-2C29-4761-90DC-90BCDC20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17B77-372C-4AAC-9A06-AC5BFA2D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3C292-4924-46C3-ABF6-45F8A472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4B0-1A2E-4806-A0E0-339A148F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A9C-FA81-4A83-84C9-8B18461C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096C-ABB8-4979-8E38-D13A281454B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DC9A-358A-4D11-AA09-ACE8D03C200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E544-7554-44CF-840D-F442861978FB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B7F5-0806-4F72-B44C-5BB2038841F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A707-9E10-4E2E-80F5-251C68A1A6C9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5B7D-16A9-428E-A2BF-E7AEF18A5BA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24912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říklady vět – sloveso „to be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t home at the week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er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in Italy last summ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n´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t school yester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er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hey in the cinema, to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inul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minulého času prost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inul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as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24768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a skončil v minulosti a do současnosti nemá následe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pravidla je udána doba, kdy děj proběh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84000" y="3357360"/>
            <a:ext cx="7848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minulý infinitiv (2.tvar slovesa nebo koncovka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-ed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) +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26560" y="3428640"/>
            <a:ext cx="7417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didn´t + sloveso + 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55280" y="3573000"/>
            <a:ext cx="7488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id + podmět + sloveso + ...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říklady vět – pravidelná slov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open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he door and enter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pla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ennis last Satur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didn´t like the fil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en did you arri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říklady vět – nepravidelná slov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o the cinema an hour ag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aw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s in front of the ho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didn´t  bu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t yester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di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a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1:29Z</dcterms:modified>
  <cp:revision>10</cp:revision>
  <dc:subject/>
  <dc:title>PRESENT  CONTINUOUS</dc:title>
</cp:coreProperties>
</file>