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78D-068F-4819-B731-977D587489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8200-FD4F-4D06-A8E0-B077699E6B7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C002-697E-4B5D-AAC4-F2B288BBAB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9C0-3F03-4BE9-9137-61422B9EC31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0245-21D1-467D-9A39-B0E2E49BB9A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25A-B46C-4C67-85A2-D4583F2C534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D948-0EAD-47C2-BAA6-9B64885D857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226-3F17-4516-9F66-4C197264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425-94EC-49B6-A637-A37DB2AB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37E-22D4-4893-9D20-730994BA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DBE-3FC1-4311-8E70-18FFED7D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03B5-CAD4-4C68-B145-5B13A920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7A9F-AFFC-40B7-9D2E-B1C1D609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1FE7-8C1B-4204-BAB9-7D56557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C8FA-395E-402E-8856-92753257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90E2-339E-4306-B3EB-F5C0AEE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4B66-0935-45C8-A6E5-B0F28CE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80C1-ACE3-4F89-A39A-C6EA03A2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2DC-49FA-4FC6-B06B-DF28954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416-288F-431F-AA05-B3FCEAC2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CDCC-57B6-4656-8909-2E6967EC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BCAD-61B2-4B5C-9AD2-0798C417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624D-2638-4767-A031-8CC7CE23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331C-F210-439F-BAA5-34B50D09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72D0-0863-45C0-8CA1-E5E6434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EDF6-87D4-4091-9408-0907131D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928A-D419-4FBE-B83B-B48035A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B4BD-A769-4980-BB6B-101F8371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920C-7570-480F-B67D-F0F1B88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0F9-8A44-4C38-85A5-444041A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A7B7-35C3-4414-B4C3-DE554205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8640-8CA7-462E-A156-6A107AF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0EDA-9101-45A0-99AB-F0FB8CE6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F048-01CC-46E3-AFE1-6C718158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FA3B6-6534-4A4D-A283-26ECED22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4DDC-FEB3-4199-ADD2-A5B5F7CD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CD4C-8BD6-414A-B4D6-7E8BF14E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B02B-C78F-4C18-A778-AC61CD32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0DE9-6941-4921-9C8E-4BDE5EAA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8148-7834-431F-ADD6-1F6F6BA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8F9-DFED-4F06-92A6-B3F991ED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BEC6-5162-47FD-ADF6-1539AACA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2013-1792-4B11-A23C-C46418CF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FBBD-9556-43CA-BB3C-6FD27AAC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732E-F3B3-4BEB-95FF-18C9699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1408-916E-4AC4-B0BD-730F61A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A1E5-DB57-43CE-BCEC-22141F0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8EAD-7D6E-43A9-AE4A-576A65D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39C3-495F-4D4F-A6ED-2814FD98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42261-9FA0-4F47-A4F9-CC590CFE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417F-E619-4D68-A59D-EC610DA4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63A-3586-46E1-921E-347F75ED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8747-45AC-474B-8C30-9C3D052A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1EDD9-DC7E-4F19-8FA7-87B59B8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552C-0D6F-45EE-99F8-1E95F837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487F-2C3E-40DA-B720-41EF152A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13D3-E76B-4C92-A926-748E26A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FE32-7C85-4552-9CA7-9A4F965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3A9D-6CBD-42CF-9430-E2E02B1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39E3-0F03-4956-9BD0-8F107F6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28F4-CFA1-4044-B7DC-BE0366A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DACA-206E-4106-A50C-D4BB0384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1E2-D145-4F2D-9119-0FA47C6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D36BD-5EF5-4911-A331-23FDE531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1FA40-5972-4049-AB18-038F5836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C03C-8AC1-43BB-80C0-35576019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8234C-A5CC-43FB-AA73-D2256831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10DE-9AE7-4955-8010-76759AA1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1F950-6DF5-4D24-917B-3B3395D8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2B48F-52E2-4FA1-B195-AE0DDCB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0BFB-01BA-4DDC-96C6-F182D03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F183-AC38-4A2E-8C66-58AE832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F7D1-CA7C-490E-AEDB-1B72A6E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35D-C1E9-4054-B6C9-481AE19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D52F-FC2D-4450-93D8-C680CCD4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4FBF5-DB5F-4BC8-B3E3-FA7B84F9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D0B1-C324-4A34-B248-F7AEE221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F23-206D-4F73-BFA5-3C254821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EA5-2DE4-4ECB-B96B-3699D13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480-605F-4AB1-BB0B-30DCBCECD38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AD01-5159-4958-9DB6-7A673277A60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BCE-177A-46A9-9779-7D82DDA602F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18E9-E0F3-4CEA-9F7B-145356DAD98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770D-A710-4C8A-BBAA-4CB99918B68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868-D7BE-4759-A0E2-8D756078C5E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58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ěhl a skonč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ětšinou je 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íhal po určit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odbarvení jiného děje v minulost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388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l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 sch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rot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le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not rea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you d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walk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writ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not read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 when she c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you do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si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t up and went to the bath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me home and cooked my 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shouted and ran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ile I was waiting at the traffic lights, someone shouted at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sitting in the armchair when he c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working in the garden when we arri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continuous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playing the piano and she was dan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shopping and she was waiting for 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3640" y="3499920"/>
            <a:ext cx="835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was / were + sloveso (-ing) +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920" y="3500280"/>
            <a:ext cx="8642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wasn´t / weren´t + sloveso (-ing) +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s / were + podmět + sloveso (-ing)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íhal po určitou dobu v minu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reading magaz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listening to the ra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n´t waiting for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were you doing at five o´clo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came ho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saw him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ross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watch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 when the telephone r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10Z</dcterms:modified>
  <cp:revision>11</cp:revision>
  <dc:subject/>
  <dc:title>PRESENT  CONTINUOUS</dc:title>
</cp:coreProperties>
</file>