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A202-C0AE-46CC-9232-32E0C07C03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46A6-D2CE-4458-A43B-08C155AF964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CFBF-EC8C-4EDC-B9D6-F7784C717EC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AF5B-1918-455A-A4BD-8FB3AD6237F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DC66-6F17-4A44-88D3-84EB3C456F2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3A13-BF79-42B1-B084-48997AAD4CE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FE07-5418-4DE8-BDAB-4B16325FA4D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8A3-FD06-4682-A0D5-6A4BCCF3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ECF-DA4E-498F-AAEF-02AD496E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646-C960-4B92-9326-033D3158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CD7-E9E6-4FD5-A9B7-7A08FED3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EE7-1574-44E7-8725-059D59CA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E68-A840-407B-9751-029EC120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6E89-8BF9-43B8-AD85-4DAC90C4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4431-1C18-496D-9C3E-D828FEE1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AFF-C46F-43C9-9F31-1653150C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984A-3DC0-415E-BE26-946DEDFA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630-19E4-4404-8CDE-3BB5F3E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DCD-50AD-4A46-8E87-916C0975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6881-6A51-4C3A-A2AD-FFF1D8E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188F-C308-46A2-87B3-26CAB01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E110-33D4-465C-A279-401892EC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C2BA-3D63-4D54-9185-96E36F1F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801B-A513-418B-AF14-ACEB2834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2A9E-3F61-4099-B13E-D3381954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D759-8C99-45C2-A90B-331E178B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E976A-AE18-4EC1-ABBF-B9A44894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B4B9-EEBB-4881-A6D8-06382926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AD18-52F6-4F2A-B4F1-DBF21AC3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00D-AD6F-42A8-AAD6-E5AAACD7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8B41-EF4C-4950-801D-62A0CE71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8193-0CBD-4A2F-BA9E-6A36B55B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BA6B-9CF5-4341-ABB4-928BF7D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65DE-6C77-40FE-B942-93A6380E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67E6-A211-45DA-90AB-EE717163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9CDB-1F77-4B42-A140-74AB2A4A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A128-389E-4E74-B1CF-6839204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0C29-BF29-4965-BA56-7F5992C1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E8402-7102-4127-9661-85F690C5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80C9-D08B-4002-A195-BEE723D3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12C-3B16-4A20-9AEC-F83657F5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6127-B737-4828-BB84-FC2100A8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B418-0385-41F9-B6F7-A8890085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6677-0083-43B9-9270-7DCC5CA8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7AD2-19E2-4B80-8171-12AACDA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3255-B7E5-47E2-9DF4-6CA7AF14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903DF-13F7-4193-ABD4-E6B78B7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38FE-D466-4FF3-9F17-97358BF7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9DCD-E1C4-42E2-86DA-A52F6F23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9422-5664-41F1-BA85-5F7AEF1E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ADA1-6B2A-4A50-9BAA-EA951259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8F7-E9C3-48E9-A81B-24D22DAA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46BA-66BF-42E8-9B07-D81905D2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8DE27-2C60-4A1C-968E-B5450516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E50F-9F12-4FB9-ABDB-465655A4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0839-9C70-422E-AA87-9627C67C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B94B-9782-45E8-9D90-ECC13C42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BF1C-3941-4C0E-9F47-772A868D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EE22-4E01-4F3F-B983-A332E09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1FED-6611-48AA-BFAD-3D9B7E48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9263E-2392-419A-AAD3-DB450837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57E8B-AF37-4B6E-AD30-710920CC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03D-20A3-48AB-B2CC-7CF5824A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166E-BA9C-4EDE-8E26-83B47A9C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6DBD8-AA4F-4DEC-AC21-286EBFC6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11C6-1C4A-4349-AC48-940D77E4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069D-E79F-4274-B776-D6EB8D81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B1A2-ED01-49E1-BDE4-C2822FA9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7100-C50E-448B-95FA-F4349267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07AD-F4A6-4E98-B125-2AA20888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DB4FF-B5A3-4440-A915-D7DFF48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1B4F5-8945-4F02-9396-E99D960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F840-1B41-4972-84C9-867046C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78E-FA9E-4285-911B-1D9A8B2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0097-6DBA-44FB-B021-51393267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1D1A-EFA1-4802-9492-757237DF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78B30-1716-4B7C-A933-E9C3E5B5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91E-D4FD-45B0-AAE8-38C063F2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BF7-2FC9-4E1B-A247-E385F419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14DE-4BA9-49DA-B87D-DF8A344D8C0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50A-FC2B-4ACE-A940-BB7D21EFAFE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4810-2B0A-46B1-8F40-F342D640878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107D-877D-4154-8419-2FF37DE36B2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80B-8ADF-443D-A91E-68E2F968BD3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CC3D-32FC-459E-9C5B-C182509DD59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71640" y="3213000"/>
            <a:ext cx="741672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ow to read the time?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4:4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:5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4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1: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:1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:2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5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9: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w to read these dates?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3.8.197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4.6.1999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.1.19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1.5.1333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2.4.1564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9.11.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druhů číslo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číslovek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Číslovky, základní číslovky, řadové číslovky, násobné číslovky, desetinná čísla, zlom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číslov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ŘADOV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ŘADOVÉ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ÁSOBN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SOBN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ESETINNÁ ČÍS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1773360"/>
          <a:ext cx="7191360" cy="4668840"/>
        </p:xfrm>
        <a:graphic>
          <a:graphicData uri="http://schemas.openxmlformats.org/drawingml/2006/table">
            <a:tbl>
              <a:tblPr/>
              <a:tblGrid>
                <a:gridCol w="2661120"/>
                <a:gridCol w="218880"/>
                <a:gridCol w="431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.ČÍS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IMAL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 = three point one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.4 = one hundred and twenty three point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9 = six point oh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75 = zero point three seven 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LOM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1557360"/>
          <a:ext cx="7772400" cy="4363920"/>
        </p:xfrm>
        <a:graphic>
          <a:graphicData uri="http://schemas.openxmlformats.org/drawingml/2006/table">
            <a:tbl>
              <a:tblPr/>
              <a:tblGrid>
                <a:gridCol w="3598560"/>
                <a:gridCol w="57492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LOMK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C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ha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ČAS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5800" y="1981080"/>
          <a:ext cx="7772400" cy="347508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PAST s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PAST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TO el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en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: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D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5800" y="1981080"/>
          <a:ext cx="7772400" cy="3814920"/>
        </p:xfrm>
        <a:graphic>
          <a:graphicData uri="http://schemas.openxmlformats.org/drawingml/2006/table">
            <a:tbl>
              <a:tblPr/>
              <a:tblGrid>
                <a:gridCol w="2014560"/>
                <a:gridCol w="216000"/>
                <a:gridCol w="5541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 1st   /the first of January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23  or February 23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.19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6, 19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February the sixth, nineteen ninety-se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5:31Z</dcterms:modified>
  <cp:revision>50</cp:revision>
  <dc:subject/>
  <dc:title>PRESENT  CONTINUOUS</dc:title>
</cp:coreProperties>
</file>