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927-0EE4-4E93-8E91-2451457E33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541-D3D7-4B54-A5A1-89A6B0177E5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B94-8382-4114-B620-8DB718E7F2E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678-8650-4545-AD65-41A011AE84E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DAB-528C-4DAC-86AE-D98DCC89A8B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97C-8CF8-4EE0-9EEC-5341AF4AB1E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FDAA-D192-4C8B-BBA3-55AF25A9EC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100-1D2B-452A-8476-1AD7908F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ACE-5A10-4373-90E2-C0691E3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9B2-60CA-4DAE-A488-691B5702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4CB-D042-4765-9B34-7793C1A7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CB9C-F57B-4D36-84DF-199BCFD0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8E4A-AAAD-4DCB-B72D-B1B58C1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9F1-CB7D-492B-9638-A7C58C22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DD4-53EF-4CD0-AB3F-2994E90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32B-0709-4C18-B999-67975A9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E042-614D-4B9D-8774-0EB3DB53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BAA-5181-4BD2-A14E-81A0F13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6F3-3808-4EED-930E-EE75DA0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242-3916-4E0B-B5B7-8F42DDD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42B3-98AA-4A9F-8F36-9003842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9543-154A-4FDB-9479-6E4150CB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1AA5-8A37-4CAF-B088-3038AAAE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0424-DA2D-4E6E-8B2C-9D990011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E167-E183-4373-86F5-02EC9349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00B1-D661-4DC7-8EF5-C5DF2110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1A3F-FA64-4755-83B0-8E078BC8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CE19-06D4-4BA9-9218-AD17E96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EFC6-C0D3-4F9E-ABE5-83F08B5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FE2-5B9F-48AE-AB47-56A9DD9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439F-0F06-449B-8801-5564873A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C3D1-5715-45FC-9F5C-FA33FE1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00FB-6648-4CDF-8B96-6FE8C65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7558-2911-4CD4-9A46-ABE76EE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EAB0-1C2B-4829-9E1D-317486E1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2BEB-8FAF-48A7-A9F8-17D41B5A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B7A5-070C-4AEB-8DD3-C78E59BA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2088-7BA3-4F23-B3DE-C0F8954C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6608-92DF-4040-998E-B7A56A7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9ECD-FD64-4680-B045-D32B8B1E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C6F-4DAC-491F-9E7E-C21E07B6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E851-C1E2-4FD6-A74F-3536FED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7498-8503-4C24-8919-6C91F75E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D040-398B-4F5A-A6AE-148968D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A0E2-AE2C-4B67-AD8C-4D543C1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F998-2D98-43C1-A578-2F890C4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B69C-22E9-4426-A792-1A4575E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43AD-B226-47E2-BC0C-FBB7F1E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252E-785E-4823-95F4-8DC1CB39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8728-A719-4830-90F0-BCE1DAF6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BFE85-2099-4278-B3F1-C943A4A8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0BC-ECE3-4E89-B1A9-EAE856C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78BC-ED04-42ED-A1EC-880D34B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46D42-78F3-4533-B42E-DF2C3D7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B1270-589C-45F8-9F61-1FB04F8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17A1-A379-4042-A370-0D7413A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983F-20B9-4009-A7CD-0A63818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6F10-4BEC-41A2-A463-449B6FF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991B-CB4E-4914-A77E-E180B024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6DA1-F560-4806-91C6-52B0EAA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783D-2682-4194-A2A2-6E72F3A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755F4-D31A-4860-A524-7729529C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96A-924E-4AB2-824B-DF7B155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588F-6191-469B-8D22-555F9643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2FCB-36A2-437F-82D6-1016130D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4F64-B7D2-4D6E-9F3E-9247DC75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A143-28F5-42BA-825B-9C6A0906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76DE-9175-42D4-89A3-E183F40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0F96-46CA-4E98-BCC8-9270407F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2579-3CB5-4936-A387-EC5FE60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87839-3A27-4DC3-B9BD-6128030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D945-D51C-45B9-A921-A29AFE2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E6D0-D71E-4FA8-98F8-0CB2059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51F-912F-4503-B9BC-C41763E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7017-1D57-4A4B-8E3E-5CD95F5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1A40-2069-43A8-A197-A95DD13F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AC63-0D28-4D06-94B4-D0C70D3E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EB6-17BB-4CE0-B72F-BFF30CA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D70-F92E-45B9-A632-C20ED85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021-AD99-46D1-8788-BB93F13E88A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788-8697-4B29-B263-D63079B66CD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656-EE8C-452E-92BF-376435375F8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939-FE94-49D0-B12C-34A170C02E4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9827-2BF4-477C-9D00-F202C1D9A53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0952-C70A-4BC2-B1E7-F8F3DEF3DE3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2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4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NEURČIT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6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ÁZACÍ  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ICH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N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Y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SE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WHI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colour d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ol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ou like?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do you lik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ed or gr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……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….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..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……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zá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zájmen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Zájmena, osobní zájmena, přivlastňovací zájmena, ukazovací zájmena, vztažná zájmena, zvratná zájmena, tázací zájm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zá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4.pá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er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0920" y="38088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stojící samostatně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s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VRAT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4360" y="2276640"/>
          <a:ext cx="7772400" cy="365760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self, herself, it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UKAZ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se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4:34Z</dcterms:modified>
  <cp:revision>43</cp:revision>
  <dc:subject/>
  <dc:title>PRESENT  CONTINUOUS</dc:title>
</cp:coreProperties>
</file>