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845D-CE06-48EE-95B4-2E841878386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84CA-92EF-4C29-8D9E-8D7FE10B762B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D068-8F77-4A1F-BD55-120731D3DBB5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CCB0-F8F9-4374-B059-538809695B34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5C30-D9D0-477B-BBE7-A450427F495A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AE9D-ED36-4BD9-8C68-ED7E3C5A8C2D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BDE8-733F-4478-85B0-B64CE4945F3A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999D-A3A2-4B59-A51E-706271EDD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E9CF-5A75-4B4D-A57B-B49D9688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C795-333E-4A7E-81F8-1C03BD0EF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DB87-F0C5-4F16-B949-CB052DD71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BB84-CD78-4ED0-8BD1-AB75DB85D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46AF-A513-462D-AEBA-4378F045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36BF-B7C4-4896-936C-E92B1CD3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8AA0-FDDD-460B-B9CE-8CE94FCF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37FD-4715-48B3-8BE7-B0FE9F5A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8D4F-EE52-4F3A-8283-E099B667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08CC-2C4A-497C-9E89-C778526A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D480-0C46-474A-8457-6CC088EF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9550-B9DE-4BD1-BCB9-012EA893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C5B0-128B-437C-BAD1-9964EA16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95EB-B945-4B4E-9B9B-B94A64DD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B295-4789-4F19-8C24-95B7AB093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1B8C-A299-4640-AFD4-BBB6AA235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BB7B0-D2C2-4277-8A60-427BA54AD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8A0D0-9C1B-426B-BD8C-45AA3AF4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59C19-8126-41D1-BFA0-9C7F72C1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D872D-19D5-4BA5-ADC3-79D49099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F730C-8DFA-4157-875E-D7BB2BEC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D2CC-582A-4BF6-9955-10FEFC72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58280-5B19-4268-87CA-2590761A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376F5-661C-46A3-8C65-027005CE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42646-30DB-48EF-8BD9-9D16EABA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4F7A0-F738-486D-B63C-64651363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A5B6F-593A-4EA2-8CEB-C1419AA7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8C363-9E8B-4F59-8AB8-6D68F72C8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7EB4F-5D2E-44A0-B950-5AB1A12F7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09485-323D-4841-8EE0-FCC615E73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1399C-DA48-4622-9DC3-2F761089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6CA08-2563-416D-A2DD-4C19C8EC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BBC9-BBB3-4D88-A794-72BA3A01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27CE1-DF30-45E7-934B-4659CD07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13255-F3AD-4424-B0E2-E9F380D8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E03F3-579E-4D81-B217-E4A4FBD5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6B7DC-A703-4895-897A-6398D7CB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07DDE-E2B5-4061-BEEF-519E35B9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8D674-8913-4B6F-8701-9AAEF0DE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3AE12-49E9-4CFF-9C6E-BBA5C928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F003C-BC53-43C8-8E6A-DD5CA2ACF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A0F32-3612-483F-8CDF-5CC856D68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2A440-68C0-4CF0-92D9-2B726A529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4D23-5DE8-4922-A9E7-2EB3C3D8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0E0ED-91E0-4BF6-94E2-50CA0F5E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3AFAA-BBAF-4D99-938D-7909DDD5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4088B-4F3F-4BC0-B0BF-E1C0FD64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38AD0-79FF-4B39-BAC7-56B41A0D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7F5A2-B3F1-4712-8EC8-16AA87FD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9A191-BF6A-4EA2-8A7E-9234DC2A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52FC2-B8CB-41DB-8762-DDB51B65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13161-0AE9-41B5-89DD-049D6577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78448-D50C-434D-AF74-D4AF0715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418D1-F338-4471-A6D1-992F6C943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F45E-038A-4CBB-8E61-5D9F91BC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EEAC7-5427-461D-80BB-1A1B79FAB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7C3BD-60C9-4B79-B12B-7F176FF50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76126-C390-4188-870E-677E8990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197CE-3456-40F0-8F92-4B9D6907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719BE-19C3-4959-B0C1-6C8528D4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2BFA7-CE5E-436E-AE85-7FAA9B8D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C2E41-EE84-4B8B-9666-A8E8BF1C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1607F-8B0B-4F55-98AE-0861EB93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99319-2A2A-49C7-81FF-8719492B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DEB18-02B1-443A-8E33-0FA64B0D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EF40-EF81-4E8B-8B4A-1502F21F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3BB11-CE55-4AF5-8687-5F9E2775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91BFC-7942-475C-903D-9A3C1BB71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C8DE9-EA1E-4DDC-AD24-B731DAB83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3AC1-EF25-4D7A-B34E-F25D5999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D9AE-C969-4718-A92A-71D7EFD8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3F9C-11ED-4F09-988E-E07102FFCAF8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44A0-0D9F-4D87-AD35-E21A8D8789E6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364A-6051-43A9-A4C3-4BA70D0E8E1F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44A6-038B-492A-A459-2D7DECD05807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1829-45B9-4A30-83D5-9538C46A9C1C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62DD-7F8A-406C-B7A5-A0558A58C62F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6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404640"/>
            <a:ext cx="5297400" cy="12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Děj, který právě proběh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s</a:t>
            </a:r>
            <a:r>
              <a:rPr b="0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just</a:t>
            </a:r>
            <a:r>
              <a:rPr b="0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arrived</a:t>
            </a:r>
            <a:r>
              <a:rPr b="0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o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y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</a:t>
            </a:r>
            <a:r>
              <a:rPr b="0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just</a:t>
            </a:r>
            <a:r>
              <a:rPr b="0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called</a:t>
            </a:r>
            <a:r>
              <a:rPr b="0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Děj spojený s předložkami since a f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s been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at hom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since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the mor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y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 lived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n this street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for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a yea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Děj spojený s příslovci času ever, never, already, so far, yet, just a sti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</a:t>
            </a:r>
            <a:r>
              <a:rPr b="1" lang="cs-CZ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you</a:t>
            </a:r>
            <a:r>
              <a:rPr b="1" lang="cs-CZ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ever been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o Londo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s never heard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about u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y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 already sent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Děj spojený s příslovci času </a:t>
            </a:r>
            <a:r>
              <a:rPr b="0" lang="cs-CZ" sz="4400" spc="-1" strike="noStrike" u="sng">
                <a:solidFill>
                  <a:srgbClr val="ffffff"/>
                </a:solidFill>
                <a:uFillTx/>
                <a:latin typeface="Times New Roman"/>
              </a:rPr>
              <a:t>ever, never, already, so far, yet, just </a:t>
            </a: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</a:t>
            </a:r>
            <a:r>
              <a:rPr b="0" lang="cs-CZ" sz="4400" spc="-1" strike="noStrike" u="sng">
                <a:solidFill>
                  <a:srgbClr val="ffffff"/>
                </a:solidFill>
                <a:uFillTx/>
                <a:latin typeface="Times New Roman"/>
              </a:rPr>
              <a:t>stil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n´t written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er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so fa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sn´t paid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for her dinner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ye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y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still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n´t answered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24000" y="380880"/>
            <a:ext cx="8496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Past simple  x  Present perfect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PAST SI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 proběhl a skonč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nemá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ásled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 začal v minulost a teď již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nepokraču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95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PRESENT PERF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 proběhl a skončil, ale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má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ásled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 začal v minulosti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dodnes tr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94920" y="380880"/>
            <a:ext cx="8497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Past simple  x  Present perfect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431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Past simp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brok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my hand last ye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it is not broken now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cooked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inn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opened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he wind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1640" y="198108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esent perfec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have broken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y ha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it is still broken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have cooked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inn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so here it is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has opened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he do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it is still ope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9900"/>
                </a:solidFill>
                <a:uFillTx/>
                <a:latin typeface="Times New Roman"/>
              </a:rPr>
              <a:t>BE CAREFUL 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is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at home since the morn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WRONG! </a:t>
            </a:r>
            <a:r>
              <a:rPr b="0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has been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t home since the morn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CORRECT! </a:t>
            </a:r>
            <a:r>
              <a:rPr b="0" lang="cs-CZ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edpřítomný čas prost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základních pravidel pro tvoření předpřítomného času prostéh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edpřítomný čas prost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resent perfect simp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, který začal v minulosti a dodnes tr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, který proběhl v minulosti, ale do současnosti má násled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, který právě proběh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 spojený s předložkami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sinc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 spojený s příslovci času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ever, never, already, so far, yet, just a sti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539640" y="3499920"/>
            <a:ext cx="81360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Klad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mět + have / has + příčestí minulé (-ed / 3.tvar) + 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94920" y="3357720"/>
            <a:ext cx="84978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Zápor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mět + haven´t / hasn´t + příčestí minulé (-ed / 3.tvar)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84360" y="3429000"/>
            <a:ext cx="77752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Otázk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ave / has + podmět + příčestí minulé (-ed / 3.tvar) + 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23640" y="1980720"/>
            <a:ext cx="856908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Děj, který začal v minulosti a stále trvá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 lived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n London for five yea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s been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re for an hou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n´t seen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im since the last wee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ow many Spielberg´s films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you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seen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Děj, který proběhl v minulost, ale do současnosti má následe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s broken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er ar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y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 closed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 doo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22:53Z</dcterms:modified>
  <cp:revision>18</cp:revision>
  <dc:subject/>
  <dc:title>PRESENT  CONTINUOUS</dc:title>
</cp:coreProperties>
</file>