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248-D101-4513-BC43-E44A40A447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4743-8C15-421C-86F4-B6860DEAAF2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329-E7F8-4279-8CAE-9D46909B7E1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5B60-E74E-4002-8A36-1C6C599D179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7934-B8C4-42A2-A31C-CE72A07F618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0323-F44B-4450-B0EE-03D6C269049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4D10-73CA-4405-B43A-C5EE1854B07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64E-BECE-4092-A809-1FC77CF1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11D-90B8-494B-98F4-B58279E8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783-793F-43CD-B7B4-82B4DDA7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2AF-95A7-4377-9B8D-4830D3DB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2AA9-D1DF-441E-937E-3892D298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F39B-C738-453C-B67E-916CCD54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8FF7-BF51-47BA-8619-BA8CA168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AAA9-F413-4813-95BC-74482246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D22E-FB35-4558-95DB-4825AA23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5D07-BF3C-40A7-97A9-E45483AF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6FE5-4529-495B-950C-0D9FBD2D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16F-C285-4496-A3F3-39EBD9C0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251C-72F2-4B57-9B53-9B9643EE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8BE-5A07-43DE-91B2-281D01B4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302D-8ACD-4CED-B7A8-ADC1170F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93EE-BF66-4953-8F80-8CD4B9BD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768-3793-4645-9CA3-D67414EE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1056-E9BC-4623-9400-23F6D938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5250-6F14-4B8B-A787-F3D88754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0868-C47E-433D-A5BE-2CFB02E0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20B6-FA70-435D-8932-FAD17EC4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D769-A080-4C0D-AE1C-21FFCFF1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634-B62A-44FD-84CC-DD71EECE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76E5-9F94-4C59-B96B-03CB3115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CB82-1486-403F-AF4D-14213196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2705-63FD-477C-827A-B2573574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9820-22EC-420A-A238-C645C96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5B4A-FA3F-4F02-AD16-5665A92A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01AF0-A5EF-40FD-AE2D-44AC35D4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DD87-CF24-44F8-B34D-A3991356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B122D-4205-4529-9C73-EB51C613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D9B3-9BEE-46D1-84D9-86C59693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BA93-94A2-49BB-B41E-21D587BA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F33-ACA5-43A7-9F05-7A86ED08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9FEF-BC6B-41DC-8ADA-03BC0E8A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7026-4059-4693-AE66-BF8D33CB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78CA9-650F-4E6E-996B-A7688C5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906A-00DF-4C45-B217-D486D145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5A21-6C2C-41EA-B44B-2345834F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4EB5-403D-4288-AF81-594AC3E1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2247-8115-4715-931E-BA361DBA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D117-1C7E-4EFB-A1CC-3225FC56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2CC0A-4FA4-4489-B901-251F8EE7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F575-B66B-42F9-82F0-90A8F99E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98C-EFFA-4BC4-97A0-1BB8F706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FF89E-009D-44A8-ABA4-0CD03B33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5519-D94A-4615-A0D2-A4D4AB83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8B1E0-80B7-4ECC-906C-70F1BD40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11A4-969A-4AAC-AC34-D9F0252D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5D9B-F23C-4DC9-8E5C-CEDF3822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B2B9C-25DA-413A-85FC-195059E1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58C5-5407-4491-951F-9CC78562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E52FA-930C-4BA8-B71E-53D2B19D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85203-FA60-4B72-9CF4-401968D1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D7824-A322-44BF-BFA4-A5333049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5D3-B5AA-483C-B188-EB370A88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E734B-DC27-4886-8EBD-81B992D5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9B00D-349B-4C58-A1DB-38DE834C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4C20B-2FAE-4D5B-8E84-D10EA9E5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633F-34B0-41DF-9936-DBB9CD60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0550D-0C0E-43AB-868E-D85E43BB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88E1E-575E-4A9E-ABF4-83E4AB3B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4FA81-ABD5-44F8-9575-6EEE3BDB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7BF25-6F6C-4E23-B2C0-07529CF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10F6A-4A91-4E28-8A94-23D95569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4B9EE-371E-452F-B17E-D60B596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61D-AD81-4DB0-98FB-EE09D8A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23782-0293-494A-B953-B9EF58BF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16B99-E96A-4106-83CC-4AABFA35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C19DA-383B-4EEF-B1D4-22A554B3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F56-7336-40A6-82B9-B9E0891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D3C-7754-4067-8811-24DABC7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C7EA-1B44-42EC-8CFF-58F14CF6021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58DC-A763-4AE6-A9A2-9C19836C719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A450-E7AA-41C8-B16A-CEC16EE14F7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7014-5644-4D5D-B7F9-0DE0D372030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4502-C826-49B6-A0C0-9F27CA2FF46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8D12-D644-44F4-9FDE-7F2E7D1E7A0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edminul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jiným děj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určitým časovým bod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se při vyprávění vracíme v č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budoucí čas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avděpodobně proběhne v budoucn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okamžité rozhodnut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vrzen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lib, nabídka pomoc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GOING TO“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budoucí čas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stoprocentně proběhne v budoucnu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naplánovaný do budoucna (hodlám, mám v úmyslu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8355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časů v angličtin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časů používaných v anglickém jazyce (upraveno pro studenty středních ško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, minulý čas, předpřítomný čas, předminulý čas, budoucí čas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ostý čas, průběhový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ČASY  -  PŘEHLED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Přehled časů v angličtin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(přítomný prostý)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se opaku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becně platná pravid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tav osob nebo věc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ítomný průběhov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ávě probíh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časný nebo přechod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ne v blízké budoucnosti, plánování v diář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pojení s příslovci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minulý prost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proběhl a skončil v minulosti a do současnosti nemá následe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zpravidla je udána doba, kdy děj proběh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minulý průběhov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probíhal po určitou dobu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barvení jiného děje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vyjadřuje nedokonavý děj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PERFECT SIMPLE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edpřítomný prost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oběhl v minulosti, ale do současnosti má 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ávě proběh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íslovci času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ever, never, already, so far, yet, just a st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0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(předpřítomný průběhový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spojený s otázkou, jak dlouho něco probíhá (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how long?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18:16Z</dcterms:modified>
  <cp:revision>12</cp:revision>
  <dc:subject/>
  <dc:title>PRESENT  CONTINUOUS</dc:title>
</cp:coreProperties>
</file>