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7AD8-3A01-4C69-B2D0-6EAF2BB899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42BE-6FF4-412B-B549-F56CFB230C6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1337-893F-4CF8-948A-37F084BD941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0620-D4F4-4D45-AF02-825A5577AD6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92B-1132-4EBF-AF1D-7F5497CFEC3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5A8-FBE2-43E3-A03F-C904A1C4A20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314-5DCA-4708-A97A-2C50C654E33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680-4EA0-414B-A49B-817ACE1C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D4A-47E3-4E1D-A3B6-463D4564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D8D-3E52-4F2A-8A89-E3B7492E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D0E-B3FC-4CAA-828D-6EAEF257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0826-FB0B-47BF-93BF-1A19598C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55F5-EAAF-4D56-B403-9A889BA4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D61E-9413-4B5B-A50B-0B045786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A5D1-51EB-4B9F-95A1-B946CE61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4189-47B6-4681-9FB1-33CE48E9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A5DC-D574-4EC0-BCB3-DBE47138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A9F-6490-4413-81FE-E20EC29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D5F-C342-46CD-97B9-0E525150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1A31-1A32-40BE-889C-6BCBCC6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91A5-727F-41D2-BB9E-92C9CA19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7097-F035-42B9-8C09-C9F5C891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DA9C-264D-47DB-BB1B-003272C1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53A6-2FB3-4A7E-BF1C-3F424438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AEEF-8020-45E9-9833-8F99A09F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314D-B640-4D19-93F1-86FDC298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BA22-F425-4919-9D73-D11583BD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59C0-13A7-4A54-A599-5FA14B36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F589-FE1F-4046-A39D-7504E709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AB0-E49B-4BEF-988A-C8BDCDCC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05F9-8A04-401D-A925-462E72BE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24E6-E212-478E-ADDF-BC9E2F4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3F2C-9CEB-4281-B6FF-2AC3A6B4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1827-D733-4E88-B68F-4A533B9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BCA2-7904-4A54-B406-62838C30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646C-E3E9-4894-9CCD-A5F4918A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7B3D-30F8-4A04-8F10-E02B96DF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AA94-26DD-4EDB-AA2D-84F56FD2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D350-EA7C-49AC-8304-567BFF11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DD29-EDA5-494F-902D-59F35A30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DF1-FE77-4C3D-9367-A4D29FBF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5C75-4016-4B3F-B3CB-E64E0CF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AD78-4141-473C-9A8F-686CF1ED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A6832-18BA-4216-BE13-E97E3784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DBFE-3B60-491E-8229-C0B36914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508B-378F-4244-82D0-70D690B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DC4E6-C0A2-4790-830E-233BF44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41D1-DB4F-4617-B40F-A88FFC29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637D8-1703-4821-8536-6A05C36C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1FC9-76DA-4109-B94A-371DF0A2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4A8B0-A79A-4DB8-8BAC-5C6AFB22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6F8-C85A-4938-B54D-6F11DCF4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F43C3-EE4D-4BDE-B662-B75BE8C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695CC-23EF-4FD8-8FD6-5F08FB6E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8CFD9-6503-4272-BCB1-405CABFB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7B57B-9139-43B3-AE8E-0F08C3C3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DEF7-6DAE-45CB-85E2-4F7A6681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5292-81F6-4A2C-B72D-3EB71800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B36A-BA10-439B-A26F-0271A86D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A4B89-C44C-47DC-82FC-83744C5F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33982-E2AE-4A41-A96C-6AFBBF29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07920-3BFB-448C-BB25-62959271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02F-D1FA-42E9-9337-ECAB81FE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F453-9EC3-4234-B305-6E5F2531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E4A1-0B0A-4740-A584-6B6E8976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3815B-5216-4B95-9244-2BEC7510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8BC7A-B786-41E1-B989-12D8B110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8D988-4F24-46FF-B705-A74A21E1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5783-5F93-44BF-AF9A-450903B4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CDA6C-C51E-4D03-9F6A-E025CAE4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58CAA-ABD3-4BFE-8BDD-C0F3DF9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CFFEF-07E5-4C4F-BD6E-A1147D7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77C1-7B08-48C3-9278-E54D1D30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FCE-0D76-44C8-BFF3-3B653141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7ED7-50DF-4288-AA29-2C62D912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C1CD-6D20-4638-A69B-947302BC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1041F-848C-45B3-B6CF-87C63B8A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024-6E84-4A34-8A29-BFC50C46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5A5-B3D7-46E4-875B-2E3D64E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0F26-80F3-4665-B855-D2AA0244B97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039F-2C35-489D-B935-099839EF24E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9374-5886-44EF-A2CF-E27C40F2FA2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7866-D703-4873-A980-CE11A79344B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1146-0C01-49FC-A64D-60FE2335928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7391-742B-478A-A6E5-F5DA35C6779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8355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 pomocí „to be going to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budoucího času s použitím vazby „to be going to“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uture te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05740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stoprocentně proběhne v budoucnu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naplánovaný do budoucna (hodlám, mám v úmyslu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499920"/>
            <a:ext cx="820908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00000" y="3428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NOT 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23640" y="357336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...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stoprocentně nastane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 is so dark outside! It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is going to ra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ook at the boy, 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s going to fal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ff his b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s going to hav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ab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 naplánovaný do budouc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are going to mov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Prague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 am going to stay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s not going to sell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er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6:08Z</dcterms:modified>
  <cp:revision>12</cp:revision>
  <dc:subject/>
  <dc:title>PRESENT  CONTINUOUS</dc:title>
</cp:coreProperties>
</file>