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55A2-2D43-43A4-84FA-0B5A5B7B1A9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B9CB-F2FF-47D1-90CB-0D5313B4A3F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0377-986A-470B-A779-AE7378C1115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E33B-61EE-48F6-A7FA-78F3E32A4CD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05A7-B24B-4530-AA76-F8AA0DC0BC4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F471-F571-4E9F-99F6-4CDC12083A4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CB22-585F-429F-9573-D305566B3A5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69AD-24A5-41BA-B6B5-8775E185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6C4-B291-457D-9DDD-51421CAB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DF4-F103-42AD-A7C9-808A989A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2B72-D268-4482-867A-3E68B6A2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3916-9F71-481B-9C54-DAC2C24A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47A8-4846-4A0B-8E51-D442A4E0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FEEC-6A74-4A23-8235-D186BD03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9453-3364-4BAD-B276-2306D573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B1EB-D908-4645-981B-C83E407E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DE12-9B73-43CA-BE6A-45B74A5D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364E-9A10-47EF-AB6A-C710504A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15F-DB63-4AE3-8A1D-BF84A0BF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9CB3-0558-4294-A4DC-C314EFA3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E760-F06A-4C4A-8A3A-4F13F3C3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1D07-8B01-4C40-AE09-56E1626A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449A-65A1-498D-854B-F0247EAF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39F3-FC45-436A-B086-3C1D4DC4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3C8F9-6E6F-4BA3-AE3E-9FFEB10F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F28C-ADAE-43E9-AEA9-9660A579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30F9-1376-464F-983A-F049C58E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18D47-F9DA-489A-B30B-8ED95E22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A6D8-0D99-44C3-B82E-03BCA3A3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A3E8-D167-49EF-B074-8E9A17E3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38D81-C945-46C4-9BDB-25E98B28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0ACE9-B0D5-448A-9F69-D4EDE205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6D1BA-7C0D-48EB-8C04-46EE3FF4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036A7-7C12-4323-82D5-48EC6DFF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098DE-8794-4076-8E95-28F170CA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F8479-E415-455B-BAA1-57F9B4A2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FB9A5-CEBE-437A-AA25-1149B905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E3D3F-6237-4C45-BF0C-1EFB3AF3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F1230-F2B9-471E-9608-B8ACDB07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F2495-3ACA-48BA-B204-E6462DDF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600-3F62-4EF2-B8AB-1D961504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788BE-F615-4A06-8A7E-A4EC69CC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3736B-C435-4CDB-A310-661C7DAE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53DBC-2869-4FD0-9712-3DA2C62C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CF6A8-A984-4772-AF95-5DE30C2A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E92F5-BD62-4C8F-B667-B12378DC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899A7-73E7-416A-A6CA-F8FB996D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D0BCF-62A4-4A45-8225-F42EA539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9F9CC-515C-4B64-A8F9-D36C5EE7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F95D-6426-4011-8F4D-2D126436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D8737-AF2F-42A2-90CC-7F78CAC7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C12-E742-49FD-95BD-3FD948A4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DD59-7EFE-4440-9B84-2D567AA3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708EC-4A13-4A99-ABA1-E0A52E0D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2AABA-9271-4737-9CE0-84C0E4AE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EDD79-456B-43F2-A60F-846A0303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4400E-17E5-4DDE-AD75-DF368C38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50986-92C2-4A24-BD58-9B4BCEC7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3B1CE-B7D0-4C6F-B071-7C970AD8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F20A9-32BB-42F7-B096-BC1571C7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18B96-3745-4199-A2AF-98F20F19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9F0C6-17C7-4102-B42B-6DAD60C8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702-E3F7-40C8-A330-28C62CA7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EDE41-974C-4588-B6E4-ED546969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E8E01-0057-4AD5-AFA2-E2025500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29300-3EF6-45CE-A3A1-A75DD858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B596B-8EBC-474B-BE80-CEED1FD7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35163-E0AB-4989-8566-0D3AD016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2C5EE-9F2F-45DC-AF14-DAFE737E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BDB08-1B23-4387-B1C7-ACACD196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108FB-6C20-4438-B18F-FB6FEA95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A47D3-3978-4439-A5EF-7C7B5AFE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50C6D-9368-4956-A80B-C502114A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E15-4D41-45CF-9130-D9755890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1E91F-1F45-4F49-87E5-0BD212F1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43F10-5924-4594-A388-7DBF69D2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3D2B3-834B-4B72-879F-E29F4989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462-F30F-419A-A334-92651783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0C3-314F-463D-8096-6417307E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E726-F003-4907-9336-3CD6637A76A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ED3B-312D-49A0-849F-CFEB9C36820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73AF-5B9C-481E-BE37-C80826FDC821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6738-EE13-412B-BD0C-9065B0C3F8E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8884-BCF9-4901-B7DF-6263DF60E66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D600-F983-4F2A-B009-A26F20D5F50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Víceslabičná přídavná jmé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r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wor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Víceslabičná přídavná jmé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fur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furth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ake comparatives and superlativ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68000" y="2781360"/>
            <a:ext cx="8351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mportant                  …….                 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at                             …….                 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oisy                        …….                 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all                            …….                 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Šipka doprava 4"/>
          <p:cNvSpPr/>
          <p:nvPr/>
        </p:nvSpPr>
        <p:spPr>
          <a:xfrm>
            <a:off x="2916360" y="2948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Šipka doprava 5"/>
          <p:cNvSpPr/>
          <p:nvPr/>
        </p:nvSpPr>
        <p:spPr>
          <a:xfrm>
            <a:off x="2916360" y="3546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Šipka doprava 6"/>
          <p:cNvSpPr/>
          <p:nvPr/>
        </p:nvSpPr>
        <p:spPr>
          <a:xfrm>
            <a:off x="2886120" y="424332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Šipka doprava 4"/>
          <p:cNvSpPr/>
          <p:nvPr/>
        </p:nvSpPr>
        <p:spPr>
          <a:xfrm>
            <a:off x="6012000" y="2933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Šipka doprava 4"/>
          <p:cNvSpPr/>
          <p:nvPr/>
        </p:nvSpPr>
        <p:spPr>
          <a:xfrm>
            <a:off x="6012000" y="3552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Šipka doprava 4"/>
          <p:cNvSpPr/>
          <p:nvPr/>
        </p:nvSpPr>
        <p:spPr>
          <a:xfrm>
            <a:off x="5979960" y="427032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Šipka doprava 6"/>
          <p:cNvSpPr/>
          <p:nvPr/>
        </p:nvSpPr>
        <p:spPr>
          <a:xfrm>
            <a:off x="2867040" y="488160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Šipka doprava 6"/>
          <p:cNvSpPr/>
          <p:nvPr/>
        </p:nvSpPr>
        <p:spPr>
          <a:xfrm>
            <a:off x="5951520" y="488160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tupňování přídav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pravidel pro stupňování přídavných jmen včetně příkladů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tupňování, přídavná jména, comparatives, superlatives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ŘÍDAV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tupňování přídavných 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STUPŇOVÁNÍ PŘÍDAVNÝCH J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689040" y="196848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Krátká přídavná jmén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68000" y="2781360"/>
            <a:ext cx="8351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trong             stron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tron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ast                 fast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ast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ong                lon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on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ight                light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ight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Šipka doprava 4"/>
          <p:cNvSpPr/>
          <p:nvPr/>
        </p:nvSpPr>
        <p:spPr>
          <a:xfrm>
            <a:off x="2050920" y="294804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Šipka doprava 5"/>
          <p:cNvSpPr/>
          <p:nvPr/>
        </p:nvSpPr>
        <p:spPr>
          <a:xfrm>
            <a:off x="2050920" y="3546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6"/>
          <p:cNvSpPr/>
          <p:nvPr/>
        </p:nvSpPr>
        <p:spPr>
          <a:xfrm>
            <a:off x="2050920" y="424332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Šipka doprava 4"/>
          <p:cNvSpPr/>
          <p:nvPr/>
        </p:nvSpPr>
        <p:spPr>
          <a:xfrm>
            <a:off x="4932360" y="2933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Šipka doprava 4"/>
          <p:cNvSpPr/>
          <p:nvPr/>
        </p:nvSpPr>
        <p:spPr>
          <a:xfrm>
            <a:off x="4897440" y="3546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4"/>
          <p:cNvSpPr/>
          <p:nvPr/>
        </p:nvSpPr>
        <p:spPr>
          <a:xfrm>
            <a:off x="4897440" y="4221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6"/>
          <p:cNvSpPr/>
          <p:nvPr/>
        </p:nvSpPr>
        <p:spPr>
          <a:xfrm>
            <a:off x="2050920" y="488160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6"/>
          <p:cNvSpPr/>
          <p:nvPr/>
        </p:nvSpPr>
        <p:spPr>
          <a:xfrm>
            <a:off x="4897440" y="48974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Krátká přídavná jména</a:t>
            </a:r>
            <a:br>
              <a:rPr sz="6000"/>
            </a:b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(pravopisné změny)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arge              larg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r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arge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ig                 bi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ger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g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ea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              eas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eas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gr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              gre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y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gre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y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Šipka doprava 4"/>
          <p:cNvSpPr/>
          <p:nvPr/>
        </p:nvSpPr>
        <p:spPr>
          <a:xfrm>
            <a:off x="2268360" y="2924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Šipka doprava 5"/>
          <p:cNvSpPr/>
          <p:nvPr/>
        </p:nvSpPr>
        <p:spPr>
          <a:xfrm>
            <a:off x="2268360" y="3548160"/>
            <a:ext cx="978120" cy="482400"/>
          </a:xfrm>
          <a:prstGeom prst="rightArrow">
            <a:avLst>
              <a:gd name="adj1" fmla="val 50000"/>
              <a:gd name="adj2" fmla="val 5022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Šipka doprava 6"/>
          <p:cNvSpPr/>
          <p:nvPr/>
        </p:nvSpPr>
        <p:spPr>
          <a:xfrm>
            <a:off x="2268360" y="426564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Šipka doprava 6"/>
          <p:cNvSpPr/>
          <p:nvPr/>
        </p:nvSpPr>
        <p:spPr>
          <a:xfrm>
            <a:off x="4908600" y="4203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Šipka doprava 4"/>
          <p:cNvSpPr/>
          <p:nvPr/>
        </p:nvSpPr>
        <p:spPr>
          <a:xfrm>
            <a:off x="4908600" y="29242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4"/>
          <p:cNvSpPr/>
          <p:nvPr/>
        </p:nvSpPr>
        <p:spPr>
          <a:xfrm>
            <a:off x="4908600" y="35481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Šipka doprava 4"/>
          <p:cNvSpPr/>
          <p:nvPr/>
        </p:nvSpPr>
        <p:spPr>
          <a:xfrm>
            <a:off x="4908600" y="486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Šipka doprava 4"/>
          <p:cNvSpPr/>
          <p:nvPr/>
        </p:nvSpPr>
        <p:spPr>
          <a:xfrm>
            <a:off x="2268360" y="48927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Víceslabičná přídavná jmé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ere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or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intere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most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ntere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Víceslabičná přídavná jmé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eauti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or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beauti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most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eauti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Nepravidelné stupňování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g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be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b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1:36Z</dcterms:modified>
  <cp:revision>38</cp:revision>
  <dc:subject/>
  <dc:title>PRESENT  CONTINUOUS</dc:title>
</cp:coreProperties>
</file>