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70C-1B94-4BF5-B970-26BA196883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F73-7CA2-40ED-86D9-1DB7EAD1B12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55F-81AE-40AF-9471-918F10FD05E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1C2-28E9-47F1-AA2C-7FA19ACB54F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204-8C4B-4D98-9170-AF55E9AEB23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556-585E-4040-A93B-77731D43ED2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67C7-951A-45CF-A226-3954BD38606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35C-CEBA-4A21-80E2-7022E381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12B-E4B3-4403-964F-D7C76D0D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4B4-5D52-4D73-A8BA-2F58C060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C16-848A-461A-9145-305B332B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8C1-4252-422D-ABF6-60A901B5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C4B9-AE0B-4346-8597-5BBF217F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7014-62FA-4FCA-943E-1087436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AC5-B87D-4F08-9409-F0502455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3ACE-EA93-4378-A1C5-ABAA41D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BC84-CFFE-47E8-84A0-40B1809E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46C4-A043-4637-B5B9-DF40D88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B51-5998-4268-A3A9-8044D56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DCD-83B5-45FF-935C-0FE0701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701-2B4D-4C42-B5F9-0F04AC0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615-9215-4B80-8D54-FBCBE77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48B6-195F-4EF1-B430-04F9EA3D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EE9-D2E9-4582-A0B6-78BB63F1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CB4A-D20C-41A0-8D71-64F5CF5A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8D41-ACF0-45ED-864F-596CAB7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D16C-1BD5-4E46-A014-B3BC52D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3815-91D1-4C8C-9C22-E23FC157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949C-9EE3-41CB-AEE7-9051EDC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02A-8CC2-4A3C-8DA3-EF3F61A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4CE2-0B5B-44C6-9B3A-ED0E216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8DEC-3035-4D2B-B9C2-E25DC35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B136-7FAF-43C0-916A-5A1FC6F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A96F-DCAD-41FC-B337-4294417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A75A-9081-4E6C-AAE3-6255C1B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D8B6-AD0D-4808-9D47-B291FACC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C603-1464-463D-95D4-FBABBB64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6A3A-F339-448E-B328-1A96D3CF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6867-B4C8-415E-91FF-D8D56EE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2DF8B-83FD-4C60-85D6-672D161F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E1C-1607-47E5-A534-0EB35215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EE69-1CA4-42CA-95B2-91B307A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8E9D-D88F-4940-A1AB-F8F83EFD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9225-851E-4C5F-AD87-C6B0FCA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B213-74AF-4861-930B-90C87D9F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5075-F23E-4651-B00A-F2CFB38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B71C-C682-448F-A6D8-C3F9BEA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AF95-A8E4-47A5-B5A1-3B7AF85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B77F-A3FE-40F8-9481-FF56D715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844A-5A16-4A67-A7F0-DAEBC380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E56F-63B1-4CDB-806F-CE491E45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3CD-C4F4-4ADB-A750-856A24C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DA56-4A3F-4CBB-93A5-51DA137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45C3-F60D-4030-9529-6A870D5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4EFD-C1E9-450C-8CB9-3885730E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AF28-251F-4D79-90EF-F8DD85E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B5E5-2171-4BC8-934A-97D3A1C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BDA0A-90B2-4479-9F93-5389619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0ECA-3FD2-4BFF-8026-172047C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DE61-42BC-46BD-9468-0150282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FB66-2C81-40B7-8700-27D5F89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865A-EBC6-4B26-9986-868BB7C5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A8C-54C8-4729-AEC5-F534168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662E-24B7-4095-8618-1D4B4129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4B55-8830-427C-94AA-F57F4EB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1711-4FC6-4B9E-A0B9-3B2FDEC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DAE9-6913-48A5-B604-1177E26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3D08-4DC0-43BB-BA57-625C30D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8CF5-5C23-4117-975F-5434F94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A09F-B832-4B3A-B5B2-D0FECE4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C743-651C-4EC1-B6B2-B1CFFF3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D900-5334-4870-AD58-D3543E5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248E-8129-499B-8E4C-065C8DA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B1A-6C6F-43E9-BF87-2A697B3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5FB0E-DCB5-4B84-ACE4-21998FD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0647-9E9C-468D-9BB4-B71F756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E2D5-7C93-45B2-AC2A-F0462F5E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42F-88A4-4A22-B26B-C33EFB8C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3D4-B59A-430A-8384-4577DF1B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608D-ABCC-48B2-814C-4B55EA1D179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AFC-C417-4E17-A5B9-7C55C2B9DC6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72DA-117B-480D-934E-B91A0E70C20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9221-DCF3-4056-B42B-BCF48AC814D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276-3CBD-4393-A68C-935B5E0CA53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0635-FFEF-4505-8294-40158FEBF80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uggag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ffic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us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cener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tertainmen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UCH, MANY, A BIT OF, A F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000" y="2492280"/>
            <a:ext cx="381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Times New Roman"/>
              </a:rPr>
              <a:t>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2491920"/>
            <a:ext cx="432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00"/>
                </a:solidFill>
                <a:latin typeface="Times New Roman"/>
              </a:rPr>
              <a:t>NE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LIT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NY   x   M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ir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FEW   x   A BIT 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tato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a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co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policem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ugg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informat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hot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eache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cof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mone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ollu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ap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gam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ost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ravidla pro počitatelnost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á podstatná jména, nepočitatelná podstatná jména, much, many, few, littl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 few, a bit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čitatelno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3" descr=""/>
          <p:cNvPicPr/>
          <p:nvPr/>
        </p:nvPicPr>
        <p:blipFill>
          <a:blip r:embed="rId1"/>
          <a:stretch/>
        </p:blipFill>
        <p:spPr>
          <a:xfrm>
            <a:off x="676440" y="2425680"/>
            <a:ext cx="7887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42560" y="3573000"/>
            <a:ext cx="74898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me počítat po jedn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voří množné čís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 před nimi stát neurčitý č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76327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y             two boys            thre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ok             two books            three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ed             two beds            three b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se zářezem 1"/>
          <p:cNvSpPr/>
          <p:nvPr/>
        </p:nvSpPr>
        <p:spPr>
          <a:xfrm>
            <a:off x="2411280" y="3681360"/>
            <a:ext cx="720720" cy="3668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se zářezem 4"/>
          <p:cNvSpPr/>
          <p:nvPr/>
        </p:nvSpPr>
        <p:spPr>
          <a:xfrm>
            <a:off x="5211720" y="3732120"/>
            <a:ext cx="719280" cy="3668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se zářezem 5"/>
          <p:cNvSpPr/>
          <p:nvPr/>
        </p:nvSpPr>
        <p:spPr>
          <a:xfrm>
            <a:off x="5637240" y="4535640"/>
            <a:ext cx="719280" cy="3650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se zářezem 6"/>
          <p:cNvSpPr/>
          <p:nvPr/>
        </p:nvSpPr>
        <p:spPr>
          <a:xfrm>
            <a:off x="2627280" y="4535640"/>
            <a:ext cx="720720" cy="3650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se zářezem 7"/>
          <p:cNvSpPr/>
          <p:nvPr/>
        </p:nvSpPr>
        <p:spPr>
          <a:xfrm>
            <a:off x="237960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se zářezem 8"/>
          <p:cNvSpPr/>
          <p:nvPr/>
        </p:nvSpPr>
        <p:spPr>
          <a:xfrm>
            <a:off x="521172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8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me počítat po jed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voří množné čís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 před nimi stát neurčitý č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water ??      one water ??    two water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snow ??       one snow ??   two snow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S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Veselý obličej 2"/>
          <p:cNvSpPr/>
          <p:nvPr/>
        </p:nvSpPr>
        <p:spPr>
          <a:xfrm>
            <a:off x="3944880" y="510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l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ilk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0:32Z</dcterms:modified>
  <cp:revision>36</cp:revision>
  <dc:subject/>
  <dc:title>PRESENT  CONTINUOUS</dc:title>
</cp:coreProperties>
</file>