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DD238-BC43-4E13-B4E1-0A7C8F51ADE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84AE8-4917-42F2-9973-51E4D4AB4728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0A8BE-57AB-4978-A70D-4A71B77807EE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14271-4AF3-494A-AEEC-DCF1647D1FD5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20A91-4E19-4758-AD82-54C48130093D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9BB6F-0E8B-43FD-8793-F64B623A2D6C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D8F5F-1472-48B9-B8D1-596CC9913D53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B8AA-6D64-4DF1-8D78-0EBFFBEFD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AA61-15C4-48F0-9999-2A7993A3A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8E7D-8286-4ABF-AA7E-FC336242C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16DD-9EE3-4DC4-A07A-757FE0A0F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30A6C-E7F4-441C-81E9-91FBB0CF1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2FE03-3715-433B-BEEB-2B5E56C5E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F36B8-CD5B-4064-A165-87EF60757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CF82E-9596-4446-A821-918C860A0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1A703-2C37-4001-9112-9B3E983EC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21590-D6CE-4D83-9B67-CE79C561B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EF7E8-A458-47AF-B90B-755547DB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AE8D-D7DB-42F4-823F-6610EEC41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D3FD0-9A1F-4080-B7FA-66C90453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2C855-5AC9-44D7-A86D-064CD0C7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F9F92-2834-4DCE-8D3D-0236A8F8B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F1E2F-F9D1-4ECC-A000-D86A9A7BB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D8F05-3BB5-4688-9ABC-6AFCF9409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68742-C2E1-4CD6-88D2-D35FD3E3F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6CBAC-895C-4336-B0CB-07F02101F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F20ED-75BB-4BA4-A0CF-D45D13462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B5216-07FB-4E1C-A7D0-5921E705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6ABEC-075A-41CB-955F-DD1931498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E5B0-A40A-4DC9-902E-A3BEEC001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F3101-E8B4-4EF0-88EC-57FA95400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50262-7384-4EFB-BF69-3BC9871E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DFB3F-DEB3-4605-A5C2-3A66C588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61B2E-C2FB-4222-B4CF-6F951A55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E6CED-1B26-43A2-AB78-FA06176BE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FD7B6-EF92-45B6-9224-CB2091245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F3830-FB17-469B-A8E7-2B4CC232B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7A26C-5626-48AF-ADC0-014B326D6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31AD5-0879-4A9C-B849-B4A840EA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A671D-4B76-49A5-AAA7-4D60AE933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CB2A-0D9E-4E36-9D61-26F3E2D74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CCC78-C61F-4E8A-8D26-47ABE20A4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1E718-612E-4CB9-BE30-3C61F342E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C3EE0-3FA3-4FEE-BC90-D4D9B330A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42833-C76D-4821-B097-10DEB640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09E78-320A-4758-B190-8CD0899A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EBB29-3E49-4F3B-B5DA-E14E38D9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38436-62FD-40A5-9DA2-B609B0005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12598-7A7C-4977-B9F6-B46A2F2D7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D6117-AEDA-44B7-900F-9475F685F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C604C-1CC1-40C3-AF55-C2AA34CAC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2ACC-56B3-4384-A0E7-4A1BC9798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AC202-E8B1-4A8F-A5D3-13D3C7D6C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3A5B3-5837-4CDA-BD90-55E9C49D0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22786-C6C6-4498-AC4E-597C91A4A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C6298-C97D-4568-881B-AE0B1A1D0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D560A-A434-4114-95C4-9C881A572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42636-F432-4F9C-B789-FA5C24AF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66123-B4E8-4B57-A1B7-3518A04A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46B77-93BE-4116-9F86-8C5B7DB7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244D4-B8F0-4345-BAFD-B2D311D70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E05DD-E239-4376-930C-D8E58C1B9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C03C-F918-4309-B04C-CB1FFE4E8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A1EE5-6614-4E67-BE36-6B3F83CE7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FCD5F-6658-4B54-905D-DBC97AC97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133F4-5758-4314-8E1B-55ECF31B2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FD5EC-CB7E-48C0-97D2-C2277A513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7A7BB-92BF-4B25-BFA8-62028CB68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25DBB-0F12-40FB-A51F-D53FA1D1C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DB5C0-E140-4954-8FA9-19ABB2DE5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03E1C-76B8-447C-B975-70E38B25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2D084-DF66-4AFC-A08E-4E20D66B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F1881-2232-45F7-8971-400F94A3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7E33-1B15-4AF7-BD36-8519A0C5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7CFCC-AF0C-4B48-8988-C82E37406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DD279-EF7C-49A1-A734-FC2E7213E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98B8C-0960-4C66-B31C-94F20320C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B8DB-48F9-4234-8A06-08868F52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3887-BC99-4AE8-8B6F-2B449FFD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EFF7A-7BD8-4065-93F4-91D491C5F204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23D83-A09B-48AA-8EAC-E66CC0FCDAAE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B32AA-BC12-4D59-A207-36056AEE6A8F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48D61-ADBA-4C09-BC53-EB2A1ABD1C4B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CC52C-CB13-452A-82F9-5CD2DA3286EE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BC689-33B2-4133-A05D-4735E1D811A3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4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A/ třetí ročn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6 / 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2354400" y="33336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258920" y="1700280"/>
          <a:ext cx="7416720" cy="4667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ředminulý ča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 k zopakování znalostí a procvičení gramatiky. Prezentace podává přehled základních pravidel pro tvoření předminulého času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ředminulý č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ast perfec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2354400" y="18900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AST PERFECT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AST PERFECT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děj, který proběhl před jiným dějem v minulost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děj, který proběhl před určitým časovým bodem v minulost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zpravidla se při vyprávění vracíme v čas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AST PERFECT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394920" y="3573360"/>
            <a:ext cx="8497800" cy="22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Kladné vě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podmět + had + příčestí minulé (-ed / 3.tvar) + ..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AST PERFECT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94920" y="3573360"/>
            <a:ext cx="84978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Záporné vě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podmět + hadn´t + příčestí minulé (-ed / 3.tvar)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AST PERFECT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395280" y="3645000"/>
            <a:ext cx="8137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Otázk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Had + podmět + příčestí minulé + ..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AST PERFECT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68360" y="1980720"/>
            <a:ext cx="81360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Děj, který proběhl před jiným dějem v minulosti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efore she came, she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had called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 read the magazine I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had bought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last wee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he train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had already left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when we arrived at the st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18:42:49Z</dcterms:created>
  <dc:creator>Martin</dc:creator>
  <dc:description/>
  <dc:language>en-US</dc:language>
  <cp:lastModifiedBy>Igor</cp:lastModifiedBy>
  <dcterms:modified xsi:type="dcterms:W3CDTF">2013-12-28T12:24:30Z</dcterms:modified>
  <cp:revision>15</cp:revision>
  <dc:subject/>
  <dc:title>PRESENT  CONTINUOUS</dc:title>
</cp:coreProperties>
</file>