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2ED5-6738-4BB1-ACC5-DCFBFEFB40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E81C-844B-4375-9FFB-C11132CD65C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D21-ED9B-4580-AD22-10E2F013F98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D9D-7B3D-4AB3-82AD-BA5F9592998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3CC-B0FC-4BCA-AC92-D4A75E0B47D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2FE-F604-47D2-BED0-C9BFB3909C6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03A8-818B-499E-8DB9-4FE2A838FE9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51A-EA09-466E-B794-88C89C84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C94-C11F-487B-A9B1-C82B8F0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36C-9EE8-49AC-BE00-90D97028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142-EAAC-4EB9-9939-77B70735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A4D-056D-414D-AC55-CB2E5721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573C-7853-485B-8DD4-7476A293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0543-67FA-4B8F-834E-1DFAB9C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2BDE-3FE6-4C8E-B8F3-D7D16ADC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540C-E338-4052-989B-54EE91B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7A50-32B2-4299-A06A-07D0663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7616-593B-48E2-B66F-D2855B2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D9D-B1DE-42AE-A786-B7D131A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CD9-1DDB-4186-80B3-1D21785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5E19-946F-46B2-A6EA-654053F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A10-5D3E-4883-82F1-FD9AB6F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FFF-9BB8-4B06-A7CF-8EFC61F4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56F-084E-4C03-9C8E-8797D245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48C2-7C3A-4CC0-A886-1BDF6BF0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6D98-E2CE-4D38-AA21-91095113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2DDB-70D9-4624-9570-D8EB1F5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F4BF-BFE7-482B-BADA-33102A4C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0176-08B5-4762-8AEC-E5FDD914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1F-6F81-4E62-B2C8-1077FD2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9902-30D7-45F1-A3CF-84CE701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CAC0-4C53-4605-BBFB-083C22B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8D4D-9218-47C6-9A96-BFCC9D9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13D6-B629-43E7-99D8-1D92BD6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2D96-3301-4A2C-B4C4-0EE2C89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2203-B0E9-4610-AADA-25E76457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FDE6-A001-41E0-909C-EC1C950E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DC3D-958E-4519-9477-1CCC18E0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9CAA-6803-4316-9FDC-699ADE7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0D9D-B13F-4E0E-9AB1-4F832E97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E02-4D60-418B-93BE-8760601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378B-2C92-4928-A852-BF2280D7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3F04-55E3-40C4-9726-F6B765D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2071-09DC-42D1-89D7-BE68FE1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BE3F-D45D-41DD-A5CB-C88C044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7A74-87DD-4F34-BBA3-15E90DC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04B6-671A-432C-BD62-3406C47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7654-17A5-4931-858D-CF33FAEF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91E8-D570-4A10-97DE-73142074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F6527-A99F-43C2-A531-26B67448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AAD7E-B253-4BDE-B581-EF95F89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794-9945-42B5-B9B0-C8F3C1E3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BCCCB-9F6C-4E8E-8ABC-E6EB40E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BB58-8C84-49BB-92B3-DEA60C1B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348A-368F-458B-87E6-CEB8D5A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CA3E-3C83-4D33-A4B1-4A0B945E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64F7-048A-498B-B47F-56333A8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320F-2D3A-4ECE-BF58-EA28D5A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02B8-84CB-4ED8-84C2-44E4620F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78EE-8090-4FDB-A001-1B6DA58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2FC6-0D95-419B-8F18-B2426B1C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A0DE-4BF6-4F35-82E7-F27F4AD9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52-2F47-4A3D-889F-6F701ED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160A-156C-45C3-A501-32838C97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9E2D-A9F2-4B03-9345-1C8A90B2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16CA-6ACD-4240-9BA3-C648202E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D546-97E8-4F4C-8A82-08F3596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5A90-4414-46DB-9B2C-BC36F70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491C-9F46-47C6-BDFD-CA73BC6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8AFF-BF9B-40BE-8002-5A2747D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229E-828C-4D82-8B5E-6EF5268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DFE1-2326-4F62-A747-4A425497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162C4-2308-4A20-BB0B-441700A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793-00FC-44DD-BD52-A2EEA2C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0C584-1424-430E-9E19-30474416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9B55-5080-4783-B877-0099B2A6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1464-3A5B-4E8F-B2BC-0BE99569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0B4-5341-4777-A962-2473613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D42-DDDC-4254-BF5C-46EE77D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AF5-D3D9-4614-BB7B-ECB677CA82F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C76B-022B-4DC0-950F-F093B23FC66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72D-1150-4BC9-B273-F41A2343D89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07A-7E00-4C75-A122-B5B1FDE9D9E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17D0-4951-4D9E-A1BA-FC7759D5C06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E5EA-ABC9-478D-9A1C-75C94452923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live in Lond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works as 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often, sometimes, usually, every day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travel to the sea every summ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usually stay in this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often go to bed l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200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sloveso (3.os.č.j  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-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10920" y="3733560"/>
            <a:ext cx="806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don´t (doesn´t) + sloveso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 (does) + podmět 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goes to school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sometimes plays footb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don´ t watch horrors very oft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do you usually get u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ur and five make n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sun rises in the ea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9:47Z</dcterms:modified>
  <cp:revision>11</cp:revision>
  <dc:subject/>
  <dc:title>PRESENT  CONTINUOUS</dc:title>
</cp:coreProperties>
</file>