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6805-E918-4B70-81C7-B3442BFB27E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F944-A60D-4D8C-8936-236A7587DA6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B10F-6A7F-497F-A531-2C3D51977ED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FE55-1EBE-4FE6-9A3F-BD40C934145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8407-EF9D-4319-87B9-B1B1CC314BD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1BB1-7420-4BD9-BF27-68ED8AD8470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2526-B37D-40E1-ABDE-B436CACC09E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150C-946F-4D37-B1EB-ECCD7FB5538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683-0E05-4EBF-B745-5F63DE8F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17A-FEA8-4091-9FB5-0E17DFE3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8CF-A88A-440C-A641-B65E8241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412-984B-42EB-B948-FE28A144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69BB-E68F-45BE-8C92-0054DB05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0BDA-CA8C-4E3B-AF35-949F73A6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692D-5C37-43D8-9CE1-9F078229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7F11-9921-433A-908A-1D2B3866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7A8E-2495-43C2-A4EB-66BBCE13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522A-56B5-4E18-928F-93ADB4BF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AEBF-145B-416B-A7FE-A77C8297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2EB-8C3A-4B2A-B97C-CA2C5A81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F1A0-C9CB-494F-B2E0-5E48FFC6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511B-EB54-46E3-BC1F-74BEB8E1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4ED9-E07A-422B-938A-5BB8D228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94C3-00F3-4630-BF4C-332C47C2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A914-34A2-4369-8E69-76FB5C32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1E1B-5477-4E40-B16A-D4002613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28497-D1EB-4C92-BBD7-CCB88EA5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928A9-47BF-488C-99A4-A659FDF7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35E47-B0A8-41F3-8054-E56BF30B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457B9-CD52-4E2C-9510-991C352C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E06-62A7-45C0-9316-387EF7CC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4239-A1AD-4919-B9CA-46018E08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0C1E8-2A71-4F96-9649-43E799F4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D2F51-A539-4C05-B1F8-F4EAAC6D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9A734-5D1A-458F-AEDE-5230C22E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10B9-2F71-430E-B07D-8E474C3E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5BD44-2EB6-4022-9784-04785289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ADC43-B597-4043-8348-C244FCF4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4A211-AF27-4312-AF22-393C3D09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B71ED-A81E-4A6F-94D8-41FBFEA9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3D50F-E068-4E48-BE25-C4B40AAC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1E7-4BCD-4A2F-80F6-A5412C14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85623-2836-477F-A7CB-EE6459E9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1FDDE-7F74-469E-9A05-7D12508F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A81DC-3E48-40C8-9680-404E83E2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42962-F180-4E02-98F7-89C293E7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B7055-2369-4CB4-B237-99DDD11B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2DD26-A5CB-42AE-9E4A-DB7CA4C1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86380-8C67-4758-839F-6299ABB4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49701-704D-4E99-9DE7-98D7E86B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06ED8-52ED-45C8-AA01-692BD646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791AF-AB85-4B79-9F9A-1748F09D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72C-5167-4FCD-B970-C7B4CCBB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5907B-7023-45D8-A7E3-3AD10609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5EE72-A33D-4EA2-B935-610196CE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725FD-0697-46F7-8138-BF7B8BEE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7288A-D6CE-43D3-AE9C-2BC706C0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68D6D-BDDA-46E3-88D1-1EF6BC2A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B6DA1-1B56-464D-9900-F80E7CAE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BD29C-EE5B-4607-AF5A-C76E1658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BECC7-2916-4CDB-92F3-E603D0DC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CC974-2059-43AC-99E6-D3891FA6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8FA97-86A3-4F5C-8E21-73AF7BB2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95E-08F2-41AD-BBCB-B6C112FB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FDAC7-BF1A-4F82-9349-7E21F2D7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E0D6F-E076-4CD5-8FD5-B4B1F629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90657-6DED-4165-92D1-711847AA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61DB3-3025-4E49-8599-5A4D15C4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044EC-3CBF-4D61-9769-6F165E56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35111-C7F8-45A5-AF64-FD7A0226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861A6-78F1-4896-88E2-9073D61D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3F6F1-8316-4CE2-98B4-807507FC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7ED6E-F182-4422-9952-FBF55448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23653-19AF-47EA-9520-EA9F18C1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E7DC-DD49-431F-AE29-4BE29B64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CB5E6-9286-4D17-B9F2-183589BD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C178F-B26A-42BA-8AA2-3666603B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CFB70-F477-4ED1-B587-E57EE9DA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57C-8DE0-4FC7-8804-278E5E0E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1B0-0C61-453F-ACB8-CD150E36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BDA9-A504-4E97-9645-D72D4BB599BC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AB77-07A0-4027-B217-A9DD69DA303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D761-54C5-4DCA-9344-4391BA0203D6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0605-645C-4531-AC8C-0A68166861E8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EA3E-0262-4CED-A0CB-D70905D6043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32DF-B092-4B0D-AD18-9AF426CE9AE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AY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6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ay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park my car her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ay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spend all his mone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OPISNÉ  TVARY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68000" y="2781000"/>
            <a:ext cx="83516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can                   be abl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us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hav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ay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e allowed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Šipka doprava 4"/>
          <p:cNvSpPr/>
          <p:nvPr/>
        </p:nvSpPr>
        <p:spPr>
          <a:xfrm>
            <a:off x="3564000" y="2948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Šipka doprava 5"/>
          <p:cNvSpPr/>
          <p:nvPr/>
        </p:nvSpPr>
        <p:spPr>
          <a:xfrm>
            <a:off x="3564000" y="3546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6"/>
          <p:cNvSpPr/>
          <p:nvPr/>
        </p:nvSpPr>
        <p:spPr>
          <a:xfrm>
            <a:off x="3557520" y="424332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INULÝ  ČA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250560" y="2781000"/>
            <a:ext cx="8569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can walk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as abl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ust wai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a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ay leave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as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Šipka doprava 4"/>
          <p:cNvSpPr/>
          <p:nvPr/>
        </p:nvSpPr>
        <p:spPr>
          <a:xfrm>
            <a:off x="2843280" y="2894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Šipka doprava 5"/>
          <p:cNvSpPr/>
          <p:nvPr/>
        </p:nvSpPr>
        <p:spPr>
          <a:xfrm>
            <a:off x="2843280" y="3573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Šipka doprava 6"/>
          <p:cNvSpPr/>
          <p:nvPr/>
        </p:nvSpPr>
        <p:spPr>
          <a:xfrm>
            <a:off x="2843280" y="421308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INULÝ  ČA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50920" y="278100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can walk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asn´t abl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ust wai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idn´t hav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ay leave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asn´t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Šipka doprava 4"/>
          <p:cNvSpPr/>
          <p:nvPr/>
        </p:nvSpPr>
        <p:spPr>
          <a:xfrm>
            <a:off x="2843280" y="2894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Šipka doprava 5"/>
          <p:cNvSpPr/>
          <p:nvPr/>
        </p:nvSpPr>
        <p:spPr>
          <a:xfrm>
            <a:off x="2843280" y="3573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Šipka doprava 6"/>
          <p:cNvSpPr/>
          <p:nvPr/>
        </p:nvSpPr>
        <p:spPr>
          <a:xfrm>
            <a:off x="2843280" y="421308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BUDOUCÍ  ČA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50920" y="278100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can walk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be abl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ust wai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hav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ay leave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be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Šipka doprava 4"/>
          <p:cNvSpPr/>
          <p:nvPr/>
        </p:nvSpPr>
        <p:spPr>
          <a:xfrm>
            <a:off x="2843280" y="2894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Šipka doprava 5"/>
          <p:cNvSpPr/>
          <p:nvPr/>
        </p:nvSpPr>
        <p:spPr>
          <a:xfrm>
            <a:off x="2843280" y="3579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Šipka doprava 6"/>
          <p:cNvSpPr/>
          <p:nvPr/>
        </p:nvSpPr>
        <p:spPr>
          <a:xfrm>
            <a:off x="2843280" y="422100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BUDOUCÍ  ČA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250920" y="278100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can walk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be abl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ust wai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hav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ay leave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be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Šipka doprava 4"/>
          <p:cNvSpPr/>
          <p:nvPr/>
        </p:nvSpPr>
        <p:spPr>
          <a:xfrm>
            <a:off x="2627280" y="2894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Šipka doprava 5"/>
          <p:cNvSpPr/>
          <p:nvPr/>
        </p:nvSpPr>
        <p:spPr>
          <a:xfrm>
            <a:off x="2627280" y="3579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Šipka doprava 6"/>
          <p:cNvSpPr/>
          <p:nvPr/>
        </p:nvSpPr>
        <p:spPr>
          <a:xfrm>
            <a:off x="2627280" y="422100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odální slov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modálních sloves a jejich opisné tvary pro minulý a budoucí č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odální slovesa, can, may, must, opisný 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vlastnosti, opisné tv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689040" y="1968480"/>
            <a:ext cx="7772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26560" y="3573000"/>
            <a:ext cx="74170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jí stejný tvar ve všech osobách čísla jednotného i množnéh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can, you can, he can, we can, you can, they 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26560" y="3573000"/>
            <a:ext cx="74170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) Následuje po nich sloveso bez „t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must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g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must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av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hey ma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ere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must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wai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26560" y="3573360"/>
            <a:ext cx="7417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) Do minulosti, budoucnosti apod. používáme opisné tv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must            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I will </a:t>
            </a:r>
            <a:r>
              <a:rPr b="0" i="1" lang="cs-CZ" sz="3200" spc="-1" strike="noStrike">
                <a:solidFill>
                  <a:srgbClr val="7a7a90"/>
                </a:solidFill>
                <a:latin typeface="Times New Roman"/>
              </a:rPr>
              <a:t>must?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will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have t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cs-CZ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Šipka doprava 6"/>
          <p:cNvSpPr/>
          <p:nvPr/>
        </p:nvSpPr>
        <p:spPr>
          <a:xfrm>
            <a:off x="2411280" y="511956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CA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6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ca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speak Englis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ca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stay there overnigh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US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6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tidy my roo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help his mu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6:30Z</dcterms:modified>
  <cp:revision>39</cp:revision>
  <dc:subject/>
  <dc:title>PRESENT  CONTINUOUS</dc:title>
</cp:coreProperties>
</file>