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030-3BD0-4A81-996A-33C7F5F957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BB1-9D11-4473-96B5-1C7BF9B7F25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A8F-54AD-4BD6-8A3E-C8653BC2677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33C9-C56C-4580-ACE7-D5FAD1E4A4D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33BF-480B-4785-854C-890F64A389E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42A-AF70-4721-9BAC-02B28990F67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62E-9B3A-49B0-91C5-6349AA95790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04A-41B7-4A93-8DB6-47602AE2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27B-9A74-4666-BB8B-864FE7AE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770-FC2B-4C2D-9691-16151F34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6D4-81C6-45E5-91FF-D4A9E248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7A6-1AA2-4504-BA20-8124D79A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F6A4-1993-4704-8F98-64DC830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F32-C85D-4C29-A8AA-998161C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7BFA-D7A2-4939-AF10-926707F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3DEB-3BEE-41C9-AECC-C9CE622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CA76-A975-424F-B900-6011094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9C5-E4AE-41BD-B599-FFB8A48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885-4932-4A8D-84BE-58D8E6C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690C-CEAC-45F7-9B45-E12360D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0E8-C9D5-45A5-87BF-09576A3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390-8D17-405A-AF44-D79743B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CC12-AB58-446E-A63B-546C4C69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93F9-BB93-486D-8847-AA6B383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521A-AFF5-4276-8ACC-B37DE276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4102-895D-4D15-9330-B20F995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BA30-0422-4C78-9567-D845EB4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7653-42E9-49D7-917A-8A5E1FB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34A8-5B6A-4C0A-9D58-120A658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9B3-F45A-4B1C-BA83-CF93B548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B400-2882-4C01-87DB-A0CD172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2701-B95C-431A-A56B-C22AAB8F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A173-F1DC-452D-9392-1BA5DBF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5335-B6D3-4FFE-A0C7-5896967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365D-156A-4579-B75A-8458C56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CA3A-2AF8-4837-A897-AB98388D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8680-0822-4337-B010-C522DEEA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776A-DB4F-4C2A-86CD-0EEC42B8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464F-B8EC-46E1-8586-889D0FA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C865-BE2B-43BE-8F7E-E6BFAC8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5D0-EE74-4729-BCAB-8922C0A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5D97-5755-431D-B6BA-734F8A3A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3673-5035-4AFA-A441-11A65D8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BD29-DF59-493B-8590-264EAF36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7CE9-2464-441C-B0B6-29037EB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B02F-B19A-4F69-9BFB-CCDB4EB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6A6C-FDC5-4B58-B8C2-3CFBF5B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3207-00CE-4AF1-850F-EE05E19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B80A-6B17-4F15-8272-8025B879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F44C-9BFD-48C7-B4CE-694A9891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980C-CD44-4D31-B2D8-B621322E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3CD-20E1-4FAF-A970-CE83423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82FB-AF9F-4908-B8A7-5B633383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B7A7-43F1-4C12-83E9-9C2093B2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24EA-4781-4113-8B8B-7B3264F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4073-C82E-4B5B-8307-48C8FE1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7306-89DA-4B56-B156-12F73560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E7AE-8D95-412C-B658-4F074C3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A83A-87EF-4BED-8241-D6D1D3D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1162-9F0B-4193-8022-B2B36B8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BB9D-2435-41E1-882B-92CFFB6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4718-79E7-4836-BD35-2A6A34CE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B80-491C-47B0-9C3D-F26439A2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3D84-0EE6-4356-97DD-C1EFAE72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C604-CADB-4328-9568-8071CA5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48C2-34AD-460A-A78F-6A8C1038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13F5-3ABD-4D88-A55E-4F1496C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CA23-C5DC-4E7D-B1DE-312E20F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809D-8DA9-4875-9038-D7EC600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0008-12B5-4B73-AC0B-B2EDED07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314F-BBD4-461E-B12C-20FF449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6756-4653-4809-972B-59187584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C2DC-6B84-4DBE-BC0C-4DA8BE2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7B0-4DA7-445A-8946-CD3C607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6A7F-E1F5-494F-9C50-1375EDD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5595-0CDF-48B0-ABB9-38F38384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7812-8421-477F-A9D6-946B7580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783-BABF-4389-9E11-E4CAC5A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AC5-6ECE-467F-A4DA-CDF5FC0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DCF-A434-48ED-8200-53747965CFB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7FFC-D9F5-4A80-A450-AF289B39DDD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32F2-C66E-4ED1-B453-53735D87AA9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544-029D-4343-B8A6-7D8A00E4EEF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B12B-E5B5-4206-B9FF-D7BE3787140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ED9-4001-4AAE-95A5-864AE8234DC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rive   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anc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stribut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3780000" y="539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tvoření koncovek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00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men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ertain            entert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mploy            emplo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xcite              excit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on / -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form              inform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uggest              sugge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e              organis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rk                 work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lay                  pla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each                teach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n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red                 tire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meless               homel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azy                laz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ng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el                 feel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ad                rea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wim              swim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07Z</dcterms:modified>
  <cp:revision>34</cp:revision>
  <dc:subject/>
  <dc:title>PRESENT  CONTINUOUS</dc:title>
</cp:coreProperties>
</file>