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795E-D18A-4436-A7A2-42EE2DD4B62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7D92-3643-43D0-BB7F-EE33FAF266E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5C04-DB1D-4103-B2A3-E0C02C3FD52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691D-6E00-4359-8ABE-ED9BAE467D5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6242-9C1A-4673-9903-545B3C16C0E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8B18-AE0F-4B3E-926C-1BAF6812AA3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FEFF-B0D4-41F5-85CD-7A8F558CAF3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0E6-C42D-4C92-B7CB-FB3AF092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806-75D2-4E4A-AFB7-E3D250AE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44A-3561-42DE-A356-0C4FC984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1FE9-2CA1-4321-B96D-C126625B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A819-08EF-4E2D-924B-23660BF4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47E1-ACAE-4F66-A0C2-F933B3B9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3E08-9E80-4A70-9AD5-A48F2D04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D890-46C6-4A13-8C43-D5CCEE39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69F1-AD93-42A3-B3A1-5A621CB2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1EBE-DC1B-493B-B61C-23FE0976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EF7A-EB0D-48EB-BA57-6A4EEE32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809C-B2D8-42A8-A04D-5B992CA4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1B64-B3A1-416C-AD3E-74487D10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4040-ADB3-4914-A2EF-CE0A1F97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2406-F8A2-4A28-A5E9-ECC2007C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33CF-964A-4541-9738-AF74B0A4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20AF-344A-4DEA-B546-BA0D0F9D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F807D-E65C-4DBB-BEE1-FFCFD8CA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C9900-9198-4FA2-9BD6-6A8E3779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BE428-B695-4361-9094-B5504DE3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EF1B2-C10C-45A5-8EC7-C57F5D59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70DA7-7FF2-432D-8CA4-4C281893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B533-DD1E-4CE3-AE82-DA913F94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A9D0-3C52-4D94-B5EE-EB20E5F2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1401-95AB-4638-B563-F9C9B1B3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10CFF-A0DA-4457-8B0D-5E778338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54B9F-57E9-4AAE-8A6B-3B93E738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F1450-9FD0-44F8-B0BF-274933B4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D0FD0-39B5-469D-99A9-B2EA47E8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49B3F-31F3-489F-8654-0057BA12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65677-6F44-46E5-B8D7-7B34BEB4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64427-EB3E-4F2D-BCA6-A8E448CA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E76BF-8CD2-4BE2-9954-0D08E35C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ACB-89A4-4224-82F5-16E22093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CC5E6-CA91-4629-BBAA-1C2908B5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9D624-1998-450F-830A-340CD531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03B36-396C-493F-BF84-DBCB4555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B4C1C-42E8-4CB2-B002-62B7C0CB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7C485-C9F7-44D1-987D-CADC8F15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22E81-E6E3-490C-8288-9F04CE06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C93FF-08BD-40D7-B9C2-D64802D2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9E6E9-CD03-44EC-9803-BFD36C8B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65B63-4DB2-4E60-BA8A-BEBD5686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615BE-9117-47D3-962F-617FAC43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C4E1-4FDF-4BCB-A7D7-D3D22E98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EED1D-8DD2-4D28-BC08-B4E9CD80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2A989-0883-4D71-A69F-222BADA8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91070-DFEA-4E6B-B6DE-3EEDE723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7CC48-549E-4B20-A44A-9597A245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A1602-17AC-456C-9D4A-40877282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6477D-BBA8-4B61-AED1-90906543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88159-1816-4F4F-B071-71AF27F2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429A8-8A5B-46C1-8CC5-A49B17D8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9D96F-EEA3-4E69-B471-5DCE05A2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A8D85-2B7E-48CF-9117-A945C9F1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95F-0575-4E30-AE12-6727C349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5C829-4244-4503-974C-1E51834D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A4748-B5DA-4C8E-BC89-302C3C8B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54E08-2EDC-48FC-B317-138B8120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E2178-146F-44A0-BD02-D3FD186D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2F9C4-423E-43F2-A847-DB4C8F41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A0FBE-7D4E-4F55-96E8-A0D53A90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92AC5-1212-46BD-84E9-81DB6BC8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1C010-A5D3-4098-AAB9-9241012F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6B804-B762-453D-B1E9-6FD3A826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79E19-5999-464D-AD2A-7E1D9E67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861-981B-4372-8579-0AC13888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7FCEC-6061-435F-8B8F-970B685C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A29C1-764F-46AA-9540-32D3A881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7C089-E7A9-4F04-83F0-B6536F3C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579-0914-48A9-B591-20A3838C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D3B-D6C0-4ED1-9339-24BD0139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501B-79AF-4C8D-9CD7-23BD5F14AD18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C344-C888-4E15-A006-FA8809313A62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07E8-29E6-42AF-9893-7E6CC574B210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8DB2-BEFF-4DEC-A3BC-C4526021D7F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0B17-823F-4184-9F99-907B24AD1BE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A4A9-6B37-4CA8-870F-552B4B1CC9A2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ut in the correct forms of the verbs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80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me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,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uld giv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 your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didn´t know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t,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uldn´t help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learne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hard, they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ould pas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he ex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urried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uldn´t miss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tr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BE  CAREFUL !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8209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minulý čas ….. podmiňovací způs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ER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,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uld go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there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.podmínková vě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pravidel pro tvoření 2.podmínkové věty a správné použití slov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lovesa, 2.podmínkoá věta, spojka i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ain clause, if clause, verb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2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10920" y="364500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ýká se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odmínka neskutečná (nemůže nastat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IF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= kdyb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+ minulý čas ….podmiň.způsob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(if clause)    ….  (main claus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2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minulý čas ….. podmiňovací způs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d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time,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uld call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2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3645000"/>
            <a:ext cx="8209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minulý čas ….. podmiňovací způs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oney, 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uld buy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2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minulý čas ….. podmiňovací způs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idn´t com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uld leav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2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minulý čas ….. podmiňovací způs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idn´t com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uldn´t wa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ut in the correct forms of the verbs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80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meet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,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give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 your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know)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t,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help)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learn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ard,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pass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exa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hurry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miss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tr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7:55Z</dcterms:modified>
  <cp:revision>42</cp:revision>
  <dc:subject/>
  <dc:title>PRESENT  CONTINUOUS</dc:title>
</cp:coreProperties>
</file>