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6D14-B91A-4F21-A45D-7AFA22FF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EDD-C700-4584-9BC5-2B96F735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B39B-104B-48E2-8F49-E68C5134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5DF-8F49-46DF-B569-0CFE5798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9F21-501D-4A58-A23D-5C51196C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4075-F588-4AB6-B3E3-960BACA1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31CF-6771-4659-BB05-9BEC1079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CF74-13CB-4A08-A00B-330FE019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C990-4C43-4C52-A977-95D230C4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D21D-729A-453E-AE34-1444280B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E5A6-49D3-46E1-BD6A-3E58820E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6B0-448D-41D8-82E4-0C833B83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E431-6C45-4F6D-BE49-68810606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616D-26E8-4BF0-8802-66E5B85C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D92B-8B10-4840-AEA5-545AA54B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CE64-505F-4CB0-96F0-DA27C42E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5E5D-7D02-4CD3-AB25-DC985B2C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A28-E56B-44CF-AA5D-3A5A9DB0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546-2892-4BEB-9884-428D6BAB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42F-1580-42FD-BB5B-C2E17AB3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789B-237C-4792-ABB6-705F5429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37C-10A0-4EE2-89E4-2BA6AE4A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51F-8E2C-4E4D-AD31-6A647257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4492-24D7-4432-8184-FCFCA110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4f4f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9C17-4A45-4B5F-93B7-8B895747CD3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474747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53FE-11B6-4858-910F-EC7497A2ED3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420920"/>
                <a:gridCol w="1584360"/>
                <a:gridCol w="2665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Příležit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ískávání nových zákazní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nik nových trh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stranění bariér na zahraničních trzí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užití nových technologií,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Hroz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stup nové konkurence na tr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konomická kr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ychle se měnící potřeby zákazní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stabilní politická situace,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900000" y="5300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ahoma"/>
              </a:rPr>
              <a:t>Charakterizujte silné stránky, slabé stránky, příležitosti a hrozby vaší ško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39640" y="1495440"/>
          <a:ext cx="8229600" cy="5321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alýza prostředí z pohledu management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udenti se seznamují s nutností zkoumat prostředí z různých úhlů pohledů, nalézat tržní výhody a způsoby jejich využití, odhalovat své silné a slabé stránky, příležitosti a hrozby trh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nkurence, tržní výhody, SWOT analýz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28180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ahoma"/>
              </a:rPr>
              <a:t>Analýza prostředí z pohledu managementu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8720" y="4964040"/>
            <a:ext cx="69930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3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ahoma"/>
              </a:rPr>
              <a:t>Prostředí zkoumáme podle těchto vybraných analýz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rterova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nalýza ST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nalýza tržních vý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WOT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Porterova analýza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grpSp>
        <p:nvGrpSpPr>
          <p:cNvPr id="99" name="Zástupný symbol pro obsah 5122"/>
          <p:cNvGrpSpPr/>
          <p:nvPr/>
        </p:nvGrpSpPr>
        <p:grpSpPr>
          <a:xfrm>
            <a:off x="1288440" y="1299240"/>
            <a:ext cx="6585480" cy="2097000"/>
            <a:chOff x="1288440" y="1299240"/>
            <a:chExt cx="6585480" cy="2097000"/>
          </a:xfrm>
        </p:grpSpPr>
        <p:sp>
          <p:nvSpPr>
            <p:cNvPr id="100" name="_s1028"/>
            <p:cNvSpPr/>
            <p:nvPr/>
          </p:nvSpPr>
          <p:spPr>
            <a:xfrm flipH="1">
              <a:off x="1576800" y="2344320"/>
              <a:ext cx="3022920" cy="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29"/>
            <p:cNvSpPr/>
            <p:nvPr/>
          </p:nvSpPr>
          <p:spPr>
            <a:xfrm>
              <a:off x="1288440" y="2090160"/>
              <a:ext cx="1799640" cy="527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Dodavatelé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0"/>
            <p:cNvSpPr/>
            <p:nvPr/>
          </p:nvSpPr>
          <p:spPr>
            <a:xfrm>
              <a:off x="4671720" y="2344320"/>
              <a:ext cx="2735640" cy="3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1"/>
            <p:cNvSpPr/>
            <p:nvPr/>
          </p:nvSpPr>
          <p:spPr>
            <a:xfrm>
              <a:off x="6111000" y="2126160"/>
              <a:ext cx="1762920" cy="527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Odběratelé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32"/>
            <p:cNvSpPr/>
            <p:nvPr/>
          </p:nvSpPr>
          <p:spPr>
            <a:xfrm flipV="1">
              <a:off x="4600440" y="1834200"/>
              <a:ext cx="1080" cy="264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1033"/>
            <p:cNvSpPr/>
            <p:nvPr/>
          </p:nvSpPr>
          <p:spPr>
            <a:xfrm>
              <a:off x="3448080" y="1299240"/>
              <a:ext cx="2302560" cy="527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Nové vstupy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3213000" y="2056320"/>
              <a:ext cx="2645280" cy="603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Podniky v odvětví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(i náš podnik)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Oval 12"/>
            <p:cNvSpPr/>
            <p:nvPr/>
          </p:nvSpPr>
          <p:spPr>
            <a:xfrm>
              <a:off x="3448080" y="2841840"/>
              <a:ext cx="2302560" cy="554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Možné substituty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Line 13"/>
            <p:cNvSpPr/>
            <p:nvPr/>
          </p:nvSpPr>
          <p:spPr>
            <a:xfrm flipH="1" flipV="1">
              <a:off x="4581000" y="2643480"/>
              <a:ext cx="1080" cy="21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3860640"/>
            <a:ext cx="889308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Co může být novým vstupem v odvětví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Co to jsou substitut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Podle jakých kritérií volíme dodavatele a z jakých zdrojů o nich získáváme informac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Co nás bude zajímat u našich odběratelů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Nové vstu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vé firmy, které vstupují do odvětví, nové výrobky, služby, nové technologie, postupy suroviny atp. Pro vstup nových prvků na trh jsou důležité tyto faktory – náklady na výroby, značka, situace ekonomik, rozdíly výrobků vlastních a konkurenčních, vládní politika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Odběratel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vztahů s odběrateli, jejich počet, síla, odebírané množství, podmínky jejich nákupu at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Dodavatel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vztahů s dodavateli, jejich dodací podmínky, možnost dodávek od jiných dodavatelů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Možné substitu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sou výrobky, které mohou funkčně nahradit výrobky podniku na trhu (gramofon.desky x CD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Analýza STEP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00"/>
                </a:solidFill>
                <a:latin typeface="Tahoma"/>
              </a:rPr>
              <a:t>Tato analýza hodnotí silné a slabé stránky podniku z těchto hledisek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 – sociální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T – technické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E – ekonomické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P – politické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Tato analýza se v poslední době velmi často doplňuje ještě o jedno hledisko – vzniká analýza SWTEP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 – sociáln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00"/>
                </a:solidFill>
                <a:latin typeface="Tahoma"/>
              </a:rPr>
              <a:t>W – počas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T – technické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E – ekonomické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P – politické hledisk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ahoma"/>
              </a:rPr>
              <a:t>U jakých firem nás bude zajímat hledisko počasí a proč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Analýza tržních výhod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99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Tahoma"/>
              </a:rPr>
              <a:t>Cíl:</a:t>
            </a: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2600" spc="-1" strike="noStrike">
                <a:solidFill>
                  <a:srgbClr val="ffff00"/>
                </a:solidFill>
                <a:latin typeface="Tahoma"/>
              </a:rPr>
              <a:t>Nalezení a vybudování tržních konkurenčních výho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Tahoma"/>
              </a:rPr>
              <a:t>Postup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tění potřeb cílové skupiny zákazník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Ohodnocení potřeb zákazníků podle důležitost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Každé dílčí potřebě přiřazujeme očekávání zákazníka, porovnáváme ho s vlastní nabídkou a specifikujeme výhody a nevýhody vůči konkurenc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ťujeme, které potřeby zákazníků lze uspokojit lépe a stanovujeme nutná opatřen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ťujeme, zda realizace těchto opatření bude mít vliv na rozhodovací proces zákazník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ťujeme, které nové konkurenční výhody můžeme vybudov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tanovujeme opatření nutná k uchování současných výhod a k vybudování nových výh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Proč je pro firmu důležité analyzovat tržní výhod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SWOT analýza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ilné strán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Finanční sí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ízké nákla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soká ziskov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obré jmé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novační schop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ezilidské vzta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obrá organizač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oderní technické vybavení ,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484280"/>
            <a:ext cx="4038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labé strán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soké nákla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dprůměrná ziskov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vyjasněná strate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staralé zaříz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ruchovost vybav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Špatná dostup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dostatečný výzkum a vývoj,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1:25:29Z</dcterms:created>
  <dc:creator>klapuchova</dc:creator>
  <dc:description/>
  <dc:language>en-US</dc:language>
  <cp:lastModifiedBy>Igor</cp:lastModifiedBy>
  <dcterms:modified xsi:type="dcterms:W3CDTF">2014-09-13T14:55:06Z</dcterms:modified>
  <cp:revision>20</cp:revision>
  <dc:subject/>
  <dc:title>Analýza prostředí z pohledu managementu</dc:title>
</cp:coreProperties>
</file>