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FC812-1E7F-4958-89D9-518B4A84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2D4FF-DB86-449B-B7D3-761F429A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845F1-68B7-4C40-86E6-D10F516B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869E2-13A1-4DFC-A276-C055B40D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FB85-1A61-428A-801A-3842ECB2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BB88-A606-432D-85CD-C7B8AFE7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5C3E-2801-4DA8-BC1E-3CA49BC0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1E76-A1C0-4C48-A537-41700411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76BE-0A70-4DFD-9347-64BEA10A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3729-AAAF-4591-884C-921CBEFD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3ADC-FFB4-400F-90B8-F367D2D9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31322-C274-47B4-8A94-45DABD76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460D-9D5B-41FE-96AD-4C023CFB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F781-E8A5-43DF-AEF5-9C3471BB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25B3-F5DC-4F89-89AA-FB819393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ABCA-BFC8-44D0-AEA6-80CD832F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213C-533C-4A71-BB27-98B7B3FD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129CD-6FC6-4A15-AD9D-A4CD55D0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027C0-E3B7-437C-B4EA-C605055B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11A58-17BF-40B6-8C7D-D02AA152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7F342-D27B-4412-BAA2-0595E30F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3D646-FE8A-48D0-B49B-5BE774E1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AC61E-65B0-476E-B5C3-16AC36E3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5AE2B-7CC7-4BC0-8F00-FA739AF6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4307-FF90-4F4F-809A-23325E33784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1774-A218-4902-B471-6BD99E814A8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727280"/>
                <a:gridCol w="1512720"/>
                <a:gridCol w="273708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1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 11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4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Garamond"/>
              </a:rPr>
              <a:t>Dotazov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V jakých případech byste dotazování použil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akými způsoby můžete kontaktovat dotazované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aké jsou výhody a nevýhody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11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Dotazování se uskutečňuje prostřednictvím dotazník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Respondenty můžeme kontaktovat 3 způsob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ffff"/>
                </a:solidFill>
                <a:latin typeface="Garamond"/>
              </a:rPr>
              <a:t>Písemně</a:t>
            </a:r>
            <a:r>
              <a:rPr b="0" lang="cs-CZ" sz="1900" spc="-1" strike="noStrike">
                <a:solidFill>
                  <a:srgbClr val="ffffff"/>
                </a:solidFill>
                <a:latin typeface="Garamond"/>
              </a:rPr>
              <a:t> – poštou nebo vhazováním do schránek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+ nízké náklad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malá návratnost – je nutné ji zvyšovat např. soutěžemi, dárky, urgenčními dopisy,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ffff"/>
                </a:solidFill>
                <a:latin typeface="Garamond"/>
              </a:rPr>
              <a:t>Telefonicky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+ vyšší návratno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vyšší náklady, nutnost klást jednoduché otáz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ffff"/>
                </a:solidFill>
                <a:latin typeface="Garamond"/>
              </a:rPr>
              <a:t>Osobně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+ velká návratnost dotazník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vysoké náklady, nutnost vyškolit tazate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Garamond"/>
              </a:rPr>
              <a:t>Druhy dotazování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Garamond"/>
              </a:rPr>
              <a:t>strukturované – dotazník je pro všechny respondenty stejný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Garamond"/>
              </a:rPr>
              <a:t>polostrukturované – v dotazníku se připouští odchylky podle reakcí respondentů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Garamond"/>
              </a:rPr>
              <a:t>nestrukturované – je stanoven pouze cíl dotazování a tazatel se může ptát každého respondenta jinak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Dotazník – nástroj marketingového výzkumu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Části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slovení, vysvětlení výzkum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tázky k témat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Klasifikační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oděková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42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Uzavřené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Dichotonick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ícevýběrov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yjadřující stupeň souhlasu nebo nesouhla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yjadřující stupeň důležitos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ycházející ze slovního rozliše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Bodové hodno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tevřené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Úplně otevřené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Slovní asoci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stupní vě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tevřený příbě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bráz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olně komentovaný obráz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Ke každému typu otázky vytvořte příkl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e5e5ff"/>
                </a:solidFill>
                <a:uFillTx/>
                <a:latin typeface="Garamond"/>
              </a:rPr>
              <a:t>Pravidla při sestavování dotazníku: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Uvádět všechny možnosti odpověd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tázky musí být jednoduch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používat cizí slov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klást otázky do daleké budoucnos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pokládat vícenásobné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klást otázky na prestižní a intimní téma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používat slova denně, pravidelně, nyní,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rovést pilotáž dotazník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57200" y="1905120"/>
          <a:ext cx="8229600" cy="4816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udenti poznávají důležitost informací a způsoby jejich získávání, diskutují o svých zkušenostech s marketingovými výzkumy, kterých se zúčastnil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IS, marketingový výzkum, dotaz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22050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e5e5ff"/>
                </a:solidFill>
                <a:latin typeface="Garamond"/>
              </a:rPr>
              <a:t>Marketingový výzkum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51537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Proč jsou v podnikání důležité inform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Jaké požadavky na informace kladem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Z jakých zdrojů informace můžeme získa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Marketingový informační systé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362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MIS</a:t>
            </a: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 – zahrnuje pracovníky, zařízení a informační technologie pro sběr, třídění, analýzy, vyhodnocování a distribuci informací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ffffff"/>
                </a:solidFill>
                <a:uFillTx/>
                <a:latin typeface="Garamond"/>
              </a:rPr>
              <a:t>Požadavky na informace:</a:t>
            </a: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 potřebné, včasné, přesné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ffffff"/>
                </a:solidFill>
                <a:uFillTx/>
                <a:latin typeface="Garamond"/>
              </a:rPr>
              <a:t>Zdroje informací MIS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interní podnikové zdroje – informace z účetnictví, podnikových statistik, databází,… Poskytují informace o nákladech, výnosech, výsledku hospodaření,…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marketingová inteligence – poskytuje informace o marketingovém prostředí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vlastní zaměstnanci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prodejní článk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konkuren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specializované agentur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marketingový výzkum – poskytuje informace o trhu, konkurenci, prostředí a hlavně o zákaznících, o jejich potřebách a reakcích na marketingový mix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Marketingový výzkumný proces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Garamond"/>
              </a:rPr>
              <a:t>Etap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říprava výzkumu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Definování problému a orientační analýza situace včetně stanovení hypotéz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lán výzkumu – obsahuje druh a zdroje informací, výběr vzorku (náhodný, výběrový, typický), stanovení metody výzkumu, způsob analýzy, rozpočet, časový harmonogra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Realizace výzkumu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Sběr informac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Zpracování a analýza informací (úprava, klasifikování, kódování, technické zpracování informací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Interpretace výsledků, závěry (potvrzení nebo vyvrácení hypotézy), doporuče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Metody marketingového výzkumu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229600" cy="27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Základní metod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Garamond"/>
              </a:rPr>
              <a:t>Pozorov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V jakých případech byste pozorování použil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aké jsou výhody a nevýhody pozorování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ři pozorování se zaznamenává, jak se spotřebitelé chovají při nákupu, a to buď osobně, nebo prostřednictvím kamer. Používá se, pokud nám zákazník nechce nebo nemůže poskytnout požadované informace. Musí být nenápadné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Druhy pozorování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Standardizované – pozorovatel má přesně určeno co, jak, kdy, kde má pozorovat a jak má zaznamenat výsledk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Nestandardizované – pozorovatel má stanoven pouze cíl pozorování a všechno ostatní si určuje sá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+ nezávislost na ochotě zákazníků spolupracov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- velmi vysoké nároky na pozorovatele, časově náročn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4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Experi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Informace jsou čerpány ze skutečností, které jsou z důvodů výzkumu schválně přichystá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Druhy experimentů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Laboratorní – test párového srovnává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 terénu – v prodejnách změníme např. umístění výrobků a sledujeme reakci zákazníků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0:11:23Z</dcterms:created>
  <dc:creator>kabek</dc:creator>
  <dc:description/>
  <dc:language>en-US</dc:language>
  <cp:lastModifiedBy>Igor</cp:lastModifiedBy>
  <dcterms:modified xsi:type="dcterms:W3CDTF">2014-09-13T15:04:41Z</dcterms:modified>
  <cp:revision>19</cp:revision>
  <dc:subject/>
  <dc:title>Marketingový výzkum a segmentace trhu</dc:title>
</cp:coreProperties>
</file>