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B7B14-2233-4014-8141-DAF846B0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8EF7A-7D5D-4421-83C7-3BB505C9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E416E-D105-4BDB-BB5E-8154ABB0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14F87-0048-436B-A3EB-581D01AE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441E-41AA-4078-B817-7CA798CF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D418-E237-4B71-A39E-92F8B63B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7F79-428E-479A-A3B9-CAA91B32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9821-D265-4F83-9DCC-8AFB43AA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E07F-9925-4FB5-B6B1-4CD42936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11D4-0C97-4B97-B3AA-5BF0ABD3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8445-57A9-4030-A6D8-C8F402E6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FD206-C9BC-43BF-8254-E8838F58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CCAD-2CD4-4EF7-9E29-65864249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59B4-2ABD-4A06-88C8-C78217AA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449C-66F9-4CDB-8819-9E0500EA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D816-9F31-4B7C-A943-5D4E288C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B9F5-990F-405F-9EAA-A2C0241E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BB83F-244A-426B-B74E-E12087E9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6290E-FD90-4B91-B467-9880A107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4695B-1B34-49D2-9C43-6CE8A7A2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33D8A-4C53-4715-B1E5-46E335D1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312D2-487D-4755-8234-A031E7EA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7096A-7875-40AE-B892-453BF1A5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344ED-557D-4E2F-B025-BB064902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1D01-C451-4737-B508-482D734E99B8}" type="slidenum">
              <a:rPr b="0" lang="cs-CZ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7c07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8225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7c07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A8F0-1417-4554-8FEF-678E897CE2A2}" type="slidenum">
              <a:rPr b="0" lang="cs-CZ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Arial"/>
              </a:rPr>
              <a:t>Výukový materiál zpracován v rámci projektu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Arial"/>
              </a:rPr>
              <a:t>EU peníze školá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204920"/>
                <a:gridCol w="1657440"/>
                <a:gridCol w="280836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32_INOVACE_1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 11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739880" y="457200"/>
            <a:ext cx="566424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457200" y="1905120"/>
          <a:ext cx="8229600" cy="4511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i se seznamují s dotazníkem a hledají chyby v jeho sestave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ázky otevřené, uzavřen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ffffff"/>
                </a:solidFill>
                <a:latin typeface="Arial"/>
              </a:rPr>
              <a:t>Dotazník - ukázk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2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ážení občané, ke dni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3.1.2009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ro Vás otevíráme nové nákupní centrum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ODD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které bude zaměřené na oblečení pro všechny věkové kategorie. Proto by nás zajímalo, co Vám zde v nákupním centru chybí, co byste si zde přáli najít a další připomínk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Co byste si přáli najít v oddělení pro kojence a batolat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větší výběr obleč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rozšíření sortimentu o obu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dětskou kosmetiku a jiné doplňky ( hračky, vaničky, chodítka, chrastítka apo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) Jiné …………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 Jakého druhu zboží byste uvítali v dětském oddělení ví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oblečení pro volný č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oblečení zaměřené na určitou tématiku (sportovní, kulturní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Jiné …………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7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3. Co byste si přáli mít v dámském a pánském oddělení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oblečení pro volný č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společenské obleč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Jiné …………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4. Dáváte přednost obuvi vysoké kva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Určitě an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Spíše 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Neví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) Spíše 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) Určitě 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5. V módních doplňcích chcete převážně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opasky, šper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kabelky, kožená galanter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kravaty, manžetové knoflíčky (pánské doplňk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) Jiné …………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5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6. Přejete si mít v našem nákupním centru malou kavárnu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Určitě an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Spíše 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Nev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) Spíše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) Určitě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7. Přejete si v našem nákupním centru mít dětský koutek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Určitě an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Spíše 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Nev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) Spíše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) Určitě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8. Jaké oddělení byste zde ještě chtěli najít?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_____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9. Uvítali byste kvalitu služeb jakou je například asistentka nebo poradkyně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Určitě an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Spíše 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Nev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) Spíše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) Určitě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5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0. Jak byste naše nákupní centrum ohodnotili na stupnici 1 –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 zakroužkujte )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jlepší –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jhorší –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 – 2 – 3 – 4 –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1. Jak často nakupujete oblečení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Maximálně 1 x v měsí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2 – 4 x  měsíčn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5 x a více  v měsí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2. Js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mu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že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3. Váš vě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0 – 18 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19 – 29 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30 – 50 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) 51 a více 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2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3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4. Ve Vaší rodině se nacház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______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dětí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5. Váš měsíční příjem 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0 – 10 000 K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11 000 – 24 000 K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25 000 – 40 000 K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) 41 000 Kč a ví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Děkujeme za vyplnění našeho dotazníku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hodnoťte, zda dotazník obsahuje všechny čá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teré otázky jsou otevřené a které uzavřené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U každé otázky určete druh (dichotonická, vícevýběrová, vstupní věta,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sou splněny všechny požadavky kladené na sestavení dotazníku? Najděte případné chyby a zkuste je odstran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07:30:40Z</dcterms:created>
  <dc:creator>Administrator</dc:creator>
  <dc:description/>
  <dc:language>en-US</dc:language>
  <cp:lastModifiedBy>Igor</cp:lastModifiedBy>
  <dcterms:modified xsi:type="dcterms:W3CDTF">2014-09-13T15:24:47Z</dcterms:modified>
  <cp:revision>13</cp:revision>
  <dc:subject/>
  <dc:title>Snímek 1</dc:title>
</cp:coreProperties>
</file>