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33C0-CA52-4EDE-A6C1-29B63FB6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3474-512D-4E8F-8157-401E5FB7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7422-244B-427D-86B0-9FEAD98B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EC62-CD7C-460D-AA40-65C2F5A1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F9BE-058E-4568-A86C-D78A1C31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6673-B802-47B5-846D-DAB269CF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45D1-6CAB-4B23-97C2-1719FFB5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9B5D-0C95-4F92-8DC6-E5903B83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7450-5EB7-41BB-B214-ED5A267C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B839-D283-4559-BE3F-5AB5C287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0076-2E8D-4356-8C7A-BC9DB242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9FFC-C2C5-4113-89BE-577F6A4E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4496-3B92-4690-B09A-0ED2111B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A95D-14F7-487A-BFCE-C766CEE8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8C8E-02C3-4DD6-A99E-7F370069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30A1-5810-4E6F-9526-533FA826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783A-5D05-4F57-BFE4-3ADB991E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1297-BCF8-4FF3-8BA4-92CE157E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CC66-07D3-4B37-AA30-7D6F578B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ED5D-D562-4635-8161-D229CCA7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7D08-A0EB-497A-A159-8BC94D50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C9A8-D4ED-4EEB-8011-DE3BA49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CEF7-6BB2-4BD5-90F6-0219A91C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A79F-D13D-4899-97D0-08A8BF4E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A6CE-BFC2-4D31-89B8-D3316B372D6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E8DB-A1FA-4EDA-A0BD-0726FECF88B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0071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potřeb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potřeby mohou být vyvolány vnitřním prostředím (poruchové stroje, nekvalitní materiál,…) nebo vnějším prostředím (změněné potřeby zákazník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Specifikace výrobk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u opakovaného nákupu jsou podmínky známé, u nových nákupů je třeba určit požadovanou kvalitu, spolehlivost, cenu, množství,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dodavatel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zjišťuje, jaké výrobky a služby a za jakých podmínek na trhu existuj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informace o dodavateli vás musí zajímat a kde je můžet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a výběr dodavate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podle zvolených kritérií vybíráme nejvhodnějšího dodavatele a uzavíráme s ním kupní smlou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á kritéria jsou podle vás rozhodující při výběru dodavate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zhodnocení spokojenosti s nákup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Nov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nakupuje výrobek poprvé, chce maximum informací, zvažuje riz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Modifikovan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jednou nebo vícekrát výrobek koupila, při dalším nákupu už nepotřebuje tolik informací. Zvažuje riziko spojené s vyšší ceno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řím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dodavatele zná, nakupuje často, riziko je minimální, nežádá už proto nové in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Zkuste najít konkrétní případy nového nákupu, modifikovaného nákupu i příméh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4948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vání spotřebitele na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 k seznámení studentů s chováním domácností a firem na trhu, s jejich rozhodovacím procesem. Možná diskuze o rozhodovacím procesu při různých nákupech v jejich domácnostech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zhodovací proces, typy nákupního ch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e5e5ff"/>
                </a:solidFill>
                <a:latin typeface="Garamond"/>
              </a:rPr>
              <a:t>Chování spotřebitele na trhu</a:t>
            </a:r>
            <a:r>
              <a:rPr b="1" lang="cs-CZ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224320"/>
            <a:ext cx="640080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individuálních kupujících a domácností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potřebitel může při rozhodování o koupi vystupovat v 5 rolích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iciátor – ten, kdo dává podnět k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vlivňovatel – ten, kdo svými připomínkami, návrhy,… koupi ovlivňu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Rozhodovatel – ten, kdo rozhodne o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upující – ten, kdo uskuteční nák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živatel, spotřebitel – ten, kdo předmět uží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V jaké roli vystupujete doma Vy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Poznání problému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– člověk si uvědomuje potřebu, která může vycházet z vnitřních nebo vnějších pohnu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Zjišťování informac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kupující může zjišťovat informa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Akt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as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oje informac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dělovací prostřed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obní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Jiné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teré zdroje informací jsou pro vás nejdůvěryhodnější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Jaké zdroje informací doma používáte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Zhodnocení alternativ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kupující hodnotí informace, které získal a rozhoduje se o druhu a značce výrob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Rozhodnutí 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rozhodnutí  také o tom, kdy a kde výrobek koupí. V této fázi ještě může kupující od svého rozhodnutí o nákupu ustoup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chování spojené s činnostmi po nákupu, má 2 etapy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uspokoj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činn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 se chováte v případě, ž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Ne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312560"/>
            <a:ext cx="800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Automatické ch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častý nákup, kupující výrobek dobře zná, věnuje nákupu méně času a pozornosti, nepotřebuje hledat další informace. Např. potravi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omezené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, kdy zákazník je celkem dobře obeznámen se sortimentem, nezná ale všechny značky, podmínky koupě atd. Nákup provádí občas, např. oblečení, kosme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extenzivní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 neznámého zboží, výrobek je drahý, zákazník potřebuje mnoho informací, čas na rozmyšlení, zhodnocení alternativ a rozhodnutí o nákupu, např. auto, byt, vybavení domá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firem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7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hování firem jako kupujících je složitější než u individuálního kupujícíh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kuste najít dův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dův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 procesu nákupu je zapojeno více os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hodnutí o nákupu trvá delší dob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soby, které o nákupu rozhodují, jsou ovlivňovány různými motivy (racionálními, emocionální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kupované výrobky jsou často technicky náročné a osoby, které je nakupují, musí mít určité technické a obchodní znal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7:14:57Z</dcterms:created>
  <dc:creator>kabek</dc:creator>
  <dc:description/>
  <dc:language>en-US</dc:language>
  <cp:lastModifiedBy>Igor</cp:lastModifiedBy>
  <dcterms:modified xsi:type="dcterms:W3CDTF">2014-09-13T14:55:23Z</dcterms:modified>
  <cp:revision>17</cp:revision>
  <dc:subject/>
  <dc:title>Chování spotřebitele na trhu</dc:title>
</cp:coreProperties>
</file>