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C31-9CE6-4B6F-806D-5C6C207D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07B-8D8B-4B80-A054-5DA65BDF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522-5687-438D-96A1-2B368A1D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005-B113-4570-9B68-FFF22AAD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C665-19EE-4497-A937-2EEED194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5A63-A000-4C7F-AE91-7535343B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3D78-31C5-487F-99CE-A0E8ED72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C9B2-AEC5-44D3-A0C7-C30849AE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9329-1F40-4519-B1B1-E15C00F9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8EE0-EDA0-4139-92C3-2E3AB23B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1022-5EBC-4481-8703-52C2D8B6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DB3-E792-432C-85FB-1CED73ED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F648-9C76-4911-A087-C23C6B18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50AB-F450-48E2-B876-7088A14B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022C-B285-496C-89A4-02833531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4894-A6D0-4C70-AAE0-D0FB2512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1426-4FB8-486D-9451-2025B229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5446-7EC1-4FBF-B373-96B7DCFB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A57F-0D7D-4977-A401-BD642CF6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CC1E-0296-4361-9939-73B3F739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EA4-9E7D-42EC-ABFB-1EC45A05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087-F25B-4BFB-BE14-B34697F1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C413-6EE3-4917-8A58-E9695120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60B-C9C8-4D47-BD4C-D41ADEA0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51BA-A970-43C5-8D1D-0FEA8D43C440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26C3-1C1C-423E-B96E-6ABEC1D1BA84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062000"/>
                <a:gridCol w="1800360"/>
                <a:gridCol w="28083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2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 1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Zařaďte do správné položky typového kalkulačního vzorce tyto náklad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Prémie dělní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světlení ve výrobních hal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Reklama v televi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Kancelářské potře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dměny pracovníků ve správ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světlení v kanceláří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Spotřeba obal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dměny pracovníků zásobov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Spotřeba energie výrobních lin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Spotřeba pomocného materiá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41320" y="277920"/>
            <a:ext cx="566136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57200" y="1905120"/>
          <a:ext cx="8229600" cy="475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 ke shrnutí a zopakování kalkulací, poukázání na návaznost učiva ekonomiky a marketing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lkulace, kalkulační jednice, typový kalkulační vzor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b2b2b2"/>
                </a:solidFill>
                <a:latin typeface="Arial"/>
              </a:rPr>
              <a:t>Kalkulac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– výsledek kalkulování, rozpočet nákladů na jednici výkon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Kalkulační jedni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např. jeden výrob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Cíle kalkulací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jistit správnou c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jistit, o kolik můžeme cenu snižovat nebo zvyšovat, aniž bychom měli ztrá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jistit možné úspory v náklad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K čemu se využívají kalkul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yužití kalkulací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e stanovení ceny výrobků a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e kontrole hospodaření podni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 porovnání plnění plán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e zjištění ziskovosti jednotlivých odděl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Členění kalkulac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dle doby sestaven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dběžná – sestavuje se před zahájením výroby, sestavuje se na základě plán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sledná – sestavuje se po dokončení výroby, sestavuje se na základě skutečných nákladů zjištěných v účetnictv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dle struktu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ůběžná – všechny výkony se započítávají průběžně včetně nedokončené výroby a polotovar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tupná – polotovary a nedokončená výroba se započítávají zvláš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Metody výpočtu kalkul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lkulace dělení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 poměrovými čís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irážk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ýpočet kalkul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áklady rozdělíme na přímé a nepřím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řím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dají se určit na 1 jednici (ks, kg,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Nepřím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edají se určit na jednici, jsou to tzv. režijní ná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Uveďte příklady přímých a nepřímých náklad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2b2b2"/>
                </a:solidFill>
                <a:latin typeface="Arial"/>
              </a:rPr>
              <a:t>Typový kalkulační vzorec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Přímý materiál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veškerý materiál, který se stává součástí výrobku, dá se stanovit na jednici. Např.: spotřeba základního materiálu, pomocného materiálu, obalů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Přímé mzd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mzdy lidí, kteří přímo souvisí s výrobou, např. mzdy výrobních dělníků, jejich prémie, odměny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Ostatní přímé náklad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souvisí s výrobou a dají se určit na jednici. Např.: spotřeba provozní energie, náklady na opravy a udržování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ýrobní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áklady na výrobu, které se nedají určit na jednici. Např.: nájemné, mzdy THP pracovníků ve výrobě, odpisy, cestovné, náklady na osvětlení výrobní haly, daně, pojištění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 položek: 1+2+3+4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lastní náklady výrob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zásobovací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áklady na zásobování podniku, např. mzdy zásobovačů, skladníků, nájemné skladů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rávní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áklady na řízení a vedení podniku, např. platy THP pracovníků ve správě, nájem kancelářských prostor, telefonní poplatky, kancelářské potřeby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: vlastních nákladů výroby + 5+6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lastní náklady výk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odbytová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všechny náklady spojené s odbytem, např. reklama, mzdy a odměny pracovníků v odbytu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: vlastní náklady výkonu + 7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úplné vlastní náklady výk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: úplné vlastní náklady výkonu + zisk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cen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bez 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5:55:32Z</dcterms:created>
  <dc:creator>Administrator</dc:creator>
  <dc:description/>
  <dc:language>en-US</dc:language>
  <cp:lastModifiedBy>Igor</cp:lastModifiedBy>
  <dcterms:modified xsi:type="dcterms:W3CDTF">2014-09-13T15:01:59Z</dcterms:modified>
  <cp:revision>12</cp:revision>
  <dc:subject/>
  <dc:title>Kalkulace</dc:title>
</cp:coreProperties>
</file>