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998-3D2D-4658-BB36-87E7CD96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966-8FD9-42DB-AC90-3C7AE48F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82B-2B3E-48A4-9845-D9012885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89A-E5E7-4C6F-9CE1-E2B5472A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FFA-65DF-44BE-A05D-7DB6CFB0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86C9-B1CA-4360-A09D-10D6566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2A5E-D58C-4272-875D-8C6AA46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E4E-3860-4B3A-BBFD-540488E3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2A72-B4B2-4130-86BA-3643B61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8AC-98D4-48CC-A38B-B62D7AA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416E-3728-4979-838B-78C8363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BFD-B765-41F4-A4E6-5D0997A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3CD5-2D39-4C2C-BF5A-A6E415C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0241-7416-4F49-9167-448C489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7E56-CCEB-4388-83AB-BD8F7E4C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AC04-D665-4475-9778-D6C17B82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A1F-1A48-4092-8C37-2642D855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D78-7917-436A-9E87-8D463A92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176-9791-40D2-BBBA-85EEC20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417-3FC1-44CC-852A-2CD170A0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462-ED71-476F-8128-4F4EA28E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26E-7CD8-405E-AA57-74CCEE1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DAE-3080-4F8F-9A58-B7037B5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569-BCDD-4368-9486-5B01DD4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6FB5-EB06-4A4E-9F83-759F4618196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25E0-BA54-410B-B3AE-03F86109CFF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3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8360" y="1413000"/>
          <a:ext cx="7991280" cy="54086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seznámení studentů s podporou prodeje a jejími nástro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orky, cenové stimuly, prémie, kupony, vystavení zboží, soutěže a loterie, dárky, věrnostní prémie, společná rekl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ccccff"/>
                </a:solidFill>
                <a:uFillTx/>
                <a:latin typeface="Arial"/>
              </a:rPr>
              <a:t>Podpora prodej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l: stimulovat prodej výrobků a služeb prostřednictvím dodatečných podnětů, je zaměřená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ečné spotřebi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ční čl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Jaké znáte nástroje podpory prodeje u konečných spotřebi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spotřebitelům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zor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ákazník dostává zdarma, a to prostřednictvím pošty, v časopisech, v obchodech, jako součást jiného výrobk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Cenové stimu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ově výhodná balení, akce 2+1 zd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vyšují atraktivnost výrobku, např. vkládání drobných hraček do obalu, kupony na obalu, drobný dárek při nák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upon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ukázky, které umožňují zákazníkům získat při nákupu určitého zboží výhodu – slevu, dárek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stavení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 pokladen, na konci regálů, upoutání pozornosti zákazníků plakátem, neobvyklým dekorativním předmětem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outěže a loter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těže – zákazníci odpovídají na určitou otázku a při úspěšné odpovědi mohou vyhrát cenu, loterie – slosování s možností vý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ár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eklamní dárky jsou předměty se jménem firmy, které zákazník dostává zdarma (propisky, tašky, trička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ěrnostní 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a peněžité nebo nepeněžité odměny, kterou získává stálý zákaz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S jakými nástroji podpory prodeje jste se setkali a u jakých výrobků to by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v distribuční síti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polečná rekla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 základě vzájemné dohody poskytne výrobce prostředky a informace k reklamě a právo prodeje jeho výrobků v MO. Maloobchodník odebere výrobky a jejich prodej podporuje. Výrobce maloobchodníkovi část nákladů na reklamu uhradí nebo poskytne funkční sle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bchodní sle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bchodníkům, kteří nakoupí větší množství, zboží vystaví na výhodném místě,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eletrhy a výsta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možňují výrobky předvést, poskytnout informace, zodpovědět otázky, porovnávat s konkurencí, získat informace o konkurenci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6:52Z</dcterms:created>
  <dc:creator>Guest</dc:creator>
  <dc:description/>
  <dc:language>en-US</dc:language>
  <cp:lastModifiedBy>Igor</cp:lastModifiedBy>
  <dcterms:modified xsi:type="dcterms:W3CDTF">2014-09-13T15:08:17Z</dcterms:modified>
  <cp:revision>15</cp:revision>
  <dc:subject/>
  <dc:title>Podpora prodeje</dc:title>
</cp:coreProperties>
</file>