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ADFD-0B0D-4216-B901-06EE9ED5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8430-6C2E-4245-B882-D7C97BE9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10B6-DA33-453E-A056-EA4BC00B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B837-A957-4F0B-91E4-09E87746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F5CF-E1AB-4A1F-A22C-A7B6B20F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5129-E2B5-4519-A706-7BAC4B61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80A4-C9B2-4F37-9521-AD513BFC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12AC-A4AE-419C-99C8-53313517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1BBA-71ED-4180-A508-62872143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49CC-1434-43B2-AF41-AB9823EE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1A4D-CE29-4C2C-A556-7496CEA8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94E6-9C43-4304-AD5C-A97EF327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77F3-7ED5-481D-93F1-A0E0BF0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2B45-BA72-4E4F-8EC3-B8B128AB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6B96-380D-401D-860F-EA074C7C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F647-3F96-4867-A1F2-63683617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7C03-6DE0-4BFC-B6E5-ED0D658E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E01D-47F0-4F17-9A2A-63E2FF1B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B6CD-D742-420F-947E-077C38D5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47C0C-9CA0-4423-82D5-C3FBAEAC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348D-D660-4822-84FF-48855042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75F7-F816-4526-A2D2-23C46AFC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C40D-65A6-4CE9-BBA2-6175ED47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8D18-3C0F-48BC-A881-3803CDD2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B455-1E01-4EEE-9FDC-CFB0A6CA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7428-D6E0-4047-97C2-17E0E0D3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DEB6-7BFC-48F8-BC44-35BFD4B7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E7D4-30DD-4673-97AC-793975B7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EC36-0C88-4906-A156-CA187B6C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4094-5522-49F5-BDBA-F4706119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3720-806A-4BA2-A65E-957021CC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5D9D-8ACF-4015-9043-AB475B1D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C1F8-F92E-41E2-AFB6-0D76B485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7855-E652-4557-A84D-F1E50FB5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3F5C-726E-4121-80EC-494C4664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54F0-0D71-47DC-A9A9-B569A82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09A9-3663-451C-B857-CA026FA22F1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D063-0321-4BFC-AE6F-A2A876855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D9EC-4633-4AD2-AE2B-101FFD5ABC7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1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metodu stanovení ceny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ealkoholického ná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Počít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Značkové sportovní obu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rategie u nových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imming price (smetánková cena) – jde o stanovení vysoké ceny, jejím cílem je vytvoření image kvality a ojedinělosti výrobku, po vstupu konkurence na trh se cena snižuje. Zisk je dosahován okamžitě. Uplatňuje se v případě, že výrobek je na trhu jedinečný, kvalitní a zákazník je ochotný ho za vysokou cenu koup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netration price (cena proniknutí) – jde o stanovení nízké ceny, jejím cílem je získat co nejvíce zákazníků a odradit konkurenci. Později se cena zvyšuje. Zisk je dosahován později. Uplatňuje se v případě, že na trhu existují podobné výrobky a zákazník je citlivý na c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sychologický přístup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ťovsk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cena vyvolává dojem vysoké kv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ístění běžných výrobků mezi výrobky luxus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 některých výrobků za velmi snížené ceny přiláká do obchodu zákazníky, kteří pak nakupují i zboží s vyšší ce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ělé s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iskriminační stanovení ceny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de o stanovení různé ceny pro různé tržní segmenty (ceny jízdného, vstupné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cenovou strategii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Vstupného do 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 příchuti čokol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ho mobilního telef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U zakázky na zavedení nové firemní počítačov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vní příčiny změ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ování konku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pší využití výrobní kapacity, růst objemu výr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ížení tržního pod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oulad mezi nabídkou a popt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st nákladů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ruhy sle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ážka při platbě – při dřívějším proplacení fa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srá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ónní sl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unkční srážka – poskytuje se obchodním člán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ej na protiúče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520f0"/>
                </a:solidFill>
                <a:latin typeface="Arial"/>
              </a:rPr>
              <a:t>S jakými sleva se nejčastěji setkáváte při svých nákupe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57200" y="190512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metodami a strategiemi stanovení ceny a s důvody změn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a, metody stanovení ceny, strategie stanovení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8560" y="2349360"/>
            <a:ext cx="7345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ff"/>
                </a:solidFill>
                <a:latin typeface="Arial"/>
              </a:rPr>
              <a:t>Marketingový mix - ce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Ce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991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520f0"/>
                </a:solidFill>
                <a:latin typeface="Arial"/>
              </a:rPr>
              <a:t>Pokuste se definovat co je to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výše peněžní úhrady zaplacená na trhu za prodávaný výrobek nebo poskytovanou služ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íle podniku při stanovení ce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alizace z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žní pod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objemu prod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osti inv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pičková kvalita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cíle – udržení dosavadního postavení, získání nových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ákladově orientovaná metoda (cena stanovená kalkul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= náklady +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y: - jasná pravidla pro stanovení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dnik má zaručenu určitou míru zisku u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hody: - cena neodráží reálnou situaci na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konkur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 stanovuje cenu podle konkurence (nejčastěji nižší než konkurence), používá se, pokud je výrobek podobný konkurenčním výrob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jednoduc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nepřihlíží se ke skutečným nákladům na výro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ůže dojít k cenové vá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ignorování skutečné ceny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usí se brát v úvahu i značka, kvalita, styl, servis,…kterými se výrobek může lišit od konkuren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se z marketingového výzkumu, kterým se zjistí potřeby, přání a představy zákazníka o výrobku i o ceně a podle toho se pak podnik řídí při stanovení c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: - reá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a: - časová a finanční náročnost při provedení výzku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berou se v úvahu náklady na výrobu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poptá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z cenové elasticity poptá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nová elasticita =  % změna poptávaného množství / % změna ceny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alá změna ceny vyvolá velkou změnu poptávaného množství, E je men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málo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elká změna ceny vyvolá jen malou změnu poptávaného množství, E je vět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v praxi zajišťuje velký z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onkurzní a smluvní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nkurz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kupující vyhlašuje konkurz a vybírá si firmu, která nejlépe vyhovuje jeho požadav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mluv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dohoda prodávajícího a kupujícího o ceně (např. aukce, prodej nemovitostí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 – velice výhodné pro kupujícího (může si vybír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29:03Z</dcterms:created>
  <dc:creator>kabek</dc:creator>
  <dc:description/>
  <dc:language>en-US</dc:language>
  <cp:lastModifiedBy>Igor</cp:lastModifiedBy>
  <dcterms:modified xsi:type="dcterms:W3CDTF">2014-09-13T15:03:10Z</dcterms:modified>
  <cp:revision>18</cp:revision>
  <dc:subject/>
  <dc:title>Marketingový mix - cena</dc:title>
</cp:coreProperties>
</file>