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2B98F-C957-45D1-A32B-8205B5225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35898-923A-41F8-A731-9D6ACD2E2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42AD5-5DE9-4E59-B4CA-4B1C789E5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BC029-6170-4F6E-9180-FF316DD3D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DD15E-1065-4C25-B997-1227675E2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21EF7-520C-4FD2-89B0-024D47F63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98ACB-9700-41C5-81E9-5B237B987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F7738-1C54-49BC-868D-3AD7D40F9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DE139-9F6F-44D7-9473-56E952834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CDF3E-7EB5-4C64-82F0-F13D07E7F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B7E28-6C41-4117-9BE9-E1D5FDE6B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390D5-7E3D-461B-B31D-42E922E57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57A7F-6EA5-476B-B4AB-B300CF96A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BDDB2-A617-48CF-9B00-FF04B3C70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F2E91-BF0D-4847-B8F4-018A107FE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F0C23-3147-4C66-8CB3-2389D4CCC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96A9D-6F53-4CCC-B9A3-ECD2CF689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90C68-FE81-47A7-9BA6-B67A1F90F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FB6C8-4A98-4E18-AA9D-3FF85200B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AF6DF-4762-4602-8D83-7E0A01ED7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BC172-627C-4231-92ED-E56D5A2E6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E264B-9BED-4303-856B-F0FE22F16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4F8D7-1D38-4F23-B70C-C77CB95E5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EF07C-1316-46EC-81FB-02F9670B2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9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c5d9ed"/>
                </a:gs>
                <a:gs pos="50000">
                  <a:srgbClr val="ffffff"/>
                </a:gs>
                <a:gs pos="100000">
                  <a:srgbClr val="c5d9e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c5d9ed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c5d9ed"/>
                </a:gs>
                <a:gs pos="50000">
                  <a:srgbClr val="ffffff"/>
                </a:gs>
                <a:gs pos="100000">
                  <a:srgbClr val="c5d9e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5d9ed"/>
                </a:gs>
                <a:gs pos="50000">
                  <a:srgbClr val="ffffff"/>
                </a:gs>
                <a:gs pos="100000">
                  <a:srgbClr val="c5d9e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5d9ed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5d9e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5d9ed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69668-5145-4FD1-9CCB-D1D1B31D49E5}" type="slidenum"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9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c5d9ed"/>
                </a:gs>
                <a:gs pos="50000">
                  <a:srgbClr val="ffffff"/>
                </a:gs>
                <a:gs pos="100000">
                  <a:srgbClr val="c5d9e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c5d9ed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c5d9ed"/>
                </a:gs>
                <a:gs pos="50000">
                  <a:srgbClr val="ffffff"/>
                </a:gs>
                <a:gs pos="100000">
                  <a:srgbClr val="c5d9e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5d9ed"/>
                </a:gs>
                <a:gs pos="50000">
                  <a:srgbClr val="ffffff"/>
                </a:gs>
                <a:gs pos="100000">
                  <a:srgbClr val="c5d9e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5d9ed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5d9e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5d9ed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6C72D-6F71-49AF-BDC0-20FEFC1BA5D8}" type="slidenum"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Výukový materiál zpracován v rámci projekt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EU peníze školá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Registrační číslo projektu: CZ.1.07/1.5.00/34.02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3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083280" cy="1487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0" name=""/>
          <p:cNvGraphicFramePr/>
          <p:nvPr/>
        </p:nvGraphicFramePr>
        <p:xfrm>
          <a:off x="539640" y="3573360"/>
          <a:ext cx="7561440" cy="736560"/>
        </p:xfrm>
        <a:graphic>
          <a:graphicData uri="http://schemas.openxmlformats.org/drawingml/2006/table">
            <a:tbl>
              <a:tblPr/>
              <a:tblGrid>
                <a:gridCol w="1890720"/>
                <a:gridCol w="917640"/>
                <a:gridCol w="1655640"/>
                <a:gridCol w="3097440"/>
              </a:tblGrid>
              <a:tr h="73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Y_32_INOVACE_2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1" name=""/>
          <p:cNvGraphicFramePr/>
          <p:nvPr/>
        </p:nvGraphicFramePr>
        <p:xfrm>
          <a:off x="539640" y="4724280"/>
          <a:ext cx="7561440" cy="1189080"/>
        </p:xfrm>
        <a:graphic>
          <a:graphicData uri="http://schemas.openxmlformats.org/drawingml/2006/table">
            <a:tbl>
              <a:tblPr/>
              <a:tblGrid>
                <a:gridCol w="3781440"/>
                <a:gridCol w="3780000"/>
              </a:tblGrid>
              <a:tr h="39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g. Bohuslava Klapuchov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roční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. 2. 20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Reklamní plán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39640" y="333360"/>
            <a:ext cx="822960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tanovení cílů reklam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cíle s informativní funkc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cíle s přesvědčovací funkc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cíle s připomínací funkc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tvorbu rozpoč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33ccc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sestavení rozpočtu zdola – pomocí kalkula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33ccc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sestavení rozpočtu shora – určení celkové částky na reklamu, tato částka se pak rozpočítá na jednotlivé projek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tvorbu reklamního sděle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vlastnosti sdělení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33ccc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účelno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33ccc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důvěryhodno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33ccc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distink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i tvorbě reklamního sdělení je třeba správně zvolit </a:t>
            </a:r>
            <a:r>
              <a:rPr b="0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slova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(slogany by měly být snadno zapamatovatelné), </a:t>
            </a:r>
            <a:r>
              <a:rPr b="0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formát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0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styl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časový harmonogram – kdy bude reklama zveřejňová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ýběr médi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68360" y="1699920"/>
            <a:ext cx="8229600" cy="30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6699"/>
                </a:solidFill>
                <a:latin typeface="Arial"/>
              </a:rPr>
              <a:t>Jaká znáte reklamní médi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6699"/>
                </a:solidFill>
                <a:latin typeface="Arial"/>
              </a:rPr>
              <a:t>Která z nich na vás působí nejvíce a proč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eklamní méd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95280" y="98064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Telev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edno z nejmladších, nejsledovanější a vysoce účinné médi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e nutné věnovat pozornost typu programu, jeho sledovanosti a struktuře divák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cena je závislá na času vysílání a sledovanosti program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6699"/>
                </a:solidFill>
                <a:latin typeface="Arial"/>
              </a:rPr>
              <a:t>Zhodnoťte výhody a nevýhody telev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+ televize je vizuální médium – vhodné pro demonstraci výrobk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+působí na zrak i slu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+široké pokrytí trh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- velká část diváků při reklamě přepíná na jiný program nebo odchází od telev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- informační zmate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- vysoké nákla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468360" y="764640"/>
            <a:ext cx="8229600" cy="609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Rozhl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aždá stanice má svůj okruh posluchačů – proto je důležitá správná volba stanice a doby vysílá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6699"/>
                </a:solidFill>
                <a:latin typeface="Arial"/>
              </a:rPr>
              <a:t>Jaké vidíte výhody a nevýhody rozhlasu jako reklamního médi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+ relativně nižší nákla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+ pružn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+ velká sledovan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+ možnost demografického i geografického zaměř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- působí jen na slu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6836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Exteriérová mé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iremní štíty, billboardy, poutače, reklamy na dopravních prostředcích,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ednoduchý, snadno zapamatovatelný text doplněný atraktivní fotografií, obrázk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6699"/>
                </a:solidFill>
                <a:latin typeface="Arial"/>
              </a:rPr>
              <a:t>Jaké jsou výhody a nevýhody jednotlivých exteriérových médií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+ pohotový nástroj reklam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+ nízké nákla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+ vysoká pružn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- poskytují málo informac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- je obtížné provést segmentaci trh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- někteří lidé je zcela odmítají (např. kvůli ekologii, bezpečnosti na silnicích,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468360" y="189000"/>
            <a:ext cx="82296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T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Novi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 černobílém provedení, na levnějším novinovém papíře, jsou většinou vydávány denn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ena reklamy je závislá na popularitě novin, počtu výtisků, na velikosti a umístění reklamy,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+ široký dosa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+ pružn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+ neobvyklé velikosti reklamy, barevné proved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- lidé čtou noviny rychle a pak je vyhazuj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- nepřehlednost reklam v případě, že jich je na stránce mnoh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rší kvalita fotografií a tisk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468360" y="188640"/>
            <a:ext cx="8291520" cy="63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Časopis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ou určeny pro volný čas, lidé je čtou pomalej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ůžou mít všeobecné nebo úzce specializované zaměř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+ lepší tisk i kvalita papíru, barevné proved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+ mohou být využívány pro distribuci nástrojů podpory prodeje (např. vzorků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+ dobrý image časopisu může působit na image výrobk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mezená pružn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yšší náklady vzhledem k noviná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6699"/>
                </a:solidFill>
                <a:latin typeface="Arial"/>
              </a:rPr>
              <a:t>Vymyslete příklad reklamy, kterou byste otiskli v novinách a příklad reklamy, kterou by bylo vhodné otisknout v časop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 u="sng">
                <a:solidFill>
                  <a:srgbClr val="000000"/>
                </a:solidFill>
                <a:uFillTx/>
                <a:latin typeface="Arial"/>
              </a:rPr>
              <a:t>Publicita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cíl: vytvoření příznivých představ o firmě na veřej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ýhody: - důvěryhodnost, nižší náklady, delší sděle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Nástroje publicit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práv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tisk, T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tiskový mluvč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tiskové materiá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ýroční zprá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ponzorstv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ástroje publicity vytváří tzv.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korporativní identitu podniku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– je vytvářena např. firemním logem, nápisy, vizitkami zaměstnanců, firemními uniformami,… Při jejich zhlédnutí jsou vyvolány asociace spojené s firmou. Jde o snahu podniku se jednotně prezentovat na veřejnost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950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 u="sng">
                <a:solidFill>
                  <a:srgbClr val="000000"/>
                </a:solidFill>
                <a:uFillTx/>
                <a:latin typeface="Arial"/>
              </a:rPr>
              <a:t>Přímý marketing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= komunikace se zákazníky zaměřená na prodej zboží a založený na reklam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Nástroje přímého marketingu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prodej poštou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– uskutečňuje se na základě zaslané nabídky, obsahuje všechny údaje k uskutečnění prodeje, výhodou je přesné zacílení. Forma – obálka s jednoduchým nabídkovým listem, brožurou, katalogem, videokazetou, disketou a s objednávko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televize a rozhlas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– vysílání  reklamy s uvedením podmínek pro nákup zboží (nejčastěji potřeby pro domácnost, CD,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telemarketing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– jde o využívání telefonu. Výhodou je osobní kontakt, možnost zodpovědět otázky, přesvědčování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6699"/>
                </a:solidFill>
                <a:latin typeface="Arial"/>
              </a:rPr>
              <a:t>Nakupovali jste už někdy prostřednictvím přímého marketingu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6699"/>
                </a:solidFill>
                <a:latin typeface="Arial"/>
              </a:rPr>
              <a:t>Jaký výrobek to byl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539640" y="1341000"/>
            <a:ext cx="822960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droj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ŠVARCOVÁ, J. 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Ekonomie – stručný přehled,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ydání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o rok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012/2013 Zlín : Nakladatelství a vydavatelství Ing. Jena Švarcová, Ph. D., CEED, 2012. ISBN 987-80-87301-16-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VĚTLÍK, J. 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Marketing – cesta k trhu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, Zlín: EKKA, 1994. ISBN 80-900015-8-0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"/>
          <p:cNvPicPr/>
          <p:nvPr/>
        </p:nvPicPr>
        <p:blipFill>
          <a:blip r:embed="rId1"/>
          <a:stretch/>
        </p:blipFill>
        <p:spPr>
          <a:xfrm>
            <a:off x="1741320" y="277920"/>
            <a:ext cx="5661360" cy="1139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3" name=""/>
          <p:cNvGraphicFramePr/>
          <p:nvPr/>
        </p:nvGraphicFramePr>
        <p:xfrm>
          <a:off x="468360" y="1413000"/>
          <a:ext cx="8229600" cy="53197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82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zdělávací oblast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dnikání a podnikové činnosti</a:t>
                      </a: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ématická oblast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etingový mi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ředmět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eting a manage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ýstižný popis způsobu využití, případně metodické pokyny: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zentace k seznámení studentů s marketingovou komunikací a nástroji propagace, s reklamou a reklamními médii, publicitou a přímým marketing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líčová slova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munikace, komunikační model, reklama, publicita, přímý marketing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uh učebního materiálu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zenta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4360" y="2060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Propag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539640" y="2133360"/>
            <a:ext cx="8229600" cy="348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6699"/>
                </a:solidFill>
                <a:latin typeface="Arial"/>
              </a:rPr>
              <a:t>Co je to komunika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6699"/>
                </a:solidFill>
                <a:latin typeface="Arial"/>
              </a:rPr>
              <a:t>V čem je podle vás podstata marketingové komunika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395280" y="1412640"/>
            <a:ext cx="822960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Komunikace podniku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– informování konečných spotřebitelů, odběratelů, veřejnosti,… o existenci podniku a o jeho výrobcí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Podstata marketingové komunikace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– přenos sdělení mezi zdrojem a příjemcem. Charakter sdělení závisí n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říjemci sděl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íli sděl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ormě komunik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Základní model komunikačního proces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Group 31"/>
          <p:cNvGrpSpPr/>
          <p:nvPr/>
        </p:nvGrpSpPr>
        <p:grpSpPr>
          <a:xfrm>
            <a:off x="360360" y="333360"/>
            <a:ext cx="8388360" cy="6524640"/>
            <a:chOff x="360360" y="333360"/>
            <a:chExt cx="8388360" cy="6524640"/>
          </a:xfrm>
        </p:grpSpPr>
        <p:sp>
          <p:nvSpPr>
            <p:cNvPr id="110" name="AutoShape 32"/>
            <p:cNvSpPr/>
            <p:nvPr/>
          </p:nvSpPr>
          <p:spPr>
            <a:xfrm>
              <a:off x="360360" y="333360"/>
              <a:ext cx="8388360" cy="652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Text Box 33"/>
            <p:cNvSpPr/>
            <p:nvPr/>
          </p:nvSpPr>
          <p:spPr>
            <a:xfrm>
              <a:off x="528120" y="3377880"/>
              <a:ext cx="1342080" cy="652320"/>
            </a:xfrm>
            <a:prstGeom prst="rect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00000"/>
                  </a:solidFill>
                  <a:latin typeface="Verdana"/>
                </a:rPr>
                <a:t>Zdroj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Text Box 34"/>
            <p:cNvSpPr/>
            <p:nvPr/>
          </p:nvSpPr>
          <p:spPr>
            <a:xfrm>
              <a:off x="7238880" y="3369240"/>
              <a:ext cx="1509840" cy="641520"/>
            </a:xfrm>
            <a:prstGeom prst="rect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00000"/>
                  </a:solidFill>
                  <a:latin typeface="Verdana"/>
                </a:rPr>
                <a:t>Příjem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Text Box 35"/>
            <p:cNvSpPr/>
            <p:nvPr/>
          </p:nvSpPr>
          <p:spPr>
            <a:xfrm>
              <a:off x="863640" y="1855440"/>
              <a:ext cx="1342080" cy="652320"/>
            </a:xfrm>
            <a:prstGeom prst="rect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00000"/>
                  </a:solidFill>
                  <a:latin typeface="Verdana"/>
                </a:rPr>
                <a:t>Sdělení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Text Box 36"/>
            <p:cNvSpPr/>
            <p:nvPr/>
          </p:nvSpPr>
          <p:spPr>
            <a:xfrm>
              <a:off x="2541240" y="1855440"/>
              <a:ext cx="1845360" cy="652320"/>
            </a:xfrm>
            <a:prstGeom prst="rect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00000"/>
                  </a:solidFill>
                  <a:latin typeface="Verdana"/>
                </a:rPr>
                <a:t>Zakódování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Text Box 37"/>
            <p:cNvSpPr/>
            <p:nvPr/>
          </p:nvSpPr>
          <p:spPr>
            <a:xfrm>
              <a:off x="4722120" y="1855440"/>
              <a:ext cx="1342080" cy="652320"/>
            </a:xfrm>
            <a:prstGeom prst="rect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00000"/>
                  </a:solidFill>
                  <a:latin typeface="Verdana"/>
                </a:rPr>
                <a:t>Přeno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Text Box 38"/>
            <p:cNvSpPr/>
            <p:nvPr/>
          </p:nvSpPr>
          <p:spPr>
            <a:xfrm>
              <a:off x="6399720" y="1855440"/>
              <a:ext cx="1845360" cy="652320"/>
            </a:xfrm>
            <a:prstGeom prst="rect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00000"/>
                  </a:solidFill>
                  <a:latin typeface="Verdana"/>
                </a:rPr>
                <a:t>Dekódování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Text Box 39"/>
            <p:cNvSpPr/>
            <p:nvPr/>
          </p:nvSpPr>
          <p:spPr>
            <a:xfrm>
              <a:off x="3883320" y="3377880"/>
              <a:ext cx="1342080" cy="869760"/>
            </a:xfrm>
            <a:prstGeom prst="rect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00000"/>
                  </a:solidFill>
                  <a:latin typeface="Verdana"/>
                </a:rPr>
                <a:t>Šum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Text Box 40"/>
            <p:cNvSpPr/>
            <p:nvPr/>
          </p:nvSpPr>
          <p:spPr>
            <a:xfrm>
              <a:off x="3547800" y="5326560"/>
              <a:ext cx="2180880" cy="859320"/>
            </a:xfrm>
            <a:prstGeom prst="rect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00000"/>
                  </a:solidFill>
                  <a:latin typeface="Verdana"/>
                </a:rPr>
                <a:t>Zpětná vazb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41"/>
            <p:cNvSpPr/>
            <p:nvPr/>
          </p:nvSpPr>
          <p:spPr>
            <a:xfrm flipV="1">
              <a:off x="1199160" y="2508120"/>
              <a:ext cx="335520" cy="869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42"/>
            <p:cNvSpPr/>
            <p:nvPr/>
          </p:nvSpPr>
          <p:spPr>
            <a:xfrm>
              <a:off x="2205720" y="229068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43"/>
            <p:cNvSpPr/>
            <p:nvPr/>
          </p:nvSpPr>
          <p:spPr>
            <a:xfrm>
              <a:off x="2205720" y="2073240"/>
              <a:ext cx="3355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Line 44"/>
            <p:cNvSpPr/>
            <p:nvPr/>
          </p:nvSpPr>
          <p:spPr>
            <a:xfrm>
              <a:off x="4386600" y="2073240"/>
              <a:ext cx="335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Line 45"/>
            <p:cNvSpPr/>
            <p:nvPr/>
          </p:nvSpPr>
          <p:spPr>
            <a:xfrm>
              <a:off x="6064200" y="2073240"/>
              <a:ext cx="335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Line 46"/>
            <p:cNvSpPr/>
            <p:nvPr/>
          </p:nvSpPr>
          <p:spPr>
            <a:xfrm>
              <a:off x="7238880" y="2508120"/>
              <a:ext cx="671040" cy="869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Line 47"/>
            <p:cNvSpPr/>
            <p:nvPr/>
          </p:nvSpPr>
          <p:spPr>
            <a:xfrm flipH="1">
              <a:off x="5728680" y="4030560"/>
              <a:ext cx="2180880" cy="1739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Line 48"/>
            <p:cNvSpPr/>
            <p:nvPr/>
          </p:nvSpPr>
          <p:spPr>
            <a:xfrm flipH="1" flipV="1">
              <a:off x="1199160" y="4030200"/>
              <a:ext cx="2348640" cy="1739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Line 49"/>
            <p:cNvSpPr/>
            <p:nvPr/>
          </p:nvSpPr>
          <p:spPr>
            <a:xfrm flipH="1">
              <a:off x="1870200" y="3813120"/>
              <a:ext cx="2013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Line 50"/>
            <p:cNvSpPr/>
            <p:nvPr/>
          </p:nvSpPr>
          <p:spPr>
            <a:xfrm flipH="1" flipV="1">
              <a:off x="1870200" y="2508120"/>
              <a:ext cx="2180880" cy="869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Line 51"/>
            <p:cNvSpPr/>
            <p:nvPr/>
          </p:nvSpPr>
          <p:spPr>
            <a:xfrm flipV="1">
              <a:off x="4218840" y="2508120"/>
              <a:ext cx="0" cy="869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Line 52"/>
            <p:cNvSpPr/>
            <p:nvPr/>
          </p:nvSpPr>
          <p:spPr>
            <a:xfrm flipV="1">
              <a:off x="4889880" y="2508120"/>
              <a:ext cx="0" cy="869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Line 53"/>
            <p:cNvSpPr/>
            <p:nvPr/>
          </p:nvSpPr>
          <p:spPr>
            <a:xfrm flipV="1">
              <a:off x="5057640" y="2508120"/>
              <a:ext cx="1509840" cy="869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54"/>
            <p:cNvSpPr/>
            <p:nvPr/>
          </p:nvSpPr>
          <p:spPr>
            <a:xfrm>
              <a:off x="5225400" y="3813120"/>
              <a:ext cx="2013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55"/>
            <p:cNvSpPr/>
            <p:nvPr/>
          </p:nvSpPr>
          <p:spPr>
            <a:xfrm>
              <a:off x="5057640" y="4248000"/>
              <a:ext cx="0" cy="108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56"/>
            <p:cNvSpPr/>
            <p:nvPr/>
          </p:nvSpPr>
          <p:spPr>
            <a:xfrm>
              <a:off x="4554360" y="4248000"/>
              <a:ext cx="0" cy="108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57"/>
            <p:cNvSpPr/>
            <p:nvPr/>
          </p:nvSpPr>
          <p:spPr>
            <a:xfrm>
              <a:off x="4051080" y="4248000"/>
              <a:ext cx="0" cy="108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Účinnost sdělen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Účinné sdělení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– má vyjadřovat cíle podniku a informace, která je sdělována, by měla mít na příjemce očekávaný efek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6699"/>
                </a:solidFill>
                <a:latin typeface="Arial"/>
              </a:rPr>
              <a:t>Jakými způsoby lze zvýšit účinnost sdělení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6699"/>
                </a:solidFill>
                <a:latin typeface="Arial"/>
              </a:rPr>
              <a:t>Jakými argumenty můžeme působit na příjemc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Na příjemce lze působi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Arial"/>
              </a:rPr>
              <a:t>racionálními motivy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Arial"/>
              </a:rPr>
              <a:t>emocionálními motivy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Arial"/>
              </a:rPr>
              <a:t>morálními motivy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95280" y="2565000"/>
            <a:ext cx="8229600" cy="1063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000000"/>
                </a:solidFill>
                <a:latin typeface="Arial"/>
              </a:rPr>
              <a:t>Nástroje propagac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 u="sng">
                <a:solidFill>
                  <a:srgbClr val="000000"/>
                </a:solidFill>
                <a:uFillTx/>
                <a:latin typeface="Arial"/>
              </a:rPr>
              <a:t>Reklama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36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e placená forma neosobní, masové komunik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íl: informování spotřebitelů a ovlivnění jejich chová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irma, která se rozhodne pro reklamu, by měla zpracovat 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reklamní plán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7T10:04:14Z</dcterms:created>
  <dc:creator>kabek</dc:creator>
  <dc:description/>
  <dc:language>en-US</dc:language>
  <cp:lastModifiedBy>Igor</cp:lastModifiedBy>
  <dcterms:modified xsi:type="dcterms:W3CDTF">2014-09-13T15:03:52Z</dcterms:modified>
  <cp:revision>28</cp:revision>
  <dc:subject/>
  <dc:title>Propagace</dc:title>
</cp:coreProperties>
</file>