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5B17-91F3-4FC7-8D38-D69D20E5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1C81-881D-4C96-92C9-091E7CF9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AC8E-1A4C-4F6C-85D4-ED4780E1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9AD7-0B98-4105-94E7-FAB73EFA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9ED1-4CD6-4223-9B66-04623147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FC31-931C-4039-8629-7C905827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B554-0E76-4699-8F4A-2E35470E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A8AE-565C-474D-AFE2-AFD40BE8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3EDD-693E-4130-829F-576BCE7A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CEA4-1365-4C2A-8CEB-8938080C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EFCB-5100-4D37-95CB-A4AB5C43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131A-7D98-4F59-9F1C-A2273A69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DB39-FF88-4A2C-932A-8CE618B0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D026-0432-494B-B312-72A94730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7101-99E2-48A0-BCE4-A6963A58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B7F8-05D0-4D47-B828-509AF425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D795-786F-48E8-905E-BF4AF692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3ED5-BC70-4595-BD1A-8734A4DB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CB5C-72D5-4E9A-879C-7AECE86D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7E64-92FC-429F-A1F0-BE8F0ED2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C037-F681-4607-8341-D904E5B9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C828-8082-4B95-9E44-2800F91F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6231-6BC9-4B07-B5FA-C4953071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CABF9-A843-4329-B6A3-374D678B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D941-936A-4374-9DE5-609523AB16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01DD-3462-45ED-8F52-6EBDEFD66EA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12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Životní cyklus výrobku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áze životního cykl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1. Uved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ení na trhu známý, je po něm nízká poptávka, musí se provést propag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alý prodej, vysoké náklady, nízký zisk popř. ztrá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enové strategi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kimming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akupují inovátoř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2. Rů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prodej, rostou tržby, klesají náklady na jednotku, roste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 roste, skimming price kles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i konkurence, proto firma začíná uvažovat o modifikacích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počáteční osvojitel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3. Zral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yšší prodej, nejnižší náklady na jednotku, nejvyšší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e snaží udržet v této fázi co nejdé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ětší konkurence, firma vylepšuje a modifikuje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e počáteční a pozdní větši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4. Úpad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lesá prodej, klesá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nižuje cenu, aby doprodala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zhoduje se, kdy bude výrobek stažen z trh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opozdil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 životním cyklu existují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odchylky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nový život, styl, móda, výstřelk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o jaké skupiny zákazníků byste se zařadil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Křivka životního cykl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95280" y="2060640"/>
            <a:ext cx="8280360" cy="3960720"/>
            <a:chOff x="395280" y="2060640"/>
            <a:chExt cx="8280360" cy="3960720"/>
          </a:xfrm>
        </p:grpSpPr>
        <p:sp>
          <p:nvSpPr>
            <p:cNvPr id="132" name="AutoShape 6"/>
            <p:cNvSpPr/>
            <p:nvPr/>
          </p:nvSpPr>
          <p:spPr>
            <a:xfrm>
              <a:off x="395280" y="2060640"/>
              <a:ext cx="8280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1554480" y="5229000"/>
              <a:ext cx="529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 flipV="1">
              <a:off x="1554480" y="2588400"/>
              <a:ext cx="0" cy="264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2051280" y="2742480"/>
              <a:ext cx="3146400" cy="2090160"/>
            </a:xfrm>
            <a:custGeom>
              <a:avLst/>
              <a:gdLst/>
              <a:ahLst/>
              <a:rect l="l" t="t" r="r" b="b"/>
              <a:pathLst>
                <a:path w="3420" h="2850">
                  <a:moveTo>
                    <a:pt x="0" y="2850"/>
                  </a:moveTo>
                  <a:cubicBezTo>
                    <a:pt x="525" y="1575"/>
                    <a:pt x="1050" y="300"/>
                    <a:pt x="1620" y="150"/>
                  </a:cubicBezTo>
                  <a:cubicBezTo>
                    <a:pt x="2190" y="0"/>
                    <a:pt x="3120" y="1650"/>
                    <a:pt x="3420" y="19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Text Box 10"/>
            <p:cNvSpPr/>
            <p:nvPr/>
          </p:nvSpPr>
          <p:spPr>
            <a:xfrm>
              <a:off x="395280" y="2720520"/>
              <a:ext cx="11592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Prodej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Text Box 11"/>
            <p:cNvSpPr/>
            <p:nvPr/>
          </p:nvSpPr>
          <p:spPr>
            <a:xfrm>
              <a:off x="6025680" y="5361120"/>
              <a:ext cx="828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Čas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se seznamují s významem značky. Uvádějí informace, které musí být uvedeny na obalu různých druhů výrobků (potraviny, léky,…). Seznamují se s životním cyklem výrobk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, výrobek, koncepce totálního výrobku, životní cyklus výrob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dddddd"/>
                </a:solidFill>
                <a:latin typeface="Garamond"/>
              </a:rPr>
              <a:t>Marketingový mix</a:t>
            </a:r>
            <a:endParaRPr b="1" lang="en-US" sz="66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79640" y="2420640"/>
            <a:ext cx="381636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rob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n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istrib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pag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dddddd"/>
                </a:solidFill>
                <a:latin typeface="Tahoma"/>
              </a:rPr>
              <a:t>Výrobek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Tahoma"/>
              </a:rPr>
              <a:t>Zkuste definovat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motný statek, služba nebo myšlenka, která se stává předmětem směny na trhu a je určena k uspokojení lidské potřeby nebo přá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Členění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Z hlediska délky použit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dlouhodobé spotřeby – používá se déle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krátkodobé spotřeby – používá se po dobu kratší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 hlediska zákazní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potřební zboží – nakupují domá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pitálové statky – nakupuj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Koncepce totálního výrobku</a:t>
            </a:r>
            <a:br>
              <a:rPr sz="40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535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Jádr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užitná vlastnost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Zhmotnělý výrobek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cena, kvalita, design, značka, obal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řidaný výrobek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záruka, servis, služb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efinujte jádro, zhmotnělý a přidaný výrobek u auta a počítač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2" name="Zástupný symbol pro obsah 13315"/>
          <p:cNvGrpSpPr/>
          <p:nvPr/>
        </p:nvGrpSpPr>
        <p:grpSpPr>
          <a:xfrm>
            <a:off x="2769840" y="2700360"/>
            <a:ext cx="5424480" cy="2897640"/>
            <a:chOff x="2769840" y="2700360"/>
            <a:chExt cx="5424480" cy="2897640"/>
          </a:xfrm>
        </p:grpSpPr>
        <p:sp>
          <p:nvSpPr>
            <p:cNvPr id="113" name="_s1028"/>
            <p:cNvSpPr/>
            <p:nvPr/>
          </p:nvSpPr>
          <p:spPr>
            <a:xfrm>
              <a:off x="2769840" y="3512520"/>
              <a:ext cx="3364920" cy="2085480"/>
            </a:xfrm>
            <a:prstGeom prst="donut">
              <a:avLst>
                <a:gd name="adj" fmla="val 16666"/>
              </a:avLst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_s1029"/>
            <p:cNvSpPr/>
            <p:nvPr/>
          </p:nvSpPr>
          <p:spPr>
            <a:xfrm>
              <a:off x="7296480" y="3627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řidaný výrobek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_s1030"/>
            <p:cNvSpPr/>
            <p:nvPr/>
          </p:nvSpPr>
          <p:spPr>
            <a:xfrm>
              <a:off x="3331080" y="3859920"/>
              <a:ext cx="2242800" cy="1390320"/>
            </a:xfrm>
            <a:prstGeom prst="donut">
              <a:avLst>
                <a:gd name="adj" fmla="val 25000"/>
              </a:avLst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_s1031"/>
            <p:cNvSpPr/>
            <p:nvPr/>
          </p:nvSpPr>
          <p:spPr>
            <a:xfrm>
              <a:off x="7296480" y="316368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Zhmotnělý výrobek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_s1032"/>
            <p:cNvSpPr/>
            <p:nvPr/>
          </p:nvSpPr>
          <p:spPr>
            <a:xfrm>
              <a:off x="3891600" y="4207680"/>
              <a:ext cx="1121400" cy="694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033"/>
            <p:cNvSpPr/>
            <p:nvPr/>
          </p:nvSpPr>
          <p:spPr>
            <a:xfrm>
              <a:off x="7296480" y="2700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Jádro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Značka výrobk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Co je to značka a v čem vidíte její význam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lišuje výrobek od konkurence, pomáhá jeho identifikaci, je i zárukou kvality, měla by být snadno zapamatovateln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dentifikace výrobku určitého výrobce pomocí jména, symbolu, čísla, tvaru nebo kombinace těchto fakto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známka = registrovaná a právně chráněná znač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ýznam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ychlá identifikace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mage výrobků – sdělení, co zákazníci mohou od výrobku očekáv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arance kva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klad komunikace se zákazník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nzistence v nákupním chování – zákazník, který je spokojený s jedním výrobkem určité značky pravděpodobně koupí i jiné výrobky téže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280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nač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bchodn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ěrnost značce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tendence v chování zákazníků záměrně a opakovaně kupovat výrobek určité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Existuje značka, které jste věrni? U jakého výrobku a proč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Strategie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menová značka – všechny výrobky jednoho výrobce mají stejnou značku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dividuální značka – jeden výrobce má pro každý svůj výrobek jinou znač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Obal</a:t>
            </a: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funkce má obal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informace můžeme získat z etikety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voří ho samotný fyzický obal a etike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unkc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– ochrana před poškozením, … např. při přepravě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munikační – obal obsahuje informace důležité pro zákazní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Služby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V čem vidíte význam služeb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druhy služeb podle vás zákazníci nejčastěji vyžadují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vyšují prodej, vytváří image podniku, snižují riziko zákazníků při nákup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Druhy služeb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ru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rácení peně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prava, instal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asílání katalogů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6:37:22Z</dcterms:created>
  <dc:creator>kabek</dc:creator>
  <dc:description/>
  <dc:language>en-US</dc:language>
  <cp:lastModifiedBy>Igor</cp:lastModifiedBy>
  <dcterms:modified xsi:type="dcterms:W3CDTF">2014-09-13T15:04:23Z</dcterms:modified>
  <cp:revision>21</cp:revision>
  <dc:subject/>
  <dc:title>Marketingový mix</dc:title>
</cp:coreProperties>
</file>