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B1C2-3C7E-4927-83DF-79EC95D7D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3417-3D5C-46D9-B70D-EFA9608A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579B-865F-4DE8-A03E-964A6D2A1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9BFE-5F94-429C-9BA2-5A117F3DD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DAFC3-F84D-48E8-B4FD-2CD5FCC7D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9768-C0AE-497E-8CBD-24362CEE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74E9C-94FF-4DF5-95BE-A558F945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8C5A-6BC6-4FF4-B980-8D84FCA1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8CEEF-B8AF-4214-9C21-84D48865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C777-B344-4446-9CA5-230F93FE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74C3-4505-4A0E-9FDC-90DA54BE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18CA-D71B-45F8-8AD0-CD6402E2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BF1E-6773-4FE5-9C27-CF70F7C4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5B70-50FE-4493-A531-A55D2BBC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7E030-5ABF-4B66-8910-E652D02A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481C-5E0B-4073-8202-33CE9E986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605E1-6343-4355-9229-46ABEDDE9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27D6-6B70-4E30-8196-6F37149E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7CD0-0921-4F3F-93BA-00B5C510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01E2-5371-4C57-BC36-DA315A83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87AB-0448-4A19-96A3-A8F56A56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8C17-2F09-4F4F-992A-C749C15F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A256-E657-4285-96B7-678CCB52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996F-2842-46B2-8D2E-D66AE6CC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EB36-61EA-4B61-B989-15B896D1EFD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9285-6DB7-40C1-A06D-55F6E60A162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Verdana"/>
              </a:rPr>
              <a:t>Výukový materiál zpracován v rámci projektu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Verdana"/>
              </a:rPr>
              <a:t>EU peníze školá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Verdana"/>
              </a:rPr>
              <a:t>Registrační číslo projektu: CZ.1.07/1.5.00/34.0208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39640" y="3573360"/>
          <a:ext cx="7704360" cy="736560"/>
        </p:xfrm>
        <a:graphic>
          <a:graphicData uri="http://schemas.openxmlformats.org/drawingml/2006/table">
            <a:tbl>
              <a:tblPr/>
              <a:tblGrid>
                <a:gridCol w="1656000"/>
                <a:gridCol w="936360"/>
                <a:gridCol w="1944720"/>
                <a:gridCol w="316728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Y_32_INOVACE_2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2. 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14400" y="112500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Charakteristika optimálního prostředníka z hlediska výrobc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má přístup k cílovému trh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udržuje optimální stav zásob výrobk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uskutečňuje vlastní stimulaci, která je v souladu se stimulací výrob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oskytuje zákazníkům služby na odpovídající úrovn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za dodané výrobky platí řádně a vč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cc"/>
                </a:solidFill>
                <a:latin typeface="Arial"/>
              </a:rPr>
              <a:t>Intenzita prodeje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 u="sng">
                <a:solidFill>
                  <a:srgbClr val="000000"/>
                </a:solidFill>
                <a:uFillTx/>
                <a:latin typeface="Verdana"/>
              </a:rPr>
              <a:t>Intenzita prodeje</a:t>
            </a: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 = počet jednotlivých samostatných článků na prodejní cestě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00000"/>
                </a:solidFill>
                <a:latin typeface="Verdana"/>
              </a:rPr>
              <a:t>Z hlediska intenzity prodeje rozlišujeme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intenzívní prodej – snaha prodávat výrobek v co největším počtu prodejních jednotek při zapojení co nejvíce článků do prodeje, používá se u zboží denní potřeby (potraviny,…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selektivní prodej – distribuce prostřednictvím maloobchodních jednotek, zboží je náročnější na prodej, vyžaduje proškolený personál (oděvy, elektronika, …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výhradní prodej – distribuční článek má výhradní právo na prodej na určitém území, výrobky mají mimořádné postavení na trhu, je drahé, značkové, prodejce musí poskytnou maximum informací (drahá auta, nemovitosti, ….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cc"/>
                </a:solidFill>
                <a:latin typeface="Arial"/>
              </a:rPr>
              <a:t>Velkoobchod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Firmy zabývající se velkoobchodní činností kupují výrobky za účelem jejich dalšího prodeje maloobchodním nebo jiným organizacím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 u="sng">
                <a:solidFill>
                  <a:srgbClr val="000000"/>
                </a:solidFill>
                <a:uFillTx/>
                <a:latin typeface="Verdana"/>
              </a:rPr>
              <a:t>Funkce VO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přetváření úzkého výrobního sortimentu na široký obchodní sortimen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překlenutí časového nesouladu mezi výrobou a spotřebou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vytváření zásob k pružnému zásobování odběratelů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poskytování obchodního úvěru odběratelů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přebírá riziko spojené s nákupem, dopravou a skladováním zboží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podílí se na stimulaci prodej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podílí se na dohotovení zboží, jeho balení a úpravách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zajištění dopravy M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poskytování informací o poptávkách, cenách, konkurenci,… výrobcům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cc"/>
                </a:solidFill>
                <a:latin typeface="Arial"/>
              </a:rPr>
              <a:t>Typy VO: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 u="sng">
                <a:solidFill>
                  <a:srgbClr val="000000"/>
                </a:solidFill>
                <a:uFillTx/>
                <a:latin typeface="Verdana"/>
              </a:rPr>
              <a:t>tradiční velkoobchodní podniky</a:t>
            </a:r>
            <a:r>
              <a:rPr b="0" i="1" lang="cs-CZ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– poskytuje všechny nebo většinu uvedených funkcí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 u="sng">
                <a:solidFill>
                  <a:srgbClr val="000000"/>
                </a:solidFill>
                <a:uFillTx/>
                <a:latin typeface="Verdana"/>
              </a:rPr>
              <a:t>velkoobchodní podniky s omezenými funkcem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cash-and-carry – maloobchodník platí v hotovosti a sám si zboží musí odvés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drop shipper – velkoobchod nakupuje a prodává zboží, ale neskladuje ho (hlavně uhlí, dřevo, stavební materiál, …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policový velkoobchodník – nabízí své zboží konečným spotřebitelům v pronajatých místech maloobchodních jednotek (např. noviny, knihy, kosmetika, hračky ,… prodávané v supermarketech apod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pojízdný velkoobchodník – nabízí a prodává zboží maloobchodníkům podle jejich potřeby přímo u svého dodávkového auta (koření, textil, zelenina a ovoce,…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700" spc="-1" strike="noStrike" u="sng">
                <a:solidFill>
                  <a:srgbClr val="000000"/>
                </a:solidFill>
                <a:uFillTx/>
                <a:latin typeface="Verdana"/>
              </a:rPr>
              <a:t>agenti a komisionáři</a:t>
            </a: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 – nepřebírají zboží do svého vlastnictví, vykonávají omezené množství funkcí, zprostředkovávají nákup a prodej určitého zboží, pracují za provizi, nesou minimální rizik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omisionář – kontaktuje prodávající a kupující, pomáhá při jejich obchodním jednání, provizi dostává od toho, kdo ho najímá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obchodní zástupci – nezávislí zástupci výrobního podniku v určité oblasti, s výrobci mají uzavřenou smlouvu o místě působnosti, cenách, službách, provizi. Nevlastní zboží, pouze zprostředkovávají nákup a prodej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aukční společnosti – umožňují kontakt prodávajícího a kupujícího, vystavení a prohlédnutí zboží, cena se stanovuje podle nabídky a poptávky (např. umělecké předměty,…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ákupní agent – pracuje pro určitou firmu na základě dlouhodobé smlouvy. Pro firmu nakupuje zboží, kontroluje kvalitu a organizuje přepravu ke kupujícímu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cc"/>
                </a:solidFill>
                <a:latin typeface="Arial"/>
              </a:rPr>
              <a:t>Maloobchod</a:t>
            </a:r>
            <a:br>
              <a:rPr sz="3200"/>
            </a:b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844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Jsou veškeré činnosti, které jsou spojené s prodejem zboží a poskytováním služeb konečnému spotřebitel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Charakteristika M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oskytování velkého množství služeb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stálé přizpůsobování se potřebám zákazník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silná konku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38512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cc"/>
                </a:solidFill>
                <a:latin typeface="Arial"/>
              </a:rPr>
              <a:t>Typy MO: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691920"/>
            <a:ext cx="8229600" cy="59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00000"/>
                </a:solidFill>
                <a:latin typeface="Verdana"/>
              </a:rPr>
              <a:t>specializované prodejny</a:t>
            </a: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 – hlavně u nepotravinářského zboží, profesionální personál (oděvy, sportovní potřeby, elektronika,…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00000"/>
                </a:solidFill>
                <a:latin typeface="Verdana"/>
              </a:rPr>
              <a:t>prodejny se zbožím denní potřeby</a:t>
            </a: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 – základní potravinářský a nepotravinářský sortiment, otevřeno 24 hodin denně, např. u benzínových pum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00000"/>
                </a:solidFill>
                <a:latin typeface="Verdana"/>
              </a:rPr>
              <a:t>supermarkety</a:t>
            </a: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 – velké samoobslužné prodejny se sortimentem potravinářským a nepotravinářským, rozlehlá prodejní plocha, prodlužují prodejní dobu, velká konkuren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00000"/>
                </a:solidFill>
                <a:latin typeface="Verdana"/>
              </a:rPr>
              <a:t>hypermarkety</a:t>
            </a: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 – obrovské samoobslužné prodejny na okrajích měst, široký sortiment, nízké ceny, dostupné aut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00000"/>
                </a:solidFill>
                <a:latin typeface="Verdana"/>
              </a:rPr>
              <a:t>obchodní domy</a:t>
            </a: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 – nabízejí velmi široký sortiment zboží pod jednou střechou, snaží se zvýšit přitažlivost, provozují nové služby (cestovní kanceláře, půjčovny aut, realitní kanceláře, …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072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Verdana"/>
              </a:rPr>
              <a:t>diskontní prodejny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– bývají členy řetězců obchodů, velký obrat, omezené služby, výprodeje zásob,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Verdana"/>
              </a:rPr>
              <a:t>obchodní střediska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– rozsáhlé obchodní komplexy, především na okrajích měst, seskupují řadu nezávislých specializovaných obchodních firem a obchodních domů, široký sortiment zboží, široká nabídka služeb (opravny, restaurace, holičství, CK, bankovní služby,…), občerstvení a odpočinek (dětské koutky,…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Verdana"/>
              </a:rPr>
              <a:t>katalogové prodejny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– zákazníci si vyberou ve výstavní místnosti podle katalogů nebo podle vystaveného zboží, vyplní objednávku a při zaplacení je jim zboží vydáno přímo ze skladu, omezené služb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Verdana"/>
              </a:rPr>
              <a:t>Ve kterých MO nakupujete nejčastěji, které zboží a proč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9640" y="1557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Zdroje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ŠVARCOVÁ, J. </a:t>
            </a:r>
            <a:r>
              <a:rPr b="0" i="1" lang="cs-CZ" sz="2900" spc="-1" strike="noStrike">
                <a:solidFill>
                  <a:srgbClr val="000000"/>
                </a:solidFill>
                <a:latin typeface="Verdana"/>
              </a:rPr>
              <a:t>Ekonomie – stručný přehled,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vydání</a:t>
            </a:r>
            <a:r>
              <a:rPr b="0" i="1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ro rok</a:t>
            </a:r>
            <a:r>
              <a:rPr b="0" i="1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2012/2013 Zlín : Nakladatelství a vydavatelství Ing. Jena Švarcová, Ph. D., CEED, 2012. ISBN 987-80-87301-16-6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SVĚTLÍK, J. </a:t>
            </a:r>
            <a:r>
              <a:rPr b="0" i="1" lang="cs-CZ" sz="2900" spc="-1" strike="noStrike">
                <a:solidFill>
                  <a:srgbClr val="000000"/>
                </a:solidFill>
                <a:latin typeface="Verdana"/>
              </a:rPr>
              <a:t>Marketing – cesta k trhu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Zlín: EKKA, 1994. ISBN 80-900015-8-0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403280" y="260280"/>
            <a:ext cx="58500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457200" y="1905120"/>
          <a:ext cx="8229600" cy="4587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zdělávací oblast: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dnikání a podnikové čin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ématická oblast: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ketingový mix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ředmět: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keting a managemen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ýstižný popis způsobu využití, případně metodické pokyny:</a:t>
                      </a:r>
                      <a:r>
                        <a:rPr b="0" lang="cs-CZ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udenti se seznamují se způsoby distribuce, s funkcemi a druhy VO a MO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líčová slova: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tribuce, prodejní cesty, velkoobchod, maloobchod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ruh učebního materiálu: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zentac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16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cc"/>
                </a:solidFill>
                <a:latin typeface="Arial"/>
              </a:rPr>
              <a:t>Marketingový mix - distribuce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27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cc"/>
                </a:solidFill>
                <a:latin typeface="Arial"/>
              </a:rPr>
              <a:t>Distribuce</a:t>
            </a:r>
            <a:br>
              <a:rPr sz="3200"/>
            </a:b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844640"/>
            <a:ext cx="805032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Distribuce řeší problém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omu a kde se budou výrobky prodáv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ak zajistit, aby byl výrobek nabízen na správném místě ve správném okamžik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31376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cc"/>
                </a:solidFill>
                <a:latin typeface="Arial"/>
              </a:rPr>
              <a:t>Prodejní cesty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6560" y="2060640"/>
            <a:ext cx="83170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Prodejní cesta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– souhrn prostředníků a zprostředkovatelských článků, jejichž prostřednictvím přechází zboží od výrobce ke kupujícím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Verdana"/>
              </a:rPr>
              <a:t>Prodejní cesty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řím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epřímé – zahrnují jeden nebo více mezičlánků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Verdana"/>
              </a:rPr>
              <a:t>Jaký typ prodejní cesty a z jakých důvodů byste navrhli u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Verdana"/>
              </a:rPr>
              <a:t>a/ peči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Verdana"/>
              </a:rPr>
              <a:t>b/ elektronik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Verdana"/>
              </a:rPr>
              <a:t>Funkce prodejních cest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bchodní – zahrnuje nákup zboží od výrobců, prodej zboží a převzetí rizi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logistická  - zahrnuje dopravu od výrobce, skladování, přizpůsobení zboží požadavkům zákazníků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dpůrná – zahrnuje finanční pomoc v podobě obchodního úvěru, marketingový výzkum, propagaci, poskytování služe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331640" y="2565360"/>
            <a:ext cx="7313400" cy="26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0000"/>
                </a:solidFill>
                <a:latin typeface="Verdana"/>
              </a:rPr>
              <a:t>Jaké vlastnosti by měl mít výrobce, aby s ním prostředníci (VO, MO) chtěli spolupracovat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55640" y="148392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Charakteristika optimálního výrobce z hlediska prostředníků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dodává včas, ve sjednaném množství, ceně, kvalitě, balení a design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stimuluje poptávku po výrobcích vhodnou reklamo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yužívá nástrojů podpory prodeje ve vztahu k prostředníků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dodržuje záruční lhůty, poskytuje opravy, instalaci a další služb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258920" y="2492280"/>
            <a:ext cx="7313760" cy="28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0000"/>
                </a:solidFill>
                <a:latin typeface="Verdana"/>
              </a:rPr>
              <a:t>Jaké vlastnosti by měl mít prostředník (VO, MO), aby s ním výrobci chtěli spolupracovat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06:53:23Z</dcterms:created>
  <dc:creator>kabek</dc:creator>
  <dc:description/>
  <dc:language>en-US</dc:language>
  <cp:lastModifiedBy>Igor</cp:lastModifiedBy>
  <dcterms:modified xsi:type="dcterms:W3CDTF">2014-09-13T15:03:29Z</dcterms:modified>
  <cp:revision>17</cp:revision>
  <dc:subject/>
  <dc:title>Marketingový mix - distribuce</dc:title>
</cp:coreProperties>
</file>